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png" ContentType="image/png"/>
  <Override PartName="/ppt/media/image19.jpeg" ContentType="image/jpeg"/>
  <Override PartName="/ppt/media/image24.jpeg" ContentType="image/jpeg"/>
  <Override PartName="/ppt/media/image20.jpeg" ContentType="image/jpeg"/>
  <Override PartName="/ppt/media/image21.wmf" ContentType="image/x-wmf"/>
  <Override PartName="/ppt/media/image18.jpeg" ContentType="image/jpeg"/>
  <Override PartName="/ppt/media/image16.png" ContentType="image/png"/>
  <Override PartName="/ppt/media/image14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5.gif" ContentType="image/gif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8D5C-4C3D-421E-AB87-C3DD0CAAA9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40A7-9E32-467B-8D56-30B51A46D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81E6-B2ED-4D78-AD5E-2B0C98097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8A7-1812-4021-9933-FFDCD05D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50B-4C2C-40FB-B6E4-28F7E6E3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E57-8789-4D57-80DD-E0B5319F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875-7ACF-4D89-86FB-6477D72E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CC0-7D80-4502-B52E-AFDFAFE8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A95-6EB5-40BB-8B07-A79646BC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E9B-1D6C-4868-96C5-4D903406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07B-7126-4834-8006-1CB59BB8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16B-69A8-4511-AEC4-425A056A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D16-3296-4118-8D9C-1020207D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2B0-DCE0-4CD1-9AE5-73CA8775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B57-DE5A-438F-9BFC-B14A5F34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56B7-B260-4DA3-B0BF-AA5356601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11280" y="476280"/>
            <a:ext cx="806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следовательская работа на тему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реступность несовершеннолетних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708360" y="4149720"/>
            <a:ext cx="46990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ила ученица 10 класса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«Кувакинская гимназия»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геева Ольга                            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Picture 12" descr="i?id=189993127&amp;tov=6"/>
          <p:cNvPicPr/>
          <p:nvPr/>
        </p:nvPicPr>
        <p:blipFill>
          <a:blip r:embed="rId2"/>
          <a:stretch/>
        </p:blipFill>
        <p:spPr>
          <a:xfrm>
            <a:off x="250920" y="3789360"/>
            <a:ext cx="192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реступления соверш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Трудны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Подростки из неблагополучных сем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Низкий уровень познав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Доминирующие отрицательные качества (лень, агрессив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Нарушается психика, умственная отста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ff0066"/>
                </a:solidFill>
                <a:latin typeface="Arial"/>
              </a:rPr>
              <a:t>Законодательство об ответственности несовершеннолетни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бщему правилу к уголовной ответственности привлекаются подростки достигшие 16 лет. Но за общественно опасные деяния привлекаются с 14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2DD458A7"/>
          <p:cNvPicPr/>
          <p:nvPr/>
        </p:nvPicPr>
        <p:blipFill>
          <a:blip r:embed="rId2"/>
          <a:stretch/>
        </p:blipFill>
        <p:spPr>
          <a:xfrm>
            <a:off x="4859280" y="1333440"/>
            <a:ext cx="3924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Ответственность с 14 лет за преступ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убий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причинение вреда здоровь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похищение челове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изнасилов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 </a:t>
            </a: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краж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грабёж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раз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вымогатель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неправомерное завладение автомоби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уничтожение или повреждение иму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 </a:t>
            </a: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террориз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захват залож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хулиганство при отягчающих обстоятельств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вандализ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?id=47648926&amp;tov=3"/>
          <p:cNvPicPr/>
          <p:nvPr/>
        </p:nvPicPr>
        <p:blipFill>
          <a:blip r:embed="rId2"/>
          <a:stretch/>
        </p:blipFill>
        <p:spPr>
          <a:xfrm>
            <a:off x="5894280" y="1557360"/>
            <a:ext cx="3249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Arial"/>
              </a:rPr>
              <a:t>Ответственность имеет регулирующую, оценочную, мотивационную роль в поведении человек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4"/>
          <p:cNvCxnSpPr>
            <a:stCxn id="93" idx="0"/>
          </p:cNvCxnSpPr>
          <p:nvPr/>
        </p:nvCxnSpPr>
        <p:spPr>
          <a:xfrm flipH="1">
            <a:off x="1763280" y="1628640"/>
            <a:ext cx="2858400" cy="175824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95" name="Прямая со стрелкой 6"/>
          <p:cNvCxnSpPr>
            <a:stCxn id="93" idx="0"/>
          </p:cNvCxnSpPr>
          <p:nvPr/>
        </p:nvCxnSpPr>
        <p:spPr>
          <a:xfrm>
            <a:off x="4572000" y="1599840"/>
            <a:ext cx="2572560" cy="16866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96" name="Овал 9"/>
          <p:cNvSpPr/>
          <p:nvPr/>
        </p:nvSpPr>
        <p:spPr>
          <a:xfrm>
            <a:off x="0" y="3357720"/>
            <a:ext cx="4357800" cy="2357280"/>
          </a:xfrm>
          <a:prstGeom prst="ellipse">
            <a:avLst/>
          </a:prstGeom>
          <a:solidFill>
            <a:srgbClr val="cae2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Обладая определенным сознанием, человек понимает суть своих связей с обществом и готов выполнить все требования, которые предъявляет ему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7200" y="0"/>
            <a:ext cx="22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3"/>
          <p:cNvSpPr/>
          <p:nvPr/>
        </p:nvSpPr>
        <p:spPr>
          <a:xfrm>
            <a:off x="4643280" y="3286080"/>
            <a:ext cx="4500720" cy="2428920"/>
          </a:xfrm>
          <a:prstGeom prst="ellipse">
            <a:avLst/>
          </a:prstGeom>
          <a:solidFill>
            <a:srgbClr val="cae2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Реальная необходимость за свои отрицательные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9900cc"/>
                </a:solidFill>
                <a:latin typeface="Arial"/>
              </a:rPr>
              <a:t>Предупреждение преступности — это не только устранение, нейтрализация негативных обстоятельств, но и использование, стимулирование позитивных процессов социальной жизни общества. Именно поэтому оно наиболее эффективное средство борьбы с преступностью и по экономическим параметрам, так как позволяет решать многие задачи путем применения в первую очередь социальных мероприятий, реализуемых государством с целью решения иных, более общих проблем, последовательного улучшения условий жизни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4"/>
          <p:cNvCxnSpPr/>
          <p:nvPr/>
        </p:nvCxnSpPr>
        <p:spPr>
          <a:xfrm flipH="1">
            <a:off x="1142280" y="1417680"/>
            <a:ext cx="3429720" cy="15832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4" name="Прямая со стрелкой 6"/>
          <p:cNvCxnSpPr/>
          <p:nvPr/>
        </p:nvCxnSpPr>
        <p:spPr>
          <a:xfrm flipH="1">
            <a:off x="2499480" y="1417320"/>
            <a:ext cx="2072520" cy="29404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5" name="Прямая со стрелкой 8"/>
          <p:cNvCxnSpPr/>
          <p:nvPr/>
        </p:nvCxnSpPr>
        <p:spPr>
          <a:xfrm flipH="1">
            <a:off x="4500360" y="1916280"/>
            <a:ext cx="72000" cy="351216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6" name="Прямая со стрелкой 10"/>
          <p:cNvCxnSpPr/>
          <p:nvPr/>
        </p:nvCxnSpPr>
        <p:spPr>
          <a:xfrm>
            <a:off x="4570920" y="1417680"/>
            <a:ext cx="3143880" cy="15120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7" name="Прямая со стрелкой 12"/>
          <p:cNvCxnSpPr/>
          <p:nvPr/>
        </p:nvCxnSpPr>
        <p:spPr>
          <a:xfrm>
            <a:off x="4572000" y="1417680"/>
            <a:ext cx="2000880" cy="279792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08" name="Овал 13"/>
          <p:cNvSpPr/>
          <p:nvPr/>
        </p:nvSpPr>
        <p:spPr>
          <a:xfrm>
            <a:off x="0" y="3143160"/>
            <a:ext cx="2571840" cy="9144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филактическое воздействие на де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4"/>
          <p:cNvSpPr/>
          <p:nvPr/>
        </p:nvSpPr>
        <p:spPr>
          <a:xfrm>
            <a:off x="214200" y="4357800"/>
            <a:ext cx="3129120" cy="1128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контро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 за поведением подростков-правонарушителей со стороны подразделений ОВ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16"/>
          <p:cNvCxnSpPr/>
          <p:nvPr/>
        </p:nvCxnSpPr>
        <p:spPr>
          <a:xfrm flipH="1">
            <a:off x="4498200" y="4859280"/>
            <a:ext cx="2520" cy="5724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11" name="Овал 17"/>
          <p:cNvSpPr/>
          <p:nvPr/>
        </p:nvSpPr>
        <p:spPr>
          <a:xfrm>
            <a:off x="2286000" y="5500800"/>
            <a:ext cx="4643280" cy="13572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меры воспитательного воздействия, применяемые судами, комиссиями по делам несовершеннолетних к подросткам-правонарушителям</a:t>
            </a: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8"/>
          <p:cNvSpPr/>
          <p:nvPr/>
        </p:nvSpPr>
        <p:spPr>
          <a:xfrm>
            <a:off x="5072040" y="4214880"/>
            <a:ext cx="2714760" cy="1071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циальн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9"/>
          <p:cNvSpPr/>
          <p:nvPr/>
        </p:nvSpPr>
        <p:spPr>
          <a:xfrm>
            <a:off x="6500880" y="2928960"/>
            <a:ext cx="2643120" cy="1128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меры, применяемые к родителям, отрицательно влияющим на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6"/>
          <p:cNvSpPr txBox="1"/>
          <p:nvPr/>
        </p:nvSpPr>
        <p:spPr>
          <a:xfrm>
            <a:off x="1547640" y="549360"/>
            <a:ext cx="641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упреждение преступност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4"/>
          <p:cNvCxnSpPr>
            <a:stCxn id="116" idx="0"/>
          </p:cNvCxnSpPr>
          <p:nvPr/>
        </p:nvCxnSpPr>
        <p:spPr>
          <a:xfrm flipH="1">
            <a:off x="1618560" y="1700280"/>
            <a:ext cx="2858040" cy="14724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18" name="Прямая со стрелкой 6"/>
          <p:cNvCxnSpPr>
            <a:stCxn id="116" idx="0"/>
          </p:cNvCxnSpPr>
          <p:nvPr/>
        </p:nvCxnSpPr>
        <p:spPr>
          <a:xfrm>
            <a:off x="4570920" y="1600200"/>
            <a:ext cx="2500920" cy="15436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19" name="Прямая со стрелкой 8"/>
          <p:cNvCxnSpPr>
            <a:stCxn id="116" idx="0"/>
          </p:cNvCxnSpPr>
          <p:nvPr/>
        </p:nvCxnSpPr>
        <p:spPr>
          <a:xfrm flipH="1">
            <a:off x="2268000" y="1627560"/>
            <a:ext cx="2286720" cy="29008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20" name="Прямая со стрелкой 10"/>
          <p:cNvCxnSpPr>
            <a:stCxn id="116" idx="0"/>
          </p:cNvCxnSpPr>
          <p:nvPr/>
        </p:nvCxnSpPr>
        <p:spPr>
          <a:xfrm>
            <a:off x="4572000" y="1599840"/>
            <a:ext cx="1572480" cy="29008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21" name="Овал 11"/>
          <p:cNvSpPr/>
          <p:nvPr/>
        </p:nvSpPr>
        <p:spPr>
          <a:xfrm>
            <a:off x="0" y="3143160"/>
            <a:ext cx="2428920" cy="9288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органы власти и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12"/>
          <p:cNvSpPr/>
          <p:nvPr/>
        </p:nvSpPr>
        <p:spPr>
          <a:xfrm>
            <a:off x="6143760" y="3214800"/>
            <a:ext cx="2643120" cy="7858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трудовые колл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3"/>
          <p:cNvSpPr/>
          <p:nvPr/>
        </p:nvSpPr>
        <p:spPr>
          <a:xfrm>
            <a:off x="571680" y="4500720"/>
            <a:ext cx="3000240" cy="15001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учебно-воспитательные учрежд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школы, П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4"/>
          <p:cNvSpPr/>
          <p:nvPr/>
        </p:nvSpPr>
        <p:spPr>
          <a:xfrm>
            <a:off x="4857840" y="4500720"/>
            <a:ext cx="2857320" cy="1285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учреждения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755640" y="189000"/>
            <a:ext cx="748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нкции профилактики выполняют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880" y="200016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 школе ежегодно проходят месячники по профилактике правонарушений среди несовершеннолетних. В нашей школе проводился цикл мероприятий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ля родителей ( общешкольные собрания, беседы о правах и обязанностях родителей, о привлечение их к ответственности за недостойное воспитание своих детей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ля учащихся ( классные часы, игры, викторины на правовую тему, встречи с инспектором)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14280" y="57132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cc"/>
                </a:solidFill>
                <a:latin typeface="Bradley Hand ITC"/>
              </a:rPr>
              <a:t>Что же делает школа для предупреждения правонарушений в молодежной сред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еступность несовершенн26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3" descr="КЛ.jpg"/>
          <p:cNvPicPr/>
          <p:nvPr/>
        </p:nvPicPr>
        <p:blipFill>
          <a:blip r:embed="rId2"/>
          <a:srcRect l="4598" t="4888" r="3447" b="5537"/>
          <a:stretch/>
        </p:blipFill>
        <p:spPr>
          <a:xfrm>
            <a:off x="1214280" y="1500120"/>
            <a:ext cx="7143840" cy="471492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187280" y="404640"/>
            <a:ext cx="7142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вая игра в 9 класс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2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oudy Stout"/>
              </a:rPr>
              <a:t>Урок на тему:»Преступность несовершеннолетних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КЛ 002.jpg"/>
          <p:cNvPicPr/>
          <p:nvPr/>
        </p:nvPicPr>
        <p:blipFill>
          <a:blip r:embed="rId2"/>
          <a:srcRect l="3786" t="4466" r="4028" b="5813"/>
          <a:stretch/>
        </p:blipFill>
        <p:spPr>
          <a:xfrm>
            <a:off x="785880" y="2000160"/>
            <a:ext cx="7572240" cy="4357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99128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«Спросят, как перейти жизнь, отвечайте: как по струне бездну – красиво, бережно и стремительн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                                                                                        </a:t>
            </a: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Н.Рер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еступность несовершенн25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1619280" y="-171360"/>
            <a:ext cx="5832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пиграф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11" descr="image695"/>
          <p:cNvPicPr/>
          <p:nvPr/>
        </p:nvPicPr>
        <p:blipFill>
          <a:blip r:embed="rId5"/>
          <a:stretch/>
        </p:blipFill>
        <p:spPr>
          <a:xfrm>
            <a:off x="4427640" y="4292640"/>
            <a:ext cx="2619360" cy="20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BD20656_"/>
          <p:cNvPicPr/>
          <p:nvPr/>
        </p:nvPicPr>
        <p:blipFill>
          <a:blip r:embed="rId6"/>
          <a:stretch/>
        </p:blipFill>
        <p:spPr>
          <a:xfrm>
            <a:off x="684360" y="0"/>
            <a:ext cx="7848360" cy="61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КЛ 001.jpg"/>
          <p:cNvPicPr/>
          <p:nvPr/>
        </p:nvPicPr>
        <p:blipFill>
          <a:blip r:embed="rId2"/>
          <a:stretch/>
        </p:blipFill>
        <p:spPr>
          <a:xfrm>
            <a:off x="714240" y="1946160"/>
            <a:ext cx="7786800" cy="44830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539640" y="333360"/>
            <a:ext cx="792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седа с учащимися 8 класс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мся 9-11 классов были заданы следующие вопросы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 чем вы видите причины роста преступности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ак с ней бороться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3" descr="Рисунок5.jpg"/>
          <p:cNvPicPr/>
          <p:nvPr/>
        </p:nvPicPr>
        <p:blipFill>
          <a:blip r:embed="rId2"/>
          <a:stretch/>
        </p:blipFill>
        <p:spPr>
          <a:xfrm>
            <a:off x="4714920" y="307188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138" name="Преступность несовершенн30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Учащиеся выявили следующие причины преступ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езработ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Денежные затруд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Моральная распу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изкий уровень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езнаказа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орьба за вл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еполные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еступность несовершенн26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Учащиеся так же предложили методы борьбы с причинами роста преступ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44520"/>
            <a:ext cx="822960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овысить заработную пла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Восстановить сельское хозяй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овысить уровень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Занять свободное время подрост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Обеспечить моральное воспит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равов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еступность несовершенн264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1628640"/>
            <a:ext cx="75009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Это суровое предупреждение пришло в наш быт из прошлого. Оно напоминает о самых неблагоприятных поворотах судьбы. Самые безрассудные поступки свойственны молодости. Именно в раннем возрасте сам человек нередко протаптывает тропинку к высокому забору с орнаментом из колючей проволоки. «Не знал!», «Не думал», «Не хотел…», - этот лепет часто приходится слышать. Поэтому одна из задач воспитательной работы в нашей школе – предупредить учащихся об опасностях в игре с зак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еступность несовершенн26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>
            <a:off x="395280" y="404640"/>
            <a:ext cx="84200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От сумы и от тюрьмы не зарекайся!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работе над проектом я воспользовалась материалом ОВД по г. Алатырь и Алатырского района. И выявила следующее, что вопросы совершенствования профилактики безнадзорности, беспризорности и правонарушений несовершеннолетних постоянно находятся в центре внимания руководства ОВД г. Алатыря и Алатырского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еступность несовершенн30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татистика преступлений несовершеннолетних в городе Алатырь и Алатырском район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2920" y="1600200"/>
            <a:ext cx="87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 9 месяцев (январь-октябрь) 2009 г. ОВД выявлено 249 подростков-правонарушителей. За АППГ -3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 данный период поставлено на профилактический учет 86 подросток, АППГ-8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Всего на профилактическом учете находятся 94 несовершеннолетних. АППГ-115. Из них условно осужденных-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еступность несовершенн30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6"/>
          <p:cNvGraphicFramePr/>
          <p:nvPr/>
        </p:nvGraphicFramePr>
        <p:xfrm>
          <a:off x="1681200" y="1486080"/>
          <a:ext cx="57816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0" y="1486080"/>
                    <a:ext cx="578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Picture 8" descr="i?id=192173105&amp;tov=0"/>
          <p:cNvPicPr/>
          <p:nvPr/>
        </p:nvPicPr>
        <p:blipFill>
          <a:blip r:embed="rId5"/>
          <a:stretch/>
        </p:blipFill>
        <p:spPr>
          <a:xfrm>
            <a:off x="0" y="0"/>
            <a:ext cx="1785960" cy="17510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49976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 настоящее время проводится определенная работа с семьями, находящимися в социально-опасном положении. Всего на контроле 28 семей, АППГ -35, собрано 20 материалов на лишении родительских прав, АППГ 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реступность несовершенн304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i?id=123916438&amp;tov=0"/>
          <p:cNvPicPr/>
          <p:nvPr/>
        </p:nvPicPr>
        <p:blipFill>
          <a:blip r:embed="rId3"/>
          <a:stretch/>
        </p:blipFill>
        <p:spPr>
          <a:xfrm>
            <a:off x="4356000" y="4797360"/>
            <a:ext cx="2238480" cy="1689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?id=103241614&amp;tov=0"/>
          <p:cNvPicPr/>
          <p:nvPr/>
        </p:nvPicPr>
        <p:blipFill>
          <a:blip r:embed="rId4"/>
          <a:stretch/>
        </p:blipFill>
        <p:spPr>
          <a:xfrm>
            <a:off x="395280" y="333360"/>
            <a:ext cx="1636560" cy="123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ПРОФИЛАКТИЧЕСКАЯ РАБОТА ПРОВОДИМАЯ ПО ПРЕДУПРЕЖДЕНИЮ ПРАВОНАРУШЕНИЯ СРЕДИ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целях профилактики безнадзорности, беспризорности и правонарушений несовершеннолетних  в январе – октябре  текущего года были проведены операции под условными наименованиями «Салон», «Безнадзорность», «Рецидив»,«Условник», «Подросток», «Гардероб»,  акция «Милиция и дети», проведено 95 рейдов по линии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еступность несовершенн276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результаты работы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январь-февраль 2009 года Алатырским ОВД проделана определенная работа по стабилизации роста преступлений и правонарушений среди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Актуальность данной темы обусловлена, с одной стороны, существенной ролью, занимаемой подростковой преступностью в общей структуре преступности, с другой  - необходимостью коренного пересмотра  подходов к профилактике противоправных проявлений среди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403280" y="33336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ктуальност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6" descr="BD20656_"/>
          <p:cNvPicPr/>
          <p:nvPr/>
        </p:nvPicPr>
        <p:blipFill>
          <a:blip r:embed="rId4"/>
          <a:stretch/>
        </p:blipFill>
        <p:spPr>
          <a:xfrm>
            <a:off x="755640" y="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За текущем периоде произошло снижени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месту совершения преступл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Преступность несовершенн28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Диаграмма 4" descr=""/>
          <p:cNvPicPr/>
          <p:nvPr/>
        </p:nvPicPr>
        <p:blipFill>
          <a:blip r:embed="rId3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 видам преступ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Содержимое 1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категории преступлений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ключение хотелось бы отметить, что преступность несовершеннолетних при значительных масштабах распространения требует решительных, энергичных и целенаправленных мер по ее предупреждению. Для этого следует постоянно совершенствовать формы и методы работы органов внутренних дел, обеспечивать должным образом их приоритетное кадровое пополнение и материально-техническое снабжени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состоит прежде всего в снижении уровня преступности несовершеннолетних, недопущении разлагающего влияния несовершеннолетних преступников на других подростков и пополнения ими рядов взрослых преступников-рецидивистов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шении этой и других задач важная роль принадлежит мерам общей и индивидуальной профилактики, применяемым органами внутренних дел в целях устранения причин и условий, способствующих преступлениям несовершеннолетних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ффективность такой деятельности в значительной степени зависит от того, насколько данные меры базируются на положениях, разработанных криминологией, уголовным правом, уголовно-исполнительным правом, психологией, педагог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547640" y="26028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748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i[74]"/>
          <p:cNvPicPr/>
          <p:nvPr/>
        </p:nvPicPr>
        <p:blipFill>
          <a:blip r:embed="rId3"/>
          <a:stretch/>
        </p:blipFill>
        <p:spPr>
          <a:xfrm>
            <a:off x="826920" y="1916280"/>
            <a:ext cx="6950160" cy="4681440"/>
          </a:xfrm>
          <a:prstGeom prst="rect">
            <a:avLst/>
          </a:prstGeom>
          <a:ln w="0">
            <a:noFill/>
          </a:ln>
        </p:spPr>
      </p:pic>
      <p:sp>
        <p:nvSpPr>
          <p:cNvPr id="184" name="WordArt 8"/>
          <p:cNvSpPr txBox="1"/>
          <p:nvPr/>
        </p:nvSpPr>
        <p:spPr>
          <a:xfrm>
            <a:off x="2050920" y="549360"/>
            <a:ext cx="5473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ЗЕННЫЙ ДОМ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3000">
    <p:push dir="r"/>
  </p:transition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">
                                      <p:cBhvr>
                                        <p:cTn id="3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~PP2414.WAV" descr=""/>
          <p:cNvPicPr/>
          <p:nvPr/>
        </p:nvPicPr>
        <p:blipFill>
          <a:blip r:embed="rId2"/>
          <a:stretch/>
        </p:blipFill>
        <p:spPr>
          <a:xfrm>
            <a:off x="883908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Бутырская тюрьм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i[62]"/>
          <p:cNvPicPr/>
          <p:nvPr/>
        </p:nvPicPr>
        <p:blipFill>
          <a:blip r:embed="rId4"/>
          <a:stretch/>
        </p:blipFill>
        <p:spPr>
          <a:xfrm>
            <a:off x="611280" y="1197000"/>
            <a:ext cx="8280360" cy="53751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0"/>
          <p:cNvSpPr txBox="1"/>
          <p:nvPr/>
        </p:nvSpPr>
        <p:spPr>
          <a:xfrm>
            <a:off x="468360" y="476280"/>
            <a:ext cx="8543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ой! Руки за спину! Шагом марш!» Этап прибыл в зону.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cover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97382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 Black"/>
              </a:rPr>
              <a:t>ВСЕ. ПОЗАДИ: ШАЛЬНЫЕ ПРИЯТЕЛИ, ВЕСЕЛЫЕ ДЕВЧОНКИ ПЬЯНЫЕ ВЕЧЕРА. ВПЕРЕДИ  - ЗОНА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0920" y="1846080"/>
            <a:ext cx="7777080" cy="41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?id=140383920&amp;tov=5"/>
          <p:cNvPicPr/>
          <p:nvPr/>
        </p:nvPicPr>
        <p:blipFill>
          <a:blip r:embed="rId3"/>
          <a:stretch/>
        </p:blipFill>
        <p:spPr>
          <a:xfrm>
            <a:off x="0" y="1484280"/>
            <a:ext cx="5041800" cy="379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i[34]"/>
          <p:cNvPicPr/>
          <p:nvPr/>
        </p:nvPicPr>
        <p:blipFill>
          <a:blip r:embed="rId4"/>
          <a:stretch/>
        </p:blipFill>
        <p:spPr>
          <a:xfrm>
            <a:off x="4211640" y="3297240"/>
            <a:ext cx="4746600" cy="3560760"/>
          </a:xfrm>
          <a:prstGeom prst="rect">
            <a:avLst/>
          </a:prstGeom>
          <a:ln w="0">
            <a:noFill/>
          </a:ln>
        </p:spPr>
      </p:pic>
    </p:spTree>
  </p:cSld>
  <p:transition advTm="9000">
    <p:split dir="in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" name="Бутырская тюрьм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i?id=123845917&amp;tov=4"/>
          <p:cNvPicPr/>
          <p:nvPr/>
        </p:nvPicPr>
        <p:blipFill>
          <a:blip r:embed="rId4"/>
          <a:stretch/>
        </p:blipFill>
        <p:spPr>
          <a:xfrm>
            <a:off x="0" y="1341360"/>
            <a:ext cx="4657680" cy="36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i?id=31415089&amp;tov=2"/>
          <p:cNvPicPr/>
          <p:nvPr/>
        </p:nvPicPr>
        <p:blipFill>
          <a:blip r:embed="rId5"/>
          <a:stretch/>
        </p:blipFill>
        <p:spPr>
          <a:xfrm>
            <a:off x="4788000" y="3673440"/>
            <a:ext cx="4356000" cy="3184560"/>
          </a:xfrm>
          <a:prstGeom prst="rect">
            <a:avLst/>
          </a:prstGeom>
          <a:ln w="0">
            <a:noFill/>
          </a:ln>
        </p:spPr>
      </p:pic>
      <p:sp>
        <p:nvSpPr>
          <p:cNvPr id="202" name="WordArt 12"/>
          <p:cNvSpPr txBox="1"/>
          <p:nvPr/>
        </p:nvSpPr>
        <p:spPr>
          <a:xfrm>
            <a:off x="755640" y="620640"/>
            <a:ext cx="74851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ЕСЬ ЗА ОКНАМИ БЕРЕЗЫ НЕ РАСТУТ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КРОССОВКИ, ДЖИНСЫ, ФУТБОЛКИ, УВЫ, ТЕПЕРЬ НЕ ДЛЯ НИХ. КАЗЕННАЯ ФОРМА ЕДИНА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[48]"/>
          <p:cNvPicPr/>
          <p:nvPr/>
        </p:nvPicPr>
        <p:blipFill>
          <a:blip r:embed="rId3"/>
          <a:stretch/>
        </p:blipFill>
        <p:spPr>
          <a:xfrm>
            <a:off x="395280" y="1773360"/>
            <a:ext cx="8029440" cy="4817880"/>
          </a:xfrm>
          <a:prstGeom prst="rect">
            <a:avLst/>
          </a:prstGeom>
          <a:ln w="0">
            <a:noFill/>
          </a:ln>
        </p:spPr>
      </p:pic>
    </p:spTree>
  </p:cSld>
  <p:transition advTm="7000">
    <p:split dir="in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24000" y="260280"/>
            <a:ext cx="54435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ahoma"/>
              </a:rPr>
              <a:t>Рост преступности в России, в том числе несовершеннолетних, стал следствием того, что помимо воздействия социально-экономических причин такие высокие духовные национальные ценности бытия как самоценность личности каждого человека, стремление к доброте и отвержение насилия по отношению к другим, любовь к Отечеству и забота о ближних в условиях деструктивных изменений в общественной жизни утратили свое значение. В связи с этим, задача духовно-нравственного обновления современного общества через духовно-ориентированное воспитание подрастающего поколения россиян становится вместе с тем и задачей ранней профилактики преступности несовершеннолет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[19]"/>
          <p:cNvPicPr/>
          <p:nvPr/>
        </p:nvPicPr>
        <p:blipFill>
          <a:blip r:embed="rId2"/>
          <a:stretch/>
        </p:blipFill>
        <p:spPr>
          <a:xfrm>
            <a:off x="5796000" y="1197000"/>
            <a:ext cx="3041640" cy="227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[37]"/>
          <p:cNvPicPr/>
          <p:nvPr/>
        </p:nvPicPr>
        <p:blipFill>
          <a:blip r:embed="rId3"/>
          <a:stretch/>
        </p:blipFill>
        <p:spPr>
          <a:xfrm>
            <a:off x="5219640" y="4264200"/>
            <a:ext cx="32590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К числу наиболее острых проблем современной общественной жизни относятся катастрофический всплеск преступности среди школьников, распространение жестокости в молодеж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еступность несовершенн29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i[37]"/>
          <p:cNvPicPr/>
          <p:nvPr/>
        </p:nvPicPr>
        <p:blipFill>
          <a:blip r:embed="rId3"/>
          <a:stretch/>
        </p:blipFill>
        <p:spPr>
          <a:xfrm>
            <a:off x="250920" y="1989000"/>
            <a:ext cx="2890800" cy="410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i[39]"/>
          <p:cNvPicPr/>
          <p:nvPr/>
        </p:nvPicPr>
        <p:blipFill>
          <a:blip r:embed="rId4"/>
          <a:stretch/>
        </p:blipFill>
        <p:spPr>
          <a:xfrm>
            <a:off x="3995640" y="2205000"/>
            <a:ext cx="261324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781848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Цель моего исследование заключается в рассмотрение истоков возникновения и развития проблемы преступности несовершеннолетних: расширение у подростков рамок знаний в правовой сфере, формирование правового сознания и воспитание правовой культуры; предотвращение и профилактика экстремистских настроений в молодежно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еступность несовершенн25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1547640" y="404640"/>
            <a:ext cx="489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7" descr="BD20656_"/>
          <p:cNvPicPr/>
          <p:nvPr/>
        </p:nvPicPr>
        <p:blipFill>
          <a:blip r:embed="rId5"/>
          <a:stretch/>
        </p:blipFill>
        <p:spPr>
          <a:xfrm>
            <a:off x="755640" y="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ри достижении поставленной цели я постаралась решить следующие задачи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Выявить причины возникновения детской пре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Охарактеризовать 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законодательства об ответственности несовершеннолетних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Предложить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методы борьбы с 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преступностью несовершеннолетних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Найти статистические данные о состоянии детской преступности в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городе Алатырь и Алатырском районе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Рост преступности – одна из проблем заставляет государство искать пути ее решени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еступность несовершенн30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i[17]"/>
          <p:cNvPicPr/>
          <p:nvPr/>
        </p:nvPicPr>
        <p:blipFill>
          <a:blip r:embed="rId3"/>
          <a:stretch/>
        </p:blipFill>
        <p:spPr>
          <a:xfrm>
            <a:off x="250920" y="1628640"/>
            <a:ext cx="3452760" cy="2560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i[25]"/>
          <p:cNvPicPr/>
          <p:nvPr/>
        </p:nvPicPr>
        <p:blipFill>
          <a:blip r:embed="rId4"/>
          <a:stretch/>
        </p:blipFill>
        <p:spPr>
          <a:xfrm>
            <a:off x="4284720" y="1700280"/>
            <a:ext cx="3585960" cy="237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i[14]"/>
          <p:cNvPicPr/>
          <p:nvPr/>
        </p:nvPicPr>
        <p:blipFill>
          <a:blip r:embed="rId5"/>
          <a:stretch/>
        </p:blipFill>
        <p:spPr>
          <a:xfrm>
            <a:off x="2484360" y="4221000"/>
            <a:ext cx="3301920" cy="242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200" spc="-1" strike="noStrike">
                <a:solidFill>
                  <a:srgbClr val="800080"/>
                </a:solidFill>
                <a:latin typeface="Arial"/>
              </a:rPr>
              <a:t>Причины возникновения детской преступ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Неудовлетворительные условия воспитания детей в сем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Распад семей, приводящий к тому, что ежегодно остается без одного из родителей 500 тыс.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Безработица, обнищание семей, неспособность родителей обеспечить детей полноценным питанием и одеж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уклонения детей от получения образования в начальной и средне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Разрушение сети государственных организаций, обеспечивающих культурный досуг подростков, которая была достаточно развитой в советское время, коммерциализация в этой области сделали нормой жизни многих подростков бессмысленное времяпровождение на улицах, в подъездах, на чердаках и в подва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лагающее влияние массов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ущемление прав ребенка в семье и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07:17:23Z</dcterms:created>
  <dc:creator>Zver</dc:creator>
  <dc:description/>
  <dc:language>en-US</dc:language>
  <cp:lastModifiedBy>история</cp:lastModifiedBy>
  <dcterms:modified xsi:type="dcterms:W3CDTF">2010-02-16T05:58:18Z</dcterms:modified>
  <cp:revision>135</cp:revision>
  <dc:subject/>
  <dc:title>Проект на тему: «Я И ЗАКОН».</dc:title>
</cp:coreProperties>
</file>