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D45-F12B-4C25-B205-D0B2D7C5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D49-3F48-4DE6-A713-21A0B197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FD3-BED4-4E7E-B0FB-A59DCA15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FD2-4DB1-41DF-881F-C8447553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D299-8AAC-4B96-9CF1-8F767468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2D4F-6F0A-4A2D-9575-9FAE1466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EC93-9228-46CC-A57E-EEC4E05A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8D31-10B1-4311-87CF-FB0E5B0F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25CE-78E9-4F44-81DB-31798992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E78A-D596-4793-ADCC-D5A2808D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CCAD-2518-40DE-A39E-7BD345F2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20A-B117-4FEE-A891-0B404EA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9F0E-4857-4A91-9CD1-FAC96611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2985-832B-4E8A-9A52-A7FC2572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1121-DB60-413F-9EA8-1FA1F9B5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E509-DD3E-48FC-BDFC-63E4884C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439B-1786-4EC0-9196-0CA9F4B3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506-A9D4-4949-A468-AB1837B5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4F4-87FE-4BA5-A8D4-46F3E8F8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5AC-9C54-402B-AE06-B1B806B1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32D-E858-46B7-BECF-8A369E04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966-FE5E-49EF-BE88-72C3DD22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FA1-8266-49E8-A284-7C2388FF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E36-9921-436A-8A34-7037C198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1C9C-86E8-4D29-B466-E29C97B491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35E7-7D55-4BFD-956E-E2C75D5D9B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Доклад на тему: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«Вневписанная окружность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2920" y="2923920"/>
            <a:ext cx="7239240" cy="34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оминация: математ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ыполнил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ляда Валент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фонина Екатер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еницы 9м клас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имназии № 2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учный руководител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итель высшей категор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леснявых Елена Асланов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6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3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умма всех попарных произведений радиусов вневписанных окружностей равна квадрату полупериметра треугольника, т. е.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71640" y="1827000"/>
            <a:ext cx="792144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ользуемся формулами ранее доказанных радиусов через стороны и площадь треугольник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стави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формулы Герона следу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p – a)(p – b)(p – c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том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547640" y="2651040"/>
                <a:ext cx="325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43280" y="2724120"/>
                <a:ext cx="576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211640" y="2698920"/>
                <a:ext cx="576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80000" y="2717640"/>
                <a:ext cx="719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095480" y="3639960"/>
                <a:ext cx="6416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87280" y="4403880"/>
                <a:ext cx="7129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059280" y="5361120"/>
                <a:ext cx="502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087720" y="5997600"/>
                <a:ext cx="2592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4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роизведение всех трех радиусов вневписанных окружностей равно произведению радиуса вписанной окружности на квадрат полупериметра треугольника, т.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r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 ранее доказанных формул для радиусов и формулы Геро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,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ог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979640" y="306864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635280" y="306864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292720" y="3073320"/>
                <a:ext cx="6494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372360" y="3141720"/>
                <a:ext cx="24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47640" y="4653000"/>
                <a:ext cx="6337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едствие 1.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Площадь треугольника равна отношению произведения всех трех радиусов вневписанных окружностей к полупериметру треугольника, т.е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ru-RU" sz="19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rp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×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 = Sp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ледовательно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032360" y="868320"/>
                <a:ext cx="10825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014800" y="3811680"/>
                <a:ext cx="1285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едствие 2.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Площадь треугольника равна квадратному корню из произведения всех трех радиусов вневписанных окружностей и радиуса вписанной окружности, т.е.</a:t>
            </a:r>
            <a:br>
              <a:rPr sz="1600"/>
            </a:b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ледствия 1, чт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и равенств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= p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аем, перемножая их почлен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Значи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255920" y="1050840"/>
                <a:ext cx="14400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138560" y="2332080"/>
                <a:ext cx="1150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833480" y="3768840"/>
                <a:ext cx="2306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651640" y="3905280"/>
                <a:ext cx="136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  <a:ea typeface="Arial"/>
              </a:rPr>
              <a:t> 5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Величина, обратная высоте треугольника, опущенной на его данную сторону, равна полусумме величин, обратных радиусам вневписанных окружностей, касающихся двух других сторон треугольника, т.е</a:t>
            </a:r>
            <a:r>
              <a:rPr b="0" lang="ru-RU" sz="1500" spc="-1" strike="noStrike">
                <a:solidFill>
                  <a:srgbClr val="006666"/>
                </a:solidFill>
                <a:latin typeface="Arial"/>
              </a:rPr>
              <a:t>.</a:t>
            </a:r>
            <a:br>
              <a:rPr sz="1500"/>
            </a:br>
            <a:br>
              <a:rPr sz="1400"/>
            </a:b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                                         ,                            ,  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ользуемся формул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952640" y="914400"/>
                <a:ext cx="1440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3646440" y="907920"/>
                <a:ext cx="1152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081760" y="885960"/>
                <a:ext cx="1223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132000" y="2814480"/>
                <a:ext cx="136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5580000" y="2781360"/>
                <a:ext cx="1009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619280" y="4076640"/>
                <a:ext cx="604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92360" y="5157720"/>
                <a:ext cx="194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356000" y="5084640"/>
                <a:ext cx="2305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енные свойства позволили установить связь между радиусами вписанной и вневписанной окружностями, между радиусами вневписанной окружностью и площадью треугольника, между радиусами вневписанных окружностей и периметром треугольника. Данный материал выходит за рамки школьной программы и будет полезен учащимся увлеченным математи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3. Заключение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7313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Введение.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сновная часть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1. Определение вневписанной окружности.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Центр вневписанной окружности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Касательная к вневписанной окружности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2. Формулы для вычисления радиусов вневписанных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1. Соотношение между радиусом вневписанной окружности и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периметром треугольник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2. Соотношение между радиусом вневписанной окружности, площадью и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периметром треугольник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3. Некоторые соотношения с радиусами вневписанных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1. Выражение суммы радиусов вневписанных окружностей через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радиус вписанной окружности и радиус описанной окружности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2. Выражение суммы величин, обратных радиусам вневписанных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, через величину обратную радиусу вписанных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3. Выражение суммы всех попарных произведений радиусов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вневписанных окружностей через квадрат полупериметр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треугольника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4. Выражение произведения радиусов вневписанных окружностей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через произведение радиуса вписанной окружности и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квадрат полупериметра треугольника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5. Выражение высоты треугольника через радиусы вневписанных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Заключение.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Библиография.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8000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945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Глава 1.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Окружность называется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невписанной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в треугольник, если она касается одной из сторон треугольника и продолжений двух других сторон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1196360" y="6858000"/>
            <a:ext cx="755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23640" y="2205000"/>
            <a:ext cx="4824720" cy="3992400"/>
            <a:chOff x="2123640" y="2205000"/>
            <a:chExt cx="4824720" cy="3992400"/>
          </a:xfrm>
        </p:grpSpPr>
        <p:sp>
          <p:nvSpPr>
            <p:cNvPr id="97" name=""/>
            <p:cNvSpPr/>
            <p:nvPr/>
          </p:nvSpPr>
          <p:spPr>
            <a:xfrm>
              <a:off x="3068640" y="3317760"/>
              <a:ext cx="2879640" cy="2879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123640" y="2496960"/>
              <a:ext cx="2212920" cy="30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6280" y="2487240"/>
              <a:ext cx="2602080" cy="273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0280" y="3308040"/>
              <a:ext cx="136836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10080" y="3317760"/>
              <a:ext cx="0" cy="14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510080" y="3822120"/>
              <a:ext cx="107928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3357360" y="3893400"/>
              <a:ext cx="115272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400000">
              <a:off x="3368160" y="385092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5040" y="332388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8400000">
              <a:off x="5504400" y="3774960"/>
              <a:ext cx="71640" cy="7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87600" y="4662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57440" y="3024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14600" y="220500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95800" y="30049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987640" y="3500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3160" y="29494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092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Центр вневписанной окружности в треугольник есть точка пересечения биссектрисы внутреннего угла треугольника, противолежащего той стороне треугольника, которой окружность касается, и биссектрис двух внешних углов треугольника (1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кр. (О;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,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 К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точки каса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 (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. к. окружность касается сторон угла САК, то центр окружности О равноудален от сторон этого угла, следовательно, он лежит на биссектрисе угла САК. Аналогично, точка О лежит на биссектрисе угла АС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. Т. к. окружность касается прямых ВА и ВС, то она вписана в угол АВС, а значит её центр лежит на биссектрисе угла АВС. Ч.т. д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49440" y="2378160"/>
            <a:ext cx="72720" cy="730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284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949640" y="1920960"/>
            <a:ext cx="2376720" cy="2303280"/>
            <a:chOff x="4949640" y="1920960"/>
            <a:chExt cx="2376720" cy="2303280"/>
          </a:xfrm>
        </p:grpSpPr>
        <p:sp>
          <p:nvSpPr>
            <p:cNvPr id="119" name=""/>
            <p:cNvSpPr/>
            <p:nvPr/>
          </p:nvSpPr>
          <p:spPr>
            <a:xfrm flipH="1">
              <a:off x="4949640" y="2208240"/>
              <a:ext cx="998280" cy="17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58000" y="2208240"/>
              <a:ext cx="136836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2560" y="278460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10360" y="2784600"/>
              <a:ext cx="1439640" cy="1439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31080" y="278460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031080" y="3138120"/>
              <a:ext cx="6109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3300000">
              <a:off x="6558840" y="3090240"/>
              <a:ext cx="71280" cy="72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100000">
              <a:off x="5430600" y="3090600"/>
              <a:ext cx="71280" cy="73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5410080" y="3134880"/>
              <a:ext cx="61128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2320" y="254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4840" y="19209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77040" y="25700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86360" y="34495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4360" y="29289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67280" y="2492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73680" y="2911320"/>
              <a:ext cx="2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18520" y="2802600"/>
              <a:ext cx="396000" cy="68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029640" y="2805480"/>
              <a:ext cx="396000" cy="68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50080" y="2205000"/>
              <a:ext cx="7128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Расстояние от вершины угла треугольника до точек касания вневписанной окружности со сторонами этого угла равны полупериметру данного треугольника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8066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, что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к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центр вневписан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ности. Касательные, прове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ные к окружности из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й точки, равны между собо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тому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ВА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, СА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С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, 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p = (AC 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+ (AB 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= (AC + C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+ (AB + B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= A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A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2A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2A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е.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 rot="20771400">
            <a:off x="5661000" y="2985840"/>
            <a:ext cx="194328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947760" y="1927080"/>
            <a:ext cx="3557880" cy="302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948120" y="4916880"/>
            <a:ext cx="5180400" cy="4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32840" y="3599640"/>
            <a:ext cx="326160" cy="132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698440" y="4001760"/>
            <a:ext cx="907920" cy="22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07080" y="4002480"/>
            <a:ext cx="154080" cy="92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02720" y="3160800"/>
            <a:ext cx="502560" cy="84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2772000">
            <a:off x="6048360" y="3164400"/>
            <a:ext cx="72720" cy="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171400">
            <a:off x="6669000" y="4847400"/>
            <a:ext cx="71640" cy="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0771400">
            <a:off x="5703840" y="4206960"/>
            <a:ext cx="71640" cy="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48480" y="4003200"/>
            <a:ext cx="2658600" cy="948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869800" y="4002480"/>
            <a:ext cx="736560" cy="923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43280" y="3597480"/>
            <a:ext cx="1062360" cy="405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02760" y="3335760"/>
            <a:ext cx="121320" cy="192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489640" y="392688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340680" y="4856760"/>
            <a:ext cx="105480" cy="174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92880" y="4880880"/>
            <a:ext cx="105840" cy="174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626080" y="448740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653080" y="453024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23200" y="3745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270828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771400">
            <a:off x="6243480" y="328536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771400">
            <a:off x="6559200" y="414252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771400">
            <a:off x="5843160" y="397584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47736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67160" y="3314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95920" y="490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 rot="10887000">
            <a:off x="6586920" y="486864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407052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349360"/>
            <a:ext cx="71640" cy="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29242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4581360"/>
            <a:ext cx="647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45846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73560" y="4734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лава 2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1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Радиус вневписанной окружности. Касающейся сторон данного внутреннего угла треугольника, равен произведению полупериметра треугольника на тангенс половины этого угла, т. е.</a:t>
            </a:r>
            <a:br>
              <a:rPr sz="1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(2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 (2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А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– длины катетов, угол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А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авен    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Arial"/>
              </a:rPr>
              <a:t>, поэтому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ptg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Arial"/>
              </a:rPr>
              <a:t>    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977080" y="2421000"/>
            <a:ext cx="194292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103640" y="1628640"/>
            <a:ext cx="417672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03640" y="3720960"/>
            <a:ext cx="5040360" cy="11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65920" y="278136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77080" y="342900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40000" y="3429000"/>
            <a:ext cx="716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24720" y="2492280"/>
            <a:ext cx="287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rot="3600000">
            <a:off x="6561360" y="24894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6000000">
            <a:off x="6762960" y="427104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77080" y="34210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03640" y="3429000"/>
            <a:ext cx="280836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977080" y="3429000"/>
            <a:ext cx="93492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77080" y="2781360"/>
            <a:ext cx="93492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92720" y="2565360"/>
            <a:ext cx="7164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2360" y="313992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408360" y="422100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453000" y="425592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32360" y="371628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48200" y="376560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6189000">
            <a:off x="5216760" y="2935800"/>
            <a:ext cx="358560" cy="2808360"/>
          </a:xfrm>
          <a:custGeom>
            <a:avLst/>
            <a:gdLst>
              <a:gd name="textAreaLeft" fmla="*/ 0 w 358560"/>
              <a:gd name="textAreaRight" fmla="*/ 129600 w 3585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3844800">
            <a:off x="5061240" y="1460880"/>
            <a:ext cx="433440" cy="2737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3511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03840" y="2532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70440" y="41022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21300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9600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84720" y="450864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276640"/>
            <a:ext cx="6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10320" y="2278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02480" y="430848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805800">
            <a:off x="5111280" y="3684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11640" y="3043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73680" y="270036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75560" y="360828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9640" y="327492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2133720"/>
            <a:ext cx="73080" cy="712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708280"/>
            <a:ext cx="20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24360" y="1052640"/>
                <a:ext cx="287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148360" y="1052640"/>
                <a:ext cx="1746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00720" y="1052640"/>
                <a:ext cx="1526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49480" y="4797360"/>
                <a:ext cx="27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328920" y="4749840"/>
                <a:ext cx="220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2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Радиус вневписанной окружности, касающейся данной стороны треугольника, равен отношению площади треугольника к разности полупериметра и этой стороны. т.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      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      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(3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 (3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меем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S =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BC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=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OaC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+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OaC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OaC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  × (b + c – a) = 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×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(p – a),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т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е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2421000"/>
            <a:ext cx="194328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851280" y="1628640"/>
            <a:ext cx="417672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1280" y="3720960"/>
            <a:ext cx="5040360" cy="11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13560" y="278136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342900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587640" y="3429000"/>
            <a:ext cx="716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2360" y="2492280"/>
            <a:ext cx="287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rot="3600000">
            <a:off x="6309000" y="24894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6000000">
            <a:off x="6510600" y="427104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4360" y="342108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851280" y="3429000"/>
            <a:ext cx="280836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724360" y="3429000"/>
            <a:ext cx="935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781360"/>
            <a:ext cx="93528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2565360"/>
            <a:ext cx="7164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0000" y="313992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156000" y="422100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200640" y="4255920"/>
            <a:ext cx="14472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95840" y="376560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6189000">
            <a:off x="4964400" y="2935800"/>
            <a:ext cx="358560" cy="2808360"/>
          </a:xfrm>
          <a:custGeom>
            <a:avLst/>
            <a:gdLst>
              <a:gd name="textAreaLeft" fmla="*/ 0 w 358560"/>
              <a:gd name="textAreaRight" fmla="*/ 129600 w 3585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3844800">
            <a:off x="4808880" y="1460880"/>
            <a:ext cx="433440" cy="2736720"/>
          </a:xfrm>
          <a:custGeom>
            <a:avLst/>
            <a:gdLst>
              <a:gd name="textAreaLeft" fmla="*/ 276840 w 433440"/>
              <a:gd name="textAreaRight" fmla="*/ 433800 w 43344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3511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51480" y="2532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18080" y="41022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88000" y="321300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43280" y="220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32360" y="450864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00720" y="227664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57960" y="2278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50120" y="4308480"/>
            <a:ext cx="576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805800">
            <a:off x="4858920" y="3684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3043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21320" y="270036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23200" y="360828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27492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2060640"/>
            <a:ext cx="73080" cy="712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2637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92360" y="1081080"/>
                <a:ext cx="503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716360" y="108108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940360" y="110664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808440" y="4826160"/>
                <a:ext cx="43164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067280" y="537372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-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лава 3.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1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умма радиусов вневписанных окружностей равна сумме радиуса вписанной окружности и удвоенного диаметра описанной окружности, т. 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r + 4R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разим все радиусы через стороны, площадь и полупериметр треугольник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, R =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+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+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– r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+            +           -          =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                                                           =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          =        =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979640" y="3141720"/>
                <a:ext cx="288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046320" y="3094200"/>
                <a:ext cx="576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389480" y="3078000"/>
                <a:ext cx="431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651640" y="3087720"/>
                <a:ext cx="576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020000" y="3065400"/>
                <a:ext cx="576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067280" y="4111560"/>
                <a:ext cx="72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248440" y="408312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16720" y="4111560"/>
                <a:ext cx="6476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451640" y="4121280"/>
                <a:ext cx="433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835280" y="4797360"/>
                <a:ext cx="4824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793880" y="546588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862360" y="5506920"/>
                <a:ext cx="504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 2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Сумма величин, обратных радиусам вневписанных окружностей, равна величине, обратной радиусу вписанной окружности, т. е.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спользуем выражения радиусов через стороны и площадь треугольник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       , R = 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42920" y="3284640"/>
                <a:ext cx="28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340000" y="3241800"/>
                <a:ext cx="503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895560" y="3284640"/>
                <a:ext cx="4683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292720" y="3274920"/>
                <a:ext cx="574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732720" y="3274920"/>
                <a:ext cx="503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270400" y="836640"/>
                <a:ext cx="1656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187280" y="4653000"/>
                <a:ext cx="640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7:51:47Z</dcterms:created>
  <dc:creator>Валя</dc:creator>
  <dc:description/>
  <dc:language>en-US</dc:language>
  <cp:lastModifiedBy>Валя</cp:lastModifiedBy>
  <dcterms:modified xsi:type="dcterms:W3CDTF">2008-04-22T08:12:13Z</dcterms:modified>
  <cp:revision>29</cp:revision>
  <dc:subject/>
  <dc:title>Вневписанная окружность</dc:title>
</cp:coreProperties>
</file>