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49A-8181-4FCA-B944-9942A316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4B3-9C73-45E3-A6C6-F8747EB7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A2E-2A71-4156-BA54-4C7692D6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CA8-38AE-4F7E-BBD2-FF4472BA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8EC5-8C90-4543-86A1-CB6A77EB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EE68-D5CF-4176-8391-6E19080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27A4-50F4-404F-8C69-03A82A01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7C53-7199-4D36-86C9-3D64E5B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A9AB-72AB-4035-A99C-2BECBE61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4924-6ABB-48CA-A2D4-F9431FED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EF2B-D12A-47A8-B945-D3E9B7A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795-A3F7-49C3-A73A-D8E4E7A0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894F-5F16-48DB-A97C-C4C9CBDC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EF15-86E6-49B0-8A3A-3480441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4971-34F8-4921-9282-AE220B88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EC67-9D7D-4EF3-9F01-A415D249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2AD9-07EF-4286-8F89-9FC28676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274-D919-4065-B463-1207678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774-FD23-438C-802F-B26C8395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75A-09A1-4760-A066-413BE7B6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412-27CD-43EE-8A54-E2704488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D06-385A-4963-928D-14E59C34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EBF-B790-46F9-8A89-339CDE33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40C-9EC9-4D38-83C0-DF3A278F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35D9-2F97-4512-AAD3-82F8E97EC3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FF77-D883-4BEE-8AB8-06222C522F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Mama/Desktop/&#1052;&#1072;&#1090;&#1077;&#1088;&#1080;&#1072;&#1083;&#1099;%20&#1082;%20&#1082;&#1086;&#1085;&#1092;&#1077;&#1088;&#1077;&#1085;&#1094;&#1080;&#1080;%20&#1056;.&#1042;.&#1060;&#1088;&#1072;&#1085;&#1082;/&#1090;&#1077;&#1089;&#1090;%20&#1043;&#1088;&#1072;&#1078;&#1076;&#1072;&#1085;&#1089;&#1082;&#1072;&#1103;%20&#1074;&#1086;&#1081;&#1085;&#1072;.doc" TargetMode="External"/><Relationship Id="rId3" Type="http://schemas.openxmlformats.org/officeDocument/2006/relationships/hyperlink" Target="file:///C:/Documents%20and%20Settings/Mama/Desktop/&#1052;&#1072;&#1090;&#1077;&#1088;&#1080;&#1072;&#1083;&#1099;%20&#1082;%20&#1082;&#1086;&#1085;&#1092;&#1077;&#1088;&#1077;&#1085;&#1094;&#1080;&#1080;%20&#1056;.&#1042;.&#1060;&#1088;&#1072;&#1085;&#1082;/&#1054;&#1090;&#1074;&#1077;&#1090;&#1099;%20&#1087;&#1086;%20&#1090;&#1077;&#1089;&#1090;&#1091;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197000"/>
            <a:ext cx="72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Начало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Гражданской войны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в Росс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4160" y="4365000"/>
            <a:ext cx="56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и истории России в 9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Организация обороны страны большевикам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15840" y="2363400"/>
            <a:ext cx="3924360" cy="37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2 сентября 1918г.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екрет ВЦИК о превращении Советской республики в военный лагер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Сентябр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создан Реввоенсовет Республики во главе с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.Д.Троцк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30 ноябр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декрет ВЦИК об образовании Совета рабочей и крестьянской обороны во главе с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.И.Лени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2079360" cy="2933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6300720" y="220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659640" y="2133720"/>
            <a:ext cx="2209680" cy="275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68360" y="5300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.Д. Троц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5157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И. Л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бразование региональных «демократических правительств» летом 1918 г.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384360" cy="2359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3280" y="1413000"/>
            <a:ext cx="4105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митет членов Учредительного собрания (Комуч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председатель эсер В.К.Воль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ременное правительство Сибир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председатель эсер П.В.Вологод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Уфимская директор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эсер Н.Д,Авксенть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005360"/>
            <a:ext cx="3276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ле свержения Советской власти на «освобожденных территориях» социалистические партии (эсеры) при поддержки крестьянских повстанческих отрядов создавали свои «демократические правительств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4149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лните таблиц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76720" y="4581360"/>
          <a:ext cx="5688000" cy="1462320"/>
        </p:xfrm>
        <a:graphic>
          <a:graphicData uri="http://schemas.openxmlformats.org/drawingml/2006/table">
            <a:tbl>
              <a:tblPr/>
              <a:tblGrid>
                <a:gridCol w="1535040"/>
                <a:gridCol w="1353960"/>
                <a:gridCol w="1263960"/>
                <a:gridCol w="1535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«Демократически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авительств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Где и к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озданы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ограм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Чьи интерес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ыражал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Комитет членов                    Учредительного собр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оздан 8 июня 1918г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уществлял управление Самарской, Саратовской, Казанской и Уфимской губерния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возгласил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Восстановление демократических своб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Разрешил деятельность рабочих и крестьянских съездов, профсоюз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Создал народную арм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Денационализация промышленных предприятий, бан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Свобода торгов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Возвращение конфискованных земель помещикам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егиональные правительст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Временное правительство Сиби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о в июне 1918г. в Омс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няли Декларацию независимости Сиби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ие собственной арм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сильственная мобилизация насе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8 ноября 1918г. – военный переворот, разгон правительства. А.В.Колчак – Верховный правитель Росс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              ( территория Урала, Сибир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6480" y="1341360"/>
            <a:ext cx="40003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Уфимская Директ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а 23 сентября 1918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рьба с большевик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ступала за продолжение 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становление договоров со странами Антан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бивались упразднения всех других областных , национальных и казачьих правитель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544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опрос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Почему региональные правительства не сумели сохранить власть и потерпели поражение в противостоянии с большевика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Работа с документом: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«Из письма А.В. Колчака во французское министерство иностранных дел»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111400" cy="2800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-2055960" y="310788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1773360"/>
            <a:ext cx="590580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ей первой мыслью после окончательного разгрома большевиков будет мысль об установлении даты выборов в Учредительное собрание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Россия ни сегодня. Ни в будущем не может быть ничем иным, кроме как демократическим государством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« …в отношении аграрного вопроса, имеет целью удовлетворить интересы огромных масс…Россия может быть сильной и процветающей лишь при условии, если миллионы русских крестьян получат все гарантии на владение землёй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емельные захваты должны быть прекращены…» (земельный закон должен быть разработан Учредительным собрание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50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Колч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157720"/>
            <a:ext cx="8137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Как можно охарактеризовать политические взгляды А.В.Колча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равните аграрную политику большевиков с обещаниями колчаковского правительства? Что могло привлечь крестьян, а что насторожить в решении аграрного вопрос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Зелёное движение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в годы гражданской войны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1840" y="1268280"/>
            <a:ext cx="2468520" cy="345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4797360"/>
            <a:ext cx="244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стор Мах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888 -1934 г.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24360" y="1197000"/>
            <a:ext cx="6119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Крестьянское движение, активно выступавшее как против Белого, так и против Красного движений. Зелёный цвет – символ воли и своб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рритория –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ичерноморье, Северный Кавказ, Крым, юг Укра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94200" y="2852640"/>
            <a:ext cx="60498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аина – отряды «батьки Махно»                    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Н.И.Махно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в юности увлёкся идеями анархизма, после революции  в Гуляй-Поле (Украина) крестьяне под его руководством провели «чёрный передел» земли. После оккупации Украины германскими войсками возглавил партизанскую борьбу за независимую Украину. Они сражались под чёрными знамёнами с надписями «Свобода или смерть!» Против белогвардейцев махновцы выступали вместе с Красной армией. Но сперва в июне 1919 г., а затем в 1920г. командование Красной армии ведёт борьбу с махновщи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6165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Махновцы вели борьбу  до осени 1921 г., а затем после тяжёлого ранения Н.Махно эмигрирует из России. Скончался во Фран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785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ретий этап  (ноябрь1918 г. – весна 1919 г.)</a:t>
            </a:r>
            <a:br>
              <a:rPr sz="3200"/>
            </a:b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Активизация иностранной интервен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Ведущие силы в борьбе с большевиками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637000"/>
            <a:ext cx="1944720" cy="1081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рмия генер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.В.Колч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2637000"/>
            <a:ext cx="1944720" cy="1081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рмия генер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.И.Дени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2637000"/>
            <a:ext cx="1959120" cy="1081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рмия генер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Н.Н,Юдени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773360"/>
            <a:ext cx="1908360" cy="431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осток стр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565360"/>
            <a:ext cx="2016000" cy="11527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Армия генер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Е.К.Милл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773360"/>
            <a:ext cx="1656000" cy="431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Юг стр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1773360"/>
            <a:ext cx="2592360" cy="431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еверо-запад стра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1773360"/>
            <a:ext cx="1690920" cy="431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евер стра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2276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64500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Массовая интервенция против России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Ноябрь 1918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высадка французских и английских войск в черноморских портах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15772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5300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450864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Начало 1919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494172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На юге – 130 ты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интерв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15772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На севере – 20 ты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интерв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0" y="4941720"/>
            <a:ext cx="3240000" cy="792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На Дальнем Восто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и в Сиби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50 тыс. интервентов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9" idx="0"/>
            <a:endCxn id="179" idx="0"/>
          </p:cNvCxnSpPr>
          <p:nvPr/>
        </p:nvCxnSpPr>
        <p:spPr>
          <a:xfrm>
            <a:off x="4571640" y="450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9" idx="0"/>
            <a:endCxn id="179" idx="0"/>
          </p:cNvCxnSpPr>
          <p:nvPr/>
        </p:nvCxnSpPr>
        <p:spPr>
          <a:xfrm>
            <a:off x="4571640" y="450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9" idx="0"/>
            <a:endCxn id="179" idx="0"/>
          </p:cNvCxnSpPr>
          <p:nvPr/>
        </p:nvCxnSpPr>
        <p:spPr>
          <a:xfrm>
            <a:off x="4571640" y="450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 flipH="1">
            <a:off x="2555640" y="4797360"/>
            <a:ext cx="86364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4797360"/>
            <a:ext cx="57600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5803920"/>
            <a:ext cx="860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: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 какими изменениями в международной обстановке связана активизация интервенции против Ро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64911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т: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кончание Первой мировой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ретий этап  (ноябрь1918 г. – весна 1919 г.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Осень 1918 г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88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Главный фронт – </a:t>
            </a:r>
            <a:r>
              <a:rPr b="1" lang="en-US" sz="2100" spc="-1" strike="noStrike">
                <a:solidFill>
                  <a:srgbClr val="ffff66"/>
                </a:solidFill>
                <a:latin typeface="Tahoma"/>
              </a:rPr>
              <a:t>Восточный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2349360"/>
            <a:ext cx="6119640" cy="792360"/>
          </a:xfrm>
          <a:prstGeom prst="flowChartAlternateProcess">
            <a:avLst/>
          </a:prstGeom>
          <a:solidFill>
            <a:srgbClr val="ffcc99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нтрнаступление Красной Армии под  командова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И.И.Вацет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3357720"/>
            <a:ext cx="6767640" cy="718920"/>
          </a:xfrm>
          <a:prstGeom prst="roundRect">
            <a:avLst>
              <a:gd name="adj" fmla="val 16667"/>
            </a:avLst>
          </a:prstGeom>
          <a:solidFill>
            <a:srgbClr val="ffcc99">
              <a:alpha val="2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Итог:  белогвардейские части вытеснены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реднего Поволжья и Прикам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4437000"/>
            <a:ext cx="835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машнее задание:  заполните табли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«Основные события гражданской войн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5373720"/>
          <a:ext cx="8713800" cy="1212840"/>
        </p:xfrm>
        <a:graphic>
          <a:graphicData uri="http://schemas.openxmlformats.org/drawingml/2006/table">
            <a:tbl>
              <a:tblPr/>
              <a:tblGrid>
                <a:gridCol w="2181240"/>
                <a:gridCol w="2176560"/>
                <a:gridCol w="2179800"/>
                <a:gridCol w="2176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Белогвардейск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дви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расная арм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Итоги эта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Использованная литература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А.Данилов  Л.Г.Косулина  История России, ХХ ве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б. кн. для 9 кл.- М.: Просвещение, 1995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нциклопедия для детей. Т.5, ч.3. История России ХХ век / Сост. С.Т.Исмаилова. – М.:Аванта+, 1996. – 672 с.: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России. Учебный минимум для абитуриента: Учеб. Пособие / Р.А.Арсланова, В.В.Керов, М.Н.Маросейкина, Т.М.Смирнова; Под ред. В.В.Керова. – М.: Высш. Шк.2001. – 784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пекты уроков по истории России ХХ века. 9 кл.: Метод. пособие. – М.: Изд-во ВЛАДОС-ПРЕСС, 2001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ражданская война – это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8610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Академик Ю.А.Поляк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ооруженная борьба между различными группами населения, имевшая  в своей основе глубокие социальные, национальные и политические противоречия», которая первоначально имела локальный, а затем приобрела общенациональный масштаб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5136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аковы основные причины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гражданской войны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4321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Изменение характера политической власти в стра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Отказ большевиков от идеи однородного социалистического правительства и принципов парламентар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Недемократические меры большевиков (диктатура, репрессии, деятельность чрезвычайных орган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Заключение Брестского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03280" y="2637000"/>
            <a:ext cx="36068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Экономическая политика советской власти в дерев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(фактическая отмена Декрета о земле, установление продовольственной диктатуры, организация продотрядов, комбедов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844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Arial"/>
              </a:rPr>
              <a:t>Политическ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89640" y="191628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Arial"/>
              </a:rPr>
              <a:t>Социально-экономическ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сновные особенности Гражданской войны в Росс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1947600"/>
            <a:ext cx="9205560" cy="3385800"/>
            <a:chOff x="0" y="1947600"/>
            <a:chExt cx="9205560" cy="3385800"/>
          </a:xfrm>
        </p:grpSpPr>
        <p:cxnSp>
          <p:nvCxnSpPr>
            <p:cNvPr id="95" name="_s8211"/>
            <p:cNvCxnSpPr>
              <a:stCxn id="96" idx="0"/>
              <a:endCxn id="97" idx="2"/>
            </p:cNvCxnSpPr>
            <p:nvPr/>
          </p:nvCxnSpPr>
          <p:spPr>
            <a:xfrm flipV="1" rot="16200000">
              <a:off x="4946400" y="2584440"/>
              <a:ext cx="496440" cy="1184400"/>
            </a:xfrm>
            <a:prstGeom prst="bentConnector3">
              <a:avLst>
                <a:gd name="adj1" fmla="val 230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8205"/>
            <p:cNvCxnSpPr>
              <a:stCxn id="99" idx="0"/>
              <a:endCxn id="97" idx="2"/>
            </p:cNvCxnSpPr>
            <p:nvPr/>
          </p:nvCxnSpPr>
          <p:spPr>
            <a:xfrm flipV="1" rot="16200000">
              <a:off x="6129360" y="1401480"/>
              <a:ext cx="496440" cy="3550680"/>
            </a:xfrm>
            <a:prstGeom prst="bentConnector3">
              <a:avLst>
                <a:gd name="adj1" fmla="val 230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8204"/>
            <p:cNvCxnSpPr>
              <a:stCxn id="101" idx="0"/>
              <a:endCxn id="97" idx="2"/>
            </p:cNvCxnSpPr>
            <p:nvPr/>
          </p:nvCxnSpPr>
          <p:spPr>
            <a:xfrm flipH="1" flipV="1" rot="5400000">
              <a:off x="3763440" y="2585160"/>
              <a:ext cx="496440" cy="1183320"/>
            </a:xfrm>
            <a:prstGeom prst="bentConnector3">
              <a:avLst>
                <a:gd name="adj1" fmla="val 230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8203"/>
            <p:cNvCxnSpPr>
              <a:stCxn id="103" idx="0"/>
              <a:endCxn id="97" idx="2"/>
            </p:cNvCxnSpPr>
            <p:nvPr/>
          </p:nvCxnSpPr>
          <p:spPr>
            <a:xfrm flipH="1" flipV="1" rot="5400000">
              <a:off x="2580480" y="1402200"/>
              <a:ext cx="496440" cy="3549600"/>
            </a:xfrm>
            <a:prstGeom prst="bentConnector3">
              <a:avLst>
                <a:gd name="adj1" fmla="val 2307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" name="_s8199"/>
            <p:cNvSpPr/>
            <p:nvPr/>
          </p:nvSpPr>
          <p:spPr>
            <a:xfrm>
              <a:off x="1583640" y="1947600"/>
              <a:ext cx="6037920" cy="9817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Иностранная интервенц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обусловлена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8200"/>
            <p:cNvSpPr/>
            <p:nvPr/>
          </p:nvSpPr>
          <p:spPr>
            <a:xfrm>
              <a:off x="0" y="3425400"/>
              <a:ext cx="2106360" cy="1908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епризн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капстранам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овой формы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политическ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вла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8201"/>
            <p:cNvSpPr/>
            <p:nvPr/>
          </p:nvSpPr>
          <p:spPr>
            <a:xfrm>
              <a:off x="2366280" y="3425400"/>
              <a:ext cx="2106360" cy="1908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едовольство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выходом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России из перво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мировой вой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8202"/>
            <p:cNvSpPr/>
            <p:nvPr/>
          </p:nvSpPr>
          <p:spPr>
            <a:xfrm>
              <a:off x="7099200" y="3425400"/>
              <a:ext cx="2106360" cy="1908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Протест проти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ационализ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иностранн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собственности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отказа от выпла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долг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8210"/>
            <p:cNvSpPr/>
            <p:nvPr/>
          </p:nvSpPr>
          <p:spPr>
            <a:xfrm>
              <a:off x="4732560" y="3425400"/>
              <a:ext cx="2106360" cy="1908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Неприят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большевистского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лозунга миров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револю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Белое движение                             в Гражданской войн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88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Антибольшевистский лагерь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Кадеты: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коалиция российской буржуазии, дворянства и др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Правые эсеры, меньшевик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(создание Комучей в Поволжье, Директории в Омске, Временного правительства в Томске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Анархисты, левые эсеры</a:t>
            </a:r>
            <a:r>
              <a:rPr b="0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(в оппозиции после Брестского мира и левоэсеровского мятежа)</a:t>
            </a:r>
            <a:r>
              <a:rPr b="0" i="1" lang="ru-RU" sz="21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33840" y="2912760"/>
            <a:ext cx="403704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Tahoma"/>
              </a:rPr>
              <a:t>Белое движени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Генералитет российской армии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А.В.Колчак, А.И.Деникин, Н.Н.Юденич и др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3141720"/>
            <a:ext cx="45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ыполните тестовые задания по теме «Гражданская война: белые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31640" y="2492280"/>
            <a:ext cx="613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Т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Ответы к тес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ервый этап гражданской войны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(октябрь 1917 г. – май 1918 г.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окальный характер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0003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Северо-Запад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ктябрь 191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ступление на Петроград отрядов Краснова и Керен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Юг Урала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атаман А.И.Ду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Дон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бровольческая армия (А.В.Алексеев, Л.Г.Корнилов, А.И.Деникин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Забайкалье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атаман Г.С.Семён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Мурманск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рт-апрель 1918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садка английского деса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Дальний Восток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садка американских и японских войс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97360" y="2144880"/>
            <a:ext cx="2660760" cy="307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64000" y="5516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ховный руководитель   Добровольческой армии              А.В.Алекс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Численность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расной Арми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(декрет  о создании от 15 января 1918 г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В годы гражданской войны на стороне Красной Армии сражалось до 30% бывшего офицерского корпус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Вопросы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66"/>
                </a:solidFill>
                <a:latin typeface="Tahoma"/>
              </a:rPr>
              <a:t>Какие причины заставляли  царских офицеров служить Красной Армии?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66"/>
                </a:solidFill>
                <a:latin typeface="Tahoma"/>
              </a:rPr>
              <a:t>Определите основные причины роста численности красной Армии?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4437000"/>
            <a:ext cx="93636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300 ты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3716280"/>
            <a:ext cx="936720" cy="1513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,5 мл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2781360"/>
            <a:ext cx="1009800" cy="24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3 мл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2205000"/>
            <a:ext cx="1150920" cy="302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5 мл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5300640"/>
            <a:ext cx="46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ето-осень  весна  осе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18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19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19 г.        1920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Второй этап гражданской войны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май – ноябрь 1918 г.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ятеж чехословацкого корпус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2121120" cy="2881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293688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042920" y="4653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43700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1989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198900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й 1918 - попытка разоружения чехословаков в Челябинске приводит к восстанию 45-тыс. корпу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48690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андир корпуса капитан Р.Гайда: «Всем эшелонам приказываю,            по возмож-ности наступать на Иркутск. Советскую власть арестовать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60640"/>
            <a:ext cx="424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азани восставшие захватили золотой запас России (свыше 30 тыс. пудов золота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5950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ойна приобрела общенациональный характер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Лето 1918г. – восстание                              крестьян в Поволжье и на Ура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17:42:36Z</dcterms:created>
  <dc:creator>Венера Ленсовна</dc:creator>
  <dc:description/>
  <dc:language>en-US</dc:language>
  <cp:lastModifiedBy>ARTANSA</cp:lastModifiedBy>
  <dcterms:modified xsi:type="dcterms:W3CDTF">2007-04-24T20:55:53Z</dcterms:modified>
  <cp:revision>73</cp:revision>
  <dc:subject/>
  <dc:title>Гражданская война</dc:title>
</cp:coreProperties>
</file>