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36E3-EC24-4606-80F4-86789BB4D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5F04-F902-406D-AE00-458C0573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2E1E-BBB7-47A6-BB3F-52672669F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C61C-66AD-4910-9BED-DAF431E7A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1D62-9905-41F0-A2D2-66F6D36C0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187B-345F-4383-9520-E784D6FD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A923-6244-4404-84BC-A682D47C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4CCD4-0E06-41B8-8DC5-342AFA36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9EBB-BD17-43A9-BF0A-19F2E938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ABEE-C8ED-446F-93C8-A86C9E43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8101-BB85-4E0D-80EC-36B50C59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BEC4-C557-47C9-BA7A-F22886F0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3854-C5B4-44B0-A74C-DA2D609B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B447F-99BC-4DDC-BD4F-374C4ED6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1BF4-0E4C-4527-8FB5-BF80EA6C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8E0D-AD1A-4CFD-A006-621154489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E440-2A70-47C5-8A74-F214B6823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4F8F-A876-4962-8E44-FA11CA56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DC8C-DADF-4204-B994-3BE101A5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7747-01F5-4361-8175-24FA6F27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F521-5DD7-45CF-994D-BB6EE1E0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1159-DB3D-4455-95CE-F00AF5F7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0CF7-2FF9-4DE9-B299-235E3292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237E-10C5-420F-BEC4-63DD9C25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9ff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ff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FEC3-CC62-4669-9103-DFAAE2E730A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25F6-AC00-4D62-B762-8005505B0B4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99ff33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:/Documents%20and%20Settings/Mama/Desktop/&#1052;&#1072;&#1090;&#1077;&#1088;&#1080;&#1072;&#1083;&#1099;%20&#1082;%20&#1082;&#1086;&#1085;&#1092;&#1077;&#1088;&#1077;&#1085;&#1094;&#1080;&#1080;%20&#1056;.&#1042;.&#1060;&#1088;&#1072;&#1085;&#1082;/&#1090;&#1077;&#1089;&#1090;%20&#1043;&#1088;&#1072;&#1078;&#1076;&#1072;&#1085;&#1089;&#1082;&#1072;&#1103;%20&#1074;&#1086;&#1081;&#1085;&#1072;.doc" TargetMode="External"/><Relationship Id="rId3" Type="http://schemas.openxmlformats.org/officeDocument/2006/relationships/hyperlink" Target="file:///C:/Documents%20and%20Settings/Mama/Desktop/&#1052;&#1072;&#1090;&#1077;&#1088;&#1080;&#1072;&#1083;&#1099;%20&#1082;%20&#1082;&#1086;&#1085;&#1092;&#1077;&#1088;&#1077;&#1085;&#1094;&#1080;&#1080;%20&#1056;.&#1042;.&#1060;&#1088;&#1072;&#1085;&#1082;/&#1054;&#1090;&#1074;&#1077;&#1090;&#1099;%20&#1087;&#1086;%20&#1090;&#1077;&#1089;&#1090;&#1091;.doc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1197000"/>
            <a:ext cx="7200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Начало</a:t>
            </a:r>
            <a:br>
              <a:rPr sz="4800"/>
            </a:b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Гражданской войны</a:t>
            </a:r>
            <a:br>
              <a:rPr sz="4800"/>
            </a:b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в Росси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94160" y="4365000"/>
            <a:ext cx="56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роки истории России в 9 класс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Организация обороны страны большевиками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715840" y="2363400"/>
            <a:ext cx="3924360" cy="37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2 сентября 1918г.-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декрет ВЦИК о превращении Советской республики в военный лагер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Сентябрь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–создан Реввоенсовет Республики во главе с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Л.Д.Троцки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30 ноября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– декрет ВЦИК об образовании Совета рабочей и крестьянской обороны во главе с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.И.Ленины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24000" y="2133720"/>
            <a:ext cx="2079360" cy="293364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6300720" y="220500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659640" y="2133720"/>
            <a:ext cx="2209680" cy="27558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68360" y="530064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.Д. Троц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093080" y="5157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.И. Лен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Образование региональных «демократических правительств» летом 1918 г.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3384360" cy="23590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643280" y="1413000"/>
            <a:ext cx="410544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Комитет членов Учредительного собрания (Комуч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председатель эсер В.К.Вольск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Временное правительство Сибир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председатель эсер П.В.Вологодск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Уфимская директори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эсер Н.Д,Авксентье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005360"/>
            <a:ext cx="327672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осле свержения Советской власти на «освобожденных территориях» социалистические партии (эсеры) при поддержки крестьянских повстанческих отрядов создавали свои «демократические правительства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03640" y="414972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полните таблицу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276720" y="4581360"/>
          <a:ext cx="5688000" cy="1462320"/>
        </p:xfrm>
        <a:graphic>
          <a:graphicData uri="http://schemas.openxmlformats.org/drawingml/2006/table">
            <a:tbl>
              <a:tblPr/>
              <a:tblGrid>
                <a:gridCol w="1535040"/>
                <a:gridCol w="1353960"/>
                <a:gridCol w="1263960"/>
                <a:gridCol w="153504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«Демократические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правительства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Где и ког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созданы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Программ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Чьи интересы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выражали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Комитет членов                    Учредительного собрания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785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Создан 8 июня 1918г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Осуществлял управление Самарской, Саратовской, Казанской и Уфимской губерниями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Провозгласил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 Восстановление демократических свобо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Разрешил деятельность рабочих и крестьянских съездов, профсоюз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. Создал народную арми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. Денационализация промышленных предприятий, банк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. Свобода торговл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6. Возвращение конфискованных земель помещикам и т.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егиональные правительств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446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Временное правительство Сибир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здано в июне 1918г. в Омск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иняли Декларацию независимости Сибир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здание собственной арм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асильственная мобилизация насел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8 ноября 1918г. – военный переворот, разгон правительства. А.В.Колчак – Верховный правитель Росси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              ( территория Урала, Сибири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6480" y="1341360"/>
            <a:ext cx="40003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       </a:t>
            </a: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Уфимская Директор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здана 23 сентября 1918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орьба с большевика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ыступала за продолжение вой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сстановление договоров со странами Антант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обивались упразднения всех других областных , национальных и казачьих правительст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544500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Вопрос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Почему региональные правительства не сумели сохранить власть и потерпели поражение в противостоянии с большевикам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Работа с документом: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«Из письма А.В. Колчака во французское министерство иностранных дел»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2111400" cy="280044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-2055960" y="3107880"/>
            <a:ext cx="8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71640" y="1773360"/>
            <a:ext cx="590580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оей первой мыслью после окончательного разгрома большевиков будет мысль об установлении даты выборов в Учредительное собрание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. Россия ни сегодня. Ни в будущем не может быть ничем иным, кроме как демократическим государством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. « …в отношении аграрного вопроса, имеет целью удовлетворить интересы огромных масс…Россия может быть сильной и процветающей лишь при условии, если миллионы русских крестьян получат все гарантии на владение землёй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Земельные захваты должны быть прекращены…» (земельный закон должен быть разработан Учредительным собранием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450864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.В. Колча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5157720"/>
            <a:ext cx="81374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Как можно охарактеризовать политические взгляды А.В.Колчак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Сравните аграрную политику большевиков с обещаниями колчаковского правительства? Что могло привлечь крестьян, а что насторожить в решении аграрного вопрос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ahoma"/>
              </a:rPr>
              <a:t>Зелёное движение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в годы гражданской войны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31840" y="1268280"/>
            <a:ext cx="2468520" cy="3456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395280" y="4797360"/>
            <a:ext cx="2448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естор Махн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1888 -1934 г.г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24360" y="1197000"/>
            <a:ext cx="6119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Крестьянское движение, активно выступавшее как против Белого, так и против Красного движений. Зелёный цвет – символ воли и свобо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ерритория –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Причерноморье, Северный Кавказ, Крым, юг Украи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94200" y="2852640"/>
            <a:ext cx="60498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краина – отряды «батьки Махно»                     </a:t>
            </a:r>
            <a:r>
              <a:rPr b="1" i="1" lang="en-US" sz="1800" spc="-1" strike="noStrike">
                <a:solidFill>
                  <a:srgbClr val="33cc33"/>
                </a:solidFill>
                <a:latin typeface="Arial"/>
              </a:rPr>
              <a:t>Н.И.Махно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– в юности увлёкся идеями анархизма, после революции  в Гуляй-Поле (Украина) крестьяне под его руководством провели «чёрный передел» земли. После оккупации Украины германскими войсками возглавил партизанскую борьбу за независимую Украину. Они сражались под чёрными знамёнами с надписями «Свобода или смерть!» Против белогвардейцев махновцы выступали вместе с Красной армией. Но сперва в июне 1919 г., а затем в 1920г. командование Красной армии ведёт борьбу с махновщин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616572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Махновцы вели борьбу  до осени 1921 г., а затем после тяжёлого ранения Н.Махно эмигрирует из России. Скончался во Фран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280" y="380880"/>
            <a:ext cx="8785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Третий этап  (ноябрь1918 г. – весна 1919 г.)</a:t>
            </a:r>
            <a:br>
              <a:rPr sz="3200"/>
            </a:b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Активизация иностранной интервенции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Ведущие силы в борьбе с большевиками: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2637000"/>
            <a:ext cx="1944720" cy="1081080"/>
          </a:xfrm>
          <a:prstGeom prst="flowChartPunchedTap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Армия генерал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А.В.Колча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56000" y="2637000"/>
            <a:ext cx="1944720" cy="1081080"/>
          </a:xfrm>
          <a:prstGeom prst="flowChartPunchedTap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Армия генера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А.И.Деник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3280" y="2637000"/>
            <a:ext cx="1959120" cy="1081080"/>
          </a:xfrm>
          <a:prstGeom prst="flowChartPunchedTap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Армия генера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Н.Н,Юденич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1773360"/>
            <a:ext cx="1908360" cy="43164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Восток стра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32720" y="2565360"/>
            <a:ext cx="2016000" cy="1152720"/>
          </a:xfrm>
          <a:prstGeom prst="flowChartPunchedTap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Армия генера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Е.К.Милле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11280" y="1773360"/>
            <a:ext cx="1656000" cy="43164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Юг стра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1773360"/>
            <a:ext cx="2592360" cy="43164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Северо-запад стран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948360" y="1773360"/>
            <a:ext cx="1690920" cy="43164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Север стран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16000" y="227664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32000" y="227664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19640" y="227664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451640" y="227664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9280" y="3645000"/>
            <a:ext cx="835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Массовая интервенция против России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                                          </a:t>
            </a: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Ноябрь 1918г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высадка французских и английских войск в черноморских портах Росс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515772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530064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5280" y="4508640"/>
            <a:ext cx="8353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Начало 1919 г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4000" y="4941720"/>
            <a:ext cx="2232000" cy="7207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На юге – 130 ты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интервен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59280" y="5157720"/>
            <a:ext cx="2592360" cy="647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На севере – 20 ты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интервен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04000" y="4941720"/>
            <a:ext cx="3240000" cy="792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На Дальнем Восто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и в Сибир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150 тыс. интервентов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3" name=""/>
          <p:cNvCxnSpPr>
            <a:stCxn id="179" idx="0"/>
            <a:endCxn id="179" idx="0"/>
          </p:cNvCxnSpPr>
          <p:nvPr/>
        </p:nvCxnSpPr>
        <p:spPr>
          <a:xfrm>
            <a:off x="4571640" y="4508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9" idx="0"/>
            <a:endCxn id="179" idx="0"/>
          </p:cNvCxnSpPr>
          <p:nvPr/>
        </p:nvCxnSpPr>
        <p:spPr>
          <a:xfrm>
            <a:off x="4571640" y="4508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79" idx="0"/>
            <a:endCxn id="179" idx="0"/>
          </p:cNvCxnSpPr>
          <p:nvPr/>
        </p:nvCxnSpPr>
        <p:spPr>
          <a:xfrm>
            <a:off x="4571640" y="4508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86" name=""/>
          <p:cNvSpPr/>
          <p:nvPr/>
        </p:nvSpPr>
        <p:spPr>
          <a:xfrm flipH="1">
            <a:off x="2555640" y="4797360"/>
            <a:ext cx="863640" cy="216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356000" y="4869000"/>
            <a:ext cx="0" cy="288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651640" y="4797360"/>
            <a:ext cx="576000" cy="144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9640" y="5803920"/>
            <a:ext cx="860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опрос: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С какими изменениями в международной обстановке связана активизация интервенции против Росси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403280" y="649116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твет:         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кончание Первой мировой вой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89647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Третий этап  (ноябрь1918 г. – весна 1919 г.)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Осень 1918 год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388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ahoma"/>
              </a:rPr>
              <a:t>Главный фронт – </a:t>
            </a:r>
            <a:r>
              <a:rPr b="1" lang="en-US" sz="2100" spc="-1" strike="noStrike">
                <a:solidFill>
                  <a:srgbClr val="ffff66"/>
                </a:solidFill>
                <a:latin typeface="Tahoma"/>
              </a:rPr>
              <a:t>Восточный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2349360"/>
            <a:ext cx="6119640" cy="792360"/>
          </a:xfrm>
          <a:prstGeom prst="flowChartAlternateProcess">
            <a:avLst/>
          </a:prstGeom>
          <a:solidFill>
            <a:srgbClr val="ffcc99">
              <a:alpha val="2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Контрнаступление Красной Армии под  командовани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И.И.Вацети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24000" y="3357720"/>
            <a:ext cx="6767640" cy="718920"/>
          </a:xfrm>
          <a:prstGeom prst="roundRect">
            <a:avLst>
              <a:gd name="adj" fmla="val 16667"/>
            </a:avLst>
          </a:prstGeom>
          <a:solidFill>
            <a:srgbClr val="ffcc99">
              <a:alpha val="2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Итог:  белогвардейские части вытеснены из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Среднего Поволжья и Прикамь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" y="4437000"/>
            <a:ext cx="8351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омашнее задание:  заполните таблиц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«Основные события гражданской войны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50920" y="5373720"/>
          <a:ext cx="8713800" cy="1212840"/>
        </p:xfrm>
        <a:graphic>
          <a:graphicData uri="http://schemas.openxmlformats.org/drawingml/2006/table">
            <a:tbl>
              <a:tblPr/>
              <a:tblGrid>
                <a:gridCol w="2181240"/>
                <a:gridCol w="2176560"/>
                <a:gridCol w="2179800"/>
                <a:gridCol w="2176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Этап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войн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Белогвардейско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движ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Красная арм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Итоги этап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Использованная литература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.А.Данилов  Л.Г.Косулина  История России, ХХ век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еб. кн. для 9 кл.- М.: Просвещение, 1995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нциклопедия для детей. Т.5, ч.3. История России ХХ век / Сост. С.Т.Исмаилова. – М.:Аванта+, 1996. – 672 с.:и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стория России. Учебный минимум для абитуриента: Учеб. Пособие / Р.А.Арсланова, В.В.Керов, М.Н.Маросейкина, Т.М.Смирнова; Под ред. В.В.Керова. – М.: Высш. Шк.2001. – 784 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нспекты уроков по истории России ХХ века. 9 кл.: Метод. пособие. – М.: Изд-во ВЛАДОС-ПРЕСС, 2001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Гражданская война – это 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8920" y="2276640"/>
            <a:ext cx="8610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Академик Ю.А.Поляков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Вооруженная борьба между различными группами населения, имевшая  в своей основе глубокие социальные, национальные и политические противоречия», которая первоначально имела локальный, а затем приобрела общенациональный масштаб.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51364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аковы основные причины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        гражданской войны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2637000"/>
            <a:ext cx="4321080" cy="35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Изменение характера политической власти в стран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Отказ большевиков от идеи однородного социалистического правительства и принципов парламентаризм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Недемократические меры большевиков (диктатура, репрессии, деятельность чрезвычайных органов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Заключение Брестского мир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03280" y="2637000"/>
            <a:ext cx="3606840" cy="3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Экономическая политика советской власти в деревн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(фактическая отмена Декрета о земле, установление продовольственной диктатуры, организация продотрядов, комбедов и т.д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184464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Arial"/>
              </a:rPr>
              <a:t>Политическ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89640" y="1916280"/>
            <a:ext cx="43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Arial"/>
              </a:rPr>
              <a:t>Социально-экономическ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50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Основные особенности Гражданской войны в России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0" y="1947600"/>
            <a:ext cx="9205560" cy="3385800"/>
            <a:chOff x="0" y="1947600"/>
            <a:chExt cx="9205560" cy="3385800"/>
          </a:xfrm>
        </p:grpSpPr>
        <p:cxnSp>
          <p:nvCxnSpPr>
            <p:cNvPr id="95" name="_s8211"/>
            <p:cNvCxnSpPr>
              <a:stCxn id="96" idx="0"/>
              <a:endCxn id="97" idx="2"/>
            </p:cNvCxnSpPr>
            <p:nvPr/>
          </p:nvCxnSpPr>
          <p:spPr>
            <a:xfrm flipV="1" rot="16200000">
              <a:off x="4946400" y="2584440"/>
              <a:ext cx="496440" cy="1184400"/>
            </a:xfrm>
            <a:prstGeom prst="bentConnector3">
              <a:avLst>
                <a:gd name="adj1" fmla="val 2307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8" name="_s8205"/>
            <p:cNvCxnSpPr>
              <a:stCxn id="99" idx="0"/>
              <a:endCxn id="97" idx="2"/>
            </p:cNvCxnSpPr>
            <p:nvPr/>
          </p:nvCxnSpPr>
          <p:spPr>
            <a:xfrm flipV="1" rot="16200000">
              <a:off x="6129360" y="1401480"/>
              <a:ext cx="496440" cy="3550680"/>
            </a:xfrm>
            <a:prstGeom prst="bentConnector3">
              <a:avLst>
                <a:gd name="adj1" fmla="val 2307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0" name="_s8204"/>
            <p:cNvCxnSpPr>
              <a:stCxn id="101" idx="0"/>
              <a:endCxn id="97" idx="2"/>
            </p:cNvCxnSpPr>
            <p:nvPr/>
          </p:nvCxnSpPr>
          <p:spPr>
            <a:xfrm flipH="1" flipV="1" rot="5400000">
              <a:off x="3763440" y="2585160"/>
              <a:ext cx="496440" cy="1183320"/>
            </a:xfrm>
            <a:prstGeom prst="bentConnector3">
              <a:avLst>
                <a:gd name="adj1" fmla="val 2307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2" name="_s8203"/>
            <p:cNvCxnSpPr>
              <a:stCxn id="103" idx="0"/>
              <a:endCxn id="97" idx="2"/>
            </p:cNvCxnSpPr>
            <p:nvPr/>
          </p:nvCxnSpPr>
          <p:spPr>
            <a:xfrm flipH="1" flipV="1" rot="5400000">
              <a:off x="2580480" y="1402200"/>
              <a:ext cx="496440" cy="3549600"/>
            </a:xfrm>
            <a:prstGeom prst="bentConnector3">
              <a:avLst>
                <a:gd name="adj1" fmla="val 2307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7" name="_s8199"/>
            <p:cNvSpPr/>
            <p:nvPr/>
          </p:nvSpPr>
          <p:spPr>
            <a:xfrm>
              <a:off x="1583640" y="1947600"/>
              <a:ext cx="6037920" cy="9817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800000"/>
                  </a:solidFill>
                  <a:latin typeface="Arial"/>
                </a:rPr>
                <a:t>Иностранная интервенц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Arial"/>
                </a:rPr>
                <a:t>обусловлена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_s8200"/>
            <p:cNvSpPr/>
            <p:nvPr/>
          </p:nvSpPr>
          <p:spPr>
            <a:xfrm>
              <a:off x="0" y="3425400"/>
              <a:ext cx="2106360" cy="19080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Непризнание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капстранами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новой формы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политической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власт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_s8201"/>
            <p:cNvSpPr/>
            <p:nvPr/>
          </p:nvSpPr>
          <p:spPr>
            <a:xfrm>
              <a:off x="2366280" y="3425400"/>
              <a:ext cx="2106360" cy="19080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Недовольство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выходом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России из первой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мировой войн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_s8202"/>
            <p:cNvSpPr/>
            <p:nvPr/>
          </p:nvSpPr>
          <p:spPr>
            <a:xfrm>
              <a:off x="7099200" y="3425400"/>
              <a:ext cx="2106360" cy="19080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Протест против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национализаци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иностранной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собственности и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отказа от выплат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долго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_s8210"/>
            <p:cNvSpPr/>
            <p:nvPr/>
          </p:nvSpPr>
          <p:spPr>
            <a:xfrm>
              <a:off x="4732560" y="3425400"/>
              <a:ext cx="2106360" cy="19080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Неприятие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большевистского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лозунга мировой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революци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Белое движение                             в Гражданской войне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1828800"/>
            <a:ext cx="3889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ffffff"/>
                </a:solidFill>
                <a:uFillTx/>
                <a:latin typeface="Tahoma"/>
              </a:rPr>
              <a:t>Антибольшевистский лагерь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Tahoma"/>
              </a:rPr>
              <a:t>Кадеты: </a:t>
            </a: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коалиция российской буржуазии, дворянства и др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Tahoma"/>
              </a:rPr>
              <a:t>Правые эсеры, меньшевики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(создание Комучей в Поволжье, Директории в Омске, Временного правительства в Томске)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Tahoma"/>
              </a:rPr>
              <a:t>Анархисты, левые эсеры</a:t>
            </a:r>
            <a:r>
              <a:rPr b="0" i="1" lang="ru-RU" sz="21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(в оппозиции после Брестского мира и левоэсеровского мятежа)</a:t>
            </a:r>
            <a:r>
              <a:rPr b="0" i="1" lang="ru-RU" sz="21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33840" y="2912760"/>
            <a:ext cx="4037040" cy="17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ffffff"/>
                </a:solidFill>
                <a:uFillTx/>
                <a:latin typeface="Tahoma"/>
              </a:rPr>
              <a:t>Белое движение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Генералитет российской армии: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ahoma"/>
              </a:rPr>
              <a:t>А.В.Колчак, А.И.Деникин, Н.Н.Юденич и др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4067280" y="3141720"/>
            <a:ext cx="4537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Выполните тестовые задания по теме «Гражданская война: белые»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131640" y="2492280"/>
            <a:ext cx="613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Те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Ответы к тест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Первый этап гражданской войны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       (октябрь 1917 г. – май 1918 г.)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окальный характер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2205000"/>
            <a:ext cx="40003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Северо-Запад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октябрь 1917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аступление на Петроград отрядов Краснова и Керенск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Юг Урала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атаман А.И.Дут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Дон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Добровольческая армия (А.В.Алексеев, Л.Г.Корнилов, А.И.Деникин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Забайкалье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атаман Г.С.Семёнов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Мурманск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март-апрель 1918 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ысадка английского десант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Дальний Восток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высадка американских и японских войск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697360" y="2144880"/>
            <a:ext cx="2660760" cy="3076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5364000" y="551664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ерховный руководитель   Добровольческой армии              А.В.Алексее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Численность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Красной Армии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(декрет  о создании от 15 января 1918 г.)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ahoma"/>
              </a:rPr>
              <a:t>В годы гражданской войны на стороне Красной Армии сражалось до 30% бывшего офицерского корпуса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ahoma"/>
              </a:rPr>
              <a:t>Вопросы: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100" spc="-1" strike="noStrike">
                <a:solidFill>
                  <a:srgbClr val="ffff66"/>
                </a:solidFill>
                <a:latin typeface="Tahoma"/>
              </a:rPr>
              <a:t>Какие причины заставляли  царских офицеров служить Красной Армии?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66"/>
                </a:solidFill>
                <a:latin typeface="Tahoma"/>
              </a:rPr>
              <a:t>Определите основные причины роста численности красной Армии?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4427640" y="4437000"/>
            <a:ext cx="936360" cy="7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300 ты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че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35640" y="3716280"/>
            <a:ext cx="936720" cy="15130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1,5 мл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че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43640" y="2781360"/>
            <a:ext cx="1009800" cy="2448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3 мл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че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24720" y="2205000"/>
            <a:ext cx="1150920" cy="3024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5 мл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че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67280" y="5300640"/>
            <a:ext cx="4608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лето-осень  весна  осен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18 г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19 г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19 г.        1920 г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Второй этап гражданской войны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(май – ноябрь 1918 г.)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Мятеж чехословацкого корпуса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588000" y="1628640"/>
            <a:ext cx="2121120" cy="2881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11280" y="1628640"/>
            <a:ext cx="2936880" cy="1946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1042920" y="4653000"/>
            <a:ext cx="28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26920" y="4437000"/>
            <a:ext cx="446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24360" y="1989000"/>
            <a:ext cx="23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35280" y="1989000"/>
            <a:ext cx="28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й 1918 - попытка разоружения чехословаков в Челябинске приводит к восстанию 45-тыс. корпус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486900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мандир корпуса капитан Р.Гайда: «Всем эшелонам приказываю,            по возмож-ности наступать на Иркутск. Советскую власть арестовать…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860640"/>
            <a:ext cx="42480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Казани восставшие захватили золотой запас России (свыше 30 тыс. пудов золота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595008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Война приобрела общенациональный характер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Лето 1918г. – восстание                              крестьян в Поволжье и на Урал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1T17:42:36Z</dcterms:created>
  <dc:creator>Венера Ленсовна</dc:creator>
  <dc:description/>
  <dc:language>en-US</dc:language>
  <cp:lastModifiedBy>ARTANSA</cp:lastModifiedBy>
  <dcterms:modified xsi:type="dcterms:W3CDTF">2007-04-24T20:55:53Z</dcterms:modified>
  <cp:revision>73</cp:revision>
  <dc:subject/>
  <dc:title>Гражданская война</dc:title>
</cp:coreProperties>
</file>