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7BF-8B76-4C53-A4DF-67C435C8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109-EC08-4FA6-B183-C26C7DA2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F22-4B68-4264-8B5E-ABE814B3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B47-F7BD-4E35-8E40-5ED79B81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68D-110E-4DD3-952B-6DE478DB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D9A-C62F-4BF8-B239-CD6E24FE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E94-0FE1-4DD1-BC01-DBE5C52F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C1C-85EC-418F-8EA1-29C9DCE6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C2A-913D-43D6-B49A-35823156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ADB-CF8E-48AB-912A-E2156EDF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19A-8968-4323-8B57-F10B3DFA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55B-6C2A-477A-93D3-348AAD3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1BF3-AF82-4866-9971-64AE5FC61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404640"/>
            <a:ext cx="7489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Sporting Superst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66880" y="2205000"/>
            <a:ext cx="251928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4581360"/>
            <a:ext cx="43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ade by Burmistrov Arty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orm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avydovskaya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352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067280" y="0"/>
            <a:ext cx="5759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Tennis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033800" cy="3024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1922400" cy="2592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0" y="1197000"/>
            <a:ext cx="431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t's bad luck to hold more than two balls at a time when serv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void wearing the color yel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alk around the outside of the court when switching sides for goo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void stepping on the court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645080" cy="3168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06560" y="476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Rug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1557360"/>
            <a:ext cx="338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famous New Zealand rugby team, the All Blacks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perform an ancient Maori dance called the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«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aka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efore each match. It’s a very dramatic sight, and even if it doesn’t help the All Blacks to win, it’ll definitely frighten the opposing team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232080" cy="468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76360" y="18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Basketball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1557360"/>
            <a:ext cx="35989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last person to shoot a basket during the warm-up will have a good g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ipe the soles of your sneakers for goo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ounce the ball before taking a foul shot for goo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562120" cy="302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2590560" cy="1785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0"/>
            <a:ext cx="4465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Basebal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0"/>
            <a:ext cx="5867280" cy="72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pitting into your hand before picking up the bat is said to bring good lu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wad of gum stuck on a player's hat brings good lu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t is bad luck if a dog walks across the diamond before the first pit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ome players believe it is good luck to step on one of the bases before running off the field at the end of an in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t is bad luck to touch the baselines while running off and onto the field between inn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ending a bat to a fellow player is a serious jin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ome players actually sleep with their bat to break out of a hitting slump or stay in a groo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f a pitcher is throwing a perfect game or a no-hitter, never speak of it while it's going 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189000"/>
            <a:ext cx="52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Bowl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321440" cy="338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35640" y="836640"/>
            <a:ext cx="338436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o continue a winning streak, wear the same clot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number 300, a perfect score, on your license plate will increase your sc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arry charms on your bowling bag, in your pockets, or around your neck for good l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64000" y="0"/>
            <a:ext cx="633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Fishing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762120"/>
            <a:ext cx="3887640" cy="2913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3646440" cy="2732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0" y="981000"/>
            <a:ext cx="432108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ish may not bite if a barefoot woman passes you on the way to the d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pit on your bait before casting your rod to make fish b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row back your first catch for goo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t is bad luck to change rods while fis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on't tell anyone how many fish you've caught until you're done or you won't catch an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067280" y="0"/>
            <a:ext cx="583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Football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176720" cy="2927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3708360" cy="247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88000" y="134136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ouble numbers on a player's uniform brings goo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t's bad luck for a professional football player to take a new number when he is traded to another t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 mascot is an important good luck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716360" y="0"/>
            <a:ext cx="662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Golf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476600" cy="2800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19640" y="1125360"/>
            <a:ext cx="3313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tart only with odd-numbered clu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alls with a number higher than 4 are ba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arry coins in your pockets for good l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766800"/>
            <a:ext cx="3429000" cy="339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35280" y="0"/>
            <a:ext cx="67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Ice Hockey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213000" cy="2114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24360" y="1268280"/>
            <a:ext cx="49687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t is bad luck for hockey sticks to lie cros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t is bad luck to say “shutout” in the locker room before a g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layers believe they'll win the game if they tap the goalie on his shin pads before a g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any players must put their pads and skates on in exactly the same order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43280" y="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Rodeo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Supers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643200" cy="2503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251240" cy="2838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64000" y="1125360"/>
            <a:ext cx="30243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lways put the right foot in the stirrup fir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void wearing the color yel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lways shave before a competition (for men onl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08:53:56Z</dcterms:created>
  <dc:creator>Лебедева</dc:creator>
  <dc:description/>
  <dc:language>en-US</dc:language>
  <cp:lastModifiedBy>Admin</cp:lastModifiedBy>
  <dcterms:modified xsi:type="dcterms:W3CDTF">2010-01-10T10:41:54Z</dcterms:modified>
  <cp:revision>4</cp:revision>
  <dc:subject/>
  <dc:title>Слайд 1</dc:title>
</cp:coreProperties>
</file>