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52A-3901-4A46-A043-6F8AEA2E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DEA-FED5-4E0C-8ABC-48E8921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973-A5BA-4522-B6BF-B32B9A8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B6D-C872-448E-B6DF-09E2318B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93C-CFEC-4BCC-BAA6-DCB394E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F6E-17E5-494F-8BEE-33E4BCE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AD7-145A-4795-8F29-4BF8390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451-26F4-4966-B6C1-A76112F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EB0-0799-4A69-BB84-3A788663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B62-2E43-4162-AA6D-E9DB8CC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772-CE12-423F-97F0-C6A30CE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C0B-491D-4FE4-8634-E9568E8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3C2-3265-4A39-A6F0-3EAD762DC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04640"/>
            <a:ext cx="748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Sporting Superst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6880" y="2205000"/>
            <a:ext cx="251928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4581360"/>
            <a:ext cx="43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ade by Burmistrov Arty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orm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avydovskay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352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67280" y="0"/>
            <a:ext cx="57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Tennis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033800" cy="30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1922400" cy="259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119700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's bad luck to hold more than two balls at a time when serv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wearing the color yel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alk around the outside of the court when switching sides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stepping on the court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45080" cy="31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06560" y="476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155736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famous New Zealand rugby team, the All Blacks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perform an ancient Maori dance called the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aka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efore each match. It’s a very dramatic sight, and even if it doesn’t help the All Blacks to win, it’ll definitely frighten the opposing team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232080" cy="46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6360" y="18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sketball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1557360"/>
            <a:ext cx="3598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last person to shoot a basket during the warm-up will have a good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ipe the soles of your sneakers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ounce the ball before taking a foul shot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56212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590560" cy="178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0"/>
            <a:ext cx="4465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Basebal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0"/>
            <a:ext cx="5867280" cy="72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itting into your hand before picking up the bat is said to bring good lu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wad of gum stuck on a player's hat brings good lu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t is bad luck if a dog walks across the diamond before the first pit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ome players believe it is good luck to step on one of the bases before running off the field at the end of an in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t is bad luck to touch the baselines while running off and onto the field between inn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ending a bat to a fellow player is a serious jin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ome players actually sleep with their bat to break out of a hitting slump or stay in a gro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f a pitcher is throwing a perfect game or a no-hitter, never speak of it while it's going 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189000"/>
            <a:ext cx="52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Bow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321440" cy="338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836640"/>
            <a:ext cx="3384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o continue a winning streak, wear the same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number 300, a perfect score, on your license plate will increase your sc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arry charms on your bowling bag, in your pockets, or around your neck for goo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64000" y="0"/>
            <a:ext cx="63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Fishin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3887640" cy="291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3646440" cy="273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981000"/>
            <a:ext cx="4321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sh may not bite if a barefoot woman passes you on the way to the d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pit on your bait before casting your rod to make fish b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row back your first catch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to change rods while fis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n't tell anyone how many fish you've caught until you're done or you won't catch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67280" y="0"/>
            <a:ext cx="58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Football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176720" cy="292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708360" cy="247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88000" y="134136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uble numbers on a player's uniform brings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's bad luck for a professional football player to take a new number when he is traded to another t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 mascot is an important good luck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716360" y="0"/>
            <a:ext cx="662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Golf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47660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125360"/>
            <a:ext cx="3313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tart only with odd-numbered clu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alls with a number higher than 4 are ba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arry coins in your pockets for goo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766800"/>
            <a:ext cx="3429000" cy="339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35280" y="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Ice Hockey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213000" cy="211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24360" y="1268280"/>
            <a:ext cx="4968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for hockey sticks to lie cros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to say “shutout” in the locker room before a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layers believe they'll win the game if they tap the goalie on his shin pads before a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any players must put their pads and skates on in exactly the same order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43280" y="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Rodeo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643200" cy="250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251240" cy="283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64000" y="1125360"/>
            <a:ext cx="30243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lways put the right foot in the stirrup fir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wearing the color yel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lways shave before a competition (for men onl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53:56Z</dcterms:created>
  <dc:creator>Лебедева</dc:creator>
  <dc:description/>
  <dc:language>en-US</dc:language>
  <cp:lastModifiedBy>Admin</cp:lastModifiedBy>
  <dcterms:modified xsi:type="dcterms:W3CDTF">2010-01-10T10:41:54Z</dcterms:modified>
  <cp:revision>4</cp:revision>
  <dc:subject/>
  <dc:title>Слайд 1</dc:title>
</cp:coreProperties>
</file>