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D505-B6E2-48DA-8705-2298E6DEA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AA35-DBDC-47FE-B293-146250D5C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A1C6-C92D-4DFD-A842-BDFA9A7EB5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7B1-8072-4BBE-8E9D-607B526F3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C70B-B4A3-4600-AB64-0CDC882D5A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9B58-0F81-4B13-810B-E16E56882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AC9-6D34-434F-86C1-DA5D95D961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C564-C6E1-48C8-A015-401098B5AF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7EC-E091-455C-8A1C-BE21F1A43B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F142-3AF5-4600-8B8B-7B79E33781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C5A7-6EEF-4B9D-B127-FB1FDF429E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456-9AA4-45A7-B380-092D2ED62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DC5-3E23-4DEC-A11B-A4CDFB9923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13EE-E0D5-4B10-B062-304E1AF66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EBED-3157-4FCA-B3CD-93F5B81972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6CD5-DF19-492B-AD02-88987B45DB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AC3-6259-4A7A-B97E-B6CC4DFC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195-C5FA-4359-B322-0E9DFE48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F44-9164-412B-AC82-C86A9C17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B6E-74D8-47A0-B192-54D8A6F9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E07-5D56-455C-A6C3-C0F3F221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D4C-4D80-46DB-8D4E-D0A315F0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D0B-4F2C-4992-AA38-467114C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CB3-9E4E-475F-B594-DC75A27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8DD-2A25-4867-92E6-8FEA02CD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D0A-69E4-4C30-BD8D-BA4A128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926-7C72-425C-AFE3-6688246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A2E-D99D-4211-B4AB-FF932C3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8DBE-B5A1-4931-81C7-04928B723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forism.su/66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357200" y="250020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что значит настоящий, верный 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3880" y="5367240"/>
            <a:ext cx="7858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збери себе друга; ты не можешь быть счастлив один: счастье есть дело дво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Елена\Desktop\картинки\10442[1].jpg"/>
          <p:cNvPicPr/>
          <p:nvPr/>
        </p:nvPicPr>
        <p:blipFill>
          <a:blip r:embed="rId2"/>
          <a:stretch/>
        </p:blipFill>
        <p:spPr>
          <a:xfrm>
            <a:off x="714240" y="642960"/>
            <a:ext cx="785844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5367240"/>
            <a:ext cx="78580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жба удваивае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адости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и сокращает наполовину гор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Елена\Desktop\картинки\21558_14514[1].jpg"/>
          <p:cNvPicPr/>
          <p:nvPr/>
        </p:nvPicPr>
        <p:blipFill>
          <a:blip r:embed="rId3"/>
          <a:stretch/>
        </p:blipFill>
        <p:spPr>
          <a:xfrm>
            <a:off x="785880" y="642960"/>
            <a:ext cx="7858080" cy="47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3880" y="5286240"/>
            <a:ext cx="80010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Глаза дружбы редко ошибаю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Елена\Desktop\картинки\5228bd38bbd595c70efdef1ks7[1].jpg"/>
          <p:cNvPicPr/>
          <p:nvPr/>
        </p:nvPicPr>
        <p:blipFill>
          <a:blip r:embed="rId2"/>
          <a:stretch/>
        </p:blipFill>
        <p:spPr>
          <a:xfrm>
            <a:off x="714240" y="571680"/>
            <a:ext cx="8001000" cy="471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9720" y="5367240"/>
            <a:ext cx="75726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м следует обращаться со своими друзьями так же, как мы хотели бы, чтобы друзья обращались с н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Елена\Desktop\картинки\605449[1].jpg"/>
          <p:cNvPicPr/>
          <p:nvPr/>
        </p:nvPicPr>
        <p:blipFill>
          <a:blip r:embed="rId2"/>
          <a:stretch/>
        </p:blipFill>
        <p:spPr>
          <a:xfrm>
            <a:off x="1000080" y="388800"/>
            <a:ext cx="7572600" cy="489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2600" y="5367240"/>
            <a:ext cx="80722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 музы, ни труды, ни радости досуга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что не заменит единственного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Елена\Desktop\картинки\1259759522_allday.ru_37[1].jpg"/>
          <p:cNvPicPr/>
          <p:nvPr/>
        </p:nvPicPr>
        <p:blipFill>
          <a:blip r:embed="rId2"/>
          <a:stretch/>
        </p:blipFill>
        <p:spPr>
          <a:xfrm>
            <a:off x="571680" y="500040"/>
            <a:ext cx="821520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Елена\Desktop\картинки\2085[1].jpg"/>
          <p:cNvPicPr/>
          <p:nvPr/>
        </p:nvPicPr>
        <p:blipFill>
          <a:blip r:embed="rId1"/>
          <a:stretch/>
        </p:blipFill>
        <p:spPr>
          <a:xfrm>
            <a:off x="465120" y="285840"/>
            <a:ext cx="8213760" cy="621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Елена\Desktop\картинки\HDCA0MCT7OCA25G5TWCA51DPKICAQSMFLPCAIY3NI8CAS8UUCUCA5KP0H4CASX5F4VCAX2BI1FCAQQ43ZJCAQIX279CA2Y83PPCAFDYFBPCA4XWYORCA4K0KU6CANAXTY0CASKE79SCA3LMI45CARV3KI9.jpg"/>
          <p:cNvPicPr/>
          <p:nvPr/>
        </p:nvPicPr>
        <p:blipFill>
          <a:blip r:embed="rId1"/>
          <a:stretch/>
        </p:blipFill>
        <p:spPr>
          <a:xfrm>
            <a:off x="1000080" y="642960"/>
            <a:ext cx="7358040" cy="51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071720" y="114300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 знаете, что такое настоящая дружб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фото\P1010085.JPG"/>
          <p:cNvPicPr/>
          <p:nvPr/>
        </p:nvPicPr>
        <p:blipFill>
          <a:blip r:embed="rId1"/>
          <a:stretch/>
        </p:blipFill>
        <p:spPr>
          <a:xfrm>
            <a:off x="2143080" y="2928960"/>
            <a:ext cx="4595760" cy="3446280"/>
          </a:xfrm>
          <a:prstGeom prst="rect">
            <a:avLst/>
          </a:prstGeom>
          <a:ln w="63360">
            <a:solidFill>
              <a:srgbClr val="8eb4e3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440" y="5367240"/>
            <a:ext cx="742932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- это тот, кто берет за руку, но дотрагивается до твоего сердца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Елена\Desktop\картинки\0_24218_4537c696_XL[1].jpg"/>
          <p:cNvPicPr/>
          <p:nvPr/>
        </p:nvPicPr>
        <p:blipFill>
          <a:blip r:embed="rId2"/>
          <a:stretch/>
        </p:blipFill>
        <p:spPr>
          <a:xfrm>
            <a:off x="857160" y="642960"/>
            <a:ext cx="7572600" cy="46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6800" y="5285880"/>
            <a:ext cx="75726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Умереть за друга не трудно. Трудно найти друга, за которого стоило бы умереть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Елена\Desktop\картинки\0a0c7c8b11a2e8622662be8e6fafb2ee[1].jpg"/>
          <p:cNvPicPr/>
          <p:nvPr/>
        </p:nvPicPr>
        <p:blipFill>
          <a:blip r:embed="rId2"/>
          <a:stretch/>
        </p:blipFill>
        <p:spPr>
          <a:xfrm>
            <a:off x="785880" y="571680"/>
            <a:ext cx="7572240" cy="471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Елена\Desktop\картинки\img_18422446_101_8[1]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55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Елена\Desktop\картинки\4d5caf8acf74[1].jpg"/>
          <p:cNvPicPr/>
          <p:nvPr/>
        </p:nvPicPr>
        <p:blipFill>
          <a:blip r:embed="rId1"/>
          <a:stretch/>
        </p:blipFill>
        <p:spPr>
          <a:xfrm>
            <a:off x="714240" y="571680"/>
            <a:ext cx="7500960" cy="55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Елена\Desktop\картинки\09048e7808b8196f45eae639ed46e7f5[1]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85880" y="428760"/>
            <a:ext cx="7643880" cy="561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5367240"/>
            <a:ext cx="7358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 – это одна душа, живущая в двух тел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Елена\Desktop\картинки\6062[1].jpg"/>
          <p:cNvPicPr/>
          <p:nvPr/>
        </p:nvPicPr>
        <p:blipFill>
          <a:blip r:embed="rId2"/>
          <a:stretch/>
        </p:blipFill>
        <p:spPr>
          <a:xfrm>
            <a:off x="1071720" y="357120"/>
            <a:ext cx="7429320" cy="500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5367240"/>
            <a:ext cx="75009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ак много делаем мы для друзей, чего никогда не сделали для самих себя!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Елена\Desktop\картинки\10405[1].jpg"/>
          <p:cNvPicPr/>
          <p:nvPr/>
        </p:nvPicPr>
        <p:blipFill>
          <a:blip r:embed="rId2"/>
          <a:stretch/>
        </p:blipFill>
        <p:spPr>
          <a:xfrm>
            <a:off x="928800" y="64296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03:45Z</dcterms:created>
  <dc:creator>Елена</dc:creator>
  <dc:description/>
  <dc:language>en-US</dc:language>
  <cp:lastModifiedBy>дд</cp:lastModifiedBy>
  <dcterms:modified xsi:type="dcterms:W3CDTF">2010-05-19T18:33:25Z</dcterms:modified>
  <cp:revision>9</cp:revision>
  <dc:subject/>
  <dc:title>Слайд 1</dc:title>
</cp:coreProperties>
</file>