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66B-D1F9-4F04-B92C-0204F945D0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AF7A-DB24-4B18-AE4A-AB6522229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9ED-91FD-4EBC-829A-0FB8C7677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F86-D2AE-48F9-B88E-1A11E32B2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D0C-CFDB-4AB4-95D8-D72A988CC6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46A-2496-446D-AB60-D163A07498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A6BF-1416-48EB-B61E-E3F3580FF2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9471-D8A2-4E47-939C-12DBBB79F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FD45-00F8-44D4-BBC8-3F1CC77100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E07A-076B-4FCF-955F-D81F551F7B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6ED-AE9C-447C-9E69-C163B7D5C5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BB38-0315-490C-9B78-12A0351DC1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ACA-9EA6-4EFB-BBA6-6A2ACDC80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37E7-CAE3-41B8-8332-DBBFB53882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FCF-347A-4618-BE20-90FDBACF42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5157-07D8-48B1-B600-8AAAA11E11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2EC-EEDA-4452-A7A7-B8070347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A58-F318-4817-8188-7B88F3E1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7A8-75AC-4FA4-8DA3-C1942BA1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BDB-78B2-48AB-B1DE-8F588733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126-BF51-47A9-8C66-D0B546C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0EC-1450-4879-89A3-EF6E7814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C31-FECC-43BB-9A1C-23FF472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1BE-8009-4303-BC47-060B07B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245-947A-4669-8501-D71CBB1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6FF-2EAD-4D74-9ECD-0B3C3E3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7E4-F055-4EF8-B22C-2FA9C33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E16-2574-47FE-982F-B487FE70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ECB-68D2-40FC-A720-70FC2ABB5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forism.su/66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357200" y="250020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что значит настоящий, верный 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3880" y="5367240"/>
            <a:ext cx="7858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збери себе друга; ты не можешь быть счастлив один: счастье есть дело дво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Елена\Desktop\картинки\10442[1].jpg"/>
          <p:cNvPicPr/>
          <p:nvPr/>
        </p:nvPicPr>
        <p:blipFill>
          <a:blip r:embed="rId2"/>
          <a:stretch/>
        </p:blipFill>
        <p:spPr>
          <a:xfrm>
            <a:off x="714240" y="642960"/>
            <a:ext cx="785844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5367240"/>
            <a:ext cx="78580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жба удваивае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адости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и сокращает наполовину гор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Елена\Desktop\картинки\21558_14514[1].jpg"/>
          <p:cNvPicPr/>
          <p:nvPr/>
        </p:nvPicPr>
        <p:blipFill>
          <a:blip r:embed="rId3"/>
          <a:stretch/>
        </p:blipFill>
        <p:spPr>
          <a:xfrm>
            <a:off x="785880" y="642960"/>
            <a:ext cx="7858080" cy="47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3880" y="5286240"/>
            <a:ext cx="80010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Глаза дружбы редко ошибаю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Елена\Desktop\картинки\5228bd38bbd595c70efdef1ks7[1].jpg"/>
          <p:cNvPicPr/>
          <p:nvPr/>
        </p:nvPicPr>
        <p:blipFill>
          <a:blip r:embed="rId2"/>
          <a:stretch/>
        </p:blipFill>
        <p:spPr>
          <a:xfrm>
            <a:off x="714240" y="571680"/>
            <a:ext cx="8001000" cy="471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9720" y="5367240"/>
            <a:ext cx="75726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м следует обращаться со своими друзьями так же, как мы хотели бы, чтобы друзья обращались с н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Елена\Desktop\картинки\605449[1].jpg"/>
          <p:cNvPicPr/>
          <p:nvPr/>
        </p:nvPicPr>
        <p:blipFill>
          <a:blip r:embed="rId2"/>
          <a:stretch/>
        </p:blipFill>
        <p:spPr>
          <a:xfrm>
            <a:off x="1000080" y="388800"/>
            <a:ext cx="7572600" cy="489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2600" y="5367240"/>
            <a:ext cx="80722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 музы, ни труды, ни радости досуга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что не заменит единственного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Елена\Desktop\картинки\1259759522_allday.ru_37[1].jpg"/>
          <p:cNvPicPr/>
          <p:nvPr/>
        </p:nvPicPr>
        <p:blipFill>
          <a:blip r:embed="rId2"/>
          <a:stretch/>
        </p:blipFill>
        <p:spPr>
          <a:xfrm>
            <a:off x="571680" y="500040"/>
            <a:ext cx="821520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Елена\Desktop\картинки\2085[1].jpg"/>
          <p:cNvPicPr/>
          <p:nvPr/>
        </p:nvPicPr>
        <p:blipFill>
          <a:blip r:embed="rId1"/>
          <a:stretch/>
        </p:blipFill>
        <p:spPr>
          <a:xfrm>
            <a:off x="465120" y="285840"/>
            <a:ext cx="8213760" cy="621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Елена\Desktop\картинки\HDCA0MCT7OCA25G5TWCA51DPKICAQSMFLPCAIY3NI8CAS8UUCUCA5KP0H4CASX5F4VCAX2BI1FCAQQ43ZJCAQIX279CA2Y83PPCAFDYFBPCA4XWYORCA4K0KU6CANAXTY0CASKE79SCA3LMI45CARV3KI9.jpg"/>
          <p:cNvPicPr/>
          <p:nvPr/>
        </p:nvPicPr>
        <p:blipFill>
          <a:blip r:embed="rId1"/>
          <a:stretch/>
        </p:blipFill>
        <p:spPr>
          <a:xfrm>
            <a:off x="1000080" y="642960"/>
            <a:ext cx="7358040" cy="51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071720" y="114300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 знаете, что такое настоящая дружб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фото\P1010085.JPG"/>
          <p:cNvPicPr/>
          <p:nvPr/>
        </p:nvPicPr>
        <p:blipFill>
          <a:blip r:embed="rId1"/>
          <a:stretch/>
        </p:blipFill>
        <p:spPr>
          <a:xfrm>
            <a:off x="2143080" y="2928960"/>
            <a:ext cx="4595760" cy="3446280"/>
          </a:xfrm>
          <a:prstGeom prst="rect">
            <a:avLst/>
          </a:prstGeom>
          <a:ln w="63360">
            <a:solidFill>
              <a:srgbClr val="8eb4e3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440" y="5367240"/>
            <a:ext cx="742932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- это тот, кто берет за руку, но дотрагивается до твоего сердца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Елена\Desktop\картинки\0_24218_4537c696_XL[1].jpg"/>
          <p:cNvPicPr/>
          <p:nvPr/>
        </p:nvPicPr>
        <p:blipFill>
          <a:blip r:embed="rId2"/>
          <a:stretch/>
        </p:blipFill>
        <p:spPr>
          <a:xfrm>
            <a:off x="857160" y="642960"/>
            <a:ext cx="7572600" cy="46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6800" y="5285880"/>
            <a:ext cx="75726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Умереть за друга не трудно. Трудно найти друга, за которого стоило бы умереть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Елена\Desktop\картинки\0a0c7c8b11a2e8622662be8e6fafb2ee[1].jpg"/>
          <p:cNvPicPr/>
          <p:nvPr/>
        </p:nvPicPr>
        <p:blipFill>
          <a:blip r:embed="rId2"/>
          <a:stretch/>
        </p:blipFill>
        <p:spPr>
          <a:xfrm>
            <a:off x="785880" y="571680"/>
            <a:ext cx="7572240" cy="471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Елена\Desktop\картинки\img_18422446_101_8[1]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55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Елена\Desktop\картинки\4d5caf8acf74[1].jpg"/>
          <p:cNvPicPr/>
          <p:nvPr/>
        </p:nvPicPr>
        <p:blipFill>
          <a:blip r:embed="rId1"/>
          <a:stretch/>
        </p:blipFill>
        <p:spPr>
          <a:xfrm>
            <a:off x="714240" y="571680"/>
            <a:ext cx="7500960" cy="55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Елена\Desktop\картинки\09048e7808b8196f45eae639ed46e7f5[1]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85880" y="428760"/>
            <a:ext cx="7643880" cy="561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5367240"/>
            <a:ext cx="7358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 – это одна душа, живущая в двух тел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Елена\Desktop\картинки\6062[1].jpg"/>
          <p:cNvPicPr/>
          <p:nvPr/>
        </p:nvPicPr>
        <p:blipFill>
          <a:blip r:embed="rId2"/>
          <a:stretch/>
        </p:blipFill>
        <p:spPr>
          <a:xfrm>
            <a:off x="1071720" y="357120"/>
            <a:ext cx="7429320" cy="500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5367240"/>
            <a:ext cx="75009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ак много делаем мы для друзей, чего никогда не сделали для самих себя!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Елена\Desktop\картинки\10405[1].jpg"/>
          <p:cNvPicPr/>
          <p:nvPr/>
        </p:nvPicPr>
        <p:blipFill>
          <a:blip r:embed="rId2"/>
          <a:stretch/>
        </p:blipFill>
        <p:spPr>
          <a:xfrm>
            <a:off x="928800" y="64296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03:45Z</dcterms:created>
  <dc:creator>Елена</dc:creator>
  <dc:description/>
  <dc:language>en-US</dc:language>
  <cp:lastModifiedBy>дд</cp:lastModifiedBy>
  <dcterms:modified xsi:type="dcterms:W3CDTF">2010-05-19T18:33:25Z</dcterms:modified>
  <cp:revision>9</cp:revision>
  <dc:subject/>
  <dc:title>Слайд 1</dc:title>
</cp:coreProperties>
</file>