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6B2-9F9A-445E-9261-0619109C3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9CE-75BC-4189-A17D-8DB3C9A8EA7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ABE-FEC4-4CAE-BB4F-49BA5FA912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C56-5F67-4ABA-B5F1-C54F1F3BF2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125-51EB-46E0-B5BC-7074ED1D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515-3B9D-44D6-9B77-3077ADA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D52-DC7C-4432-9218-97D3F206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480-38F3-4461-B035-95329FF9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56D-76FC-4268-92EA-D0E6C361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E679-4D5B-4939-B1EB-CB9D2CE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4335-1087-45A2-937B-126C1FD9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4E66-7D2D-440E-8989-67C0F506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6FC-3CC4-4BBF-BD61-F9122778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3D9-6510-414E-BDFC-263B39EA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3C99-FB86-409F-B660-250FB73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78F-BF41-4C5A-85AA-6DAFC5C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B25D-C341-40D2-8BB2-6D44E32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ADE2-F178-4142-9452-AF91E21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6BC-95B3-412D-B8DA-AA7284F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4919-D2D8-42D9-9F0E-CAA40B62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6D3-3DC9-4F7E-B4BD-F8715022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F879-F3A7-4688-ABBF-CDCFEC70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97CB-BCD5-470B-AEE6-C773599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80EF-C934-4B7D-B01B-6A970A9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D2B0-684C-4182-A6D7-3C38BC0C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7276-FB9C-4966-ADC7-65B4012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6F5-32D6-4BFD-B662-F8AF5ED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56A4-218E-4529-AE9B-2575A243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924E-BC38-440D-AC9F-240FB241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64B2-0DED-41E7-868E-3704C980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A117-12CA-4FD6-BB66-424D1DB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C047-E167-4A6A-9C3C-B119EF5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F1D9-B50C-47E0-9014-0DFAAE9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14F7-3306-44C8-AD39-AE7F746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8F1A-CB86-4C09-BAC2-E7EE258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9AE0-ED5E-4D24-9027-0ADA957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9B8F-4C92-4633-859A-271C81B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671-2BC1-4CCC-BC17-03143779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CE9F-07C5-410A-B57A-0C8D961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1232-FAEC-4F3B-9C60-EBF8F66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FD1C-95CB-4028-B5CB-52FB3D9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ADE0-86F0-4F3E-B2E2-89FC908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82DE-5686-4547-AF16-8C79B36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252F-D3E8-40F0-BC31-9A27168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7308-7E8E-4B35-8DE3-3FBB9467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6B12-1666-4547-994F-BB1152D6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AB41-9B47-441B-B126-4795BFEC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E392-5D0F-4591-88F9-16EA3B10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731-1AC9-459C-AD23-DC70724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E3399-86C5-4716-980B-0AAD6BA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E1E6-F369-4C2D-9E13-BF247E44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0C2F-04F4-417B-B72C-9AD5EBB5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BD3F-E17A-4175-A7A2-AF9060F5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4106E-FEA0-4FC6-8B47-567ABB5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039B-9F0A-414C-B4FF-185A95B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CD97-E596-4296-8D35-A6B8B98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3455-7467-4D53-AC2A-CEC4511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4E7A-5B16-4FE8-A37F-9221DEB2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4B2F-C615-4D9A-AF71-8F51CDAD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B1B-DA6F-4A81-935E-576A54B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7785-1C93-4235-A654-B3A13B20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7E1-142F-4EFE-BF52-0819CB6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E75-81C3-463C-894D-CF0EA67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F18-7C6D-4F96-B496-A855E87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CB62-5D8A-42CA-9D19-04237C6225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8C9A-20A0-468F-8F45-4CF997241D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FDB-A9B2-44EB-AB87-BBAC7478B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61E2-0137-4E3B-B9CF-B509F100A1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47B-A973-4BE8-BD76-7A4033DE1D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Times New Roman"/>
              </a:rPr>
              <a:t>Сила трения.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Трение в природе и техник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Picture 4" descr="angl[1]"/>
          <p:cNvPicPr/>
          <p:nvPr/>
        </p:nvPicPr>
        <p:blipFill>
          <a:blip r:embed="rId1"/>
          <a:stretch/>
        </p:blipFill>
        <p:spPr>
          <a:xfrm>
            <a:off x="838080" y="42195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4572000" y="588276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дготовила: учитель физик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Ягодкина Юлия Сергеевн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ОУСОШ №8 г.Ессентуки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4"/>
          <p:cNvGraphicFramePr/>
          <p:nvPr/>
        </p:nvGraphicFramePr>
        <p:xfrm>
          <a:off x="0" y="-2232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32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зовите ещё раз способы уменьшения т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еперь подумаем: почему по стеклу нельзя кататься на коньках, как по льду? Ведь стекло имеет более гладкую поверхность, чем лёд. Чтобы узнать правильный ответ, посмотрим видеофрагмен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m16.avi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амостоятельная работа.</a:t>
            </a: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1 вариант.                     2 вариант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чем на колесах тракторов и автомашин делают глубокий рисунок-протектор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акая пуля летит дальше круглая или коническая? Поче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чем некоторые мастера смазывают мылом шуруп перед ввинчиванием его в скрепляемые дета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 пловец, прыгая со стартовой тумбы, вытягивает руки в перед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 мелкие рыбы, переходя на большие расстояния, сбиваются в стаи в форме кап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ужно ли орбитальным станциям придавать обтекаемую форму?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че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Picture 10" descr="album_0308172145_5623[1]"/>
          <p:cNvPicPr/>
          <p:nvPr/>
        </p:nvPicPr>
        <p:blipFill>
          <a:blip r:embed="rId1"/>
          <a:stretch/>
        </p:blipFill>
        <p:spPr>
          <a:xfrm>
            <a:off x="7696080" y="228600"/>
            <a:ext cx="1111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Творческое домашнее зад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писать фантастический рассказ “Если бы трения не стало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писать стихотворение о тр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-4442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ставить кроссворд на тему «трение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249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_522-00070"/>
          <p:cNvPicPr/>
          <p:nvPr/>
        </p:nvPicPr>
        <p:blipFill>
          <a:blip r:embed="rId4"/>
          <a:stretch/>
        </p:blipFill>
        <p:spPr>
          <a:xfrm>
            <a:off x="678168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 творческого задания:    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2365200"/>
          <a:ext cx="7239240" cy="449280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чезла сила трения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что ж произошло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ушать захотели мы –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вышло ничего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годня в школу не пошел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тренья я бы не дошел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я учитель не вин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лучше трение верн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 наших рук мгновенно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пали все предметы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почему? Да потому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силы тренья нет!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ывает трение полезны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 может вредным быть оно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тальки об детальки трутся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очень быстро все сотрутс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дметы все летя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ять они не могут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ужна нам сила тр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на лишь нам поможет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я этого ты смазку примен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ли подшипники постав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еньши тренье этим т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сохрани детали и болты!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ы быстро все бегу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как их не остановить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чтобы мы не дела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ды они наделал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Цели урока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учебны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общить полученные знания о силе трения, обсудить роль силы трения в природе и техник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должить формирование умений делать выводы и обобщения, обнаруживать в быту и технике изучаемое понятие, а также развитие интеллектуальных способностей учащихс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казать значение опытных фактов, продолжить воспитание отношения к физике как к экспериментальной наук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рганизационный момен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торение и обобщение полученных ранее знаний (используя мультимедийный курс «Физика 7-11 классы»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ая рабо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_522-00002"/>
          <p:cNvPicPr/>
          <p:nvPr/>
        </p:nvPicPr>
        <p:blipFill>
          <a:blip r:embed="rId1"/>
          <a:stretch/>
        </p:blipFill>
        <p:spPr>
          <a:xfrm>
            <a:off x="6705720" y="5037120"/>
            <a:ext cx="17524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овторение пройденного материала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533880" y="1447920"/>
            <a:ext cx="9448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сила трения? Какой буквой она обозначается? В каких единицах измеря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ую силу называют силой трения? Какие виды трения существуют? Какую силу называют трением скольжения, качения и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прибор для измерения силы? Какие типы динамометров вам известны? (демонстрация динамомет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динамометра мы можем измерить силу тяжести (демонстрация). Как с помощью динамометра измерить силу тр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причины возникновения трения? (неровность поверхности и силы межмолекулярного взаимодейств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7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известные вам наблюдения и опыты показывают, что существует сила т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m9.avi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1524240" y="-360"/>
            <a:ext cx="10667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сила трения обозначается букв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меряется в Ньютонах с помощью динамометра. Но незабываем, что сила - векторная величина, что это значит? Как направлена сила трения? Всегда ли это так? Посмотрим видео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m12.avi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m13.avi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1676880" y="-360"/>
            <a:ext cx="10820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, когда трение может быть полезным, а когда вредным. Посмотрев видеофрагмент, предложите способы увеличения силы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m13.avi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62" name="m13.avi" descr=""/>
          <p:cNvPicPr/>
          <p:nvPr/>
        </p:nvPicPr>
        <p:blipFill>
          <a:blip r:embed="rId5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3" name="Ink 7"/>
          <p:cNvSpPr/>
          <p:nvPr/>
        </p:nvSpPr>
        <p:spPr>
          <a:xfrm>
            <a:off x="3911760" y="399096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10864" y="11088"/>
                </a:moveTo>
                <a:cubicBezTo>
                  <a:pt x="10864" y="11096"/>
                  <a:pt x="10864" y="11104"/>
                  <a:pt x="10864" y="11112"/>
                </a:cubicBezTo>
              </a:path>
              <a:path w="1" h="50">
                <a:moveTo>
                  <a:pt x="10864" y="11137"/>
                </a:moveTo>
                <a:lnTo>
                  <a:pt x="10864" y="111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1295280" y="380880"/>
            <a:ext cx="10439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зимой задние колёса некоторых грузовых автомобилей перевязывают цеп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делают насечки возле шляпки гвозд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рассмотрели способы увеличения трения, а какие способы уменьшения трения вам известны? (смазка, обтекаемая форма, подшипн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, ныряя с вышки, пловец стремится войти в воду в вертикальном, а не в горизонтальном по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предпринимают велосипедисты, чтобы увеличить скорость своего движения? Современные автомобили специально помещают в аэродинамическую трубу, чтобы придать им обтекаемую форму и в связи с этим увеличить скорость их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стапеля, по которым судно спускают в воду, обильно сма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еобходимо сделать, чтобы санки катились быстр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после дождя грунтовая дорога скольз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осенью у трамвайных линий, проходящих около парков, бульваров и садов, вывешивают предупреждающий знак «Осторожно листопад!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атериалы могут быть использовано в качестве смаз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ещё один способ уменьшения трения- использование шариковых подшип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m14.avi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ька</dc:creator>
  <dc:description/>
  <dc:language>en-US</dc:language>
  <cp:lastModifiedBy>Юлька</cp:lastModifiedBy>
  <dcterms:modified xsi:type="dcterms:W3CDTF">2012-04-05T07:26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