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gif" ContentType="image/gif"/>
  <Override PartName="/ppt/media/image7.png" ContentType="image/png"/>
  <Override PartName="/ppt/media/image8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AED2-55F6-4798-BB2F-959F59C585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0E77-710E-4FBE-B922-D4D6C21B4B8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D6ED-A45D-4F39-A493-A0C4D76B55D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D84B-7D5A-415A-82D7-9BC0BBB20B3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63E5-48F2-4131-9CCC-08AD6ADE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914-4246-4EDF-AFDC-79A5C9AF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9080-F24E-4305-BFA1-72969AAE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50C5-8F50-41C8-800E-72602008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0931-FB88-43D7-A481-69114F59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B233-B6D6-4422-9784-6A396D39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C211-8380-472A-BFB8-C5FA86DD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ECFA-BE9D-4C72-B25C-B43ABF66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FF2B-A612-436C-8626-754ED064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323D-61EA-4D5B-AF0C-F2548DC3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B16E-EDF1-4248-8069-618C9D46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158-9224-4DDB-9675-FEACFC97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A52C-EB94-407F-BE73-A13CB07C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5603-F046-4195-8F28-9099E352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E228-0A21-49B1-BE85-3BF91CD7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B126-7BA4-4B49-9736-FAB03CF2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29E1-B502-459C-B682-862F9248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5CFAF-7C7A-4D9C-B0FE-6618494C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D5D2C-6961-4788-A547-76D52505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60E6B-C219-4B38-A034-DCE1635D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66E62-CAD5-4AF6-8553-94A3C9A6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5213F-F0D1-4C61-A8B3-B79A704A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83A0-2C5C-43B5-908B-146F7E1F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083F4-826C-4BB4-9E57-3FA9A8AE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7688C-770A-435F-9A8E-F3C979E4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862F4-6297-4FBC-BBBD-07A61352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63637-0184-4320-9FDC-52519A6F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4AA04-D7AB-4022-ADA6-C48CE442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0B48E-FF1B-4ECF-87AD-8B989757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1AB4B-1074-4DEE-AA67-60BF01AD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53455-F3B8-436F-A2A4-654DE9D4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D1406-E742-4B03-AFF4-96FDACE3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41993-0FB6-487C-A379-EA9BB2FC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D62-C3D3-4E62-A40E-CBF35C9E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FC5C5-4DD3-4899-B958-F1979EFB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9E537-F81C-49E3-B65E-5092565D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F5D5E-093D-4DD6-A84C-0FC0E4F1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B28A5-C608-45D2-8FFF-134BECBC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0961D-C5DF-415D-B9E7-B4CF5538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15B8D-8DD7-4B66-9849-3FF0B24B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21C7E-EF19-415A-B14A-7448D3AD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5CEFA-7A49-4BE7-BDBE-08E6164E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24A93-9443-410F-ABED-9DBDB9DF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DE01F-55DB-45FF-A3BE-7C29CEE4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6833-D64F-46A5-AEAC-BA692E3B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BEA76-90AF-42B0-BFC2-BA9788F7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8E8CB-4A58-4B76-AFE6-6BBE578A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17689-BAED-450B-A751-1E04F27E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CAF58-8AC1-4186-A604-3466E25F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C30E8-1A91-43A7-81F5-1F1E8EAF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0BF5A-E18A-4556-AB44-1920F9E2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43718-AA65-4A83-8E29-54C9297B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5BE9C-8894-4B81-BE04-6DD7B1C7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6FF43-F7C7-4353-A852-7FBAA315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E1921-441A-4C48-AF44-920ED51C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5749-10C4-4E6E-882D-B8AA0968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C656F-7662-4BA3-9497-91C5CCC7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B0E-8D97-4AE7-B1C9-9EE02F57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175-BFD5-473B-A553-B88DFBBB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FCA5-870E-424A-8FEC-679F5485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0CA7-F993-4CFD-B311-1F4DB85545E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0341-8BE8-43B5-9846-E7F2865D01B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D1B2-6AC6-407C-B0DA-D77CAFB171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7C25-BB20-4D38-B282-FE681CA4DCF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8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07B5-F38E-46C2-9C39-8EDC519A8E0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Times New Roman"/>
              </a:rPr>
              <a:t>Сила трения.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Times New Roman"/>
              </a:rPr>
              <a:t>Трение в природе и технике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0" name="Picture 4" descr="angl[1]"/>
          <p:cNvPicPr/>
          <p:nvPr/>
        </p:nvPicPr>
        <p:blipFill>
          <a:blip r:embed="rId1"/>
          <a:stretch/>
        </p:blipFill>
        <p:spPr>
          <a:xfrm>
            <a:off x="838080" y="4219560"/>
            <a:ext cx="2286000" cy="17240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4572000" y="588276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Подготовила: учитель физики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Ягодкина Юлия Сергеевна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МОУСОШ №8 г.Ессентуки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Object 4"/>
          <p:cNvGraphicFramePr/>
          <p:nvPr/>
        </p:nvGraphicFramePr>
        <p:xfrm>
          <a:off x="0" y="-22320"/>
          <a:ext cx="9144000" cy="6880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2320"/>
                    <a:ext cx="91440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0"/>
            <a:ext cx="89917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назовите ещё раз способы уменьшения т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еперь подумаем: почему по стеклу нельзя кататься на коньках, как по льду? Ведь стекло имеет более гладкую поверхность, чем лёд. Чтобы узнать правильный ответ, посмотрим видеофрагмен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m16.avi" descr=""/>
          <p:cNvPicPr/>
          <p:nvPr/>
        </p:nvPicPr>
        <p:blipFill>
          <a:blip r:embed="rId3"/>
          <a:stretch/>
        </p:blipFill>
        <p:spPr>
          <a:xfrm>
            <a:off x="0" y="14479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Самостоятельная работа.</a:t>
            </a:r>
            <a:br>
              <a:rPr sz="3200"/>
            </a:b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1 вариант.                     2 вариант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Зачем на колесах тракторов и автомашин делают глубокий рисунок-протектор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Какая пуля летит дальше круглая или коническая? Почем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Зачем некоторые мастера смазывают мылом шуруп перед ввинчиванием его в скрепляемые детали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8002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чему пловец, прыгая со стартовой тумбы, вытягивает руки в перед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чему мелкие рыбы, переходя на большие расстояния, сбиваются в стаи в форме капли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ужно ли орбитальным станциям придавать обтекаемую форму?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чем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9" name="Picture 10" descr="album_0308172145_5623[1]"/>
          <p:cNvPicPr/>
          <p:nvPr/>
        </p:nvPicPr>
        <p:blipFill>
          <a:blip r:embed="rId1"/>
          <a:stretch/>
        </p:blipFill>
        <p:spPr>
          <a:xfrm>
            <a:off x="7696080" y="228600"/>
            <a:ext cx="1111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</a:rPr>
              <a:t>Творческое домашнее задание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61760" y="25142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49200" indent="-4442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писать фантастический рассказ “Если бы трения не стало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249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и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249200" indent="-4442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писать стихотворение о трен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249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и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249200" indent="-4442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оставить кроссворд на тему «трение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249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249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           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2" name="Picture 4" descr="_522-00070"/>
          <p:cNvPicPr/>
          <p:nvPr/>
        </p:nvPicPr>
        <p:blipFill>
          <a:blip r:embed="rId4"/>
          <a:stretch/>
        </p:blipFill>
        <p:spPr>
          <a:xfrm>
            <a:off x="6781680" y="51814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 творческого задания:     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838080" y="2365200"/>
          <a:ext cx="7239240" cy="4492800"/>
        </p:xfrm>
        <a:graphic>
          <a:graphicData uri="http://schemas.openxmlformats.org/drawingml/2006/table">
            <a:tbl>
              <a:tblPr/>
              <a:tblGrid>
                <a:gridCol w="3619800"/>
                <a:gridCol w="36194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чезла сила трения.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 что ж произошло?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ушать захотели мы –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вышло ничего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годня в школу не пошел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тренья я бы не дошел.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ня учитель не вини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 лучше трение верни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17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з наших рук мгновенно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пали все предметы,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 почему? Да потому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то силы тренья нет!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ывает трение полезным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о может вредным быть оно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тальки об детальки трутся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 очень быстро все сотрутся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едметы все летят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тоять они не могут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ужна нам сила трения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на лишь нам поможет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ля этого ты смазку примен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ли подшипники поставь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меньши тренье этим т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 сохрани детали и болты!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ашины быстро все бегут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икак их не остановить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 чтобы мы не делал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еды они наделали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Цели урока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6840" y="22856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учебные: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обобщить полученные знания о силе трения, обсудить роль силы трения в природе и техник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развивающие: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родолжить формирование умений делать выводы и обобщения, обнаруживать в быту и технике изучаемое понятие, а также развитие интеллектуальных способностей учащихс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воспитательные: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оказать значение опытных фактов, продолжить воспитание отношения к физике как к экспериментальной наук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лан урок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рганизационный момен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вторение и обобщение полученных ранее знаний (используя мультимедийный курс «Физика 7-11 классы»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стоятельная рабо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машнее зада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Picture 4" descr="_522-00002"/>
          <p:cNvPicPr/>
          <p:nvPr/>
        </p:nvPicPr>
        <p:blipFill>
          <a:blip r:embed="rId1"/>
          <a:stretch/>
        </p:blipFill>
        <p:spPr>
          <a:xfrm>
            <a:off x="6705720" y="5037120"/>
            <a:ext cx="175248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Повторение пройденного материала: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533880" y="1447920"/>
            <a:ext cx="9448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353960" indent="7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сила трения? Какой буквой она обозначается? В каких единицах измеряе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3960" indent="7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ую силу называют силой трения? Какие виды трения существуют? Какую силу называют трением скольжения, качения и поко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3960" indent="7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зывают прибор для измерения силы? Какие типы динамометров вам известны? (демонстрация динамомет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3960" indent="7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мощью динамометра мы можем измерить силу тяжести (демонстрация). Как с помощью динамометра измерить силу трен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3960" indent="7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овите причины возникновения трения? (неровность поверхности и силы межмолекулярного взаимодейств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3960" indent="7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известные вам наблюдения и опыты показывают, что существует сила тр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3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m9.avi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Object 5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1524240" y="-360"/>
            <a:ext cx="10667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сила трения обозначается букво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змеряется в Ньютонах с помощью динамометра. Но незабываем, что сила - векторная величина, что это значит? Как направлена сила трения? Всегда ли это так? Посмотрим видеофраг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m12.avi" descr=""/>
          <p:cNvPicPr/>
          <p:nvPr/>
        </p:nvPicPr>
        <p:blipFill>
          <a:blip r:embed="rId3"/>
          <a:stretch/>
        </p:blipFill>
        <p:spPr>
          <a:xfrm>
            <a:off x="0" y="12952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m13.avi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5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-1676880" y="-360"/>
            <a:ext cx="10820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примеры, когда трение может быть полезным, а когда вредным. Посмотрев видеофрагмент, предложите способы увеличения силы т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m13.avi" descr=""/>
          <p:cNvPicPr/>
          <p:nvPr/>
        </p:nvPicPr>
        <p:blipFill>
          <a:blip r:embed="rId4"/>
          <a:stretch/>
        </p:blipFill>
        <p:spPr>
          <a:xfrm>
            <a:off x="2895480" y="205740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262" name="m13.avi" descr=""/>
          <p:cNvPicPr/>
          <p:nvPr/>
        </p:nvPicPr>
        <p:blipFill>
          <a:blip r:embed="rId5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63" name="Ink 7"/>
          <p:cNvSpPr/>
          <p:nvPr/>
        </p:nvSpPr>
        <p:spPr>
          <a:xfrm>
            <a:off x="3911760" y="3990960"/>
            <a:ext cx="1440" cy="19080"/>
          </a:xfrm>
          <a:custGeom>
            <a:avLst/>
            <a:gdLst/>
            <a:ahLst/>
            <a:rect l="l" t="t" r="r" b="b"/>
            <a:pathLst>
              <a:path w="1" h="50">
                <a:moveTo>
                  <a:pt x="10864" y="11088"/>
                </a:moveTo>
                <a:cubicBezTo>
                  <a:pt x="10864" y="11096"/>
                  <a:pt x="10864" y="11104"/>
                  <a:pt x="10864" y="11112"/>
                </a:cubicBezTo>
              </a:path>
              <a:path w="1" h="50">
                <a:moveTo>
                  <a:pt x="10864" y="11137"/>
                </a:moveTo>
                <a:lnTo>
                  <a:pt x="10864" y="111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4"/>
          <p:cNvGraphicFramePr/>
          <p:nvPr/>
        </p:nvGraphicFramePr>
        <p:xfrm>
          <a:off x="0" y="468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-1295280" y="380880"/>
            <a:ext cx="104392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чем зимой задние колёса некоторых грузовых автомобилей перевязывают цепя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чего делают насечки возле шляпки гвозд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рассмотрели способы увеличения трения, а какие способы уменьшения трения вам известны? (смазка, обтекаемая форма, подшипни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чем, ныряя с вышки, пловец стремится войти в воду в вертикальном, а не в горизонтальном полож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предпринимают велосипедисты, чтобы увеличить скорость своего движения? Современные автомобили специально помещают в аэродинамическую трубу, чтобы придать им обтекаемую форму и в связи с этим увеличить скорость их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чем стапеля, по которым судно спускают в воду, обильно смазыв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необходимо сделать, чтобы санки катились быстре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после дождя грунтовая дорога скользк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чем осенью у трамвайных линий, проходящих около парков, бульваров и садов, вывешивают предупреждающий знак «Осторожно листопад!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материалы могут быть использовано в качестве смаз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 ещё один способ уменьшения трения- использование шариковых подшип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0" name="m14.avi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ька</dc:creator>
  <dc:description/>
  <dc:language>en-US</dc:language>
  <cp:lastModifiedBy>Юлька</cp:lastModifiedBy>
  <dcterms:modified xsi:type="dcterms:W3CDTF">2012-04-05T07:26:1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