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C51-87C7-4542-A275-A1A57117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E96-C9C8-4F61-885B-FBAA36CA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8F1-2314-41FC-A30F-B386403E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4C0-8873-4DEF-9968-8BD765AD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5FD-F201-4254-A7E2-6063978E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31D-2F3D-4070-B4D3-DFEA2494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4CA-D7EB-464D-AFCF-FD2F7270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8A6-5C01-4E83-8367-04769142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EBA-92B9-453E-8720-5918DD72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85E-258C-4C64-8B49-102BD391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DB5-864D-4CED-881E-5602000E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672-904F-4018-A954-AD84B3EA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6160-2508-4805-A455-ED42B15EF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otlight.ru/" TargetMode="External"/><Relationship Id="rId3" Type="http://schemas.openxmlformats.org/officeDocument/2006/relationships/hyperlink" Target="http://www.images.yandex.r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Who are  you?</a:t>
            </a: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Spea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class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на И.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СОШ №3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Магнитого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изационный мом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od morning. You are so nice and pretty today. Are you ready to work. Take your seats, please. What’s the date today and day of the week? Who’s ab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: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Good morning. Thank you. Yes, we are. Today’s the 24</a:t>
            </a:r>
            <a:r>
              <a:rPr b="0" lang="en-US" sz="2800" spc="-1" strike="noStrike" baseline="30000">
                <a:solidFill>
                  <a:srgbClr val="ff00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of September, Tuesday. Everybody’s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cation. Match the photos and its descrip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He’s his fifties. He’s pretty. He’s medium build, of average height. He’s strong and muscular. His eyes are green and his hair is gin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’s his fifties. He’s good-looking. He’s medium build, of average height. He’s strong and muscular. His eyes are green and he’s almost ba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1235160"/>
            <a:ext cx="4191120" cy="2343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952880" y="3809880"/>
            <a:ext cx="419112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181480" y="2133720"/>
            <a:ext cx="457200" cy="12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81480" y="5257800"/>
            <a:ext cx="68580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B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Describe him, p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5029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, plea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e’s in his sixties. He’s good-looking. He’s muscular and strong. His hair is short. He’s white. His eyes are blue. He’s tall and slim. He’s even skinny. He’s hard-working and fu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му за 60. Он хорошо выглядит. Он мускулистый и стройный. Он короткий. Он белый. Глаза у него голубые. Он высок и худ. Он даже с кожей. Он трудный и клубный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Put the verbs in brackets into the correct present tense (Simple, Continuous, Perfect or Perfect Continuous)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b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Mr Smi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b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a denti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work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in this hospital for 10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b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7 p.m. and he just (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co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h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hat 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do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now? He (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coo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dinner for his wife. It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b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her birth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y (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liv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together for 15 years. I think they (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b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very happ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Mr Smi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a denti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has been worki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in this hospital for 10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7 p.m. and 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has just co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h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is he doi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now? 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is cooki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dinner for his wife. It is her birth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have been livi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together for 15 years. I think they are very happ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Make three posters under the following heading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Wanted for Mu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Wanted for Robb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Mi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Stick a picture of a person and write some details/peculiar features (hair, face, height, built, weigh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ff66ff"/>
                </a:solidFill>
                <a:latin typeface="Arial"/>
              </a:rPr>
              <a:t>Use comparative/superlative degrees of adjectives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УМК «Английский в фокусе – 8» Ваулина Ю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potligh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images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1:50:52Z</dcterms:created>
  <dc:creator>user</dc:creator>
  <dc:description/>
  <dc:language>en-US</dc:language>
  <cp:lastModifiedBy>user</cp:lastModifiedBy>
  <dcterms:modified xsi:type="dcterms:W3CDTF">2013-11-09T14:08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