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41CF-0B13-4217-9FDC-99B714387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FE16-9440-4569-9BFE-1DCACB0F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B535-F937-4DCE-B54C-3EBA1423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5BA4-8467-431C-9F4C-BF0D208F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CA62-BC30-49EE-90FA-4FE354DE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35C0-C619-4FE0-A856-901AF954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CC02-35E6-4FE4-B69E-E45E6D0E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2537-004C-4177-AAF8-40A2D1AE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ED0D-CDD2-4C2F-BC10-708E4C71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2599-C54F-450E-A522-1E74ACF5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A876-6A36-4AED-9DD1-612E2DD3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024C-F3A3-49F5-8C65-AC299C5B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3DAD-6FE9-4F31-B64B-E6DA3CEDE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otlight.ru/" TargetMode="External"/><Relationship Id="rId3" Type="http://schemas.openxmlformats.org/officeDocument/2006/relationships/hyperlink" Target="http://www.images.yandex.ru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Who are  you?</a:t>
            </a:r>
            <a:r>
              <a:rPr b="1" lang="ru-RU" sz="48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Speak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class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ина И.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У «СОШ №32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 Магнитогор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ганизационный момен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: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ood morning. You are so nice and pretty today. Are you ready to work. Take your seats, please. What’s the date today and day of the week? Who’s ab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: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Good morning. Thank you. Yes, we are. Today’s the 24</a:t>
            </a:r>
            <a:r>
              <a:rPr b="0" lang="en-US" sz="2800" spc="-1" strike="noStrike" baseline="30000">
                <a:solidFill>
                  <a:srgbClr val="ff0066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of September, Tuesday. Everybody’s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unication. Match the photos and its descrip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He’s his fifties. He’s pretty. He’s medium build, of average height. He’s strong and muscular. His eyes are green and his hair is ging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e’s his fifties. He’s good-looking. He’s medium build, of average height. He’s strong and muscular. His eyes are green and he’s almost ba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1235160"/>
            <a:ext cx="4191120" cy="2343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952880" y="3809880"/>
            <a:ext cx="4191120" cy="3048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5181480" y="2133720"/>
            <a:ext cx="457200" cy="123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A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181480" y="5257800"/>
            <a:ext cx="68580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B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Describe him, pl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371600"/>
            <a:ext cx="5029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, pleas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He’s in his sixties. He’s good-looking. He’s muscular and strong. His hair is short. He’s white. His eyes are blue. He’s tall and slim. He’s even skinny. He’s hard-working and fun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Ему за 60. Он хорошо выглядит. Он мускулистый и стройный. Он короткий. Он белый. Глаза у него голубые. Он высок и худ. Он даже с кожей. Он трудный и клубный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Put the verbs in brackets into the correct present tense (Simple, Continuous, Perfect or Perfect Continuous)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(be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Mr Smi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(be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a denti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(work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in this hospital for 10 yea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(be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7 p.m. and he just (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com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ho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hat he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(do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now? He (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coo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dinner for his wife. It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(be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her birth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y (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live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together for 15 years. I think they (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b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very happ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i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Mr Smi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i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a denti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has been workin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in this hospital for 10 yea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i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7 p.m. and he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has just com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ho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is he doin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now? He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is cookin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dinner for his wife. It is her birth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have been livin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together for 15 years. I think they are very happ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Make three posters under the following heading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Wanted for Mu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Wanted for Robbe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Mi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Stick a picture of a person and write some details/peculiar features (hair, face, height, built, weight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800" spc="-1" strike="noStrike">
                <a:solidFill>
                  <a:srgbClr val="ff66ff"/>
                </a:solidFill>
                <a:latin typeface="Arial"/>
              </a:rPr>
              <a:t>Use comparative/superlative degrees of adjectives</a:t>
            </a: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УМК «Английский в фокусе – 8» Ваулина Ю.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spotlight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images.yandex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11:50:52Z</dcterms:created>
  <dc:creator>user</dc:creator>
  <dc:description/>
  <dc:language>en-US</dc:language>
  <cp:lastModifiedBy>user</cp:lastModifiedBy>
  <dcterms:modified xsi:type="dcterms:W3CDTF">2013-11-09T14:08:2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