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A66-8EA5-4E82-85F3-6F50C6F6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503-3D89-496A-9C93-23AF1667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5A0-6C28-4CF6-9390-D2E19F02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67B-8ED4-4253-AEF4-E7112F84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407C-D7EE-40F6-8742-3E509649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236B-0393-45AB-943F-7DB376BD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257D-B7DC-445A-8B14-370E512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BECF-3E9B-4810-815E-0066148E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C2A3-A962-4217-A0F8-8E72691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BEA-1570-4A86-BE6C-51E3037D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232-AADA-4368-B2EF-60073BB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94A-07C4-438C-9495-8A674759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9DB4-8861-49A3-928B-2FA55ED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507D-0ACC-4C6E-8233-EACCF64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F14-12F3-49AF-BCC6-01F8FF13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7856-CB05-449F-ABCF-AFD7E1DA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9C95-1F86-43B5-8AC2-3DDCCAF5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475-18BC-4243-B0E8-877C623B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00B-E14A-4CFC-873D-51BFDE27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600-D7CC-494F-9864-6344E107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731-9E78-44A2-A4D5-CC2CE763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1FD-787F-4B8F-9E2D-3EF04415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CE2-ED07-46C1-8C79-BDF8B0F1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E8D-0307-4B42-A07A-B93C326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9E19-0290-4182-8179-29C43E028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2B62-F33C-45E9-864D-27796223EF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219320" y="5715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14400" y="5334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боту выполнили ученицы 8 ого класса Фазулзянова Р. , Минлебаева Г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2576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WordArt 14"/>
          <p:cNvSpPr txBox="1"/>
          <p:nvPr/>
        </p:nvSpPr>
        <p:spPr>
          <a:xfrm>
            <a:off x="914400" y="1752480"/>
            <a:ext cx="7696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нига- твой друг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9828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838080"/>
            <a:ext cx="51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 книги были у детей, трудились множество людей. книг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3962520" y="2563920"/>
            <a:ext cx="4572000" cy="3987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533520" y="22096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ниги – наши друзья. Нужно бе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80880" y="457200"/>
            <a:ext cx="47246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ерный дру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ходит  книга  в  дом  люб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оснись  ее  страниц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говорит  она  с  тоб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о  жизнь  зверей  и  птиц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Ну,  а  когда  взгрустнется  вдруг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Не  огорчайся   слишк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к  самый  лучший,  верный  друг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азвеет  скуку  книжка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252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10240" cy="335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580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1295280"/>
            <a:ext cx="5943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Я  все  знаю,  всех  учу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 сама  всегда  мол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тоб  со  мною  подружить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ужно грамоте 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ть  подруга  у  мен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икогда  мне  не  наскучи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чень  умная  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 всему  меня  научит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3886200" y="457200"/>
            <a:ext cx="4451400" cy="601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85800" y="1447920"/>
            <a:ext cx="80773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 нужно  пользоваться  книг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ниги – наши  друзья. Их  нужно  беречь,  чтобы  они  дольше  приносили  поль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 рисуй  и  не  пиши  на  книге. Не  загибай  углов  и  страниц.  Не  вырывай  страниц , не  пачкай  переплет , не  клади  в  книгу  карандаш  или  ручку, не  читай  книгу  во  время  еды , не  перегибай  переплет  книг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0508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69568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90720" y="1219320"/>
            <a:ext cx="7086600" cy="61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сть  книжка,  которую  читали  все. И  ты, и твои папа с мамой , и дедушка, с бабуш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а  книжка- азбука. С ней  ты  идешь  в первый  класс. Она  помогает  шагнуть  в мир  знаний. Без азбуки  не  сочинишь  письмо, не  прочтешь  вывеску , не напишешь  свою  фамил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рвая  русская  азбука  появилась  более  четырехсот  лет  назад. Напечатал  ее  Иван  Федоров. До  него  книги  на  Руси  писались  от  руки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295280" y="457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ервая  кни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33520" y="1219320"/>
            <a:ext cx="784836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нига  - лучший  друг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но не  встал  -  потерял  день,  в  детстве  не  учился- потерял  жизнь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670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1320" y="333360"/>
            <a:ext cx="2819160" cy="1784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1431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38080" y="17524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914400" y="14479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омните!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289548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нига  это  знание, а  знание – это  сила. Книга содержит  силу  знан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39084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12408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8:38:14Z</dcterms:created>
  <dc:creator>ученик</dc:creator>
  <dc:description/>
  <dc:language>en-US</dc:language>
  <cp:lastModifiedBy>Коля</cp:lastModifiedBy>
  <dcterms:modified xsi:type="dcterms:W3CDTF">2013-04-23T11:11:00Z</dcterms:modified>
  <cp:revision>10</cp:revision>
  <dc:subject/>
  <dc:title>Презентация PowerPoint</dc:title>
</cp:coreProperties>
</file>