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DDA-A428-4DAC-8938-5CE7561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476-234E-45A8-8903-322C8DE2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83C-0F00-4C48-B6EC-6FCED6B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751-9EBA-4828-990D-5282BD7D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DB0-0106-440A-B46B-F7FAEF5B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AD9-5C8C-4F1F-B075-A218E5D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0BF4-8C6F-4743-B2B4-9B229667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D82-D904-47E0-B6B3-450C24E7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F14-F215-471F-B216-D52847A0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0E3-DF58-4F80-83C7-D706CA9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1C7-9F63-4526-B78F-A958484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330-A607-45CF-8A55-27E13117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2EF1-6533-44F9-8075-B4C0A84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5AC-5509-4224-ACB4-46C9FEF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BD2-D85B-4947-877F-A3CC0AE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B94-D764-4931-A62E-FDCECD10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A42-1C74-4C3B-873E-C3BE2A9A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C89-E736-49A2-A971-B5A2439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165-77FC-485E-82C8-D65025EA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628-C3D1-455D-8D2E-BD857936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EB6-9114-41A2-876B-14EA8AB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E63-22FD-432B-BDE7-D11149D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BC7-3DF7-4DA4-83C0-2D94A4C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7FB-0B25-4E74-AEF6-BDF0DCB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86E7-407F-44D3-A644-65FCC0D39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8EDD-1EF8-4FB5-AA39-E97E6AFCE2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219320" y="5715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14400" y="5334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боту выполнили ученицы 8 ого класса Фазулзянова Р. , Минлебаева Г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2576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914400" y="1752480"/>
            <a:ext cx="7696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нига- твой друг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9828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838080"/>
            <a:ext cx="51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книги были у детей, трудились множество людей. книг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3962520" y="2563920"/>
            <a:ext cx="4572000" cy="3987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533520" y="22096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ниги – наши друзья. Нужно бе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80880" y="457200"/>
            <a:ext cx="47246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рный дру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ходит  книга  в  дом  люб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оснись  ее  страниц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говорит  она  с  тоб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о  жизнь  зверей  и  пти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у,  а  когда  взгрустнется  вдруг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е  огорчайся   слишк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к  самый  лучший,  верный  друг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звеет  скуку  книжка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52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10240" cy="335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58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295280"/>
            <a:ext cx="5943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Я  все  знаю,  всех  уч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 сама  всегда  мол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тоб  со  мною  подружить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ужно грамоте 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ть  подруга  у  мен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икогда  мне  не  наскучи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чень  умная  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 всему  меня  научит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886200" y="457200"/>
            <a:ext cx="4451400" cy="601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85800" y="1447920"/>
            <a:ext cx="80773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 нужно  пользоваться  книг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ниги – наши  друзья. Их  нужно  беречь,  чтобы  они  дольше  приносили  поль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 рисуй  и  не  пиши  на  книге. Не  загибай  углов  и  страниц.  Не  вырывай  страниц , не  пачкай  переплет , не  клади  в  книгу  карандаш  или  ручку, не  читай  книгу  во  время  еды , не  перегибай  переплет  книг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50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90720" y="1219320"/>
            <a:ext cx="708660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ть  книжка,  которую  читали  все. И  ты, и твои папа с мамой , и дедушка, с бабуш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а  книжка- азбука. С ней  ты  идешь  в первый  класс. Она  помогает  шагнуть  в мир  знаний. Без азбуки  не  сочинишь  письмо, не  прочтешь  вывеску , не напишешь  свою  фамил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вая  русская  азбука  появилась  более  четырехсот  лет  назад. Напечатал  ее  Иван  Федоров. До  него  книги  на  Руси  писались  от  руки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295280" y="457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рвая  кни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3520" y="1219320"/>
            <a:ext cx="784836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нига  - лучший  друг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но не  встал  -  потерял  день,  в  детстве  не  учился- потерял  жизнь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670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1320" y="333360"/>
            <a:ext cx="2819160" cy="1784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1431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38080" y="17524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14400" y="1447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омните!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289548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нига  это  знание, а  знание – это  сила. Книга содержит  силу  знан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39084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38:14Z</dcterms:created>
  <dc:creator>ученик</dc:creator>
  <dc:description/>
  <dc:language>en-US</dc:language>
  <cp:lastModifiedBy>Коля</cp:lastModifiedBy>
  <dcterms:modified xsi:type="dcterms:W3CDTF">2013-04-23T11:11:00Z</dcterms:modified>
  <cp:revision>10</cp:revision>
  <dc:subject/>
  <dc:title>Презентация PowerPoint</dc:title>
</cp:coreProperties>
</file>