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gif" ContentType="image/gif"/>
  <Override PartName="/ppt/media/image9.gif" ContentType="image/gif"/>
  <Override PartName="/ppt/media/image7.gif" ContentType="image/gif"/>
  <Override PartName="/ppt/media/image16.gif" ContentType="image/gif"/>
  <Override PartName="/ppt/media/image15.jpeg" ContentType="image/jpeg"/>
  <Override PartName="/ppt/media/image1.jpeg" ContentType="image/jpeg"/>
  <Override PartName="/ppt/media/image2.gif" ContentType="image/gif"/>
  <Override PartName="/ppt/media/image3.gif" ContentType="image/gif"/>
  <Override PartName="/ppt/media/image6.wmf" ContentType="image/x-wmf"/>
  <Override PartName="/ppt/media/image4.png" ContentType="image/png"/>
  <Override PartName="/ppt/media/image13.jpeg" ContentType="image/jpeg"/>
  <Override PartName="/ppt/media/image14.jpeg" ContentType="image/jpeg"/>
  <Override PartName="/ppt/media/image5.gif" ContentType="image/gif"/>
  <Override PartName="/ppt/media/image12.jpeg" ContentType="image/jpeg"/>
  <Override PartName="/ppt/media/image8.wmf" ContentType="image/x-wmf"/>
  <Override PartName="/ppt/media/image10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F6D7-283F-4CAA-8F84-00C0C0742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36C5-713E-4C29-87E6-20C2CA31E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3023-8E49-46FD-87F1-94C9D1B5E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58EB-079C-4764-AB62-FC8FE9AD0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8470-E9EA-43C1-95DA-8593EC30E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E568-9D2C-4AEC-B6DF-F59228FB7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8681-A825-498D-87F5-9C55E470B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1BF1-A871-462D-9692-D976DE588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8906-51F1-42B7-800F-29305FAD8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55B5-CB82-4D12-B53F-3B813B785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D177-9A55-422E-837C-3508DE215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5ED3-3433-419D-BADA-B62C2B32A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9C491-EE5A-4BA9-A0E9-5BC2DFD847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99"/>
                </a:solidFill>
                <a:latin typeface="Monotype Corsiva"/>
              </a:rPr>
              <a:t>Как сохранить здоровье ребенка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ff"/>
                </a:solidFill>
                <a:latin typeface="Arial"/>
              </a:rPr>
              <a:t>Подготовлен: М.В.Борзы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ff"/>
                </a:solidFill>
                <a:latin typeface="Arial"/>
              </a:rPr>
              <a:t>классный руководитель 7Г 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156360" y="4365720"/>
            <a:ext cx="2448000" cy="2284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95280" y="395280"/>
            <a:ext cx="2160720" cy="16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Компьютер и телевизор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         </a:t>
            </a: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2 – 3 часа неподвижно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500720" y="3168720"/>
            <a:ext cx="3958920" cy="35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98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98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ff"/>
                </a:solidFill>
                <a:uFillTx/>
                <a:latin typeface="Arial"/>
              </a:rPr>
              <a:t>Результат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- усталость органов зрения и слух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- головные бо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- плохое настро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- сонлив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- апат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ff"/>
                </a:solidFill>
                <a:uFillTx/>
                <a:latin typeface="Arial"/>
              </a:rPr>
              <a:t>Проблем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- концентрация вним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- проблемы с памят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- запоминание учебного матери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- усидчивость на урок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- школьные страх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- боязнь ответов у дос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Arial"/>
              </a:rPr>
              <a:t>Это интересн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- Школьник должен ежедневно дела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23 – 30 тысяч шаг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- 51% детей вообще не бывают на улице по возвращении из школ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- 73% школьников не устраивают перерывов между приготовлением уро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- 30 – 40% детей имеют избыточный ве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- из 100 родившихся детей у 20 с течением времени развивается плоскостопие, связанное со слабостью мыш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Пути решения пробле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Зарядка по утр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Пешие прогул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Активный отдых во время канику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Выходные дни на прир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500720" y="4022640"/>
            <a:ext cx="4032000" cy="2570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768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8" dur="768" fill="hold"/>
                                        <p:tgtEl>
                                          <p:spTgt spid="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0" dur="768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2" dur="768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Уважаемые папы и мамы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7200" spc="-1" strike="noStrike">
                <a:solidFill>
                  <a:srgbClr val="3333ff"/>
                </a:solidFill>
                <a:latin typeface="Monotype Corsiva"/>
              </a:rPr>
              <a:t>Помогите своим детям сохранить здоровье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Воспитывайте у своих детей привычку заниматься физкультурой и спор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Уважайте спортивные интересы и пристрастия своего ребен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800360" cy="1446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6443640" y="4692600"/>
            <a:ext cx="2386080" cy="1776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Поддерживайте желание участвовать в спортивных мероприятиях класса и школ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Воспитывайте в своих детях уважение к людям, занимающимся спор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659640" y="515880"/>
            <a:ext cx="2089080" cy="2028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Рассказывайте о своих спортивных достижениях в детстве и ю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Дарите своим детям спортивный инвентарь и снаряж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292720" y="4189320"/>
            <a:ext cx="2808360" cy="2563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Хорошее здоровье, ощущение полноты, неистощимости физических сил – важнейший источник жизнерадостного мировосприятия, оптимизма, готовности преодолеть любые труд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Больной, хилый, предрасположенный к заболеваниям ребенок – источник многочисленных невзг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В.А.Сухомлин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Совершайте со своим ребенком прогулки по свежему воздуху всей семьей, походы и экскурс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Радуйтесь успехам ребенка в спор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rcRect l="9086" t="-5648" r="18571" b="14130"/>
          <a:stretch/>
        </p:blipFill>
        <p:spPr>
          <a:xfrm>
            <a:off x="469800" y="4508640"/>
            <a:ext cx="2301840" cy="21603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rcRect l="6417" t="-785" r="0" b="0"/>
          <a:stretch/>
        </p:blipFill>
        <p:spPr>
          <a:xfrm>
            <a:off x="6300720" y="4581360"/>
            <a:ext cx="2590920" cy="2089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На самом видном месте в доме помещайте награды за спортивные достижения своего ребен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Поддерживайте своего ребенка в случае неудач, закаляйте его характер и вол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443640" y="4869000"/>
            <a:ext cx="2376360" cy="1852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9600" spc="-1" strike="noStrike">
                <a:solidFill>
                  <a:srgbClr val="ff0066"/>
                </a:solidFill>
                <a:latin typeface="Monotype Corsiva"/>
              </a:rPr>
              <a:t>БУДЬТЕ ЗДОРОВЫ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867200" y="3141720"/>
            <a:ext cx="3291120" cy="331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Arial"/>
              </a:rPr>
              <a:t>ЗДОРОВЬЕ</a:t>
            </a:r>
            <a:r>
              <a:rPr b="0" lang="en-US" sz="4800" spc="-1" strike="noStrike">
                <a:solidFill>
                  <a:srgbClr val="3333ff"/>
                </a:solidFill>
                <a:latin typeface="Arial"/>
              </a:rPr>
              <a:t> как жизненная ценность ставится на </a:t>
            </a:r>
            <a:r>
              <a:rPr b="1" lang="en-US" sz="4800" spc="-1" strike="noStrike">
                <a:solidFill>
                  <a:srgbClr val="3333ff"/>
                </a:solidFill>
                <a:latin typeface="Arial"/>
              </a:rPr>
              <a:t>9</a:t>
            </a:r>
            <a:r>
              <a:rPr b="0" lang="en-US" sz="4800" spc="-1" strike="noStrike">
                <a:solidFill>
                  <a:srgbClr val="3333ff"/>
                </a:solidFill>
                <a:latin typeface="Arial"/>
              </a:rPr>
              <a:t> место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                         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(из опроса российских      учащихс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ff"/>
                </a:solidFill>
                <a:uFillTx/>
                <a:latin typeface="Arial"/>
              </a:rPr>
              <a:t>За прошедшее столетие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 вес непосредственной мышечной работы человека снизился с 94% до 1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ff"/>
                </a:solidFill>
                <a:uFillTx/>
                <a:latin typeface="Arial"/>
              </a:rPr>
              <a:t>Главными пороками 21 века становятся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- накапливание отрицательных эмоций    без физической разрядк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- переедани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- гиподинам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ff"/>
                </a:solidFill>
                <a:uFillTx/>
                <a:latin typeface="Arial"/>
              </a:rPr>
              <a:t>Уроки физической культуры восполняют</a:t>
            </a: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 дефицит двигательной активности только </a:t>
            </a:r>
            <a:r>
              <a:rPr b="1" lang="en-US" sz="3600" spc="-1" strike="noStrike" u="sng">
                <a:solidFill>
                  <a:srgbClr val="3333ff"/>
                </a:solidFill>
                <a:uFillTx/>
                <a:latin typeface="Arial"/>
              </a:rPr>
              <a:t>на 11%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435640" y="3284640"/>
            <a:ext cx="2609640" cy="3287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66"/>
                </a:solidFill>
                <a:uFillTx/>
                <a:latin typeface="Monotype Corsiva"/>
              </a:rPr>
              <a:t>Особенности школьного обуче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Ребенок обязательно должен достигнуть определенного результата, что приводит к росту психической нагрузки, нервным потрясениям, школьным стрессам. Отсюда нежелание учить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98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98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Ребенок уходит в себя, бежит от проблем, становится злым и агрессивным. </a:t>
            </a:r>
            <a:r>
              <a:rPr b="0" lang="en-US" sz="3600" spc="-1" strike="noStrike" u="sng">
                <a:solidFill>
                  <a:srgbClr val="3333ff"/>
                </a:solidFill>
                <a:uFillTx/>
                <a:latin typeface="Arial"/>
              </a:rPr>
              <a:t>Родителям нужно всего лишь поговорить со своим ребенком, попробовать найти совместное решение этой проблемы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98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Зачастую родители считают проблемы ребенка несерьезными и мелки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132000" y="3668760"/>
            <a:ext cx="518508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98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ff"/>
                </a:solidFill>
                <a:latin typeface="Arial"/>
              </a:rPr>
              <a:t>Одна из школьных проблем ребенка – </a:t>
            </a:r>
            <a:r>
              <a:rPr b="0" lang="en-US" sz="4800" spc="-1" strike="noStrike" u="sng">
                <a:solidFill>
                  <a:srgbClr val="3333ff"/>
                </a:solidFill>
                <a:uFillTx/>
                <a:latin typeface="Arial"/>
              </a:rPr>
              <a:t>проблема отсутствия мотивов учения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MCj03433510000[1]" descr=""/>
          <p:cNvPicPr/>
          <p:nvPr/>
        </p:nvPicPr>
        <p:blipFill>
          <a:blip r:embed="rId2"/>
          <a:stretch/>
        </p:blipFill>
        <p:spPr>
          <a:xfrm>
            <a:off x="5796000" y="4048200"/>
            <a:ext cx="2736720" cy="2644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2T12:18:23Z</dcterms:created>
  <dc:creator>Андрей</dc:creator>
  <dc:description/>
  <dc:language>en-US</dc:language>
  <cp:lastModifiedBy>Admin</cp:lastModifiedBy>
  <dcterms:modified xsi:type="dcterms:W3CDTF">2013-12-07T18:04:56Z</dcterms:modified>
  <cp:revision>5</cp:revision>
  <dc:subject/>
  <dc:title>Как сохранить здоровье ребенка?</dc:title>
</cp:coreProperties>
</file>