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9.gif" ContentType="image/gif"/>
  <Override PartName="/ppt/media/image7.gif" ContentType="image/gif"/>
  <Override PartName="/ppt/media/image16.gif" ContentType="image/gif"/>
  <Override PartName="/ppt/media/image15.jpeg" ContentType="image/jpeg"/>
  <Override PartName="/ppt/media/image1.jpeg" ContentType="image/jpeg"/>
  <Override PartName="/ppt/media/image2.gif" ContentType="image/gif"/>
  <Override PartName="/ppt/media/image3.gif" ContentType="image/gif"/>
  <Override PartName="/ppt/media/image6.wmf" ContentType="image/x-wmf"/>
  <Override PartName="/ppt/media/image4.png" ContentType="image/png"/>
  <Override PartName="/ppt/media/image13.jpeg" ContentType="image/jpeg"/>
  <Override PartName="/ppt/media/image14.jpeg" ContentType="image/jpeg"/>
  <Override PartName="/ppt/media/image5.gif" ContentType="image/gif"/>
  <Override PartName="/ppt/media/image12.jpeg" ContentType="image/jpeg"/>
  <Override PartName="/ppt/media/image8.wmf" ContentType="image/x-wmf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22A9-A3B2-4F2B-AAD6-86AF82DA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1E33-6039-4CC1-9270-134B4F5D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3EDB-116F-4C4E-96BD-0A78DC4C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6B40-0207-4519-A601-400E6AA5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FAEA-309E-4D56-B21E-C7872084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6ED9-D421-4873-A6B3-0F2C9F95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FA0E-FABF-4655-9482-5E9115D3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DCE-6D9A-45A9-B207-8EAC34B0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3D98-DAB8-4389-B3EC-6B0CA99B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1D9F-876A-444F-94F2-82995AC8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F467-5118-4FE7-B6CE-E5575CF7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E117-ACAD-4DA6-81E0-78496355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B480-00AB-4B3E-8376-6D1DE9DEF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Monotype Corsiva"/>
              </a:rPr>
              <a:t>Как сохранить здоровье ребенка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Подготовлен: М.В.Борзы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классный руководитель 7Г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56360" y="4365720"/>
            <a:ext cx="2448000" cy="2284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95280" y="395280"/>
            <a:ext cx="216072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Компьютер и телевизо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2 – 3 часа неподвиж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00720" y="3168720"/>
            <a:ext cx="395892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ff"/>
                </a:solidFill>
                <a:uFillTx/>
                <a:latin typeface="Arial"/>
              </a:rPr>
              <a:t>Результа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- усталость органов зрения и слу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- головные бо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- плохое настро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- сонл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- апа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ff"/>
                </a:solidFill>
                <a:uFillTx/>
                <a:latin typeface="Arial"/>
              </a:rPr>
              <a:t>Пробле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- концентрация вни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- проблемы с памя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- запоминание учеб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- усидчивость на уро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- школьные стра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- боязнь ответов у до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Это интерес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- Школьник должен ежедневно дел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23 – 30 тысяч ша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- 51% детей вообще не бывают на улице по возвращении из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- 73% школьников не устраивают перерывов между приготовлением ур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- 30 – 40% детей имеют избыточный в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- из 100 родившихся детей у 20 с течением времени развивается плоскостопие, связанное со слабостью мыш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Пути решения пробл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Зарядка по утр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Пешие прогу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Активный отдых во время каник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Выходные дни на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00720" y="4022640"/>
            <a:ext cx="4032000" cy="2570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768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768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0" dur="768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2" dur="768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Уважаемые папы и мам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7200" spc="-1" strike="noStrike">
                <a:solidFill>
                  <a:srgbClr val="3333ff"/>
                </a:solidFill>
                <a:latin typeface="Monotype Corsiva"/>
              </a:rPr>
              <a:t>Помогите своим детям сохранить здоровь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Воспитывайте у своих детей привычку заниматься физкультурой и спор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Уважайте спортивные интересы и пристрастия своего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800360" cy="1446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443640" y="4692600"/>
            <a:ext cx="2386080" cy="1776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Поддерживайте желание участвовать в спортивных мероприятиях класса и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Воспитывайте в своих детях уважение к людям, занимающимся спор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659640" y="515880"/>
            <a:ext cx="2089080" cy="2028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Рассказывайте о своих спортивных достижениях в детстве и ю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Дарите своим детям спортивный инвентарь и снаря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292720" y="4189320"/>
            <a:ext cx="2808360" cy="2563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Хорошее здоровье, ощущение полноты, неистощимости физических сил – важнейший источник жизнерадостного мировосприятия, оптимизма, готовности преодолеть любые труд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Больной, хилый, предрасположенный к заболеваниям ребенок – источник многочисленных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В.А.Сухомл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Совершайте со своим ребенком прогулки по свежему воздуху всей семьей, походы и экскур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Радуйтесь успехам ребенка в спор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9086" t="-5648" r="18571" b="14130"/>
          <a:stretch/>
        </p:blipFill>
        <p:spPr>
          <a:xfrm>
            <a:off x="469800" y="4508640"/>
            <a:ext cx="2301840" cy="2160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rcRect l="6417" t="-785" r="0" b="0"/>
          <a:stretch/>
        </p:blipFill>
        <p:spPr>
          <a:xfrm>
            <a:off x="6300720" y="4581360"/>
            <a:ext cx="2590920" cy="2089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На самом видном месте в доме помещайте награды за спортивные достижения своего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Поддерживайте своего ребенка в случае неудач, закаляйте его характер и во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4869000"/>
            <a:ext cx="2376360" cy="1852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ff0066"/>
                </a:solidFill>
                <a:latin typeface="Monotype Corsiva"/>
              </a:rPr>
              <a:t>БУДЬТЕ ЗДОРОВЫ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67200" y="3141720"/>
            <a:ext cx="3291120" cy="33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ЗДОРОВЬЕ</a:t>
            </a:r>
            <a:r>
              <a:rPr b="0" lang="en-US" sz="4800" spc="-1" strike="noStrike">
                <a:solidFill>
                  <a:srgbClr val="3333ff"/>
                </a:solidFill>
                <a:latin typeface="Arial"/>
              </a:rPr>
              <a:t> как жизненная ценность ставится на 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9</a:t>
            </a:r>
            <a:r>
              <a:rPr b="0" lang="en-US" sz="4800" spc="-1" strike="noStrike">
                <a:solidFill>
                  <a:srgbClr val="3333ff"/>
                </a:solidFill>
                <a:latin typeface="Arial"/>
              </a:rPr>
              <a:t> мест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(из опроса российских      учащихс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За прошедшее столетие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вес непосредственной мышечной работы человека снизился с 94% до 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Главными пороками 21 века становятся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- накапливание отрицательных эмоций    без физической разряд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- перееда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- гиподинам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ff"/>
                </a:solidFill>
                <a:uFillTx/>
                <a:latin typeface="Arial"/>
              </a:rPr>
              <a:t>Уроки физической культуры восполняют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 дефицит двигательной активности только </a:t>
            </a:r>
            <a:r>
              <a:rPr b="1" lang="en-US" sz="3600" spc="-1" strike="noStrike" u="sng">
                <a:solidFill>
                  <a:srgbClr val="3333ff"/>
                </a:solidFill>
                <a:uFillTx/>
                <a:latin typeface="Arial"/>
              </a:rPr>
              <a:t>на 11%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435640" y="3284640"/>
            <a:ext cx="2609640" cy="3287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Monotype Corsiva"/>
              </a:rPr>
              <a:t>Особенности школьного обуч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Ребенок обязательно должен достигнуть определенного результата, что приводит к росту психической нагрузки, нервным потрясениям, школьным стрессам. Отсюда нежелание уч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Ребенок уходит в себя, бежит от проблем, становится злым и агрессивным. </a:t>
            </a:r>
            <a:r>
              <a:rPr b="0" lang="en-US" sz="3600" spc="-1" strike="noStrike" u="sng">
                <a:solidFill>
                  <a:srgbClr val="3333ff"/>
                </a:solidFill>
                <a:uFillTx/>
                <a:latin typeface="Arial"/>
              </a:rPr>
              <a:t>Родителям нужно всего лишь поговорить со своим ребенком, попробовать найти совместное решение этой проблемы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Зачастую родители считают проблемы ребенка несерьезными и мелки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132000" y="3668760"/>
            <a:ext cx="5185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98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Arial"/>
              </a:rPr>
              <a:t>Одна из школьных проблем ребенка – </a:t>
            </a:r>
            <a:r>
              <a:rPr b="0" lang="en-US" sz="4800" spc="-1" strike="noStrike" u="sng">
                <a:solidFill>
                  <a:srgbClr val="3333ff"/>
                </a:solidFill>
                <a:uFillTx/>
                <a:latin typeface="Arial"/>
              </a:rPr>
              <a:t>проблема отсутствия мотивов уч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MCj03433510000[1]" descr=""/>
          <p:cNvPicPr/>
          <p:nvPr/>
        </p:nvPicPr>
        <p:blipFill>
          <a:blip r:embed="rId2"/>
          <a:stretch/>
        </p:blipFill>
        <p:spPr>
          <a:xfrm>
            <a:off x="5796000" y="4048200"/>
            <a:ext cx="2736720" cy="264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2:18:23Z</dcterms:created>
  <dc:creator>Андрей</dc:creator>
  <dc:description/>
  <dc:language>en-US</dc:language>
  <cp:lastModifiedBy>Admin</cp:lastModifiedBy>
  <dcterms:modified xsi:type="dcterms:W3CDTF">2013-12-07T18:04:56Z</dcterms:modified>
  <cp:revision>5</cp:revision>
  <dc:subject/>
  <dc:title>Как сохранить здоровье ребенка?</dc:title>
</cp:coreProperties>
</file>