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853-F150-4D2E-92B3-A8DF158F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BE98-62C0-486E-A913-5ABB5875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4E46-1175-440A-B734-6EA9F1A0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E9C-D060-4521-A178-AB0BCA1A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DC30-A13C-4001-8732-F67FD8D8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B7E9-49D9-4369-9007-81E4261A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A781-8330-4326-8C61-96F753B0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4A4B-7C15-47A9-AF55-6C9436CC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FC2A-284F-4989-885F-7CB55CBB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CABC-4558-458B-BE16-5BFEAD50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94B4-2AA6-40DC-8C53-FCEA90C4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DFF-2E9F-4E23-88ED-CAB0425C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674F-1021-422F-87BD-A320F7C8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8C91-8E8D-47FF-AD94-94DB7ADB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FD9A-469C-445E-AF1A-8D1D6DF1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56DC-DF12-4DD4-B1F0-127719A7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26EA-0565-4EFB-B82D-308711A8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692-55E9-4348-90ED-82F8EA21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F9B-7D77-45D0-BA82-E9735C30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F574-7AFB-40EC-A5B6-F4ED4B64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9885-844C-480F-9C1E-670D4497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5F9-AE03-477A-84A5-66F7E6E1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5371-32D0-4EBE-B79A-77A150CC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67E1-180F-4B9B-B04B-99173934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235E-F581-4B56-9552-9AC6CC8DAB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0EA9-9CF8-483E-8501-1045E0A764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ПРОИЗВОДНЫЕ И НЕПРОИЗВОДНЫЕ ПРЕДЛОГИ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Орфоэпическая работ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рала                   Поня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гнала                Торты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енезис                 Зон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нудить             Твор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фера                    Вред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вонит                    Досы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Исправьте речевые ошибки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остеречь об опасно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веренность в победу, беспокоиться 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ладшего брата, уделять вним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правописание, свойственный дл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лаго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ЛОВАРНАЯ РАБОТ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РЕЗИДЕН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ПЕРИО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ИЗОБРАЗ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Лексическое значение, однокоренные слова, первые два слова с предлог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бота с учебником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р. 13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ледствие усталости переход длился доль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ледствии использованы показания свиде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изводные предлог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 предлогу нельзя поставить в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ите роль в предложении (у предлога нет самостоятельной рол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 предлогу можно подобрать синон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ратите внимание на правописание -  у предлога на конце пишется –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От каких частей речи образованы следующие производные предлоги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лиз, посредством, несмотря на, в лице, в продолжение, сзади, навстречу, включая, благодаря, наподобие, в течение, сверх, после, мим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борочный диктант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меть в виду, спешить на встречу с друзьями, в продолжение недели, в течении реки, в дали моря, оказался в заключении, в отличие от товарищей, в течение дня, вследствие аварии, в продолжении кни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Замените производные предлоги непроизводными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ледствие положения, в течение дня, спустя несколько лет, ввиду приближения каникул, пробираться сквозь заросли, сидеть возле кос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ыучить правило; упражнение 301,3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6:53:02Z</dcterms:created>
  <dc:creator>ASUS A3 Home PC</dc:creator>
  <dc:description/>
  <dc:language>en-US</dc:language>
  <cp:lastModifiedBy>ASUS A3 Home PC</cp:lastModifiedBy>
  <dcterms:modified xsi:type="dcterms:W3CDTF">2008-03-04T17:22:00Z</dcterms:modified>
  <cp:revision>3</cp:revision>
  <dc:subject/>
  <dc:title>ПРОИЗВОДНЫЕ И НЕПРОИЗВОДНЫЕ ПРЕДЛОГИ.</dc:title>
</cp:coreProperties>
</file>