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847-0C02-4E7C-ADB7-F7F042F8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987-C80D-4FA2-B4CE-F8BD582C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51A-55DA-4A79-8446-0035C94F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50E-BB74-4988-940A-D077D08E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616F-A795-49E2-8B0B-9CBEFE63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FD2D-4D78-4F64-A3E8-0DD9BE65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7674-12CD-414D-8005-D389ACAB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38EC-ACC0-4785-A7D2-A98772F8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2F1E-F7D2-4E84-8F10-4AD342FA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110C-C98A-4766-9D20-8B942632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97A3-B730-48EF-B3EF-BC7E7827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6A8-A39E-4B78-9F55-78E25DA1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2E51-0B12-4CAD-AB7B-85B694BC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5B61-05A5-488F-B283-B88AEC09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E89C-2A55-4707-BCF8-549CAC0D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BF54-D318-43F6-A555-04392B43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6AB9-8570-4C80-BE12-3A72D46C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ABC-73AC-46D1-BB01-E6DAC37C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DA4-DCCB-4874-91C2-9BBF9197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5BB-D29E-41AE-A6A2-0D5F7BF2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BC2-8DB2-4B83-A778-A454AE87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927-35D7-4267-987E-11149D89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033-97E9-4CF9-A707-704A610B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C4F-DB61-4A73-98AA-476D3272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0DAA-8ADF-4FC0-A5F4-2CE249337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B278-CEB4-4F59-BE51-00A9112D3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ПРОИЗВОДНЫЕ И НЕПРОИЗВОДНЫЕ ПРЕДЛОГИ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Орфоэпическая работ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рала                   Поня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гнала                Торты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енезис                 Зо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нудить             Твор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фера                    Вред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онит                    Досы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Исправьте речевые ошибк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остеречь об опасн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ренность в победу, беспокоиться 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ладшего брата, уделять вним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правописание, свойственный дл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го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ЛОВАРНАЯ РАБОТ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РЕЗИДЕН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ПЕРИ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ИЗОБРАЗ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Лексическое значение, однокоренные слова, первые два слова с предлог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бота с учебником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. 13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ледствие усталости переход длился доль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ледствии использованы показания свиде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изводные предлог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предлогу нельзя поставить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ите роль в предложении (у предлога нет самостоятельной рол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предлогу можно подобрать синон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ратите внимание на правописание -  у предлога на конце пишется –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т каких частей речи образованы следующие производные предлоги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лиз, посредством, несмотря на, в лице, в продолжение, сзади, навстречу, включая, благодаря, наподобие, в течение, сверх, после, мим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борочный диктант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еть в виду, спешить на встречу с друзьями, в продолжение недели, в течении реки, в дали моря, оказался в заключении, в отличие от товарищей, в течение дня, вследствие аварии, в продолжении кни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мените производные предлоги непроизводными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ледствие положения, в течение дня, спустя несколько лет, ввиду приближения каникул, пробираться сквозь заросли, сидеть возле кос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ыучить правило; упражнение 301,3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6:53:02Z</dcterms:created>
  <dc:creator>ASUS A3 Home PC</dc:creator>
  <dc:description/>
  <dc:language>en-US</dc:language>
  <cp:lastModifiedBy>ASUS A3 Home PC</cp:lastModifiedBy>
  <dcterms:modified xsi:type="dcterms:W3CDTF">2008-03-04T17:22:00Z</dcterms:modified>
  <cp:revision>3</cp:revision>
  <dc:subject/>
  <dc:title>ПРОИЗВОДНЫЕ И НЕПРОИЗВОДНЫЕ ПРЕДЛОГИ.</dc:title>
</cp:coreProperties>
</file>