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F85-026B-4404-91EA-248E3C10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00B-8FAD-4200-9645-D2907D33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2D0-6699-4E24-8223-F59F847A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AFE-D46E-4C9A-A944-E6B7B87A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346-6E77-4DDB-8B6B-6E3E1993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572-2B20-48F7-BA04-F5F0039E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362-726D-44FC-9D16-FD9684C6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E68-E71D-4260-B840-0553E333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688-C287-4CD8-B4CE-8964885F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1CC-2F02-4C60-97A5-F7AA987A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252-ADAA-4E4E-AFFC-7EB2F6BE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E56-298D-4B32-9F03-1CAD5A04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20B9-8F87-4D5B-BC64-DECBDAD03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1700280"/>
            <a:ext cx="5905440" cy="143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ЗАБАВ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05080" y="2779560"/>
            <a:ext cx="2495520" cy="10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ЭТИ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6720" y="2779560"/>
            <a:ext cx="5329080" cy="208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967200" cy="4414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69228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двед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56360" cy="5305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260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entralImgId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537080" cy="568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40000" y="18900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уб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75280" cy="517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260280"/>
            <a:ext cx="71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ный ба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a/5/2/169285.JPG (551.42 КБ)"/>
          <p:cNvPicPr/>
          <p:nvPr/>
        </p:nvPicPr>
        <p:blipFill>
          <a:blip r:embed="rId1"/>
          <a:stretch/>
        </p:blipFill>
        <p:spPr>
          <a:xfrm>
            <a:off x="539640" y="1052640"/>
            <a:ext cx="8064720" cy="54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26028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нежный ба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22"/>
          <a:stretch/>
        </p:blipFill>
        <p:spPr>
          <a:xfrm>
            <a:off x="2050920" y="836640"/>
            <a:ext cx="4681800" cy="568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58920" y="18900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лый 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916520" cy="54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33336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урунду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400640" cy="4897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33336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л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444920" cy="4946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63640" y="476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Ёж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08:06Z</dcterms:created>
  <dc:creator>ЛедянкинаНГ</dc:creator>
  <dc:description/>
  <dc:language>en-US</dc:language>
  <cp:lastModifiedBy>USER</cp:lastModifiedBy>
  <dcterms:modified xsi:type="dcterms:W3CDTF">2009-04-09T16:10:07Z</dcterms:modified>
  <cp:revision>6</cp:revision>
  <dc:subject/>
  <dc:title>Слайд 1</dc:title>
</cp:coreProperties>
</file>