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490-BB54-4497-9EAF-8CDA5B0C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085-A566-4671-91E9-E02AE2CA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8AF-6A09-4E3D-9EB8-5DCB2997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A93-A459-4740-8E3B-ABD2D707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038-E603-48D2-AB4D-B3C0BB1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FCC-7BCE-4EF3-87B3-7F43308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1DD-F5DC-4174-BC6D-4901FCB9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A9E-DEF2-45E0-A0A8-256DF3AC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084-764B-4B6B-9B16-A38C6961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384-DCEE-4E24-A7C6-2E083FD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C8A-9948-4B3F-B708-87DF2AA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E40-D843-4FE7-ABE4-64C66B5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17B-0DA6-4C16-B4D3-7C8ED3FA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700280"/>
            <a:ext cx="590544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АБА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5080" y="2779560"/>
            <a:ext cx="249552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ЭТИ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6720" y="2779560"/>
            <a:ext cx="532908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967200" cy="4414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6922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двед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56360" cy="530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26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entralImgId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537080" cy="568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189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уб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517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26028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ба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/5/2/169285.JPG (551.42 КБ)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4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260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22"/>
          <a:stretch/>
        </p:blipFill>
        <p:spPr>
          <a:xfrm>
            <a:off x="2050920" y="836640"/>
            <a:ext cx="4681800" cy="568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18900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ый 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916520" cy="54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333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урунд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400640" cy="489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333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444920" cy="494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476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Ёж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08:06Z</dcterms:created>
  <dc:creator>ЛедянкинаНГ</dc:creator>
  <dc:description/>
  <dc:language>en-US</dc:language>
  <cp:lastModifiedBy>USER</cp:lastModifiedBy>
  <dcterms:modified xsi:type="dcterms:W3CDTF">2009-04-09T16:10:07Z</dcterms:modified>
  <cp:revision>6</cp:revision>
  <dc:subject/>
  <dc:title>Слайд 1</dc:title>
</cp:coreProperties>
</file>