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4DC-95AE-4927-B8F1-F2F58A8BB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DF08-4EBB-44A3-B3DA-1D79FD9B49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F83-4918-42CF-BB6A-0963A8FB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F5B-7F93-4E4D-B9CC-F6EEA654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386-CFCF-46CC-97B2-6B7B0499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7CF-37AF-4A35-BAA2-4409F1E1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3F71-5346-4993-82B1-BDC00EE8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D3A7-4DC0-4865-8292-C10E29EF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16B8-ECFF-4C9A-8A7F-2F0BB8E6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EA5F-887B-48D8-824C-85E42E43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217-A2AF-4EC2-9DCA-A4B59D47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92E3-99E8-462D-BE12-6AAD431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7EC5-3535-446A-BC63-900912D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FA3-CD51-4DE6-A119-3168850E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D281-5D7A-4ED4-A25D-B39B5E0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3F62-F39A-48AA-A231-B1E0BB9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266F-3931-4A7C-BCA2-7189B3B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3AE-0796-4ABC-BDEA-BA16E308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E29E-3090-4DFA-AA83-5D1B4834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919-66B4-423E-9BD1-18AC2842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248-C25A-48D0-93F2-CA1698F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961-F053-47F0-950C-37996B5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5B4-5FAB-4C7C-8868-30200F97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778-51A3-43C2-AD23-245B858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4AF-C736-491E-8982-9D726D2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F6F-A775-412B-9E1E-5664888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DEE6-E3D5-4C59-B2A0-D1B2C99404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9837-982A-40FB-B1DC-67FB2A5B43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ма урока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«Изменение питательных веществ в кишечнике»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8064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7. Состав и роль в пищеварении желудочного сок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8. Как осуществляется нервная регуляция отделения желудочного сок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9. Как осуществляется гуморальная регуляция отделения желудочного сок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10. Как физиологически оправдана поговорка: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Когда я ем, я глух и нем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{6E16AB70-8BCC-4AF6-B428-E0C826878E25}"/>
          <p:cNvPicPr/>
          <p:nvPr/>
        </p:nvPicPr>
        <p:blipFill>
          <a:blip r:embed="rId1"/>
          <a:stretch/>
        </p:blipFill>
        <p:spPr>
          <a:xfrm>
            <a:off x="2268360" y="260280"/>
            <a:ext cx="5139000" cy="619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венадцатиперстная киш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9" descr="{6EC2C6B8-E375-4FC7-ACA5-4DE3CC8CF40F}"/>
          <p:cNvPicPr/>
          <p:nvPr/>
        </p:nvPicPr>
        <p:blipFill>
          <a:blip r:embed="rId1"/>
          <a:stretch/>
        </p:blipFill>
        <p:spPr>
          <a:xfrm>
            <a:off x="2556000" y="1341360"/>
            <a:ext cx="424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ерменты поджелудочного с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ипс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белки до амино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п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жиры на глицерин и жирные кислот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милаза, маль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ют углеводы до глюкоз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ак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молочный саха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став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76388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утки вырабатывается 800 тыс. м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: вода, желчные кислоты, желчные пигменты (билирубин), муцин, неорганические сол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кция – слабощелоч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0" descr="{6EC2C6B8-E375-4FC7-ACA5-4DE3CC8CF40F}"/>
          <p:cNvPicPr/>
          <p:nvPr/>
        </p:nvPicPr>
        <p:blipFill>
          <a:blip r:embed="rId1"/>
          <a:stretch/>
        </p:blipFill>
        <p:spPr>
          <a:xfrm>
            <a:off x="217440" y="1197000"/>
            <a:ext cx="350208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7680" y="716040"/>
            <a:ext cx="82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начение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ействие всех ферментов (действие липазы усиливается в 15-20 раз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ствует растворению и всасыванию жирных 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вижение кишечни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ет усиление сокоотделе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58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онкий кишечни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76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остав кишечного со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из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сталлы холестери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рменты: амилаза, мальтаза, липаза,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нтор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{F58D13E0-0F1E-4168-AFEE-C85E188F9E20}"/>
          <p:cNvPicPr/>
          <p:nvPr/>
        </p:nvPicPr>
        <p:blipFill>
          <a:blip r:embed="rId1"/>
          <a:stretch/>
        </p:blipFill>
        <p:spPr>
          <a:xfrm>
            <a:off x="4932360" y="1268280"/>
            <a:ext cx="4075200" cy="4815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708120"/>
            <a:ext cx="8596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Цель ур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тизировать и углубить знания о строениях и функция пищеварительной систем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особенности процесса пищеварения в тонком и толстом кишечни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7200" y="404280"/>
            <a:ext cx="8272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сасы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6" descr="{294D5E95-A81B-4DCD-95BF-833885DA133D}"/>
          <p:cNvPicPr/>
          <p:nvPr/>
        </p:nvPicPr>
        <p:blipFill>
          <a:blip r:embed="rId1"/>
          <a:stretch/>
        </p:blipFill>
        <p:spPr>
          <a:xfrm>
            <a:off x="1116000" y="1258920"/>
            <a:ext cx="720108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{F483914D-C51A-4C89-9CB2-7196E20FEBCF}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90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37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олстый кишечни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6" descr="{BFE6C682-CA8D-4162-B86C-1E82B5AF117F}"/>
          <p:cNvPicPr/>
          <p:nvPr/>
        </p:nvPicPr>
        <p:blipFill>
          <a:blip r:embed="rId1"/>
          <a:stretch/>
        </p:blipFill>
        <p:spPr>
          <a:xfrm>
            <a:off x="4788000" y="1484280"/>
            <a:ext cx="3995640" cy="466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{F58D13E0-0F1E-4168-AFEE-C85E188F9E20}"/>
          <p:cNvPicPr/>
          <p:nvPr/>
        </p:nvPicPr>
        <p:blipFill>
          <a:blip r:embed="rId2"/>
          <a:stretch/>
        </p:blipFill>
        <p:spPr>
          <a:xfrm>
            <a:off x="515880" y="1484280"/>
            <a:ext cx="379908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30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ункции печен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92360" y="15573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йтрализация ядовитых веществ (фенол, индол, скато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ад эритроц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тез белков плаз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{192ED566-C6CC-446D-9FA3-3357D81612F6}"/>
          <p:cNvPicPr/>
          <p:nvPr/>
        </p:nvPicPr>
        <p:blipFill>
          <a:blip r:embed="rId1"/>
          <a:stretch/>
        </p:blipFill>
        <p:spPr>
          <a:xfrm>
            <a:off x="420840" y="1341360"/>
            <a:ext cx="445752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атериал для закрепл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Ферменты поджелудочного сок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ипс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белки до амино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п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жиры на глицерин и жирные кислот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милаза, маль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ют углеводы до глюкоз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актаз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расщепляет молочный саха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став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утки вырабатывается 800 тыс. м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: вода, желчные кислоты, желчные пигменты (билирубин), муцин, неорганические сол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кция – слабощелоч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начение желч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ействие всех ферментов (действие липазы усиливается в 15-20 раз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ствует растворению и всасыванию жирных кисл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ивает движение кишечни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ет усиление сокоотделе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став кишечного со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из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сталлы холестерин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рменты: амилаза, мальтаза, липаза,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нтор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ункции печен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йтрализация ядовитых веществ (фенол, индол, скато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ад эритроц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тез белков плаз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7460"/>
                            </p:stCondLst>
                            <p:childTnLst>
                              <p:par>
                                <p:cTn id="4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60"/>
                            </p:stCondLst>
                            <p:childTnLst>
                              <p:par>
                                <p:cTn id="4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такое пищеварение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4 000 г пищевой кашицы – 3 850 г воды = 150 г ка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остав ка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ереваренные частицы пи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из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мершие клетки эпите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авшиеся желчные пигмен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ктерии, которые составляют 30-50% к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. Какие органы образуют пищеварительную систему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{911E2964-202E-4403-B9AF-F71E8AD06D79}"/>
          <p:cNvPicPr/>
          <p:nvPr/>
        </p:nvPicPr>
        <p:blipFill>
          <a:blip r:embed="rId1"/>
          <a:stretch/>
        </p:blipFill>
        <p:spPr>
          <a:xfrm>
            <a:off x="1835280" y="404640"/>
            <a:ext cx="5446440" cy="614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3. Какие питательные вещества содержатся в пище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4. Какие физические и химические изменения происходят с пищей в ротовой полости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1374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5. Как происходит продвижение пищи по пищеводу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0728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6. Какие химические изменения происходят с пищей в желудке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14:39Z</dcterms:created>
  <dc:creator>NFr</dc:creator>
  <dc:description/>
  <dc:language>en-US</dc:language>
  <cp:lastModifiedBy>Коля</cp:lastModifiedBy>
  <dcterms:modified xsi:type="dcterms:W3CDTF">2013-05-29T15:59:39Z</dcterms:modified>
  <cp:revision>37</cp:revision>
  <dc:subject/>
  <dc:title>Тема урока  «Изменение питательных веществ в кишечнике»</dc:title>
</cp:coreProperties>
</file>