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4FCA-571D-48BD-B792-471947FED3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6E6E-48DA-40BC-AB20-713C71DE0A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7C0-2760-476E-9A45-D5582ECA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A48-6212-46F1-826E-208972B5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463-83BD-4A41-ADDE-1B65AC4D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608-6DF7-4E7D-8231-D9A8DD88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BAF3-2616-4060-9A11-DE804E39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2214-26EB-4688-A124-06CBF899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D8EC-8485-4993-B162-9D0CD3DB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75DE-B996-4095-A730-2DA7D6B9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CFC4-EA3D-4AB4-8DB2-7C110151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EE98-A94C-4D5E-9D37-B4D54609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D68E-6379-4E80-8102-BAE3FD62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EC4-F25C-4A6D-97B3-4E05469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DB4C-895E-4542-8412-317C9222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F811-2267-4D47-86EF-42518043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C633-3BEE-4434-A611-38E77630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FD17-2352-4F4D-8DBE-6B96423A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9A1B-0ED1-445D-B0DE-2254B042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C7E-265E-4441-BEB3-ECA63AA2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4C3-AE18-4F55-99E5-BACB847F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32B-9D89-4B9E-9A29-DD663348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0BF-3510-42D1-AF78-B1DA05F1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4AA-7B75-4997-BCC6-81EF1323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397-E7A9-4250-86FA-203CDF0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7DB-E4C4-4D12-BD5A-15AE2CFF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6CA2-BE5A-461C-B6C2-E28FE75C25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7241-0AA4-41F1-9197-A30EA771E4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ема урока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«Изменение питательных веществ в кишечнике»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1915920"/>
            <a:ext cx="8064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7. Состав и роль в пищеварении желудочного сок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8. Как осуществляется нервная регуляция отделения желудочного сока?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9. Как осуществляется гуморальная регуляция отделения желудочного сока?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0872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10. Как физиологически оправдана поговорка: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Когда я ем, я глух и нем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{6E16AB70-8BCC-4AF6-B428-E0C826878E25}"/>
          <p:cNvPicPr/>
          <p:nvPr/>
        </p:nvPicPr>
        <p:blipFill>
          <a:blip r:embed="rId1"/>
          <a:stretch/>
        </p:blipFill>
        <p:spPr>
          <a:xfrm>
            <a:off x="2268360" y="260280"/>
            <a:ext cx="5139000" cy="619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Двенадцатиперстная киш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9" descr="{6EC2C6B8-E375-4FC7-ACA5-4DE3CC8CF40F}"/>
          <p:cNvPicPr/>
          <p:nvPr/>
        </p:nvPicPr>
        <p:blipFill>
          <a:blip r:embed="rId1"/>
          <a:stretch/>
        </p:blipFill>
        <p:spPr>
          <a:xfrm>
            <a:off x="2556000" y="1341360"/>
            <a:ext cx="424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Ферменты поджелудочного со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2072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ипс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белки до аминокислот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п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жиры на глицерин и жирные кислот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милаза, мальт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ют углеводы до глюкоз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акт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молочный саха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остав желч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66920" y="1267920"/>
            <a:ext cx="476388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утки вырабатывается 800 тыс. м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: вода, желчные кислоты, желчные пигменты (билирубин), муцин, неорганические сол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акция – слабощелоч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10" descr="{6EC2C6B8-E375-4FC7-ACA5-4DE3CC8CF40F}"/>
          <p:cNvPicPr/>
          <p:nvPr/>
        </p:nvPicPr>
        <p:blipFill>
          <a:blip r:embed="rId1"/>
          <a:stretch/>
        </p:blipFill>
        <p:spPr>
          <a:xfrm>
            <a:off x="217440" y="1197000"/>
            <a:ext cx="3502080" cy="504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7680" y="716040"/>
            <a:ext cx="82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начение желч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ивает действие всех ферментов (действие липазы усиливается в 15-20 раз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особствует растворению и всасыванию жирных кислот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ивает движение кишечник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ывает усиление сокоотделения поджелудочной желез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58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онкий кишечни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76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остав кишечного со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из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исталлы холестерин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рменты: амилаза, мальтаза, липаза,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энторокин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{F58D13E0-0F1E-4168-AFEE-C85E188F9E20}"/>
          <p:cNvPicPr/>
          <p:nvPr/>
        </p:nvPicPr>
        <p:blipFill>
          <a:blip r:embed="rId1"/>
          <a:stretch/>
        </p:blipFill>
        <p:spPr>
          <a:xfrm>
            <a:off x="4932360" y="1268280"/>
            <a:ext cx="4075200" cy="4815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708120"/>
            <a:ext cx="8596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Цель уро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атизировать и углубить знания о строениях и функция пищеварительной систем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ить особенности процесса пищеварения в тонком и толстом кишечни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7200" y="404280"/>
            <a:ext cx="8272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сасыва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6" descr="{294D5E95-A81B-4DCD-95BF-833885DA133D}"/>
          <p:cNvPicPr/>
          <p:nvPr/>
        </p:nvPicPr>
        <p:blipFill>
          <a:blip r:embed="rId1"/>
          <a:stretch/>
        </p:blipFill>
        <p:spPr>
          <a:xfrm>
            <a:off x="1116000" y="1258920"/>
            <a:ext cx="720108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{F483914D-C51A-4C89-9CB2-7196E20FEBCF}"/>
          <p:cNvPicPr/>
          <p:nvPr/>
        </p:nvPicPr>
        <p:blipFill>
          <a:blip r:embed="rId1"/>
          <a:stretch/>
        </p:blipFill>
        <p:spPr>
          <a:xfrm>
            <a:off x="1258920" y="404640"/>
            <a:ext cx="6697800" cy="590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375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олстый кишечни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6" descr="{BFE6C682-CA8D-4162-B86C-1E82B5AF117F}"/>
          <p:cNvPicPr/>
          <p:nvPr/>
        </p:nvPicPr>
        <p:blipFill>
          <a:blip r:embed="rId1"/>
          <a:stretch/>
        </p:blipFill>
        <p:spPr>
          <a:xfrm>
            <a:off x="4788000" y="1484280"/>
            <a:ext cx="3995640" cy="466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{F58D13E0-0F1E-4168-AFEE-C85E188F9E20}"/>
          <p:cNvPicPr/>
          <p:nvPr/>
        </p:nvPicPr>
        <p:blipFill>
          <a:blip r:embed="rId2"/>
          <a:stretch/>
        </p:blipFill>
        <p:spPr>
          <a:xfrm>
            <a:off x="515880" y="1484280"/>
            <a:ext cx="379908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30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Функции печен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92360" y="15573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йтрализация ядовитых веществ (фенол, индол, скато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пад эритроци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нтез белков плаз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0" descr="{192ED566-C6CC-446D-9FA3-3357D81612F6}"/>
          <p:cNvPicPr/>
          <p:nvPr/>
        </p:nvPicPr>
        <p:blipFill>
          <a:blip r:embed="rId1"/>
          <a:stretch/>
        </p:blipFill>
        <p:spPr>
          <a:xfrm>
            <a:off x="420840" y="1341360"/>
            <a:ext cx="445752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Материал для закрепл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Ферменты поджелудочного сок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ипс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белки до аминокислот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п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жиры на глицерин и жирные кислот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милаза, мальт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ют углеводы до глюкоз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акт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молочный саха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остав желч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утки вырабатывается 800 тыс. м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: вода, желчные кислоты, желчные пигменты (билирубин), муцин, неорганические сол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акция – слабощелоч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начение желч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2072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ивает действие всех ферментов (действие липазы усиливается в 15-20 раз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особствует растворению и всасыванию жирных кислот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ивает движение кишечник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ывает усиление сокоотделения поджелудочной желез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остав кишечного со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из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исталлы холестерин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рменты: амилаза, мальтаза, липаза,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энторокин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1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Функции печен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йтрализация ядовитых веществ (фенол, индол, скато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пад эритроци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нтез белков плаз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4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7460"/>
                            </p:stCondLst>
                            <p:childTnLst>
                              <p:par>
                                <p:cTn id="4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60"/>
                            </p:stCondLst>
                            <p:childTnLst>
                              <p:par>
                                <p:cTn id="4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то такое пищеварение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4 000 г пищевой кашицы – 3 850 г воды = 150 г ка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остав кал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ереваренные частицы пищ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из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мершие клетки эпите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павшиеся желчные пигмен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ктерии, которые составляют 30-50% к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2. Какие органы образуют пищеварительную систему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{911E2964-202E-4403-B9AF-F71E8AD06D79}"/>
          <p:cNvPicPr/>
          <p:nvPr/>
        </p:nvPicPr>
        <p:blipFill>
          <a:blip r:embed="rId1"/>
          <a:stretch/>
        </p:blipFill>
        <p:spPr>
          <a:xfrm>
            <a:off x="1835280" y="404640"/>
            <a:ext cx="5446440" cy="614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3. Какие питательные вещества содержатся в пище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4. Какие физические и химические изменения происходят с пищей в ротовой полости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13744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5. Как происходит продвижение пищи по пищеводу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07280" cy="197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6. Какие химические изменения происходят с пищей в желудке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6:14:39Z</dcterms:created>
  <dc:creator>NFr</dc:creator>
  <dc:description/>
  <dc:language>en-US</dc:language>
  <cp:lastModifiedBy>Коля</cp:lastModifiedBy>
  <dcterms:modified xsi:type="dcterms:W3CDTF">2013-05-29T15:59:39Z</dcterms:modified>
  <cp:revision>37</cp:revision>
  <dc:subject/>
  <dc:title>Тема урока  «Изменение питательных веществ в кишечнике»</dc:title>
</cp:coreProperties>
</file>