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0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D51F-5B9C-4A5E-8478-AD864E2D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1B8F-3BC2-4EEA-8CC9-0F6D94CE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D34F-E541-4F3E-8708-3893CF35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3A27-ED4A-46D1-AE8A-A688593C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3994-4476-4349-A9E7-C9A980E5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64E5-9349-4034-8432-00FB3F7A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1292-94A9-4141-BFD4-37E2C78F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5F77-B8C4-4C0D-B455-D6A9350E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5EE6-DDA9-43D3-BF8F-17D43296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5D8F-AFB6-4368-AFB9-49B052C3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DDC5-B7E7-44B3-97F0-DB633EFE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5D8F-D8CC-4FB1-A2A3-EA9C8A48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1D06-AA3C-4A0E-92CC-1847F99C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FA0E-B2EF-412A-9C22-E01D2973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2793-69BC-4219-BDC1-5D7AE444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2960-67EA-43D8-A5D1-91EB9D5D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0A73-C413-4D5D-9384-4E88765E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55C54-5B68-4C44-A2A2-569760FA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381EF-14E6-4C0E-8E59-64929ED7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8DF60-1B28-4630-916C-3D87DA99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3F230-26A8-4AB3-B728-9A5A76F3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1BD4E-FE08-45C7-8381-D6E5A4E3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AA8C-F7DD-4CF6-AD15-BE8846FB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993E5-1C11-430F-873B-5EC4BCCD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3CE46-FC4A-47E5-9D40-16E04430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7CE7D-0345-4F22-B437-FEF5BFD4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B2937-81FD-41FD-8F71-16E3F019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EE1CD-6AB5-475D-AB67-D6D81358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086AF-2865-4E1F-B4C2-34A9E847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56E20-67C9-45E7-95F6-7A32B2D1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5A50-79BC-4F96-9FEA-9F6ADB4C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09BC-5512-49FE-974F-D459E1B3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0E31-5C36-4431-873B-9085429A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4EBC-1C3D-4D49-A736-553E1AEF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8BD6-DFBF-4761-96F7-B0963F89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12E8-A716-4CA1-913B-F52DEBA2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ED0C-4598-4B3C-A7BF-0A4D2FA6794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56E6-A135-40F3-B5AE-2E6266949D3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E882-6544-4BDD-86C3-7882CD012AD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files/articles/50/5067/506785/2.jpg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WilliamRowanHamilton.jpe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ru.wikipedia.org/wiki/&#1060;&#1072;&#1081;&#1083;:Hgrassmann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e/e4/EpicIndia.jpg/400px-EpicIndia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08.radikal.ru/i181/0912/a6/2dc82bab5e61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56160" y="1228680"/>
            <a:ext cx="7688880" cy="13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Открытие отрицательных чисел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73520" y="2835000"/>
            <a:ext cx="4013280" cy="17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ченицы 6 «Б» класса           лицея № 179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Горбач Ксен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547640" y="5273640"/>
            <a:ext cx="5840640" cy="1193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 rot="20812800">
            <a:off x="174240" y="3193560"/>
            <a:ext cx="3417840" cy="1895760"/>
          </a:xfrm>
          <a:prstGeom prst="rect">
            <a:avLst/>
          </a:prstGeom>
          <a:ln w="0">
            <a:noFill/>
          </a:ln>
        </p:spPr>
      </p:pic>
      <p:sp>
        <p:nvSpPr>
          <p:cNvPr id="140" name="WordArt 6"/>
          <p:cNvSpPr txBox="1"/>
          <p:nvPr/>
        </p:nvSpPr>
        <p:spPr>
          <a:xfrm>
            <a:off x="0" y="322200"/>
            <a:ext cx="9360000" cy="17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ВЫШЕ, ЧЕМ НИЧЕГО И НИЖЕ, ЧЕМ НИЧЕГ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 XVII веке, с появлением аналитической геометрии, отрицательные числа получили наглядное геометрическое представление на числовой оси. С этого момента наступает их полное равноправие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489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знанию отрицательных чисел способствовали работы французского ученого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не Декарт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 предложил геометрическое истолкование   положительных и отрицательных чисел - ввел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ординатную прямую (1637г.)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i-main-pic" descr="Картинка 1 из 5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1989000"/>
            <a:ext cx="3357360" cy="4537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3"/>
          <a:stretch/>
        </p:blipFill>
        <p:spPr>
          <a:xfrm>
            <a:off x="179280" y="5516640"/>
            <a:ext cx="5113440" cy="104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830268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Тем не менее теория отрицательных чисел долго находилась в стадии становления. Оживлённо обсуждалась, например, странная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пропорция: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1:(-1) = (-1):1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 </a:t>
            </a:r>
            <a:br>
              <a:rPr sz="40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В ней первый член слева больше второго, а справа - наоборот, и получается, что большее равно меньшему! 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(«парадокс Арно»).              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? ? ?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Непонятно было также, какой смысл имеет умножение отрицательных чисел, и почему произведение отрицательных положительно; на эту тему проходили жаркие дискуссии. 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33300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Полная и вполне строгая теория отрицательных чисел была создана только в XIX веке </a:t>
            </a:r>
            <a:br>
              <a:rPr sz="32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(Уильям Гамильтон и Герман Грассман)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4" descr="WilliamRowanHamilton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88960" y="2852640"/>
            <a:ext cx="3059280" cy="371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200px-Hgrassman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2852640"/>
            <a:ext cx="3070080" cy="37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763640" y="5589720"/>
            <a:ext cx="452772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КОНЕЦ! </a:t>
            </a:r>
            <a:r>
              <a:rPr b="1" lang="ru-RU" sz="36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329520" cy="59594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ы считаем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трицательные чис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чем-то естественным, но так было далеко не всегд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самых ранних ступенях развития люди знали только натуральные числа. Но этими числами нельзя обойтись даже в самых простых случаях жизни..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2987640" y="3789360"/>
            <a:ext cx="260352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979280" y="475920"/>
            <a:ext cx="36003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вые сведения об отрицательных числах встречаются у китайских математиков во втором веке до нашей эр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первые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трицательные числ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ыли узаконены в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ита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III век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но использовались лишь для исключительных случаев, так как считались, в общем, бессмысленными..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0" y="404640"/>
            <a:ext cx="2076480" cy="6248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5651640" y="2349360"/>
            <a:ext cx="3260520" cy="4248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3"/>
          <a:stretch/>
        </p:blipFill>
        <p:spPr>
          <a:xfrm>
            <a:off x="7308720" y="189000"/>
            <a:ext cx="157032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692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5796000" cy="66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уть позднее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трицательные чис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али использоваться в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Инди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для обозначения долгов или признавались как промежуточный этап, полезный для вычисления окончательного, положительного результат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6" descr="Картинка 15 из 1188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413000"/>
            <a:ext cx="32479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Древнегреческий математик Диофан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00720" y="1915920"/>
            <a:ext cx="46432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III веке уже знал правило знаков и умел умножать отрицательные числа. Однако и он рассматривал их лишь как временные знач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417348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олезность и законность отрицательных чисел утверждались постепенно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64436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ндийский математик Брахмагупта (VII век) уже рассматривал их наравне с положительны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т как он излагал правила сложения и вычита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«Сумма двух имуществ есть имущество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«Сумма двух долгов есть долг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«Сумма имущества и долга равна их разности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588000" y="2133720"/>
            <a:ext cx="23716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4716360" y="3716280"/>
            <a:ext cx="2433600" cy="2960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89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Европ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трицательные чис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появились благодаря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еонардо Пизанскому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Фибоначч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торый тоже ввёл их для решения финансовых задач с долг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1202 году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он впервые использовал отрицательные числа для подсчёта своих убыт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7280" y="836640"/>
            <a:ext cx="4619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Тем не менее до 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XVII века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отрицательные числа не находили признания. Их называли «ложными», «мнимыми» или «абсурдными»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84240" y="3357360"/>
            <a:ext cx="922824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даже в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XVII век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знаменитый математик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лез Паскал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утверждал, что 0-4=0, ибо нет такого числа, которое может быть меньше, чем ничего, а вплоть до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XIX век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математики часто отбрасывали в своих вычислениях отрицательные числа, считая их бессмысленными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595680" cy="28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Бомбелли и Жерар, напротив, считали отрицательные числа вполне допустимыми и полезными, в частности, для обозначения недостачи чего-либо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19280" y="1628280"/>
            <a:ext cx="5724360" cy="720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голоском тех времён является то, что в современной арифметике операция вычитания и знак отрицательных чисел обозначаются одним и тем же символом: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минус 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i-main-pic" descr="Картинка 3 из 1384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060640"/>
            <a:ext cx="2771640" cy="4581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8:33:19Z</dcterms:created>
  <dc:creator>1</dc:creator>
  <dc:description/>
  <dc:language>en-US</dc:language>
  <cp:lastModifiedBy>ZooM</cp:lastModifiedBy>
  <dcterms:modified xsi:type="dcterms:W3CDTF">2013-10-19T07:16:31Z</dcterms:modified>
  <cp:revision>15</cp:revision>
  <dc:subject/>
  <dc:title>Открытие отрицательных чисел </dc:title>
</cp:coreProperties>
</file>