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0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79BD-69D8-4E49-9873-A048FD7FD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E71D-DFA7-46AA-B5A6-6E2F3871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D287-9C6A-488A-B32E-BFA6A239E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FF03-432D-4167-812D-BA6944153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68F9-F2C4-4FFE-8775-C1DB938F6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9028-9BC7-4BA4-B2DE-341611B6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AE6C8-43BA-408F-8E32-84CB98CB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8B4DD-4C4E-4425-A3B8-84DCEABE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C68F2-AD8D-474F-88F6-F2CA009E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F453-98A3-4CCA-9166-AFA9C6F7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FC34-EAE8-49FD-ABFE-A816A873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5AE4-015F-4840-8029-421BCCEF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FD74-3E58-4385-8E33-CD7BDCC9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94BB-DF7B-46B4-999A-A7AA3002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3B09-CCDC-44E2-8BFD-67E06C36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9D369-A6EF-4875-9169-AF92B0AF6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E0AC-8F9F-4D4D-9E9F-531A84FFD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30DF0-F077-4B0B-B31F-F4B4D90CB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A6F2E-7481-4BD0-BE84-30E6AD21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CE44C-18C3-43BC-8AE2-8F1B7774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297EF-74D1-4214-A1F0-88739780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EED15-8185-4818-82C9-CF4E2986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96EC-8055-4F56-B28C-EDA1023C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6C2C8-6199-428E-B8DA-526F0673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A09D9-F36A-440A-B4DD-1948932E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A7DFE-2548-49BB-B939-1105F8FD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C3BA0-9C79-4B93-8155-A911D04E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0BB2C-EE56-48C4-A220-1DA933A4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C39E4-B548-41C3-9F7B-7D3C9A2B9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A3D5D-5E5E-4BE9-87C7-70297A119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CE23-9C81-417A-83F6-0C9E5B2F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8EE2-F2A5-4476-AB2A-DDAEA44A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923F-0AA2-4142-B648-03B11DC9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BA00-76A9-4909-B6EA-45197CB5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7419-A283-4DA0-BD29-9D1A8425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3825-AE8B-4267-A510-97E25CEB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8BC2-9D39-423D-BF33-7735CAD9F72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9390-F174-4CD1-B024-1C140585EED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708B-BF70-4582-84AC-2AB1A37F8FB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festival.1september.ru/files/articles/50/5067/506785/2.jpg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WilliamRowanHamilton.jpe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ru.wikipedia.org/wiki/&#1060;&#1072;&#1081;&#1083;:Hgrassmann.jpg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thumb/e/e4/EpicIndia.jpg/400px-EpicIndia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08.radikal.ru/i181/0912/a6/2dc82bab5e61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956160" y="1228680"/>
            <a:ext cx="7688880" cy="13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Открытие отрицательных чисел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73520" y="2835000"/>
            <a:ext cx="4013280" cy="17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Ученицы 6 «Б» класса           лицея № 179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Горбач Ксен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1547640" y="5273640"/>
            <a:ext cx="5840640" cy="1193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"/>
          <p:cNvPicPr/>
          <p:nvPr/>
        </p:nvPicPr>
        <p:blipFill>
          <a:blip r:embed="rId2"/>
          <a:stretch/>
        </p:blipFill>
        <p:spPr>
          <a:xfrm rot="20812800">
            <a:off x="174240" y="3193560"/>
            <a:ext cx="3417840" cy="1895760"/>
          </a:xfrm>
          <a:prstGeom prst="rect">
            <a:avLst/>
          </a:prstGeom>
          <a:ln w="0">
            <a:noFill/>
          </a:ln>
        </p:spPr>
      </p:pic>
      <p:sp>
        <p:nvSpPr>
          <p:cNvPr id="140" name="WordArt 6"/>
          <p:cNvSpPr txBox="1"/>
          <p:nvPr/>
        </p:nvSpPr>
        <p:spPr>
          <a:xfrm>
            <a:off x="0" y="322200"/>
            <a:ext cx="9360000" cy="17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ВЫШЕ, ЧЕМ НИЧЕГО И НИЖЕ, ЧЕМ НИЧЕГ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В XVII веке, с появлением аналитической геометрии, отрицательные числа получили наглядное геометрическое представление на числовой оси. С этого момента наступает их полное равноправие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4897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знанию отрицательных чисел способствовали работы французского ученого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не Декарта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н предложил геометрическое истолкование   положительных и отрицательных чисел - ввел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ординатную прямую (1637г.)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i-main-pic" descr="Картинка 1 из 5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1989000"/>
            <a:ext cx="3357360" cy="4537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"/>
          <p:cNvPicPr/>
          <p:nvPr/>
        </p:nvPicPr>
        <p:blipFill>
          <a:blip r:embed="rId3"/>
          <a:stretch/>
        </p:blipFill>
        <p:spPr>
          <a:xfrm>
            <a:off x="179280" y="5516640"/>
            <a:ext cx="5113440" cy="104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0560" y="836640"/>
            <a:ext cx="8302680" cy="51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Тем не менее теория отрицательных чисел долго находилась в стадии становления. Оживлённо обсуждалась, например, странная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пропорция:</a:t>
            </a:r>
            <a:br>
              <a:rPr sz="28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             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1:(-1) = (-1):1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 </a:t>
            </a:r>
            <a:br>
              <a:rPr sz="40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В ней первый член слева больше второго, а справа - наоборот, и получается, что большее равно меньшему! </a:t>
            </a:r>
            <a:br>
              <a:rPr sz="28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(«парадокс Арно»).              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? ? ?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Непонятно было также, какой смысл имеет умножение отрицательных чисел, и почему произведение отрицательных положительно; на эту тему проходили жаркие дискуссии. 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9280" y="333000"/>
            <a:ext cx="8964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Полная и вполне строгая теория отрицательных чисел была создана только в XIX веке </a:t>
            </a:r>
            <a:br>
              <a:rPr sz="3200"/>
            </a:b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(Уильям Гамильтон и Герман Грассман)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88640"/>
            <a:ext cx="9144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4" descr="WilliamRowanHamilton.jpe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88960" y="2852640"/>
            <a:ext cx="3059280" cy="3716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200px-Hgrassman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2852640"/>
            <a:ext cx="3070080" cy="379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763640" y="5589720"/>
            <a:ext cx="452772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Wingdings"/>
                <a:ea typeface="Wingdings"/>
              </a:rPr>
              <a:t></a:t>
            </a: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КОНЕЦ! </a:t>
            </a:r>
            <a:r>
              <a:rPr b="1" lang="ru-RU" sz="3600" spc="-1" strike="noStrike">
                <a:solidFill>
                  <a:srgbClr val="ffcc00"/>
                </a:solidFill>
                <a:latin typeface="Wingdings"/>
                <a:ea typeface="Wingdings"/>
              </a:rPr>
              <a:t>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8" name="Picture 8" descr=""/>
          <p:cNvPicPr/>
          <p:nvPr/>
        </p:nvPicPr>
        <p:blipFill>
          <a:blip r:embed="rId1"/>
          <a:stretch/>
        </p:blipFill>
        <p:spPr>
          <a:xfrm>
            <a:off x="1116000" y="189000"/>
            <a:ext cx="6329520" cy="59594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4000" y="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ы считаем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трицательные числ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чем-то естественным, но так было далеко не всегд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самых ранних ступенях развития люди знали только натуральные числа. Но этими числами нельзя обойтись даже в самых простых случаях жизни..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2987640" y="3789360"/>
            <a:ext cx="2603520" cy="28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979280" y="475920"/>
            <a:ext cx="360036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вые сведения об отрицательных числах встречаются у китайских математиков во втором веке до нашей эр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первые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трицательные числ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были узаконены в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ита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в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III век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но использовались лишь для исключительных случаев, так как считались, в общем, бессмысленными..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0" y="404640"/>
            <a:ext cx="2076480" cy="6248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2"/>
          <a:stretch/>
        </p:blipFill>
        <p:spPr>
          <a:xfrm>
            <a:off x="5651640" y="2349360"/>
            <a:ext cx="3260520" cy="4248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"/>
          <p:cNvPicPr/>
          <p:nvPr/>
        </p:nvPicPr>
        <p:blipFill>
          <a:blip r:embed="rId3"/>
          <a:stretch/>
        </p:blipFill>
        <p:spPr>
          <a:xfrm>
            <a:off x="7308720" y="189000"/>
            <a:ext cx="1570320" cy="20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1692360" y="6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5796000" cy="66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уть позднее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трицательные числ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али использоваться в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Инди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для обозначения долгов или признавались как промежуточный этап, полезный для вычисления окончательного, положительного результат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6" descr="Картинка 15 из 1188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1413000"/>
            <a:ext cx="32479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Древнегреческий математик Диофан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00720" y="1915920"/>
            <a:ext cx="46432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III веке уже знал правило знаков и умел умножать отрицательные числа. Однако и он рассматривал их лишь как временные знач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4173480" cy="48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Полезность и законность отрицательных чисел утверждались постепенно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64436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ндийский математик Брахмагупта (VII век) уже рассматривал их наравне с положительны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т как он излагал правила сложения и вычитани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«Сумма двух имуществ есть имущество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«Сумма двух долгов есть долг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«Сумма имущества и долга равна их разности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6588000" y="2133720"/>
            <a:ext cx="237168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4716360" y="3716280"/>
            <a:ext cx="2433600" cy="29606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89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Европ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трицательные числ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появились благодаря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Леонардо Пизанскому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Фибоначч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торый тоже ввёл их для решения финансовых задач с долгам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1202 году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он впервые использовал отрицательные числа для подсчёта своих убытк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7280" y="836640"/>
            <a:ext cx="4619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Тем не менее до </a:t>
            </a: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XVII века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отрицательные числа не находили признания. Их называли «ложными», «мнимыми» или «абсурдными»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84240" y="3357360"/>
            <a:ext cx="922824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даже в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XVII век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знаменитый математик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Блез Паскаль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утверждал, что 0-4=0, ибо нет такого числа, которое может быть меньше, чем ничего, а вплоть до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XIX век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математики часто отбрасывали в своих вычислениях отрицательные числа, считая их бессмысленными…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595680" cy="28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Бомбелли и Жерар, напротив, считали отрицательные числа вполне допустимыми и полезными, в частности, для обозначения недостачи чего-либо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19280" y="1628280"/>
            <a:ext cx="5724360" cy="720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голоском тех времён является то, что в современной арифметике операция вычитания и знак отрицательных чисел обозначаются одним и тем же символом: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-</a:t>
            </a: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минус 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i-main-pic" descr="Картинка 3 из 13842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2060640"/>
            <a:ext cx="2771640" cy="4581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8:33:19Z</dcterms:created>
  <dc:creator>1</dc:creator>
  <dc:description/>
  <dc:language>en-US</dc:language>
  <cp:lastModifiedBy>ZooM</cp:lastModifiedBy>
  <dcterms:modified xsi:type="dcterms:W3CDTF">2013-10-19T07:16:31Z</dcterms:modified>
  <cp:revision>15</cp:revision>
  <dc:subject/>
  <dc:title>Открытие отрицательных чисел </dc:title>
</cp:coreProperties>
</file>