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CEB3-B809-499E-BE4F-1629317AB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BA7E-C861-4BBC-ADF0-BB76EFF44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5C76-1555-4CA5-AF1F-C3A763E07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2FD6-01E0-407B-AC57-1DE188D6B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640CB-D80B-4B86-A1DA-87F80D49E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30FE0-92B2-4D34-8994-2E48DA162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FEAC2-4593-4504-A3B6-C864B0BB0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1EF20-15DE-49E8-B4DC-BCD60F2A6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1BD5D-D1B9-4955-AC0D-48002E0CF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0CB7B-C557-4E0A-997C-DED785D91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2616C-372E-4825-9B03-E170EE73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7584-FFA8-425E-A1B4-0952AB1A4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90F58-DCB1-4742-9D42-60CC9671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C787F-D5F6-45BD-BCE4-210B5631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8FAA0-EE68-4814-BA69-959DB72E8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67D3A-8A32-44A6-BBD6-3943175A4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86B26-040B-4378-AE09-C6E739ED9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958B-30EB-4D36-A4DB-B5535BCE2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50D3-B670-467C-933C-C2BB779D0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AD77-8FFF-4CEE-9F14-265863E9A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DDE8-6C6E-49BF-AA8E-1C6476CEB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D831-B1D7-452D-BA25-066D3763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33FF-D713-45E4-80E4-A4E759CF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4F29-316E-477A-A3B5-0712FBC9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1027"/>
            <p:cNvSpPr/>
            <p:nvPr/>
          </p:nvSpPr>
          <p:spPr>
            <a:xfrm>
              <a:off x="5707080" y="992160"/>
              <a:ext cx="2903400" cy="16002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1028"/>
            <p:cNvSpPr/>
            <p:nvPr/>
          </p:nvSpPr>
          <p:spPr>
            <a:xfrm>
              <a:off x="5632560" y="1157400"/>
              <a:ext cx="2906640" cy="1269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1029"/>
            <p:cNvSpPr/>
            <p:nvPr/>
          </p:nvSpPr>
          <p:spPr>
            <a:xfrm>
              <a:off x="5589720" y="1378080"/>
              <a:ext cx="2904840" cy="828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1030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7326F-B900-4CB2-AAA5-9B59219122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10F48-CF84-4A0B-9B6D-B5F1234A0EF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66"/>
                </a:solidFill>
                <a:latin typeface="Times New Roman"/>
              </a:rPr>
              <a:t>Автор и его герой.</a:t>
            </a:r>
            <a:br>
              <a:rPr sz="4000"/>
            </a:br>
            <a:r>
              <a:rPr b="1" i="1" lang="en-US" sz="4000" spc="-1" strike="noStrike">
                <a:solidFill>
                  <a:srgbClr val="cc0066"/>
                </a:solidFill>
                <a:latin typeface="Times New Roman"/>
              </a:rPr>
              <a:t>       История создания романа М.Ю.Лермонтова «Герой нашего времени»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306828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Monotype Corsiva"/>
              </a:rPr>
              <a:t>Печально я гляжу на наше поколенье!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Monotype Corsiva"/>
              </a:rPr>
              <a:t>Его грядущее – иль пусто, иль темно…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Monotype Corsiva"/>
              </a:rPr>
              <a:t> «Дума» 1838г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250560" y="476280"/>
            <a:ext cx="85690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66"/>
                </a:solidFill>
                <a:latin typeface="Times New Roman"/>
              </a:rPr>
              <a:t>Герой Нашего Времени…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0" algn="r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66"/>
                </a:solidFill>
                <a:latin typeface="Times New Roman"/>
              </a:rPr>
              <a:t>это портрет, составленный из пороков всего нашего поколения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0" algn="r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cc0066"/>
                </a:solidFill>
                <a:latin typeface="Times New Roman"/>
              </a:rPr>
              <a:t>М.Ю.Лермонтов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3" descr=""/>
          <p:cNvPicPr/>
          <p:nvPr/>
        </p:nvPicPr>
        <p:blipFill>
          <a:blip r:embed="rId1"/>
          <a:stretch/>
        </p:blipFill>
        <p:spPr>
          <a:xfrm>
            <a:off x="3429000" y="0"/>
            <a:ext cx="5715000" cy="3500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4" descr="Лермонтов в детстве. 1820-1822. Неизвестный художник"/>
          <p:cNvPicPr/>
          <p:nvPr/>
        </p:nvPicPr>
        <p:blipFill>
          <a:blip r:embed="rId2"/>
          <a:stretch/>
        </p:blipFill>
        <p:spPr>
          <a:xfrm>
            <a:off x="6659640" y="3500280"/>
            <a:ext cx="2484360" cy="316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Object 23"/>
          <p:cNvGraphicFramePr/>
          <p:nvPr/>
        </p:nvGraphicFramePr>
        <p:xfrm>
          <a:off x="108000" y="0"/>
          <a:ext cx="4319640" cy="351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Object 2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8000" y="0"/>
                    <a:ext cx="4319640" cy="35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WordArt 27"/>
          <p:cNvSpPr txBox="1"/>
          <p:nvPr/>
        </p:nvSpPr>
        <p:spPr>
          <a:xfrm>
            <a:off x="755640" y="2781360"/>
            <a:ext cx="76294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АРХАНЫ...ДЛЯ СЕРДЦА МИЛЫЙ УГОЛОК...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9" name="Picture 10" descr="Лермонтов в детском возрасте. 1817-1818. Неизвестный художник"/>
          <p:cNvPicPr/>
          <p:nvPr/>
        </p:nvPicPr>
        <p:blipFill>
          <a:blip r:embed="rId7"/>
          <a:stretch/>
        </p:blipFill>
        <p:spPr>
          <a:xfrm>
            <a:off x="0" y="3429000"/>
            <a:ext cx="3002040" cy="32846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28"/>
          <p:cNvSpPr/>
          <p:nvPr/>
        </p:nvSpPr>
        <p:spPr>
          <a:xfrm>
            <a:off x="179280" y="5734080"/>
            <a:ext cx="25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Портрет 3-х летнего Михаил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Text Box 29"/>
          <p:cNvSpPr/>
          <p:nvPr/>
        </p:nvSpPr>
        <p:spPr>
          <a:xfrm>
            <a:off x="6516720" y="603576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Михаилу 6-8 ле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Text Box 32"/>
          <p:cNvSpPr/>
          <p:nvPr/>
        </p:nvSpPr>
        <p:spPr>
          <a:xfrm>
            <a:off x="2987640" y="3479760"/>
            <a:ext cx="388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И вижу я себя ребёнком, и кругом Родные все места: высокий барский дом И сад с разрушенной теплицей; Зелёной сетью трав подёрнут спящий пруд, А за прудом село дымится — и встают Вдали туманы над полями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Object 4"/>
          <p:cNvGraphicFramePr/>
          <p:nvPr/>
        </p:nvGraphicFramePr>
        <p:xfrm>
          <a:off x="0" y="0"/>
          <a:ext cx="4699080" cy="522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699080" cy="52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5" name="Picture 10" descr="М.Ю. Лермонтов в вицмундире лейб-гвардии Гусарского полка. 1834. Художник Ф.О. Будкин"/>
          <p:cNvPicPr/>
          <p:nvPr/>
        </p:nvPicPr>
        <p:blipFill>
          <a:blip r:embed="rId3"/>
          <a:stretch/>
        </p:blipFill>
        <p:spPr>
          <a:xfrm>
            <a:off x="611280" y="2565360"/>
            <a:ext cx="3514680" cy="4292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П.Е. Заболотский. М.Ю. Лермонтов в расстёгнутом ментике с золотыми шнурками"/>
          <p:cNvPicPr/>
          <p:nvPr/>
        </p:nvPicPr>
        <p:blipFill>
          <a:blip r:embed="rId4"/>
          <a:stretch/>
        </p:blipFill>
        <p:spPr>
          <a:xfrm>
            <a:off x="5621400" y="0"/>
            <a:ext cx="3522600" cy="4471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М.Ю. Лермонтов. Автопортрет Акварель. 1837"/>
          <p:cNvPicPr/>
          <p:nvPr/>
        </p:nvPicPr>
        <p:blipFill>
          <a:blip r:embed="rId5"/>
          <a:stretch/>
        </p:blipFill>
        <p:spPr>
          <a:xfrm>
            <a:off x="4932360" y="2637000"/>
            <a:ext cx="342576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70028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Times New Roman"/>
              </a:rPr>
              <a:t>В этом романе…есть что-то неразгаданное. (В.Г.Белинский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08000" y="189000"/>
            <a:ext cx="9144000" cy="18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cc"/>
                </a:solidFill>
                <a:latin typeface="Times New Roman"/>
              </a:rPr>
              <a:t>«Герой нашего времени»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Times New Roman"/>
              </a:rPr>
              <a:t>В основе романа лежат впечатления Лермонтова от: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3780000" y="198900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cc"/>
                </a:solidFill>
                <a:latin typeface="Tahoma"/>
              </a:rPr>
              <a:t>Поездки в Пятигорск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468360" y="278136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cc"/>
                </a:solidFill>
                <a:latin typeface="Tahoma"/>
              </a:rPr>
              <a:t>Кисловодск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2556000" y="31417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cc"/>
                </a:solidFill>
                <a:latin typeface="Tahoma"/>
              </a:rPr>
              <a:t>В казачьи станицы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5364000" y="3645000"/>
            <a:ext cx="28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cc"/>
                </a:solidFill>
                <a:latin typeface="Tahoma"/>
              </a:rPr>
              <a:t>На Терек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395280" y="4221000"/>
            <a:ext cx="51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cc"/>
                </a:solidFill>
                <a:latin typeface="Tahoma"/>
              </a:rPr>
              <a:t>Пребывание в местах боевых действий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5219640" y="479736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cc"/>
                </a:solidFill>
                <a:latin typeface="Tahoma"/>
              </a:rPr>
              <a:t>Посещение Тамани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1619280" y="587700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cc"/>
                </a:solidFill>
                <a:latin typeface="Tahoma"/>
              </a:rPr>
              <a:t>Встречи с ссыльными декабристами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Times New Roman"/>
              </a:rPr>
              <a:t>Появление в печати романа «Герой нашего времени»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826920" y="2924280"/>
            <a:ext cx="7848720" cy="9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66"/>
                </a:solidFill>
                <a:latin typeface="Tahoma"/>
              </a:rPr>
              <a:t>1838  год</a:t>
            </a: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 -появляется новелла </a:t>
            </a:r>
            <a:r>
              <a:rPr b="0" lang="en-US" sz="1800" spc="-1" strike="noStrike">
                <a:solidFill>
                  <a:srgbClr val="cc0066"/>
                </a:solidFill>
                <a:latin typeface="Tahoma"/>
              </a:rPr>
              <a:t>«Фаталист»,</a:t>
            </a: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 которая никак не связана с предыдущим произведением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826920" y="2060640"/>
            <a:ext cx="7777440" cy="9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66"/>
                </a:solidFill>
                <a:latin typeface="Tahoma"/>
              </a:rPr>
              <a:t>1837 год</a:t>
            </a: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 - Лермонтов пишет  совершенно законченную новеллу и не предполагавшую продолжения - </a:t>
            </a:r>
            <a:r>
              <a:rPr b="0" lang="en-US" sz="1800" spc="-1" strike="noStrike">
                <a:solidFill>
                  <a:srgbClr val="cc0066"/>
                </a:solidFill>
                <a:latin typeface="Tahoma"/>
              </a:rPr>
              <a:t>«Тамань»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684360" y="3500280"/>
            <a:ext cx="7848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66"/>
                </a:solidFill>
                <a:latin typeface="Tahoma"/>
              </a:rPr>
              <a:t>1838 год</a:t>
            </a: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 -  объявление друзьям о плане большого романа из трех частей: «Бела», «Максим Максимыч», «Княжна Мери»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-1154160" y="4653000"/>
            <a:ext cx="10298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66"/>
                </a:solidFill>
                <a:latin typeface="Tahoma"/>
              </a:rPr>
              <a:t>1840 год -</a:t>
            </a: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 издатель </a:t>
            </a:r>
            <a:r>
              <a:rPr b="1" i="1" lang="en-US" sz="1800" spc="-1" strike="noStrike">
                <a:solidFill>
                  <a:srgbClr val="ffffcc"/>
                </a:solidFill>
                <a:latin typeface="Tahoma"/>
              </a:rPr>
              <a:t>Краевский</a:t>
            </a: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 уговорил Лермонтова отдать роман в печать. Автор соединяет неожиданно для всех эти три части с новеллами «Тамань», «Фаталист»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99640" y="474480"/>
            <a:ext cx="7340760" cy="772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66"/>
                </a:solidFill>
                <a:latin typeface="Times New Roman"/>
              </a:rPr>
              <a:t>«Герой нашего времени»</a:t>
            </a:r>
            <a:endParaRPr b="0" i="1" lang="en-US" sz="4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1547640" y="1268280"/>
            <a:ext cx="71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cc"/>
                </a:solidFill>
                <a:latin typeface="Arial"/>
              </a:rPr>
              <a:t>Хронологический порядок (фабула произведения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0" y="1773360"/>
            <a:ext cx="295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Молодой человек, сосланный за дуэль, из Петербурга по пути в Казань останавливается в Тамани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Line 6"/>
          <p:cNvSpPr/>
          <p:nvPr/>
        </p:nvSpPr>
        <p:spPr>
          <a:xfrm flipV="1">
            <a:off x="2771640" y="2781360"/>
            <a:ext cx="936720" cy="2160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3419640" y="2349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66"/>
                </a:solidFill>
                <a:latin typeface="Arial"/>
              </a:rPr>
              <a:t>«Тамань»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6227640" y="1773360"/>
            <a:ext cx="26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После участия в боевых действиях Печорин получает отпуск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6084720" y="342900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Едет на курорт в Пятигорск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6084720" y="4581360"/>
            <a:ext cx="27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Завязывает интригу с Мери и стреляется с Грушницким на дуэли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3492360" y="4869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66"/>
                </a:solidFill>
                <a:latin typeface="Arial"/>
              </a:rPr>
              <a:t>«Княжна Мери»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5796000" y="594216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Ссылают в отдаленную крепость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3203640" y="6021360"/>
            <a:ext cx="20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Начало повести </a:t>
            </a:r>
            <a:r>
              <a:rPr b="1" i="1" lang="en-US" sz="1800" spc="-1" strike="noStrike">
                <a:solidFill>
                  <a:srgbClr val="cc0066"/>
                </a:solidFill>
                <a:latin typeface="Arial"/>
              </a:rPr>
              <a:t>«Бела»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250920" y="5667480"/>
            <a:ext cx="23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Становится свидетелем и участником трагедии Вулича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Line 15"/>
          <p:cNvSpPr/>
          <p:nvPr/>
        </p:nvSpPr>
        <p:spPr>
          <a:xfrm flipV="1">
            <a:off x="4932360" y="2349360"/>
            <a:ext cx="792000" cy="2160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Line 16"/>
          <p:cNvSpPr/>
          <p:nvPr/>
        </p:nvSpPr>
        <p:spPr>
          <a:xfrm>
            <a:off x="7236000" y="2781360"/>
            <a:ext cx="144360" cy="6476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Line 17"/>
          <p:cNvSpPr/>
          <p:nvPr/>
        </p:nvSpPr>
        <p:spPr>
          <a:xfrm>
            <a:off x="7451640" y="3933720"/>
            <a:ext cx="0" cy="50328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Line 18"/>
          <p:cNvSpPr/>
          <p:nvPr/>
        </p:nvSpPr>
        <p:spPr>
          <a:xfrm flipH="1">
            <a:off x="4642920" y="5229360"/>
            <a:ext cx="108108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Line 19"/>
          <p:cNvSpPr/>
          <p:nvPr/>
        </p:nvSpPr>
        <p:spPr>
          <a:xfrm flipH="1">
            <a:off x="7093080" y="5445000"/>
            <a:ext cx="503280" cy="57636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Line 20"/>
          <p:cNvSpPr/>
          <p:nvPr/>
        </p:nvSpPr>
        <p:spPr>
          <a:xfrm flipH="1">
            <a:off x="5003280" y="6381720"/>
            <a:ext cx="863640" cy="1429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Line 21"/>
          <p:cNvSpPr/>
          <p:nvPr/>
        </p:nvSpPr>
        <p:spPr>
          <a:xfrm flipH="1">
            <a:off x="2050560" y="6093000"/>
            <a:ext cx="381636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Line 22"/>
          <p:cNvSpPr/>
          <p:nvPr/>
        </p:nvSpPr>
        <p:spPr>
          <a:xfrm>
            <a:off x="1258920" y="5589720"/>
            <a:ext cx="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Line 23"/>
          <p:cNvSpPr/>
          <p:nvPr/>
        </p:nvSpPr>
        <p:spPr>
          <a:xfrm>
            <a:off x="1403280" y="5734080"/>
            <a:ext cx="7308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Line 24"/>
          <p:cNvSpPr/>
          <p:nvPr/>
        </p:nvSpPr>
        <p:spPr>
          <a:xfrm>
            <a:off x="2843280" y="5589720"/>
            <a:ext cx="3313080" cy="36036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Text Box 25"/>
          <p:cNvSpPr/>
          <p:nvPr/>
        </p:nvSpPr>
        <p:spPr>
          <a:xfrm>
            <a:off x="1476360" y="49417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Погибает Бела -конец повести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Text Box 26"/>
          <p:cNvSpPr/>
          <p:nvPr/>
        </p:nvSpPr>
        <p:spPr>
          <a:xfrm>
            <a:off x="1332000" y="364500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Путешествуя, встречается с  автором-повествователем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Line 27"/>
          <p:cNvSpPr/>
          <p:nvPr/>
        </p:nvSpPr>
        <p:spPr>
          <a:xfrm flipV="1">
            <a:off x="1692360" y="4292640"/>
            <a:ext cx="215640" cy="7207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Text Box 28"/>
          <p:cNvSpPr/>
          <p:nvPr/>
        </p:nvSpPr>
        <p:spPr>
          <a:xfrm>
            <a:off x="0" y="4797360"/>
            <a:ext cx="14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66"/>
                </a:solidFill>
                <a:latin typeface="Tahoma"/>
              </a:rPr>
              <a:t>«Фаталист»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Line 29"/>
          <p:cNvSpPr/>
          <p:nvPr/>
        </p:nvSpPr>
        <p:spPr>
          <a:xfrm flipH="1" flipV="1">
            <a:off x="755280" y="5084640"/>
            <a:ext cx="144360" cy="7207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Text Box 30"/>
          <p:cNvSpPr/>
          <p:nvPr/>
        </p:nvSpPr>
        <p:spPr>
          <a:xfrm>
            <a:off x="179280" y="328464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0066"/>
                </a:solidFill>
                <a:latin typeface="Tahoma"/>
              </a:rPr>
              <a:t>«Максим Максимыч»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Line 31"/>
          <p:cNvSpPr/>
          <p:nvPr/>
        </p:nvSpPr>
        <p:spPr>
          <a:xfrm flipH="1" flipV="1">
            <a:off x="1332000" y="3500280"/>
            <a:ext cx="1224000" cy="1447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Times New Roman"/>
              </a:rPr>
              <a:t>Построение романа </a:t>
            </a:r>
            <a:br>
              <a:rPr sz="4000"/>
            </a:br>
            <a:r>
              <a:rPr b="1" lang="en-US" sz="4000" spc="-1" strike="noStrike">
                <a:solidFill>
                  <a:srgbClr val="cc0066"/>
                </a:solidFill>
                <a:latin typeface="Times New Roman"/>
              </a:rPr>
              <a:t>«Герой нашего времени»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Раскрытие характера героя Лермонтовым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611280" y="2997360"/>
            <a:ext cx="2158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Сначала показывает, как понимает его или не понимает служака Максим Максимыч </a:t>
            </a: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«Бела»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4140360" y="2781360"/>
            <a:ext cx="223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умный и проницательный автор-повествователь наблюдает за Печориным </a:t>
            </a: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«Максим Максимыч»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7236000" y="2781360"/>
            <a:ext cx="165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Раскрытие Печорина в собственном дневнике </a:t>
            </a:r>
            <a:r>
              <a:rPr b="1" lang="en-US" sz="1800" spc="-1" strike="noStrike" u="sng">
                <a:solidFill>
                  <a:srgbClr val="cc0066"/>
                </a:solidFill>
                <a:uFillTx/>
                <a:latin typeface="Arial"/>
              </a:rPr>
              <a:t>«Журнал Печорина»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Line 8"/>
          <p:cNvSpPr/>
          <p:nvPr/>
        </p:nvSpPr>
        <p:spPr>
          <a:xfrm>
            <a:off x="6012000" y="3573360"/>
            <a:ext cx="1224000" cy="57636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6516720" y="508464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«</a:t>
            </a: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Тамань»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Line 10"/>
          <p:cNvSpPr/>
          <p:nvPr/>
        </p:nvSpPr>
        <p:spPr>
          <a:xfrm flipH="1">
            <a:off x="7451280" y="4581360"/>
            <a:ext cx="360360" cy="50328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7020000" y="5661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«Княжна Мери»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Line 12"/>
          <p:cNvSpPr/>
          <p:nvPr/>
        </p:nvSpPr>
        <p:spPr>
          <a:xfrm flipH="1">
            <a:off x="7884720" y="4581360"/>
            <a:ext cx="142920" cy="93528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Text Box 13"/>
          <p:cNvSpPr/>
          <p:nvPr/>
        </p:nvSpPr>
        <p:spPr>
          <a:xfrm>
            <a:off x="8172360" y="4941720"/>
            <a:ext cx="9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«Фата-лист»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Line 14"/>
          <p:cNvSpPr/>
          <p:nvPr/>
        </p:nvSpPr>
        <p:spPr>
          <a:xfrm>
            <a:off x="8172360" y="4581360"/>
            <a:ext cx="576360" cy="4320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Line 15"/>
          <p:cNvSpPr/>
          <p:nvPr/>
        </p:nvSpPr>
        <p:spPr>
          <a:xfrm flipV="1">
            <a:off x="2700360" y="3284640"/>
            <a:ext cx="1366920" cy="7920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Times New Roman"/>
              </a:rPr>
              <a:t>Перекличка двух героев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5280" y="5084640"/>
            <a:ext cx="2386080" cy="8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Онегин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4859280" y="184464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Печорин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2987640" y="2565360"/>
            <a:ext cx="18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Принадлежат к светскому обществу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5219640" y="3645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Ненавидит этот свет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6948360" y="3141720"/>
            <a:ext cx="201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Не знает, чего хочет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Line 11"/>
          <p:cNvSpPr/>
          <p:nvPr/>
        </p:nvSpPr>
        <p:spPr>
          <a:xfrm flipH="1">
            <a:off x="3995280" y="2349360"/>
            <a:ext cx="1297080" cy="2876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Line 12"/>
          <p:cNvSpPr/>
          <p:nvPr/>
        </p:nvSpPr>
        <p:spPr>
          <a:xfrm>
            <a:off x="5651640" y="2492280"/>
            <a:ext cx="215640" cy="11527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Line 13"/>
          <p:cNvSpPr/>
          <p:nvPr/>
        </p:nvSpPr>
        <p:spPr>
          <a:xfrm>
            <a:off x="6227640" y="2492280"/>
            <a:ext cx="2016360" cy="57636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Line 15"/>
          <p:cNvSpPr/>
          <p:nvPr/>
        </p:nvSpPr>
        <p:spPr>
          <a:xfrm flipV="1">
            <a:off x="1619280" y="4005000"/>
            <a:ext cx="6481800" cy="16556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Line 18"/>
          <p:cNvSpPr/>
          <p:nvPr/>
        </p:nvSpPr>
        <p:spPr>
          <a:xfrm flipV="1">
            <a:off x="1476360" y="3141720"/>
            <a:ext cx="1366920" cy="20160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Line 20"/>
          <p:cNvSpPr/>
          <p:nvPr/>
        </p:nvSpPr>
        <p:spPr>
          <a:xfrm flipV="1">
            <a:off x="1619280" y="3933360"/>
            <a:ext cx="3240000" cy="12956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9:53:10Z</dcterms:created>
  <dc:creator>user</dc:creator>
  <dc:description/>
  <dc:language>en-US</dc:language>
  <cp:lastModifiedBy>Your User Name</cp:lastModifiedBy>
  <dcterms:modified xsi:type="dcterms:W3CDTF">2010-05-31T12:58:54Z</dcterms:modified>
  <cp:revision>15</cp:revision>
  <dc:subject/>
  <dc:title>«Герой нашего времени»</dc:title>
</cp:coreProperties>
</file>