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AA4-23E7-4219-9CB0-F0D09870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366-7A5D-461B-915E-1059672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B37-F16D-4401-A59B-FA572A0E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BBA-142D-4971-A14F-2955F438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C2C-FE78-461E-B36A-096D2E49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0B68-3D91-4340-AC44-A6543BC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6A15-931B-40EF-B1C2-AD06CA14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705B-6DF2-4984-8C9F-F3392252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B50-BD91-4686-8E1A-B1757CBE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B3B-921E-417B-9049-33A491F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0C42-4437-4E1E-9706-93EDDB1D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20D-FA38-46B0-9E71-87023BD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575D-0708-4A07-BFB7-E698E511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78CB-CE77-438A-BACF-E0D7B70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BDD6-D847-4A6B-BB0A-F90E7AF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7319-DC5C-4D5A-B5DE-601292D6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B97-1537-49EB-9F54-7819261F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B7C-6259-4881-8D94-689BF6B8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F38-3953-4809-BC31-E1262174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920-172D-483A-8986-340BABD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9C8-DE7B-47BF-AB13-57C84F7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C61-7E19-43DB-95C9-BD0ED94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CF2-223D-4D3E-98AE-1BEE2C5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D68-CD03-441B-BC7E-C47ED9F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D21-C79C-4A74-BF3E-93C24CFD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A87F-8A26-4D61-A01C-37E8659CBC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Автор и его герой.</a:t>
            </a:r>
            <a:br>
              <a:rPr sz="4000"/>
            </a:b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       История создания романа М.Ю.Лермонтова «Герой нашего времени»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Печально я гляжу на наше поколенье!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Его грядущее – иль пусто, иль темно…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 «Дума» 1838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Герой Нашего Времени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 algn="r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это портрет, составленный из пороков всего нашего поколени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 algn="r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М.Ю.Лермонтов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500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Лермонтов в детстве. 1820-1822. Неизвестный художник"/>
          <p:cNvPicPr/>
          <p:nvPr/>
        </p:nvPicPr>
        <p:blipFill>
          <a:blip r:embed="rId2"/>
          <a:stretch/>
        </p:blipFill>
        <p:spPr>
          <a:xfrm>
            <a:off x="6659640" y="3500280"/>
            <a:ext cx="248436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23"/>
          <p:cNvGraphicFramePr/>
          <p:nvPr/>
        </p:nvGraphicFramePr>
        <p:xfrm>
          <a:off x="108000" y="0"/>
          <a:ext cx="4319640" cy="35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0"/>
                    <a:ext cx="431964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WordArt 27"/>
          <p:cNvSpPr txBox="1"/>
          <p:nvPr/>
        </p:nvSpPr>
        <p:spPr>
          <a:xfrm>
            <a:off x="755640" y="2781360"/>
            <a:ext cx="7629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РХАНЫ...ДЛЯ СЕРДЦА МИЛЫЙ УГОЛОК...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10" descr="Лермонтов в детском возрасте. 1817-1818. Неизвестный художник"/>
          <p:cNvPicPr/>
          <p:nvPr/>
        </p:nvPicPr>
        <p:blipFill>
          <a:blip r:embed="rId7"/>
          <a:stretch/>
        </p:blipFill>
        <p:spPr>
          <a:xfrm>
            <a:off x="0" y="3429000"/>
            <a:ext cx="3002040" cy="3284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8"/>
          <p:cNvSpPr/>
          <p:nvPr/>
        </p:nvSpPr>
        <p:spPr>
          <a:xfrm>
            <a:off x="179280" y="57340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Портрет 3-х летнего Михаи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6516720" y="6035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Михаилу 6-8 ле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2987640" y="347976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вижу я себя ребёнком, и кругом Родные все места: высокий барский дом И сад с разрушенной теплицей; Зелёной сетью трав подёрнут спящий пруд, А за прудом село дымится — и встают Вдали туманы над полям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4"/>
          <p:cNvGraphicFramePr/>
          <p:nvPr/>
        </p:nvGraphicFramePr>
        <p:xfrm>
          <a:off x="0" y="0"/>
          <a:ext cx="469908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9908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10" descr="М.Ю. Лермонтов в вицмундире лейб-гвардии Гусарского полка. 1834. Художник Ф.О. Будкин"/>
          <p:cNvPicPr/>
          <p:nvPr/>
        </p:nvPicPr>
        <p:blipFill>
          <a:blip r:embed="rId3"/>
          <a:stretch/>
        </p:blipFill>
        <p:spPr>
          <a:xfrm>
            <a:off x="611280" y="2565360"/>
            <a:ext cx="3514680" cy="429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П.Е. Заболотский. М.Ю. Лермонтов в расстёгнутом ментике с золотыми шнурками"/>
          <p:cNvPicPr/>
          <p:nvPr/>
        </p:nvPicPr>
        <p:blipFill>
          <a:blip r:embed="rId4"/>
          <a:stretch/>
        </p:blipFill>
        <p:spPr>
          <a:xfrm>
            <a:off x="5621400" y="0"/>
            <a:ext cx="3522600" cy="44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М.Ю. Лермонтов. Автопортрет Акварель. 1837"/>
          <p:cNvPicPr/>
          <p:nvPr/>
        </p:nvPicPr>
        <p:blipFill>
          <a:blip r:embed="rId5"/>
          <a:stretch/>
        </p:blipFill>
        <p:spPr>
          <a:xfrm>
            <a:off x="4932360" y="2637000"/>
            <a:ext cx="34257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В этом романе…есть что-то неразгаданное. (В.Г.Белинский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8000" y="189000"/>
            <a:ext cx="9144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«Герой нашего времени»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В основе романа лежат впечатления Лермонтова от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780000" y="19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Поездки в Пятигор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68360" y="2781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Кисловод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556000" y="31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В казачьи станицы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64000" y="36450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На Тере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95280" y="4221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Пребывание в местах боевых действий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219640" y="479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Посещение Таман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619280" y="5877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Встречи с ссыльными декабристам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Появление в печати романа «Герой нашего времени»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26920" y="2924280"/>
            <a:ext cx="784872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Tahoma"/>
              </a:rPr>
              <a:t>1838  год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-появляется новелла </a:t>
            </a:r>
            <a:r>
              <a:rPr b="0" lang="en-US" sz="1800" spc="-1" strike="noStrike">
                <a:solidFill>
                  <a:srgbClr val="cc0066"/>
                </a:solidFill>
                <a:latin typeface="Tahoma"/>
              </a:rPr>
              <a:t>«Фаталист»,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которая никак не связана с предыдущим произведением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26920" y="2060640"/>
            <a:ext cx="777744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Tahoma"/>
              </a:rPr>
              <a:t>1837 год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- Лермонтов пишет  совершенно законченную новеллу и не предполагавшую продолжения - </a:t>
            </a:r>
            <a:r>
              <a:rPr b="0" lang="en-US" sz="1800" spc="-1" strike="noStrike">
                <a:solidFill>
                  <a:srgbClr val="cc0066"/>
                </a:solidFill>
                <a:latin typeface="Tahoma"/>
              </a:rPr>
              <a:t>«Таман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84360" y="3500280"/>
            <a:ext cx="78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Tahoma"/>
              </a:rPr>
              <a:t>1838 год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-  объявление друзьям о плане большого романа из трех частей: «Бела», «Максим Максимыч», «Княжна Мери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-1154160" y="4653000"/>
            <a:ext cx="1029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Tahoma"/>
              </a:rPr>
              <a:t>1840 год -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издатель </a:t>
            </a:r>
            <a:r>
              <a:rPr b="1" i="1" lang="en-US" sz="1800" spc="-1" strike="noStrike">
                <a:solidFill>
                  <a:srgbClr val="ffffcc"/>
                </a:solidFill>
                <a:latin typeface="Tahoma"/>
              </a:rPr>
              <a:t>Краевский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уговорил Лермонтова отдать роман в печать. Автор соединяет неожиданно для всех эти три части с новеллами «Тамань», «Фаталист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474480"/>
            <a:ext cx="7340760" cy="77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66"/>
                </a:solidFill>
                <a:latin typeface="Times New Roman"/>
              </a:rPr>
              <a:t>«Герой нашего времени»</a:t>
            </a:r>
            <a:endParaRPr b="0" i="1" lang="en-US" sz="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47640" y="1268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Хронологический порядок (фабула произведения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77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Молодой человек, сосланный за дуэль, из Петербурга по пути в Казань останавливается в Таман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2771640" y="2781360"/>
            <a:ext cx="936720" cy="2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419640" y="234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«Таман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22764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осле участия в боевых действиях Печорин получает отпу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84720" y="342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дет на курорт в Пятигорск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084720" y="45813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Завязывает интригу с Мери и стреляется с Грушницким на дуэл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492360" y="486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«Княжна Мери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796000" y="59421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сылают в отдаленную крепость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203640" y="60213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ачало повести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«Бела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50920" y="56674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тановится свидетелем и участником трагедии Вулич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4932360" y="2349360"/>
            <a:ext cx="792000" cy="2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7236000" y="2781360"/>
            <a:ext cx="144360" cy="647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7451640" y="3933720"/>
            <a:ext cx="0" cy="503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Line 18"/>
          <p:cNvSpPr/>
          <p:nvPr/>
        </p:nvSpPr>
        <p:spPr>
          <a:xfrm flipH="1">
            <a:off x="4642920" y="5229360"/>
            <a:ext cx="1081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Line 19"/>
          <p:cNvSpPr/>
          <p:nvPr/>
        </p:nvSpPr>
        <p:spPr>
          <a:xfrm flipH="1">
            <a:off x="7093080" y="5445000"/>
            <a:ext cx="503280" cy="576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5003280" y="6381720"/>
            <a:ext cx="863640" cy="142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2050560" y="6093000"/>
            <a:ext cx="381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1258920" y="5589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1403280" y="5734080"/>
            <a:ext cx="73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2843280" y="5589720"/>
            <a:ext cx="3313080" cy="36036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476360" y="4941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огибает Бела -конец повест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1332000" y="3645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утешествуя, встречается с  автором-повествователем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1692360" y="4292640"/>
            <a:ext cx="215640" cy="72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0" y="4797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ahoma"/>
              </a:rPr>
              <a:t>«Фаталист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29"/>
          <p:cNvSpPr/>
          <p:nvPr/>
        </p:nvSpPr>
        <p:spPr>
          <a:xfrm flipH="1" flipV="1">
            <a:off x="755280" y="5084640"/>
            <a:ext cx="144360" cy="72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179280" y="3284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66"/>
                </a:solidFill>
                <a:latin typeface="Tahoma"/>
              </a:rPr>
              <a:t>«Максим Максимыч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Line 31"/>
          <p:cNvSpPr/>
          <p:nvPr/>
        </p:nvSpPr>
        <p:spPr>
          <a:xfrm flipH="1" flipV="1">
            <a:off x="1332000" y="3500280"/>
            <a:ext cx="1224000" cy="14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Построение романа 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«Герой нашего времени»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Раскрытие характера героя Лермонтовы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11280" y="2997360"/>
            <a:ext cx="21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начала показывает, как понимает его или не понимает служака Максим Максимыч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«Бела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140360" y="278136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умный и проницательный автор-повествователь наблюдает за Печориным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«Максим Максимыч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236000" y="2781360"/>
            <a:ext cx="165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Раскрытие Печорина в собственном дневнике </a:t>
            </a: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«Журнал Печорина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6012000" y="3573360"/>
            <a:ext cx="1224000" cy="576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16720" y="5084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Тамань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 flipH="1">
            <a:off x="7451280" y="4581360"/>
            <a:ext cx="360360" cy="503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7020000" y="566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«Княжна Мери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 flipH="1">
            <a:off x="7884720" y="4581360"/>
            <a:ext cx="142920" cy="93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8172360" y="49417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«Фата-лист»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8172360" y="4581360"/>
            <a:ext cx="576360" cy="432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700360" y="3284640"/>
            <a:ext cx="1366920" cy="792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Перекличка двух героев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5084640"/>
            <a:ext cx="238608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Онегин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859280" y="184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Печор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987640" y="2565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инадлежат к светскому обществу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21964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енавидит этот св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94836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е знает, чего хоч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995280" y="2349360"/>
            <a:ext cx="1297080" cy="287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651640" y="2492280"/>
            <a:ext cx="215640" cy="1152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6227640" y="2492280"/>
            <a:ext cx="2016360" cy="576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1619280" y="4005000"/>
            <a:ext cx="6481800" cy="165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1476360" y="3141720"/>
            <a:ext cx="1366920" cy="20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20"/>
          <p:cNvSpPr/>
          <p:nvPr/>
        </p:nvSpPr>
        <p:spPr>
          <a:xfrm flipV="1">
            <a:off x="1619280" y="3933360"/>
            <a:ext cx="3240000" cy="129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9:53:10Z</dcterms:created>
  <dc:creator>user</dc:creator>
  <dc:description/>
  <dc:language>en-US</dc:language>
  <cp:lastModifiedBy>Your User Name</cp:lastModifiedBy>
  <dcterms:modified xsi:type="dcterms:W3CDTF">2010-05-31T12:58:54Z</dcterms:modified>
  <cp:revision>15</cp:revision>
  <dc:subject/>
  <dc:title>«Герой нашего времени»</dc:title>
</cp:coreProperties>
</file>