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1D9-05A4-4BA8-8778-FB97DF2B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BE6-A923-4B00-9736-430C0B3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D91-1CF4-4D98-A879-F2628692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413-B630-437C-863A-BA7455E5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1141-B0A0-4936-B0E8-CA3947F0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BDFC-A647-4BFC-B074-8619EDB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DEC4-5DA7-469B-A49B-29F6148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5A98-3D80-40C7-9383-B90833E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797-F2D8-4F3D-9BFF-CED6076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555D-49FB-491D-A22C-835954B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7BA5-78BF-45EC-899D-162B0BD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C6A-75B9-46E4-AC62-F4757CD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6275-5499-4948-80E2-E7E39935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5662-54B7-4440-8ABC-CEAB909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F607-8376-41C5-B0D9-E09269D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0927-F6C2-471B-BD8C-AAB0AA51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7EA9-E446-44B5-B676-D2E2F82F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4AA-9221-42E4-AE51-017B8E15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673-061F-4056-AD29-685B901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A4B-0F53-464C-9C61-DD36A05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D16-E73B-47B9-B708-0C5353D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5A1-029B-49EC-B8C1-0F62B31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53E-736B-4909-9622-555A9DC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B18-52F4-40B3-A81F-E4042B2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159-5BAA-4F96-B0D0-09D6C97D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0B3-EB0A-467B-BE2B-B4819C525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98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736640" y="1066680"/>
            <a:ext cx="573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ни-баг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2238480" cy="160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57800" y="5334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ные особенности багги класса Д3 "Мини"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участию в соревнованиях ранга Первенства России допускаются дети от 8 до 12 лет, имеющие соответствующую Лицензию РАФ (Водителя и Участника), страховое свидетельство и медицинскую справку установленного образца (с 01.01.08 - обязательно). Возраст спортсмена определяется на день его первого старта в многоэтапном Первенстве (Кубке) России, РАФ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ркас безопасности автомобиля должен соответствовать требованиям Приложения 14 к КиТТ РАФ. Боковые отбойники запрещены, вместо них может применяться композитный материал. Основные дуги безопасности должны быть изготовлены из холоднотянутой, бесшовной, высокопрочной трубы с регламентированными характеристиками. Максимальные габаритные размеры автомобиля: ширина 1300 см, высота 1400 см.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ини-багг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ес мини-багги с Водителем в любой момент заезда, до и после него, должен быть не менее 170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рукция трансмиссии свободная, задний ход не обязате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ормоза должны действовать на два колеса задней оси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аксимальный посадочный диаметр шины - 8 дюй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и дости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27147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18:53Z</dcterms:created>
  <dc:creator>User</dc:creator>
  <dc:description/>
  <dc:language>en-US</dc:language>
  <cp:lastModifiedBy>Светлана</cp:lastModifiedBy>
  <dcterms:modified xsi:type="dcterms:W3CDTF">2011-01-23T10:17:2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