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1F0-9284-4422-853C-6F344EA6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BBB-D666-46D5-A608-D8649DC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D7D-FAA4-4174-88CC-ADA54D0B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221-9191-41FA-92EC-20255A99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952-7528-4B49-819E-3ADA42C5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B28B-E7A0-4BDF-882D-3604B20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0E7B-F098-4A6C-B995-7A11989E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903E-A5AE-439C-9E9F-725E60E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13E-E027-4688-8AD3-3CAE421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EAF5-6B1B-49B9-ACA7-4C78B468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27B-C7A2-4980-A9AB-606AD08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76E-9286-4E92-901E-92A84AB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5A8-D953-4FB5-B004-1B96AB1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0F9-CDBB-4891-8851-B251B592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74F0-E023-44FA-8678-92F29906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C331-0B8B-4B28-B10C-03440AA2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BC5-46B6-4E60-9ADA-D2B69B6E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A33-A5C9-41BA-BF39-E2FDE2A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5E6-FFF6-44D4-82BD-9043C55C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8A6-A347-4410-B6F1-841AECA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A5B-CC7C-4800-8AE7-81D9DB5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F83-21CE-44BB-B657-2DC3D93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3B7-295A-46C5-B0F3-9E3C84B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F86-0679-420C-AD16-D0C10F96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62B-5D37-4343-B462-4911852D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A14-C83B-486F-B6EE-EA692DC71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98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36640" y="1066680"/>
            <a:ext cx="57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ни-баг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57800" y="5334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особенности багги класса Д3 "Мини"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участию в соревнованиях ранга Первенства России допускаются дети от 8 до 12 лет, имеющие соответствующую Лицензию РАФ (Водителя и Участника), страховое свидетельство и медицинскую справку установленного образца (с 01.01.08 - обязательно). Возраст спортсмена определяется на день его первого старта в многоэтапном Первенстве (Кубке) России, РАФ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ркас безопасности автомобиля должен соответствовать требованиям Приложения 14 к КиТТ РАФ. Боковые отбойники запрещены, вместо них может применяться композитный материал. Основные дуги безопасности должны быть изготовлены из холоднотянутой, бесшовной, высокопрочной трубы с регламентированными характеристиками. Максимальные габаритные размеры автомобиля: ширина 1300 см, высота 1400 см.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с мини-багги с Водителем в любой момент заезда, до и после него, должен быть не менее 170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рукция трансмиссии свободная, задний ход не обяза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рмоза должны действовать на два колеса задней оси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аксимальный посадочный диаметр шины - 8 дюй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и дости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27147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18:53Z</dcterms:created>
  <dc:creator>User</dc:creator>
  <dc:description/>
  <dc:language>en-US</dc:language>
  <cp:lastModifiedBy>Светлана</cp:lastModifiedBy>
  <dcterms:modified xsi:type="dcterms:W3CDTF">2011-01-23T10:17:2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