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E5C-43BE-4FDA-B2E0-AA022EF3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8CB-9CC5-4A56-92CD-73AC230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632-B617-47D8-96EF-9C41F963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577-BD19-4D17-96B1-B6288D8E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D9A8-971B-45F6-8B09-B69C9D46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59C-AFDD-416C-81C6-E7991D42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56A-2A5D-40FE-9E8C-A211EDE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4FBD-73D4-40BF-9EA6-8E634E1D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9117-A6A3-43F9-949A-17457EC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3883-8708-4F56-A425-7F7593F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87B-EAE5-4269-A1EA-13EC8F4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75C-DFD4-4AF9-B43C-CC2FDDC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3C21-2EAB-4AF6-889A-ED593DE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398-241F-4D6C-8152-995006D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3FE9-3A6F-43EF-9FF2-F8000F2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190-8603-4154-82E7-99B975B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F70F-F12D-4647-B3E3-C331E2E0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683-E669-4382-B84B-D8472F5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072-6885-424D-9A1E-59150B9B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DB3-2E08-4BDD-8887-86A54EF0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AF9-C556-4B9F-8464-4FCD60F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143-903C-49A9-9290-6D4CC7C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598-807C-4044-A0E1-B3AC6CE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52C-EDD1-401E-A3BC-114689C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259-69DB-404A-8BB3-34763F89F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C23E-3E6E-4E25-B254-6CF29F097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870280"/>
            <a:ext cx="62532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ункции глагола «быт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альный глагол «должен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to meet at 5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rain was to arrive in ti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составе сложного сказуемог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fond of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люби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tired of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ста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interested in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интересова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keen on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влека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surprised at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удивля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late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азды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absent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тсутство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 be present-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исутствова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259920"/>
            <a:ext cx="749160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is a bit cold today, isn`t i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is a strong wind blowing from the North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 was standing near him when you call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museum is opposite the theatr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y were taken to the hospital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usiness is busines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s anyone to replace me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e were taken to the museum last week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is nothing to do her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259920"/>
            <a:ext cx="749160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om …a good bo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r and Mrs Brown …on holiday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e …doing the test in the last less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ere …the boy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o…absen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.you English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ree sheep.. On the fiel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…three chairs at the tabl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re …a table and three chairs in the room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hildren …fond of ice-cream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se your jea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news …good new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Your advice … very useful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мените по времена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bus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tudents in the clas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keen on learning English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acher is reading a tex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xt is translat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ройте 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from Chin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were many apples last yea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fond of spor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he will be at home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йте вопро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some money in the pocket .(Where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story is very long.(Yes/no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looking for keys. (What…for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st is not very difficult. (Tail-qu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y mother is very industrious person. (Who?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реведи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mon is absent to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fond of pop music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information is very interesting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birds are singing in the tre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some water in the glas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book is left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to go to see the docto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Смысловой глагол «быть.являться,находиться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 studen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from Russia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.вр.-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m, is, 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.вр.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-was/we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Буд.вр.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-will be/shall b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t ho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was at home yester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`ll be at home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риц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not a studen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not (isn`t)Russia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not(aren`t)from Mosc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was not(wasn`t) ill yester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were not(weren`t) busy last Monda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will not(won`t)be busy tomorr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are Russia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re they Russians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nationality are the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лагол-связк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am a teache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 is a bo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а налич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/there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a picture on the wal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pictures on the wal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were many guests at the part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think,there will be many questions after the lecture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ive- to be V+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are listening to the teacher now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 was having a rest at that tim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omorrow at 5 o `clock I `ll be watching TV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ve Voice- to be V+ed/V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text is translated by the student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y were asked not to be laz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27:08Z</dcterms:created>
  <dc:creator>1</dc:creator>
  <dc:description/>
  <dc:language>en-US</dc:language>
  <cp:lastModifiedBy>1</cp:lastModifiedBy>
  <dcterms:modified xsi:type="dcterms:W3CDTF">2009-11-11T15:10:03Z</dcterms:modified>
  <cp:revision>2</cp:revision>
  <dc:subject/>
  <dc:title>Функции глагола «быть»</dc:title>
</cp:coreProperties>
</file>