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FB2-1C50-452B-B4FD-0BF63D0E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5B7-826D-4452-8AE7-672C2CBD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BC0-678F-4BF5-ADB1-A3824ECE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3E1-CDDE-43A5-B5FC-FF1BB737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463B-7FAB-4F73-A208-0C13E228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B009-6B9F-4702-A4F2-AA926C44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BFB4-5176-494C-93B5-5EB1554A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6BE1-D13E-495D-9336-9E39694D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8B73-F8D8-4E11-B6F5-88C39805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A3CC-286B-427A-9913-678D415E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B7D1-638B-435B-A5EF-2E8BB70E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AAD-FA67-426C-A593-167DB80C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2F40-92C6-470A-9B11-78CA6FF3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6C80-30F7-4558-B7F8-12D85541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0AD7-9388-4B3C-ABD3-9EA4F73A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2157-4780-4BDE-B7B3-57EC1D84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822D-02E2-4428-A13D-A4F1950E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993-B17B-4F75-8AB4-60305495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2E3-5A4A-47AA-8E2A-924FAA57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01E-D92A-4E6F-A994-154BA294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B50-24D6-4A00-91B1-3E982024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025-CDB2-41E7-8A5D-F988CE38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7F6-F271-4612-94CC-8AD8C6B7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D84-C31C-44B3-A019-70AB0CF4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A7DE-8F04-4B2F-BAC3-944C2264D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6ECE-8C8B-4039-A487-E9CCDF0BF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870280"/>
            <a:ext cx="62532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ункции глагола «быт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дальный глагол «должен»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 are to meet at 5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train was to arrive in tim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составе сложного сказуемог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fond of-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люби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tired of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-устава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interested in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-интересоватьс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keen on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-увлекатьс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surprised at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-удивлятьс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late-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паздыва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absent-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тсутствова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present-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рисутствова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259920"/>
            <a:ext cx="7491600" cy="597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t is a bit cold today, isn`t it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re is a strong wind blowing from the North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 was standing near him when you called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museum is opposite the theatre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y were taken to the hospital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usiness is busines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s anyone to replace me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e were taken to the museum last week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re is nothing to do here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259920"/>
            <a:ext cx="7491600" cy="597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om …a good boy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r and Mrs Brown …on holiday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e …doing the test in the last lesson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ere …the boy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o…absent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.you English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ree sheep.. On the field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re …three chairs at the table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re …a table and three chairs in the room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hildren …fond of ice-cream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se your jean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o news …good new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Your advice … very useful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мените по времена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 is bus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are many students in the clas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 are keen on learning English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teacher is reading a text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text is translated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ройте отриц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y are from China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were many apples last year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 is fond of sport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he will be at home tomorrow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дайте вопро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are some money in the pocket .(Where?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story is very long.(Yes/no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y are looking for keys. (What…for?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test is not very difficult. (Tail-qu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y mother is very industrious person. (Who?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реведи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mon is absent toda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am fond of pop music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Your information is very interesting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birds are singing in the tree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is some water in the glas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book is left at hom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am to go to see the doctor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Смысловой глагол «быть.являться,находиться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am a student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 are from Russia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 is at hom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.вр.-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m, is, 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р.вр.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-was/we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Буд.вр.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-will be/shall b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am at hom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was at home yesterda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`ll be at home tomorrow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рицани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am not a student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 is not (isn`t)Russia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y are not(aren`t)from Moscow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 was not(wasn`t) ill yesterda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 were not(weren`t) busy last Monda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y will not(won`t)be busy tomorrow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y are Russian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re they Russians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at nationality are they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лагол-связка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am a teacher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 is a bo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руктура наличия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/there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is a picture on the wall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are pictures on the wall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were many guests at the part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think,there will be many questions after the lecture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ive- to be V+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 are listening to the teacher now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was having a rest at that tim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morrow at 5 o `clock I `ll be watching TV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ve Voice- to be V+ed/V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text is translated by the student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y were asked not to be laz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27:08Z</dcterms:created>
  <dc:creator>1</dc:creator>
  <dc:description/>
  <dc:language>en-US</dc:language>
  <cp:lastModifiedBy>1</cp:lastModifiedBy>
  <dcterms:modified xsi:type="dcterms:W3CDTF">2009-11-11T15:10:03Z</dcterms:modified>
  <cp:revision>2</cp:revision>
  <dc:subject/>
  <dc:title>Функции глагола «быть»</dc:title>
</cp:coreProperties>
</file>