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70B-A6C8-4A82-899C-D781DB832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E1C-47B7-41C0-9167-F5F87CA62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AAA-CFF2-4DFF-B62B-DDC922C04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0DB-C6DF-4BB0-9492-577FF0CC6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E736-944C-4728-88ED-266B62325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C9B-3CFF-43FA-B09A-801D0DA8D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D82-77F4-491B-AAD6-6981667DA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F21-53C7-49BD-8DDB-9300F8BBC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2BA0-914D-4697-81DD-8FF4DD784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684-AAB5-4546-88CD-A45ED10FC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761-659C-425B-850B-9E0FC2B98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77A-7077-4E51-A0DC-953168F82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8B5-DE57-4132-A90A-657E27844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275-2B8B-424D-996D-2886A9310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85CF-9D24-40B4-84A5-9F867EA3A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FBE-6A99-42BF-AF06-F7405CA7F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A7E-D33E-41C8-B06C-E8B432ABA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C7C-ED6E-4816-B0FA-39813423B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8C6-4F85-442E-AA00-5DDA03062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0DF-E012-4ABD-9733-CF1D4D4DE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845-051B-4CAB-A309-1E8B1BBA0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0B8-2A7E-49E8-88EE-2D4BFCE4C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17A3-D5BB-4537-92FC-212590164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73F-AE15-4397-BDE4-04FF3DF4D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8E2-3010-46DB-AE2B-F955320FC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DB7-7A27-4F98-A297-C82B2D4D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AC1-EDEB-4B02-9C78-A554895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CB9-A375-46DC-96E7-2CF1E88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F75-83E7-4DF3-AD7F-55089C73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293-9AAB-49F0-888E-E0E8C47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3E8-39D5-4895-86FD-13C0DC68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E21-2A6C-4CE4-B470-13928CA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798-D089-477C-8B79-0CB6F3A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EFF-A5F3-4522-BE2B-7370204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173-5150-4F46-A0AF-661CF9E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26B-F136-4419-8FB2-13D3828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70A-507E-483E-97E7-0D16D7D5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0F8F-504C-4EC1-8571-C34432825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43280" y="4508640"/>
            <a:ext cx="43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коголь оказывает вредное влияние на железы внутренней секреции и в первую очередь на половые железы; снижение половой функции наблюдается у 1/3 лиц, злоупотребляющих спиртными напи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oster-03"/>
          <p:cNvPicPr/>
          <p:nvPr/>
        </p:nvPicPr>
        <p:blipFill>
          <a:blip r:embed="rId1"/>
          <a:stretch/>
        </p:blipFill>
        <p:spPr>
          <a:xfrm>
            <a:off x="1619280" y="3500280"/>
            <a:ext cx="2378160" cy="316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vodka-gimlet"/>
          <p:cNvPicPr/>
          <p:nvPr/>
        </p:nvPicPr>
        <p:blipFill>
          <a:blip r:embed="rId2"/>
          <a:stretch/>
        </p:blipFill>
        <p:spPr>
          <a:xfrm>
            <a:off x="1187280" y="836640"/>
            <a:ext cx="3745080" cy="249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-з=-"/>
          <p:cNvPicPr/>
          <p:nvPr/>
        </p:nvPicPr>
        <p:blipFill>
          <a:blip r:embed="rId3"/>
          <a:stretch/>
        </p:blipFill>
        <p:spPr>
          <a:xfrm>
            <a:off x="5796000" y="4221000"/>
            <a:ext cx="1977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 трети женщин, употребляющих спиртное, рождаются недоношенные дети, четверть пьющих женщин рождает мертвых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-5"/>
          <p:cNvPicPr/>
          <p:nvPr/>
        </p:nvPicPr>
        <p:blipFill>
          <a:blip r:embed="rId1"/>
          <a:stretch/>
        </p:blipFill>
        <p:spPr>
          <a:xfrm>
            <a:off x="395280" y="1484280"/>
            <a:ext cx="4464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Российской Федерации на протяжении 1990-2001 годов, по оценкам А.В. Немцова, в стране ежегодно алкоголем обусловлена преждевременная смерть от 400 до 700 тысяч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-5"/>
          <p:cNvPicPr/>
          <p:nvPr/>
        </p:nvPicPr>
        <p:blipFill>
          <a:blip r:embed="rId1"/>
          <a:stretch/>
        </p:blipFill>
        <p:spPr>
          <a:xfrm>
            <a:off x="539640" y="3500280"/>
            <a:ext cx="4392720" cy="286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lkohol_798dc8a948"/>
          <p:cNvPicPr/>
          <p:nvPr/>
        </p:nvPicPr>
        <p:blipFill>
          <a:blip r:embed="rId2"/>
          <a:stretch/>
        </p:blipFill>
        <p:spPr>
          <a:xfrm>
            <a:off x="179280" y="333360"/>
            <a:ext cx="329112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nowine"/>
          <p:cNvPicPr/>
          <p:nvPr/>
        </p:nvPicPr>
        <p:blipFill>
          <a:blip r:embed="rId3"/>
          <a:stretch/>
        </p:blipFill>
        <p:spPr>
          <a:xfrm>
            <a:off x="5651640" y="3789360"/>
            <a:ext cx="263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ff"/>
                </a:solidFill>
                <a:uFillTx/>
                <a:latin typeface="Monotype Corsiva"/>
              </a:rPr>
              <a:t>Высокий уровень потребления алкоголя на душу населения обязан в первую очередь российским мужчинам, потребляющим в 7-9 раз больше чистого алкоголя, чем женщи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00" y="1916280"/>
            <a:ext cx="210996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России большую часть составляют напитки высокой крепости — водка и самогон. За счет водки и самогона жители России потребляли в 1994-2002 годах 78-84% общего количества чистого алкогол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-4-big"/>
          <p:cNvPicPr/>
          <p:nvPr/>
        </p:nvPicPr>
        <p:blipFill>
          <a:blip r:embed="rId1"/>
          <a:stretch/>
        </p:blipFill>
        <p:spPr>
          <a:xfrm>
            <a:off x="0" y="33336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30055"/>
          <p:cNvPicPr/>
          <p:nvPr/>
        </p:nvPicPr>
        <p:blipFill>
          <a:blip r:embed="rId2"/>
          <a:stretch/>
        </p:blipFill>
        <p:spPr>
          <a:xfrm>
            <a:off x="5508720" y="907920"/>
            <a:ext cx="3384360" cy="268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n69n-s29"/>
          <p:cNvPicPr/>
          <p:nvPr/>
        </p:nvPicPr>
        <p:blipFill>
          <a:blip r:embed="rId3"/>
          <a:stretch/>
        </p:blipFill>
        <p:spPr>
          <a:xfrm>
            <a:off x="5580000" y="4149720"/>
            <a:ext cx="3564000" cy="235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требление алкоголя в России во второй половине 1990-х - начале 2000 годов характеризовалос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ольшим количеством потребляемого алкогол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треблением алкоголя в виде крепких алкогольных налитков (на алкоголь в составе вина и пива приходилось не менее 20% от общего уровня потребляемого алкогол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значительными объемами потребления суррогатов алкоголя домашнего изгото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ущественными различиями в объеме потребления алкоголя мужчинами и женщи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0 мифов об алкогол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1. Алкоголь согрев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2. Алкоголь возбуждает аппет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3. Алкоголь снимает стре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4. Алкоголь повышает работо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5. Алкоголь понижает дав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6. Качественный алкоголь безвред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7. Алкоголь помогает лечить просту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8. Пиво не алког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9. В алкоголе нет кало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ф 10. Запивать нельзя, нужно закусы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bl-l-3"/>
          <p:cNvPicPr/>
          <p:nvPr/>
        </p:nvPicPr>
        <p:blipFill>
          <a:blip r:embed="rId1"/>
          <a:stretch/>
        </p:blipFill>
        <p:spPr>
          <a:xfrm>
            <a:off x="4716360" y="1341360"/>
            <a:ext cx="3795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за алкого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оголь снижает содержание холестерина в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твращает формирование тромбов, расширяет сосуды и тем способствует более интенсивному кровообращению. Как следствие, снижается вероятность развития сердечно-сосудистых и некоторых других болезней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лкоголь (в речи медиков — алкоголь) (от араб. </a:t>
            </a:r>
            <a:r>
              <a:rPr b="0" lang="ar-SA" sz="2800" spc="-1" strike="noStrike">
                <a:solidFill>
                  <a:srgbClr val="000000"/>
                </a:solidFill>
                <a:latin typeface="Monotype Corsiva"/>
              </a:rPr>
              <a:t>الكحول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‎‎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аль-кухул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) — это бесцветная летучая жидкость. Чаще всего под этим словом подразумевается этанол, впервые полученный при ферментации сахаров (брож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55"/>
          <p:cNvPicPr/>
          <p:nvPr/>
        </p:nvPicPr>
        <p:blipFill>
          <a:blip r:embed="rId1"/>
          <a:stretch/>
        </p:blipFill>
        <p:spPr>
          <a:xfrm>
            <a:off x="0" y="2708280"/>
            <a:ext cx="417672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197014824_2070049409_e681318df1_o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240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n69n-s29"/>
          <p:cNvPicPr/>
          <p:nvPr/>
        </p:nvPicPr>
        <p:blipFill>
          <a:blip r:embed="rId3"/>
          <a:stretch/>
        </p:blipFill>
        <p:spPr>
          <a:xfrm>
            <a:off x="5003640" y="4437000"/>
            <a:ext cx="360072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218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Контроль качества алкогольной продукции: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1. Отбор проб и испытания алкогольной продукции (водки; коньяк; виноградные и плодовые вина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2. Основные физико-химические характеристики разных групп алкогольной продукции и их влияние на качество последних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ояние опьянения, сопровождающееся ослаблением сдерживающих факторов, утратой чувства стыда и реальной оценки последствий совершаемых поступков, часто толкает молодых людей на легкомысленные случайные половые связ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 данным Минздрава, в России около 2 млн. больных алкоголизмом, но на самом деле эта цифра в несколько раз выше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mo"/>
          <p:cNvPicPr/>
          <p:nvPr/>
        </p:nvPicPr>
        <p:blipFill>
          <a:blip r:embed="rId1"/>
          <a:stretch/>
        </p:blipFill>
        <p:spPr>
          <a:xfrm>
            <a:off x="179280" y="1773360"/>
            <a:ext cx="5040360" cy="369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117"/>
          <p:cNvPicPr/>
          <p:nvPr/>
        </p:nvPicPr>
        <p:blipFill>
          <a:blip r:embed="rId2"/>
          <a:stretch/>
        </p:blipFill>
        <p:spPr>
          <a:xfrm>
            <a:off x="5435640" y="4005360"/>
            <a:ext cx="3492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ВЕТЫ ДЛЯ ИНДИВИДУАЛЬНОГО ПОТРЕБЛЕНИЯ АЛК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ая рекомендация - не следует пить больше 20 грамм алкоголя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отдельных групп этот предел еще ни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, кто воздерживается от алкоголя, не должны начинать пить с целью снижения риска заболевае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м, кто выпивает не каждый день, не следует увеличивать потребление для снижения риска заболевае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сем тем, кто выпивает более 20 грамм алкоголя в день следует уменьшить потребление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тобы минимизировать риск заболеваемости, нужно, по меньшей мере, один день в неделю воздерживаться от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сем, кто потребляет алкоголь, не следует напиваться до опья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еременным женщинам необходимо воздерживаться от алког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 определенных обстоятельствах и для определенных категорий людей потребление алкоголя противо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ем, кто хочет увеличить свое потребление алкоголя с целью улучшения здоровья, следует предварительно проконсультироваться с лечащим врач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лкоголь может быть отнесен к одной из основных причин демографического кризиса в России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_logo_DSCF9605_1"/>
          <p:cNvPicPr/>
          <p:nvPr/>
        </p:nvPicPr>
        <p:blipFill>
          <a:blip r:embed="rId1"/>
          <a:stretch/>
        </p:blipFill>
        <p:spPr>
          <a:xfrm>
            <a:off x="0" y="1197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olodov03"/>
          <p:cNvPicPr/>
          <p:nvPr/>
        </p:nvPicPr>
        <p:blipFill>
          <a:blip r:embed="rId2"/>
          <a:stretch/>
        </p:blipFill>
        <p:spPr>
          <a:xfrm>
            <a:off x="971640" y="3645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ezimeni-3"/>
          <p:cNvPicPr/>
          <p:nvPr/>
        </p:nvPicPr>
        <p:blipFill>
          <a:blip r:embed="rId3"/>
          <a:stretch/>
        </p:blipFill>
        <p:spPr>
          <a:xfrm>
            <a:off x="3924360" y="1844640"/>
            <a:ext cx="5111640" cy="339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История появлен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Западе открытие дистиллированного алкоголя (этанола) приписывалось то алхимику </a:t>
            </a:r>
            <a:r>
              <a:rPr b="1" lang="ru-RU" sz="2800" spc="-1" strike="noStrike">
                <a:solidFill>
                  <a:srgbClr val="99ff66"/>
                </a:solidFill>
                <a:latin typeface="Monotype Corsiva"/>
              </a:rPr>
              <a:t>Раймонду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Луллию, то его современнику Арнольду де Вилланов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ервое упоминание о каком-то дистиллированном виде «алкоголя» (этанола) встречается в IV в. н. э. в писаниях китайского алхимика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Гэ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Ху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явление в Росси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пирт из ржаного сырья в России изобрели в 1448—1474 годах. Разбавленный водой, он получил название «хлебного вина» или «водки». Алкоголизация страны началась только с середины XVI века, когда государство сделало продажу спиртного статьей своего дохода и заменило сытные корчмы кабаками, где подавали только питье, но не 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_logo_DSCF9605_1"/>
          <p:cNvPicPr/>
          <p:nvPr/>
        </p:nvPicPr>
        <p:blipFill>
          <a:blip r:embed="rId1"/>
          <a:stretch/>
        </p:blipFill>
        <p:spPr>
          <a:xfrm>
            <a:off x="250920" y="3284640"/>
            <a:ext cx="2017440" cy="201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Alkohol_798dc8a948"/>
          <p:cNvPicPr/>
          <p:nvPr/>
        </p:nvPicPr>
        <p:blipFill>
          <a:blip r:embed="rId2"/>
          <a:stretch/>
        </p:blipFill>
        <p:spPr>
          <a:xfrm>
            <a:off x="2340000" y="4672080"/>
            <a:ext cx="32907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-8-2"/>
          <p:cNvPicPr/>
          <p:nvPr/>
        </p:nvPicPr>
        <p:blipFill>
          <a:blip r:embed="rId3"/>
          <a:stretch/>
        </p:blipFill>
        <p:spPr>
          <a:xfrm>
            <a:off x="5796000" y="3573360"/>
            <a:ext cx="3203640" cy="297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лкоголи - наркотические протоплазматические яды. Алкоголи оказывают довольно близкое повреждающее воздействие практически на все органы, но имеются и существенные разли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Метанол вызывает острое отравление из-за специфического действия одного из метаболитов - формальдег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Этанол - известное наркотическое вещество, его широкое употребление для опьянения привело к появлению огромной промышленности и рынка алкогольных напи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Бутиловый, амиловый спирты и их изомеры - распространённая примесь к алкогольным напиткам (сивушные масла). Они более токсичны, чем этан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ысшие спирты обладают несколько меньшим наркотическим и токсическим действием, т.к. практически нерастворимы в воде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иды алкогольных напит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амо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амп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нь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555"/>
          <p:cNvPicPr/>
          <p:nvPr/>
        </p:nvPicPr>
        <p:blipFill>
          <a:blip r:embed="rId1"/>
          <a:stretch/>
        </p:blipFill>
        <p:spPr>
          <a:xfrm>
            <a:off x="5867280" y="1052640"/>
            <a:ext cx="28800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lcohol_onions_bread_18"/>
          <p:cNvPicPr/>
          <p:nvPr/>
        </p:nvPicPr>
        <p:blipFill>
          <a:blip r:embed="rId2"/>
          <a:stretch/>
        </p:blipFill>
        <p:spPr>
          <a:xfrm>
            <a:off x="2340000" y="475308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lk"/>
          <p:cNvPicPr/>
          <p:nvPr/>
        </p:nvPicPr>
        <p:blipFill>
          <a:blip r:embed="rId3"/>
          <a:stretch/>
        </p:blipFill>
        <p:spPr>
          <a:xfrm>
            <a:off x="2124000" y="1197000"/>
            <a:ext cx="2808360" cy="215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odka-gimlet"/>
          <p:cNvPicPr/>
          <p:nvPr/>
        </p:nvPicPr>
        <p:blipFill>
          <a:blip r:embed="rId4"/>
          <a:stretch/>
        </p:blipFill>
        <p:spPr>
          <a:xfrm>
            <a:off x="5003640" y="335772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ino1"/>
          <p:cNvPicPr/>
          <p:nvPr/>
        </p:nvPicPr>
        <p:blipFill>
          <a:blip r:embed="rId5"/>
          <a:stretch/>
        </p:blipFill>
        <p:spPr>
          <a:xfrm>
            <a:off x="7020000" y="3933720"/>
            <a:ext cx="1984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кероводочные изделия - они представляют собой смеси различных спиртовых соков, морсов, настоев, ароматных спиртов, получаемых из плодово-ягодного и ароматического сырья с добавлением сахарного сиропа, вин, коньяка и других пищевых продуктов, а также спирта и вод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55"/>
          <p:cNvPicPr/>
          <p:nvPr/>
        </p:nvPicPr>
        <p:blipFill>
          <a:blip r:embed="rId1"/>
          <a:stretch/>
        </p:blipFill>
        <p:spPr>
          <a:xfrm>
            <a:off x="468360" y="2708280"/>
            <a:ext cx="3602160" cy="273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030715002112_big"/>
          <p:cNvPicPr/>
          <p:nvPr/>
        </p:nvPicPr>
        <p:blipFill>
          <a:blip r:embed="rId2"/>
          <a:stretch/>
        </p:blipFill>
        <p:spPr>
          <a:xfrm>
            <a:off x="5724360" y="4672080"/>
            <a:ext cx="298800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ic4_8018"/>
          <p:cNvPicPr/>
          <p:nvPr/>
        </p:nvPicPr>
        <p:blipFill>
          <a:blip r:embed="rId3"/>
          <a:stretch/>
        </p:blipFill>
        <p:spPr>
          <a:xfrm>
            <a:off x="4356000" y="234936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Monotype Corsiva"/>
              </a:rPr>
              <a:t>К чему ведет перебор норм? Специальные исследования показали, что рано наступает увядание организма, выпадают зубы, снижается зрение и слух! Необратимые болезненные изменения наступают во внутренних органах, в первую очередь в сердце, печени, желудочно-кишечном тракте. </a:t>
            </a:r>
            <a:br>
              <a:rPr sz="2400"/>
            </a:br>
            <a:r>
              <a:rPr b="1" lang="ru-RU" sz="2400" spc="-1" strike="noStrike">
                <a:solidFill>
                  <a:srgbClr val="ff3399"/>
                </a:solidFill>
                <a:latin typeface="Monotype Corsiva"/>
              </a:rPr>
              <a:t>Центральная нервная система претерпевает грубые деструктивные изменения. В третьей стадии наступает деградация личности, для которой характерно приобретенное слабоум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3640" y="549360"/>
            <a:ext cx="3313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А так же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отребление алкоголя увеличивает риск нанесения вреда и здоровью других людей (травмы, насилия, убийства), возникновения семейных, трудовых и социальны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5-13"/>
          <p:cNvPicPr/>
          <p:nvPr/>
        </p:nvPicPr>
        <p:blipFill>
          <a:blip r:embed="rId1"/>
          <a:stretch/>
        </p:blipFill>
        <p:spPr>
          <a:xfrm>
            <a:off x="539640" y="0"/>
            <a:ext cx="2362320" cy="34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7781c31107cf37bb7238ddd565ff8b57"/>
          <p:cNvPicPr/>
          <p:nvPr/>
        </p:nvPicPr>
        <p:blipFill>
          <a:blip r:embed="rId2"/>
          <a:stretch/>
        </p:blipFill>
        <p:spPr>
          <a:xfrm>
            <a:off x="1908000" y="350028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10:13Z</dcterms:created>
  <dc:creator>FD</dc:creator>
  <dc:description>allprezentation.ru</dc:description>
  <dc:language>en-US</dc:language>
  <cp:lastModifiedBy>ZooM</cp:lastModifiedBy>
  <dcterms:modified xsi:type="dcterms:W3CDTF">2013-10-28T11:14:44Z</dcterms:modified>
  <cp:revision>8</cp:revision>
  <dc:subject/>
  <dc:title>Потребление алк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