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1A6E-B909-442D-9AF3-A2F60F4176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8F9C-1FFE-478D-9F63-30F46DFE3B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A5D7-FD92-4A34-9596-A355CC6F17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1D4B-6D3A-4911-A7A8-C94850A242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EC1E-C709-4B96-8CA9-A121B5CA75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FFFF-6579-4AE8-9A36-4B3D46B198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97F2-3995-4022-893A-F5AED66A4E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482C-7F88-4225-8255-B6F025C875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9908-5037-4B39-B42D-FF30E2C644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B9AB-4908-45FF-944E-CE9A94680F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63BB-CEEA-42F7-ACC0-8A86A278BD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B315-733A-4286-A1BA-25CD6B2A79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E4DD-6574-4A3A-88B4-ADB577404A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93BD-A813-4CF7-8623-78EF266A7B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7DB3-96F5-473C-9880-6B9FE21202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8579-2E11-469E-8471-46D9D0FC93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ADE9-7D94-4574-8675-C9254552FF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2F7C-148F-4141-AC1F-33E03D5062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40DC-5170-4F83-9497-7BA8E3A99D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475A-A1CB-40B7-A329-47811FB346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DF9A-01BA-4110-9568-C62151828B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4C37-A40C-4F19-A7DF-1AACA9FE26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2927-75CE-498B-9901-E604C1C1EB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3DED-DA5D-494F-ADAF-E2CA4B9FD0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AF20-D49B-4453-A247-B0F78E8B14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97E-EB9A-4F7D-BB10-4E737656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091-65B2-4C6D-B0E3-CC9001BC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F3E5-76D8-4139-9FE4-8FCCD436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CF0F-D956-4896-B8EF-5AA95996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A8E-A001-4BD1-932D-C54C9F02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08D-29EC-4354-BC45-AB80C26C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7A2-1898-4706-A7D0-7B7E9B51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6CF-E4FB-40B3-B3B9-49CDAD99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D1D6-6112-4E09-A0C4-992BB129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A8B-3DE8-479A-BA04-B76F85B1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112C-1E81-41A1-9958-881E78B9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7EA5-420F-4C01-94EF-7AEFDEC8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4A12-47E3-45B2-81BA-126FA4D7F8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Алкогол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643280" y="4508640"/>
            <a:ext cx="43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У ВЫПОЛНИ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32000" y="274680"/>
            <a:ext cx="375444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лкоголь оказывает вредное влияние на железы внутренней секреции и в первую очередь на половые железы; снижение половой функции наблюдается у 1/3 лиц, злоупотребляющих спиртными напи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poster-03"/>
          <p:cNvPicPr/>
          <p:nvPr/>
        </p:nvPicPr>
        <p:blipFill>
          <a:blip r:embed="rId1"/>
          <a:stretch/>
        </p:blipFill>
        <p:spPr>
          <a:xfrm>
            <a:off x="1619280" y="3500280"/>
            <a:ext cx="2378160" cy="3168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vodka-gimlet"/>
          <p:cNvPicPr/>
          <p:nvPr/>
        </p:nvPicPr>
        <p:blipFill>
          <a:blip r:embed="rId2"/>
          <a:stretch/>
        </p:blipFill>
        <p:spPr>
          <a:xfrm>
            <a:off x="1187280" y="836640"/>
            <a:ext cx="3745080" cy="2495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-з=-"/>
          <p:cNvPicPr/>
          <p:nvPr/>
        </p:nvPicPr>
        <p:blipFill>
          <a:blip r:embed="rId3"/>
          <a:stretch/>
        </p:blipFill>
        <p:spPr>
          <a:xfrm>
            <a:off x="5796000" y="4221000"/>
            <a:ext cx="19778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32000" y="274680"/>
            <a:ext cx="375444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У трети женщин, употребляющих спиртное, рождаются недоношенные дети, четверть пьющих женщин рождает мертвых дет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-5"/>
          <p:cNvPicPr/>
          <p:nvPr/>
        </p:nvPicPr>
        <p:blipFill>
          <a:blip r:embed="rId1"/>
          <a:stretch/>
        </p:blipFill>
        <p:spPr>
          <a:xfrm>
            <a:off x="395280" y="1484280"/>
            <a:ext cx="44640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Российской Федерации на протяжении 1990-2001 годов, по оценкам А.В. Немцова, в стране ежегодно алкоголем обусловлена преждевременная смерть от 400 до 700 тысяч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-5"/>
          <p:cNvPicPr/>
          <p:nvPr/>
        </p:nvPicPr>
        <p:blipFill>
          <a:blip r:embed="rId1"/>
          <a:stretch/>
        </p:blipFill>
        <p:spPr>
          <a:xfrm>
            <a:off x="539640" y="3500280"/>
            <a:ext cx="4392720" cy="2862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Alkohol_798dc8a948"/>
          <p:cNvPicPr/>
          <p:nvPr/>
        </p:nvPicPr>
        <p:blipFill>
          <a:blip r:embed="rId2"/>
          <a:stretch/>
        </p:blipFill>
        <p:spPr>
          <a:xfrm>
            <a:off x="179280" y="333360"/>
            <a:ext cx="3291120" cy="218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nowine"/>
          <p:cNvPicPr/>
          <p:nvPr/>
        </p:nvPicPr>
        <p:blipFill>
          <a:blip r:embed="rId3"/>
          <a:stretch/>
        </p:blipFill>
        <p:spPr>
          <a:xfrm>
            <a:off x="5651640" y="3789360"/>
            <a:ext cx="26398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ff"/>
                </a:solidFill>
                <a:uFillTx/>
                <a:latin typeface="Monotype Corsiva"/>
              </a:rPr>
              <a:t>Высокий уровень потребления алкоголя на душу населения обязан в первую очередь российским мужчинам, потребляющим в 7-9 раз больше чистого алкоголя, чем женщи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92000" y="1916280"/>
            <a:ext cx="210996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России большую часть составляют напитки высокой крепости — водка и самогон. За счет водки и самогона жители России потребляли в 1994-2002 годах 78-84% общего количества чистого алкоголя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-4-big"/>
          <p:cNvPicPr/>
          <p:nvPr/>
        </p:nvPicPr>
        <p:blipFill>
          <a:blip r:embed="rId1"/>
          <a:stretch/>
        </p:blipFill>
        <p:spPr>
          <a:xfrm>
            <a:off x="0" y="33336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30055"/>
          <p:cNvPicPr/>
          <p:nvPr/>
        </p:nvPicPr>
        <p:blipFill>
          <a:blip r:embed="rId2"/>
          <a:stretch/>
        </p:blipFill>
        <p:spPr>
          <a:xfrm>
            <a:off x="5508720" y="907920"/>
            <a:ext cx="3384360" cy="2687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n69n-s29"/>
          <p:cNvPicPr/>
          <p:nvPr/>
        </p:nvPicPr>
        <p:blipFill>
          <a:blip r:embed="rId3"/>
          <a:stretch/>
        </p:blipFill>
        <p:spPr>
          <a:xfrm>
            <a:off x="5580000" y="4149720"/>
            <a:ext cx="3564000" cy="2351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Потребление алкоголя в России во второй половине 1990-х - начале 2000 годов характеризовалось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большим количеством потребляемого алкогол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отреблением алкоголя в виде крепких алкогольных налитков (на алкоголь в составе вина и пива приходилось не менее 20% от общего уровня потребляемого алкогол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значительными объемами потребления суррогатов алкоголя домашнего изготовл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ущественными различиями в объеме потребления алкоголя мужчинами и женщин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10 мифов об алкоголе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ф 1. Алкоголь согрева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ф 2. Алкоголь возбуждает аппет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ф 3. Алкоголь снимает стрес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ф 4. Алкоголь повышает работоспособ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ф 5. Алкоголь понижает дав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ф 6. Качественный алкоголь безвред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ф 7. Алкоголь помогает лечить просту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ф 8. Пиво не алкого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ф 9. В алкоголе нет калор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ф 10. Запивать нельзя, нужно закусыв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obl-l-3"/>
          <p:cNvPicPr/>
          <p:nvPr/>
        </p:nvPicPr>
        <p:blipFill>
          <a:blip r:embed="rId1"/>
          <a:stretch/>
        </p:blipFill>
        <p:spPr>
          <a:xfrm>
            <a:off x="4716360" y="1341360"/>
            <a:ext cx="37958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ьза алкогол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коголь снижает содержание холестерина в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отвращает формирование тромбов, расширяет сосуды и тем способствует более интенсивному кровообращению. Как следствие, снижается вероятность развития сердечно-сосудистых и некоторых других болезней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лкоголь (в речи медиков — алкоголь) (от араб. </a:t>
            </a:r>
            <a:r>
              <a:rPr b="0" lang="ar-SA" sz="2800" spc="-1" strike="noStrike">
                <a:solidFill>
                  <a:srgbClr val="000000"/>
                </a:solidFill>
                <a:latin typeface="Monotype Corsiva"/>
              </a:rPr>
              <a:t>الكحول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‎‎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аль-кухуль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) — это бесцветная летучая жидкость. Чаще всего под этим словом подразумевается этанол, впервые полученный при ферментации сахаров (броже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555"/>
          <p:cNvPicPr/>
          <p:nvPr/>
        </p:nvPicPr>
        <p:blipFill>
          <a:blip r:embed="rId1"/>
          <a:stretch/>
        </p:blipFill>
        <p:spPr>
          <a:xfrm>
            <a:off x="0" y="2708280"/>
            <a:ext cx="4176720" cy="3170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1197014824_2070049409_e681318df1_o"/>
          <p:cNvPicPr/>
          <p:nvPr/>
        </p:nvPicPr>
        <p:blipFill>
          <a:blip r:embed="rId2"/>
          <a:stretch/>
        </p:blipFill>
        <p:spPr>
          <a:xfrm>
            <a:off x="4356000" y="1844640"/>
            <a:ext cx="3600720" cy="240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n69n-s29"/>
          <p:cNvPicPr/>
          <p:nvPr/>
        </p:nvPicPr>
        <p:blipFill>
          <a:blip r:embed="rId3"/>
          <a:stretch/>
        </p:blipFill>
        <p:spPr>
          <a:xfrm>
            <a:off x="5003640" y="4437000"/>
            <a:ext cx="360072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2184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Контроль качества алкогольной продукции:</a:t>
            </a:r>
            <a:br>
              <a:rPr sz="28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Monotype Corsiva"/>
              </a:rPr>
              <a:t>1. Отбор проб и испытания алкогольной продукции (водки; коньяк; виноградные и плодовые вина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Monotype Corsiva"/>
              </a:rPr>
              <a:t>2. Основные физико-химические характеристики разных групп алкогольной продукции и их влияние на качество последних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24000" y="274680"/>
            <a:ext cx="65628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остояние опьянения, сопровождающееся ослаблением сдерживающих факторов, утратой чувства стыда и реальной оценки последствий совершаемых поступков, часто толкает молодых людей на легкомысленные случайные половые связ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 данным Минздрава, в России около 2 млн. больных алкоголизмом, но на самом деле эта цифра в несколько раз выше!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7_mo"/>
          <p:cNvPicPr/>
          <p:nvPr/>
        </p:nvPicPr>
        <p:blipFill>
          <a:blip r:embed="rId1"/>
          <a:stretch/>
        </p:blipFill>
        <p:spPr>
          <a:xfrm>
            <a:off x="179280" y="1773360"/>
            <a:ext cx="5040360" cy="3693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117"/>
          <p:cNvPicPr/>
          <p:nvPr/>
        </p:nvPicPr>
        <p:blipFill>
          <a:blip r:embed="rId2"/>
          <a:stretch/>
        </p:blipFill>
        <p:spPr>
          <a:xfrm>
            <a:off x="5435640" y="4005360"/>
            <a:ext cx="349236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ОВЕТЫ ДЛЯ ИНДИВИДУАЛЬНОГО ПОТРЕБЛЕНИЯ АЛКОГ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бщая рекомендация - не следует пить больше 20 грамм алкоголя в д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ля отдельных групп этот предел еще ниж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Те, кто воздерживается от алкоголя, не должны начинать пить с целью снижения риска заболеваем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Тем, кто выпивает не каждый день, не следует увеличивать потребление для снижения риска заболеваем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сем тем, кто выпивает более 20 грамм алкоголя в день следует уменьшить потребление алког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Чтобы минимизировать риск заболеваемости, нужно, по меньшей мере, один день в неделю воздерживаться от алког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сем, кто потребляет алкоголь, не следует напиваться до опьян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Беременным женщинам необходимо воздерживаться от алког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 определенных обстоятельствах и для определенных категорий людей потребление алкоголя противопоказа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Тем, кто хочет увеличить свое потребление алкоголя с целью улучшения здоровья, следует предварительно проконсультироваться с лечащим врач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лкоголь может быть отнесен к одной из основных причин демографического кризиса в России!!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_logo_DSCF9605_1"/>
          <p:cNvPicPr/>
          <p:nvPr/>
        </p:nvPicPr>
        <p:blipFill>
          <a:blip r:embed="rId1"/>
          <a:stretch/>
        </p:blipFill>
        <p:spPr>
          <a:xfrm>
            <a:off x="0" y="119700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solodov03"/>
          <p:cNvPicPr/>
          <p:nvPr/>
        </p:nvPicPr>
        <p:blipFill>
          <a:blip r:embed="rId2"/>
          <a:stretch/>
        </p:blipFill>
        <p:spPr>
          <a:xfrm>
            <a:off x="971640" y="3645000"/>
            <a:ext cx="2663640" cy="266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bezimeni-3"/>
          <p:cNvPicPr/>
          <p:nvPr/>
        </p:nvPicPr>
        <p:blipFill>
          <a:blip r:embed="rId3"/>
          <a:stretch/>
        </p:blipFill>
        <p:spPr>
          <a:xfrm>
            <a:off x="3924360" y="1844640"/>
            <a:ext cx="5111640" cy="339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337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Monotype Corsiva"/>
              </a:rPr>
              <a:t>История появления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 Западе открытие дистиллированного алкоголя (этанола) приписывалось то алхимику </a:t>
            </a:r>
            <a:r>
              <a:rPr b="1" lang="ru-RU" sz="2800" spc="-1" strike="noStrike">
                <a:solidFill>
                  <a:srgbClr val="99ff66"/>
                </a:solidFill>
                <a:latin typeface="Monotype Corsiva"/>
              </a:rPr>
              <a:t>Раймонду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Луллию, то его современнику Арнольду де Вилланова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ервое упоминание о каком-то дистиллированном виде «алкоголя» (этанола) встречается в IV в. н. э. в писаниях китайского алхимика </a:t>
            </a: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Гэ 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Хуна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оявление в России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пирт из ржаного сырья в России изобрели в 1448—1474 годах. Разбавленный водой, он получил название «хлебного вина» или «водки». Алкоголизация страны началась только с середины XVI века, когда государство сделало продажу спиртного статьей своего дохода и заменило сытные корчмы кабаками, где подавали только питье, но не е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_logo_DSCF9605_1"/>
          <p:cNvPicPr/>
          <p:nvPr/>
        </p:nvPicPr>
        <p:blipFill>
          <a:blip r:embed="rId1"/>
          <a:stretch/>
        </p:blipFill>
        <p:spPr>
          <a:xfrm>
            <a:off x="250920" y="3284640"/>
            <a:ext cx="2017440" cy="2017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Alkohol_798dc8a948"/>
          <p:cNvPicPr/>
          <p:nvPr/>
        </p:nvPicPr>
        <p:blipFill>
          <a:blip r:embed="rId2"/>
          <a:stretch/>
        </p:blipFill>
        <p:spPr>
          <a:xfrm>
            <a:off x="2340000" y="4672080"/>
            <a:ext cx="329076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p-8-2"/>
          <p:cNvPicPr/>
          <p:nvPr/>
        </p:nvPicPr>
        <p:blipFill>
          <a:blip r:embed="rId3"/>
          <a:stretch/>
        </p:blipFill>
        <p:spPr>
          <a:xfrm>
            <a:off x="5796000" y="3573360"/>
            <a:ext cx="3203640" cy="2978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лкоголи - наркотические протоплазматические яды. Алкоголи оказывают довольно близкое повреждающее воздействие практически на все органы, но имеются и существенные различ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Метанол вызывает острое отравление из-за специфического действия одного из метаболитов - формальдеги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Этанол - известное наркотическое вещество, его широкое употребление для опьянения привело к появлению огромной промышленности и рынка алкогольных напит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Бутиловый, амиловый спирты и их изомеры - распространённая примесь к алкогольным напиткам (сивушные масла). Они более токсичны, чем этано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Высшие спирты обладают несколько меньшим наркотическим и токсическим действием, т.к. практически нерастворимы в воде.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иды алкогольных напит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амог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о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и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и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Шампан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онь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ом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555"/>
          <p:cNvPicPr/>
          <p:nvPr/>
        </p:nvPicPr>
        <p:blipFill>
          <a:blip r:embed="rId1"/>
          <a:stretch/>
        </p:blipFill>
        <p:spPr>
          <a:xfrm>
            <a:off x="5867280" y="1052640"/>
            <a:ext cx="288000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Alcohol_onions_bread_18"/>
          <p:cNvPicPr/>
          <p:nvPr/>
        </p:nvPicPr>
        <p:blipFill>
          <a:blip r:embed="rId2"/>
          <a:stretch/>
        </p:blipFill>
        <p:spPr>
          <a:xfrm>
            <a:off x="2340000" y="4753080"/>
            <a:ext cx="2808360" cy="21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alk"/>
          <p:cNvPicPr/>
          <p:nvPr/>
        </p:nvPicPr>
        <p:blipFill>
          <a:blip r:embed="rId3"/>
          <a:stretch/>
        </p:blipFill>
        <p:spPr>
          <a:xfrm>
            <a:off x="2124000" y="1197000"/>
            <a:ext cx="2808360" cy="215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vodka-gimlet"/>
          <p:cNvPicPr/>
          <p:nvPr/>
        </p:nvPicPr>
        <p:blipFill>
          <a:blip r:embed="rId4"/>
          <a:stretch/>
        </p:blipFill>
        <p:spPr>
          <a:xfrm>
            <a:off x="5003640" y="3357720"/>
            <a:ext cx="194472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vino1"/>
          <p:cNvPicPr/>
          <p:nvPr/>
        </p:nvPicPr>
        <p:blipFill>
          <a:blip r:embed="rId5"/>
          <a:stretch/>
        </p:blipFill>
        <p:spPr>
          <a:xfrm>
            <a:off x="7020000" y="3933720"/>
            <a:ext cx="19843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69796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Ликероводочные изделия - они представляют собой смеси различных спиртовых соков, морсов, настоев, ароматных спиртов, получаемых из плодово-ягодного и ароматического сырья с добавлением сахарного сиропа, вин, коньяка и других пищевых продуктов, а также спирта и воды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555"/>
          <p:cNvPicPr/>
          <p:nvPr/>
        </p:nvPicPr>
        <p:blipFill>
          <a:blip r:embed="rId1"/>
          <a:stretch/>
        </p:blipFill>
        <p:spPr>
          <a:xfrm>
            <a:off x="468360" y="2708280"/>
            <a:ext cx="3602160" cy="2733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20030715002112_big"/>
          <p:cNvPicPr/>
          <p:nvPr/>
        </p:nvPicPr>
        <p:blipFill>
          <a:blip r:embed="rId2"/>
          <a:stretch/>
        </p:blipFill>
        <p:spPr>
          <a:xfrm>
            <a:off x="5724360" y="4672080"/>
            <a:ext cx="2988000" cy="218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pic4_8018"/>
          <p:cNvPicPr/>
          <p:nvPr/>
        </p:nvPicPr>
        <p:blipFill>
          <a:blip r:embed="rId3"/>
          <a:stretch/>
        </p:blipFill>
        <p:spPr>
          <a:xfrm>
            <a:off x="4356000" y="2349360"/>
            <a:ext cx="2187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Monotype Corsiva"/>
              </a:rPr>
              <a:t>К чему ведет перебор норм? Специальные исследования показали, что рано наступает увядание организма, выпадают зубы, снижается зрение и слух! Необратимые болезненные изменения наступают во внутренних органах, в первую очередь в сердце, печени, желудочно-кишечном тракте. </a:t>
            </a:r>
            <a:br>
              <a:rPr sz="2400"/>
            </a:br>
            <a:r>
              <a:rPr b="1" lang="ru-RU" sz="2400" spc="-1" strike="noStrike">
                <a:solidFill>
                  <a:srgbClr val="ff3399"/>
                </a:solidFill>
                <a:latin typeface="Monotype Corsiva"/>
              </a:rPr>
              <a:t>Центральная нервная система претерпевает грубые деструктивные изменения. В третьей стадии наступает деградация личности, для которой характерно приобретенное слабоуми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3640" y="549360"/>
            <a:ext cx="331344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А так же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Потребление алкоголя увеличивает риск нанесения вреда и здоровью других людей (травмы, насилия, убийства), возникновения семейных, трудовых и социальных пробле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15-13"/>
          <p:cNvPicPr/>
          <p:nvPr/>
        </p:nvPicPr>
        <p:blipFill>
          <a:blip r:embed="rId1"/>
          <a:stretch/>
        </p:blipFill>
        <p:spPr>
          <a:xfrm>
            <a:off x="539640" y="0"/>
            <a:ext cx="2362320" cy="34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7781c31107cf37bb7238ddd565ff8b57"/>
          <p:cNvPicPr/>
          <p:nvPr/>
        </p:nvPicPr>
        <p:blipFill>
          <a:blip r:embed="rId2"/>
          <a:stretch/>
        </p:blipFill>
        <p:spPr>
          <a:xfrm>
            <a:off x="1908000" y="350028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6:10:13Z</dcterms:created>
  <dc:creator>FD</dc:creator>
  <dc:description>allprezentation.ru</dc:description>
  <dc:language>en-US</dc:language>
  <cp:lastModifiedBy>ZooM</cp:lastModifiedBy>
  <dcterms:modified xsi:type="dcterms:W3CDTF">2013-10-28T11:14:44Z</dcterms:modified>
  <cp:revision>8</cp:revision>
  <dc:subject/>
  <dc:title>Потребление алкого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d000000000001024140</vt:lpwstr>
  </property>
</Properties>
</file>