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2FCA-300E-446A-808C-05DE5495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B37BE-6FFD-417E-AE17-330475C2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B586F-9D31-4CE3-9AEC-BADA2607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62FA9-AC5F-4F2B-BC21-B64F2A30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E5A5-2407-405E-9C37-8CB09CC1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771E-97A7-4923-89F7-6CCAA482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3BAD-0C7A-47B8-ADD2-A4847908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E171-3E66-4309-B704-7DEAF1D6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B47A-2A28-4131-9471-AB6CECEF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715A-54E8-4C06-BB0D-81044A68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1138-481B-4D4B-B563-0CBBB6BA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6A18A-C88C-4076-9D2E-6A5248C2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90C9-DDFB-475E-BDEF-CFAD5F0E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A53A-BF4D-4B83-9367-AAB48FE1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287E-E7A4-424E-BD86-886C500A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2752-3FC9-4529-83EA-A3F15FF4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D550-24ED-4E36-9CAF-89C0AE9C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0B75B-4B8F-43E4-9881-1756034E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58667-0B8E-49CB-A7B5-61ABFD17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8DFC2-0F0E-482F-9A7A-59684220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C24EC-B522-46D7-A259-6C222507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F848E-93B6-4F5D-BC25-812757DC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2CAE4-A475-4B8F-B0B9-A3382753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0DDFC-05F8-4A9D-B30B-20EFD582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3D5F-4AB5-4D45-A004-F0C20D70BA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F9E4-0A8D-49F3-8D60-20D881D107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Ставропольский государственный университет</a:t>
            </a:r>
            <a:br>
              <a:rPr sz="3600"/>
            </a:br>
            <a:br>
              <a:rPr sz="20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2232000"/>
            <a:ext cx="914400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Гражданско-патриотическое воспитание учащихся в процессе изучения обществознани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Бондарнеко Н.Я., доцент кафедры психологии и педагогики высшей школ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Цели гражданско-патриотического воспитани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ределить роль обществознания в гражданско-патриотическом воспитании школьнико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знакомиться с принципами гражданско-патриотического воспитания и отметить факторы, способствующие развитию его самосознан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Задач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крыть содержание понятия «гражданское воспитание»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знакомиться с основными направлениями реализации гражданско-патриотического образования учащихся в современной Росс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казать значение деятельности учителя, в организации гражданско-патриотических качеств учащихс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смотреть реализацию системы гражданско-правового образования в образовательном процессе на практик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Теоретические основы гражданского воспита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ажданское воспитание: понятие и содерж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6" descr="8[1]"/>
          <p:cNvPicPr/>
          <p:nvPr/>
        </p:nvPicPr>
        <p:blipFill>
          <a:blip r:embed="rId1"/>
          <a:stretch/>
        </p:blipFill>
        <p:spPr>
          <a:xfrm>
            <a:off x="1258920" y="2349360"/>
            <a:ext cx="69850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направления реализации государственной политики в области гражданско-патриотического воспитания учащихся в современной Росс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4" descr="i[6]"/>
          <p:cNvPicPr/>
          <p:nvPr/>
        </p:nvPicPr>
        <p:blipFill>
          <a:blip r:embed="rId1"/>
          <a:stretch/>
        </p:blipFill>
        <p:spPr>
          <a:xfrm>
            <a:off x="324000" y="3789360"/>
            <a:ext cx="159516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[8]"/>
          <p:cNvPicPr/>
          <p:nvPr/>
        </p:nvPicPr>
        <p:blipFill>
          <a:blip r:embed="rId2"/>
          <a:stretch/>
        </p:blipFill>
        <p:spPr>
          <a:xfrm>
            <a:off x="7164360" y="3860640"/>
            <a:ext cx="1593720" cy="23734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2195640" y="4221000"/>
            <a:ext cx="4608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рмативные документы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формационно-методическ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атериалы Министерст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разования РФ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сударственные стандарты РФ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 образован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10" descr="YMB8YRCAHL9KGACAF385LQCAFWCTYXCALDJXGNCA9HQ634CASWO4UPCACL0Q53CAU4QJO9CA6DW8BACA8YJB6KCAQU5276CAS60K48CAQ38KM2CA66MB43CAW2F0YTCABOKIJKCA4V51CDCATAP7RB"/>
          <p:cNvPicPr/>
          <p:nvPr/>
        </p:nvPicPr>
        <p:blipFill>
          <a:blip r:embed="rId3"/>
          <a:stretch/>
        </p:blipFill>
        <p:spPr>
          <a:xfrm>
            <a:off x="3995640" y="1916280"/>
            <a:ext cx="152568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Использование различных учебно-воспитательных форм работы в организации гражданско-патриотического воспитани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оль учителя в организации гражданско-патриотического воспитания учащихся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555"/>
          <p:cNvPicPr/>
          <p:nvPr/>
        </p:nvPicPr>
        <p:blipFill>
          <a:blip r:embed="rId1"/>
          <a:stretch/>
        </p:blipFill>
        <p:spPr>
          <a:xfrm>
            <a:off x="179280" y="3500280"/>
            <a:ext cx="4264200" cy="3181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vosp[1]"/>
          <p:cNvPicPr/>
          <p:nvPr/>
        </p:nvPicPr>
        <p:blipFill>
          <a:blip r:embed="rId2"/>
          <a:stretch/>
        </p:blipFill>
        <p:spPr>
          <a:xfrm>
            <a:off x="4716360" y="3500280"/>
            <a:ext cx="426744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ализация системы гражданско-правового образования в образовательном процесс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Основная задача гражданско-правового образования - ознакомление учащихся с наиболее распространенными и доступными понятиями и формирование у них элементарных представлений об обществе в целом и их малом сообществе, в частност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vospitanie[1]"/>
          <p:cNvPicPr/>
          <p:nvPr/>
        </p:nvPicPr>
        <p:blipFill>
          <a:blip r:embed="rId1"/>
          <a:stretch/>
        </p:blipFill>
        <p:spPr>
          <a:xfrm>
            <a:off x="5148360" y="3860640"/>
            <a:ext cx="3851280" cy="268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p28_kadr[1]"/>
          <p:cNvPicPr/>
          <p:nvPr/>
        </p:nvPicPr>
        <p:blipFill>
          <a:blip r:embed="rId2"/>
          <a:stretch/>
        </p:blipFill>
        <p:spPr>
          <a:xfrm>
            <a:off x="179280" y="3860640"/>
            <a:ext cx="4572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ми условиями решения образовательных и социальных задач гражданско-правового образования является создание новых учебных курсов, программ, учебных материалов, обеспечивающих получение знаний в области гражданско-правового образова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обходимо подготовить новые пособия по всем ступеням школы, разработать учебно-методические комплексы по гражданско-правовому образованию, по интегративным и модульным курсам для основной и старшей школ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6"/>
          <p:cNvSpPr txBox="1"/>
          <p:nvPr/>
        </p:nvSpPr>
        <p:spPr>
          <a:xfrm rot="21031800">
            <a:off x="1326960" y="2147760"/>
            <a:ext cx="770400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810000"/>
                </a:gradFill>
                <a:latin typeface="Impact"/>
              </a:rPr>
              <a:t>Благодарю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81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5:38:34Z</dcterms:created>
  <dc:creator>www.PHILka.RU</dc:creator>
  <dc:description/>
  <dc:language>en-US</dc:language>
  <cp:lastModifiedBy>Коля</cp:lastModifiedBy>
  <dcterms:modified xsi:type="dcterms:W3CDTF">2013-04-07T11:18:23Z</dcterms:modified>
  <cp:revision>11</cp:revision>
  <dc:subject/>
  <dc:title>Слайд 1</dc:title>
</cp:coreProperties>
</file>