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8372-0660-4DB8-91AF-C1E43906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524D-8A3A-47EA-B845-603B31A3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5FE5-6B53-4F0C-B1AE-4DF6D547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1B63-9DA3-4E55-8FF4-D7E1AEBD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E67B-C173-4157-A6CD-520F07AC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3391-18F1-4459-9BA6-F712B981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FE9A-9B61-4975-AD26-86E1A20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FE00-C536-4BA6-A384-7BFC85B0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1230-A262-4C80-986E-2D14184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9DBD-0050-453C-BE05-D81F49A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094E-AEDA-42E3-AC5F-27EACDD4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E380-87DA-4C11-988C-FBF1089B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22DC-77C2-41CF-BCA1-E1D01B83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FB45-0ED2-4022-8D79-FEB22ED7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D15F-4889-4DD2-AF3D-12EC90BE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CEE4-CF3B-418F-8C45-FCEE1180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2FC4-A6AE-427C-B386-6F6EBE95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8FF1-1515-49AF-A35B-461EE904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5C7F-892E-4113-B003-F1674876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0AF9-F766-4727-8B4C-3BB13FBE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1A19-120A-4878-9016-449CE478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EB13-107C-4426-885C-D01E809D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7F0C-42B7-4F70-9636-219B7C9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B7A4-947E-4972-8CAF-A52C5145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B057-29A2-4D06-9C26-84DCC68EE1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289-4A84-4EB8-8E0E-D874FB150E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тавропольский государственный университет</a:t>
            </a:r>
            <a:br>
              <a:rPr sz="3600"/>
            </a:br>
            <a:br>
              <a:rPr sz="20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232000"/>
            <a:ext cx="91440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Гражданско-патриотическое воспитание учащихся в процессе изучения обществозна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Бондарнеко Н.Я., доцент кафедры психологии и педагогики высшей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Цели гражданско-патриотического воспита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ить роль обществознания в гражданско-патриотическом воспитании школьник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принципами гражданско-патриотического воспитания и отметить факторы, способствующие развитию его самосозна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Задач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крыть содержание понятия «гражданское воспитание»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основными направлениями реализации гражданско-патриотического образования учащихся в современной Росс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казать значение деятельности учителя, в организации гражданско-патриотических качеств учащихс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ть реализацию системы гражданско-правового образования в образовательном процессе на практик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Теоретические основы гражданского воспит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ажданское воспитание: понятие и содерж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6" descr="8[1]"/>
          <p:cNvPicPr/>
          <p:nvPr/>
        </p:nvPicPr>
        <p:blipFill>
          <a:blip r:embed="rId1"/>
          <a:stretch/>
        </p:blipFill>
        <p:spPr>
          <a:xfrm>
            <a:off x="1258920" y="2349360"/>
            <a:ext cx="69850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направления реализации государственной политики в области гражданско-патриотического воспитания учащихся в современной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i[6]"/>
          <p:cNvPicPr/>
          <p:nvPr/>
        </p:nvPicPr>
        <p:blipFill>
          <a:blip r:embed="rId1"/>
          <a:stretch/>
        </p:blipFill>
        <p:spPr>
          <a:xfrm>
            <a:off x="324000" y="3789360"/>
            <a:ext cx="159516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[8]"/>
          <p:cNvPicPr/>
          <p:nvPr/>
        </p:nvPicPr>
        <p:blipFill>
          <a:blip r:embed="rId2"/>
          <a:stretch/>
        </p:blipFill>
        <p:spPr>
          <a:xfrm>
            <a:off x="7164360" y="3860640"/>
            <a:ext cx="1593720" cy="2373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2195640" y="4221000"/>
            <a:ext cx="4608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рмативные документы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формационно-методическ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териалы Министер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азования РФ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сударственные стандарты РФ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 образова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10" descr="YMB8YRCAHL9KGACAF385LQCAFWCTYXCALDJXGNCA9HQ634CASWO4UPCACL0Q53CAU4QJO9CA6DW8BACA8YJB6KCAQU5276CAS60K48CAQ38KM2CA66MB43CAW2F0YTCABOKIJKCA4V51CDCATAP7RB"/>
          <p:cNvPicPr/>
          <p:nvPr/>
        </p:nvPicPr>
        <p:blipFill>
          <a:blip r:embed="rId3"/>
          <a:stretch/>
        </p:blipFill>
        <p:spPr>
          <a:xfrm>
            <a:off x="3995640" y="1916280"/>
            <a:ext cx="15256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Использование различных учебно-воспитательных форм работы в организации гражданско-патриотического воспита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ль учителя в организации гражданско-патриотического воспитания учащихся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555"/>
          <p:cNvPicPr/>
          <p:nvPr/>
        </p:nvPicPr>
        <p:blipFill>
          <a:blip r:embed="rId1"/>
          <a:stretch/>
        </p:blipFill>
        <p:spPr>
          <a:xfrm>
            <a:off x="179280" y="3500280"/>
            <a:ext cx="4264200" cy="3181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vosp[1]"/>
          <p:cNvPicPr/>
          <p:nvPr/>
        </p:nvPicPr>
        <p:blipFill>
          <a:blip r:embed="rId2"/>
          <a:stretch/>
        </p:blipFill>
        <p:spPr>
          <a:xfrm>
            <a:off x="4716360" y="3500280"/>
            <a:ext cx="426744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изация системы гражданско-правового образования в образовательном процес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Основная задача гражданско-правового образования - ознакомление учащихся с наиболее распространенными и доступными понятиями и формирование у них элементарных представлений об обществе в целом и их малом сообществе, в частност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vospitanie[1]"/>
          <p:cNvPicPr/>
          <p:nvPr/>
        </p:nvPicPr>
        <p:blipFill>
          <a:blip r:embed="rId1"/>
          <a:stretch/>
        </p:blipFill>
        <p:spPr>
          <a:xfrm>
            <a:off x="5148360" y="3860640"/>
            <a:ext cx="3851280" cy="268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p28_kadr[1]"/>
          <p:cNvPicPr/>
          <p:nvPr/>
        </p:nvPicPr>
        <p:blipFill>
          <a:blip r:embed="rId2"/>
          <a:stretch/>
        </p:blipFill>
        <p:spPr>
          <a:xfrm>
            <a:off x="179280" y="3860640"/>
            <a:ext cx="4572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ми условиями решения образовательных и социальных задач гражданско-правового образования является создание новых учебных курсов, программ, учебных материалов, обеспечивающих получение знаний в области гражданско-правового образов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обходимо подготовить новые пособия по всем ступеням школы, разработать учебно-методические комплексы по гражданско-правовому образованию, по интегративным и модульным курсам для основной и старшей школ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 rot="21031800">
            <a:off x="1326960" y="2147760"/>
            <a:ext cx="77040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810000"/>
                </a:gradFill>
                <a:latin typeface="Impact"/>
              </a:rPr>
              <a:t>Благодарю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81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38:34Z</dcterms:created>
  <dc:creator>www.PHILka.RU</dc:creator>
  <dc:description/>
  <dc:language>en-US</dc:language>
  <cp:lastModifiedBy>Коля</cp:lastModifiedBy>
  <dcterms:modified xsi:type="dcterms:W3CDTF">2013-04-07T11:18:23Z</dcterms:modified>
  <cp:revision>11</cp:revision>
  <dc:subject/>
  <dc:title>Слайд 1</dc:title>
</cp:coreProperties>
</file>