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17CA-3A66-4545-97AA-A0497CCF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9B17-8C54-4275-AEE8-A530C5F9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ACA6-5B52-49C6-9BBA-39C4AAC5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4879-51C9-409B-8CD7-87412396E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9FBD-66CB-4BEB-8833-57E7D38C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017E-31EC-4CF6-83B9-FAADBC32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85F3-A7A3-4BEC-BEF5-E368288E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E31E-9F55-4A17-8542-2A2A7D3B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C237-4367-4A38-8BD5-421C1079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ACDD-534B-4596-992F-42D12DA3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A83A-B045-4ECC-915A-C67E1A16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9CA1-4716-43D9-A5ED-1C67DC18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99D42-D2A8-454D-8D71-163994877F5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Modern No. 20"/>
              </a:rPr>
              <a:t>The Olympic Games</a:t>
            </a:r>
            <a:endParaRPr b="1" i="1" lang="en-US" sz="6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52480" y="83808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9240" y="227160"/>
            <a:ext cx="747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8920" indent="-357480" algn="ctr"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  <a:ea typeface="Arial Unicode MS"/>
              </a:rPr>
              <a:t>Acrostic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89040" y="1839960"/>
            <a:ext cx="3451320" cy="46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G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 Unicode MS"/>
              </a:rPr>
              <a:t>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r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 Unicode MS"/>
              </a:rPr>
              <a:t>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i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 Unicode MS"/>
              </a:rPr>
              <a:t>nter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b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 Unicode MS"/>
              </a:rPr>
              <a:t>r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O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 Unicode MS"/>
              </a:rPr>
              <a:t>lym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e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 Unicode MS"/>
              </a:rPr>
              <a:t>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he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 Unicode MS"/>
              </a:rPr>
              <a:t>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o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 Unicode MS"/>
              </a:rPr>
              <a:t>rgan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000" y="1857240"/>
            <a:ext cx="925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35560" y="4137120"/>
            <a:ext cx="3124080" cy="2342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900" spc="-1" strike="noStrike">
                <a:solidFill>
                  <a:srgbClr val="000080"/>
                </a:solidFill>
                <a:latin typeface="Baskerville Old Face"/>
              </a:rPr>
              <a:t>Russia joined the Olympic movement in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900" spc="-1" strike="noStrike">
                <a:solidFill>
                  <a:srgbClr val="000080"/>
                </a:solidFill>
                <a:latin typeface="Baskerville Old Face"/>
              </a:rPr>
              <a:t>1952. Since then it has won a lot of gold, 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900" spc="-1" strike="noStrike">
                <a:solidFill>
                  <a:srgbClr val="000080"/>
                </a:solidFill>
                <a:latin typeface="Baskerville Old Face"/>
              </a:rPr>
              <a:t>silver, and bronze medals. In 1980 Moscow 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900" spc="-1" strike="noStrike">
                <a:solidFill>
                  <a:srgbClr val="000080"/>
                </a:solidFill>
                <a:latin typeface="Baskerville Old Face"/>
              </a:rPr>
              <a:t>hosted the Twenty-Second Olympic Games.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86000" y="3048120"/>
            <a:ext cx="4799160" cy="31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41911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In 1894, a 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renchman, 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Baron Pierre de 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Coubertin, addressed 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all the sports 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governing bodies and 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pointed out the 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ignificance of sports 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and its educational 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value.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952880" y="685800"/>
            <a:ext cx="3819600" cy="51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295280" y="1371600"/>
            <a:ext cx="6096240" cy="3259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00040" y="214200"/>
            <a:ext cx="74660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8920" indent="-357480" algn="ctr"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100" spc="-1" strike="noStrike">
                <a:solidFill>
                  <a:srgbClr val="f7d47d"/>
                </a:solidFill>
                <a:latin typeface="Arial"/>
                <a:ea typeface="Arial Unicode MS"/>
              </a:rPr>
              <a:t>What are we going to discus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2160720"/>
            <a:ext cx="6867720" cy="34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2f131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f131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what they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f131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 Olympic Games in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759280" y="3836880"/>
            <a:ext cx="3384720" cy="3021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357120" y="428760"/>
          <a:ext cx="7239240" cy="6218280"/>
        </p:xfrm>
        <a:graphic>
          <a:graphicData uri="http://schemas.openxmlformats.org/drawingml/2006/table">
            <a:tbl>
              <a:tblPr/>
              <a:tblGrid>
                <a:gridCol w="2413080"/>
                <a:gridCol w="2413080"/>
                <a:gridCol w="2413080"/>
              </a:tblGrid>
              <a:tr h="1098360">
                <a:tc>
                  <a:txBody>
                    <a:bodyPr lIns="90000" rIns="90000" tIns="1299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know…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c16059"/>
                      </a:solidFill>
                    </a:lnL>
                    <a:lnR w="1440">
                      <a:solidFill>
                        <a:srgbClr val="c16059"/>
                      </a:solidFill>
                    </a:lnR>
                    <a:lnT w="1440">
                      <a:solidFill>
                        <a:srgbClr val="c16059"/>
                      </a:solidFill>
                    </a:lnT>
                    <a:lnB w="4320">
                      <a:solidFill>
                        <a:srgbClr val="c16059"/>
                      </a:solidFill>
                    </a:lnB>
                    <a:solidFill>
                      <a:srgbClr val="d5b781"/>
                    </a:solidFill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nt to know…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c16059"/>
                      </a:solidFill>
                    </a:lnL>
                    <a:lnR w="1440">
                      <a:solidFill>
                        <a:srgbClr val="c16059"/>
                      </a:solidFill>
                    </a:lnR>
                    <a:lnT w="1440">
                      <a:solidFill>
                        <a:srgbClr val="c16059"/>
                      </a:solidFill>
                    </a:lnT>
                    <a:lnB w="4320">
                      <a:solidFill>
                        <a:srgbClr val="c16059"/>
                      </a:solidFill>
                    </a:lnB>
                    <a:solidFill>
                      <a:srgbClr val="d5b781"/>
                    </a:solidFill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have learned…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c16059"/>
                      </a:solidFill>
                    </a:lnL>
                    <a:lnR w="1440">
                      <a:solidFill>
                        <a:srgbClr val="c16059"/>
                      </a:solidFill>
                    </a:lnR>
                    <a:lnT w="1440">
                      <a:solidFill>
                        <a:srgbClr val="c16059"/>
                      </a:solidFill>
                    </a:lnT>
                    <a:lnB w="4320">
                      <a:solidFill>
                        <a:srgbClr val="c16059"/>
                      </a:solidFill>
                    </a:lnB>
                    <a:solidFill>
                      <a:srgbClr val="d5b781"/>
                    </a:solidFill>
                  </a:tcPr>
                </a:tc>
              </a:tr>
              <a:tr h="5119920"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c16059"/>
                      </a:solidFill>
                    </a:lnL>
                    <a:lnR w="1440">
                      <a:solidFill>
                        <a:srgbClr val="c16059"/>
                      </a:solidFill>
                    </a:lnR>
                    <a:lnT w="4320">
                      <a:solidFill>
                        <a:srgbClr val="c16059"/>
                      </a:solidFill>
                    </a:lnT>
                    <a:lnB w="1440">
                      <a:solidFill>
                        <a:srgbClr val="c16059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c16059"/>
                      </a:solidFill>
                    </a:lnL>
                    <a:lnR w="1440">
                      <a:solidFill>
                        <a:srgbClr val="c16059"/>
                      </a:solidFill>
                    </a:lnR>
                    <a:lnT w="4320">
                      <a:solidFill>
                        <a:srgbClr val="c16059"/>
                      </a:solidFill>
                    </a:lnT>
                    <a:lnB w="1440">
                      <a:solidFill>
                        <a:srgbClr val="c16059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c16059"/>
                      </a:solidFill>
                    </a:lnL>
                    <a:lnR w="1440">
                      <a:solidFill>
                        <a:srgbClr val="c16059"/>
                      </a:solidFill>
                    </a:lnR>
                    <a:lnT w="4320">
                      <a:solidFill>
                        <a:srgbClr val="c16059"/>
                      </a:solidFill>
                    </a:lnT>
                    <a:lnB w="1440">
                      <a:solidFill>
                        <a:srgbClr val="c16059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9240" y="131760"/>
            <a:ext cx="74768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8920" indent="-357480" algn="ctr"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  <a:ea typeface="Arial Unicode MS"/>
              </a:rPr>
              <a:t>Make up a story using these KEY WORD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1079640"/>
            <a:ext cx="8460000" cy="77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03280" indent="-430200">
              <a:spcBef>
                <a:spcPts val="700"/>
              </a:spcBef>
              <a:tabLst>
                <a:tab algn="l" pos="0"/>
                <a:tab algn="l" pos="5032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~ The Olympic Game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430200">
              <a:spcBef>
                <a:spcPts val="700"/>
              </a:spcBef>
              <a:tabLst>
                <a:tab algn="l" pos="0"/>
                <a:tab algn="l" pos="5032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~ They included not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430200">
              <a:spcBef>
                <a:spcPts val="700"/>
              </a:spcBef>
              <a:tabLst>
                <a:tab algn="l" pos="0"/>
                <a:tab algn="l" pos="5032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~ very four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430200">
              <a:spcBef>
                <a:spcPts val="700"/>
              </a:spcBef>
              <a:tabLst>
                <a:tab algn="l" pos="0"/>
                <a:tab algn="l" pos="5032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~ an international sports festival that began in Gr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430200">
              <a:spcBef>
                <a:spcPts val="700"/>
              </a:spcBef>
              <a:tabLst>
                <a:tab algn="l" pos="0"/>
                <a:tab algn="l" pos="5032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~  Roman emperor ended the Olymp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430200">
              <a:spcBef>
                <a:spcPts val="700"/>
              </a:spcBef>
              <a:tabLst>
                <a:tab algn="l" pos="0"/>
                <a:tab algn="l" pos="5032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~ In the 19</a:t>
            </a:r>
            <a:r>
              <a:rPr b="0" lang="ru-RU" sz="2800" spc="-1" strike="noStrike" baseline="33000">
                <a:solidFill>
                  <a:srgbClr val="333333"/>
                </a:solidFill>
                <a:latin typeface="Arial"/>
                <a:ea typeface="Arial Unicode MS"/>
              </a:rPr>
              <a:t>th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 centary a French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430200">
              <a:spcBef>
                <a:spcPts val="799"/>
              </a:spcBef>
              <a:tabLst>
                <a:tab algn="l" pos="0"/>
                <a:tab algn="l" pos="5032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~ brought the Olympics back to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430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32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Arial Narrow"/>
                <a:ea typeface="Arial Unicode MS"/>
              </a:rPr>
              <a:t>~ They took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430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32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~ sports compet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430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32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    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~ in 394 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430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32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870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430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032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8708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03280" indent="-430200">
              <a:lnSpc>
                <a:spcPct val="100000"/>
              </a:lnSpc>
              <a:tabLst>
                <a:tab algn="l" pos="0"/>
                <a:tab algn="l" pos="5032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870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430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032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870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378000" y="-128520"/>
            <a:ext cx="6957720" cy="728640"/>
            <a:chOff x="378000" y="-128520"/>
            <a:chExt cx="6957720" cy="72864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378000" y="-128520"/>
              <a:ext cx="6957720" cy="7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78000" y="-128520"/>
              <a:ext cx="695772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0" y="720720"/>
            <a:ext cx="8820000" cy="57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01480" indent="-430200">
              <a:spcBef>
                <a:spcPts val="799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  <a:ea typeface="Arial Unicode MS"/>
              </a:rPr>
              <a:t>They took place in 776 BC in ancient Greec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01480" indent="-430200">
              <a:spcBef>
                <a:spcPts val="799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  <a:ea typeface="Arial Unicode MS"/>
              </a:rPr>
              <a:t>They included competitions in music, orator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01480" indent="-430200">
              <a:spcBef>
                <a:spcPts val="799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  <a:ea typeface="Arial Unicode MS"/>
              </a:rPr>
              <a:t>Women could compete or watch the Gam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01480" indent="-430200">
              <a:spcBef>
                <a:spcPts val="799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  <a:ea typeface="Arial Unicode MS"/>
              </a:rPr>
              <a:t>Spartans changed the programme of the Gam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01480" indent="-430200">
              <a:spcBef>
                <a:spcPts val="799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  <a:ea typeface="Arial Unicode MS"/>
              </a:rPr>
              <a:t>Theodosius ended the Games in 500 A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01480" indent="-430200">
              <a:spcBef>
                <a:spcPts val="799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  <a:ea typeface="Arial Unicode MS"/>
              </a:rPr>
              <a:t>He thought they were very good festival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01480" indent="-430200">
              <a:spcBef>
                <a:spcPts val="799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  <a:ea typeface="Arial Unicode MS"/>
              </a:rPr>
              <a:t>The first morden Olympic Games were organized in 1896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01480" indent="-430200">
              <a:spcBef>
                <a:spcPts val="799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  <a:ea typeface="Arial Unicode MS"/>
              </a:rPr>
              <a:t>Russia didn`t take part in them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01480" indent="-430200">
              <a:spcBef>
                <a:spcPts val="799"/>
              </a:spcBef>
              <a:tabLst>
                <a:tab algn="l" pos="0"/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250920" y="836640"/>
          <a:ext cx="7238880" cy="5211720"/>
        </p:xfrm>
        <a:graphic>
          <a:graphicData uri="http://schemas.openxmlformats.org/drawingml/2006/table">
            <a:tbl>
              <a:tblPr/>
              <a:tblGrid>
                <a:gridCol w="2413080"/>
                <a:gridCol w="2412720"/>
                <a:gridCol w="2413080"/>
              </a:tblGrid>
              <a:tr h="1096920">
                <a:tc>
                  <a:txBody>
                    <a:bodyPr lIns="90000" rIns="90000" tIns="1299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know…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c16059"/>
                      </a:solidFill>
                    </a:lnL>
                    <a:lnR w="1440">
                      <a:solidFill>
                        <a:srgbClr val="c16059"/>
                      </a:solidFill>
                    </a:lnR>
                    <a:lnT w="1440">
                      <a:solidFill>
                        <a:srgbClr val="c16059"/>
                      </a:solidFill>
                    </a:lnT>
                    <a:lnB w="4320">
                      <a:solidFill>
                        <a:srgbClr val="c16059"/>
                      </a:solidFill>
                    </a:lnB>
                    <a:solidFill>
                      <a:srgbClr val="d5b781"/>
                    </a:solidFill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nt to know…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c16059"/>
                      </a:solidFill>
                    </a:lnL>
                    <a:lnR w="1440">
                      <a:solidFill>
                        <a:srgbClr val="c16059"/>
                      </a:solidFill>
                    </a:lnR>
                    <a:lnT w="1440">
                      <a:solidFill>
                        <a:srgbClr val="c16059"/>
                      </a:solidFill>
                    </a:lnT>
                    <a:lnB w="4320">
                      <a:solidFill>
                        <a:srgbClr val="c16059"/>
                      </a:solidFill>
                    </a:lnB>
                    <a:solidFill>
                      <a:srgbClr val="d5b781"/>
                    </a:solidFill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have learned…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c16059"/>
                      </a:solidFill>
                    </a:lnL>
                    <a:lnR w="1440">
                      <a:solidFill>
                        <a:srgbClr val="c16059"/>
                      </a:solidFill>
                    </a:lnR>
                    <a:lnT w="1440">
                      <a:solidFill>
                        <a:srgbClr val="c16059"/>
                      </a:solidFill>
                    </a:lnT>
                    <a:lnB w="4320">
                      <a:solidFill>
                        <a:srgbClr val="c16059"/>
                      </a:solidFill>
                    </a:lnB>
                    <a:solidFill>
                      <a:srgbClr val="d5b781"/>
                    </a:solidFill>
                  </a:tcPr>
                </a:tc>
              </a:tr>
              <a:tr h="4114800"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c16059"/>
                      </a:solidFill>
                    </a:lnL>
                    <a:lnR w="1440">
                      <a:solidFill>
                        <a:srgbClr val="c16059"/>
                      </a:solidFill>
                    </a:lnR>
                    <a:lnT w="4320">
                      <a:solidFill>
                        <a:srgbClr val="c16059"/>
                      </a:solidFill>
                    </a:lnT>
                    <a:lnB w="1440">
                      <a:solidFill>
                        <a:srgbClr val="c16059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c16059"/>
                      </a:solidFill>
                    </a:lnL>
                    <a:lnR w="1440">
                      <a:solidFill>
                        <a:srgbClr val="c16059"/>
                      </a:solidFill>
                    </a:lnR>
                    <a:lnT w="4320">
                      <a:solidFill>
                        <a:srgbClr val="c16059"/>
                      </a:solidFill>
                    </a:lnT>
                    <a:lnB w="1440">
                      <a:solidFill>
                        <a:srgbClr val="c16059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c16059"/>
                      </a:solidFill>
                    </a:lnL>
                    <a:lnR w="1440">
                      <a:solidFill>
                        <a:srgbClr val="c16059"/>
                      </a:solidFill>
                    </a:lnR>
                    <a:lnT w="4320">
                      <a:solidFill>
                        <a:srgbClr val="c16059"/>
                      </a:solidFill>
                    </a:lnT>
                    <a:lnB w="1440">
                      <a:solidFill>
                        <a:srgbClr val="c16059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378000" y="-128520"/>
            <a:ext cx="6957720" cy="728640"/>
            <a:chOff x="378000" y="-128520"/>
            <a:chExt cx="6957720" cy="72864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378000" y="-128520"/>
              <a:ext cx="6957720" cy="7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378000" y="-128520"/>
              <a:ext cx="695772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0" y="720720"/>
            <a:ext cx="8820000" cy="57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01480" indent="-430200">
              <a:spcBef>
                <a:spcPts val="799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  <a:ea typeface="Arial Unicode MS"/>
              </a:rPr>
              <a:t>They took place in 776 BC in ancient Greec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01480" indent="-430200">
              <a:spcBef>
                <a:spcPts val="799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  <a:ea typeface="Arial Unicode MS"/>
              </a:rPr>
              <a:t>They included competitions in music, orator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01480" indent="-430200">
              <a:spcBef>
                <a:spcPts val="799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  <a:ea typeface="Arial Unicode MS"/>
              </a:rPr>
              <a:t>Women could compete or watch the Gam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01480" indent="-430200">
              <a:spcBef>
                <a:spcPts val="799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  <a:ea typeface="Arial Unicode MS"/>
              </a:rPr>
              <a:t>Spartans changed the programme of the Gam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01480" indent="-430200">
              <a:spcBef>
                <a:spcPts val="799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  <a:ea typeface="Arial Unicode MS"/>
              </a:rPr>
              <a:t>Theodosius ended the Games in 500 A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01480" indent="-430200">
              <a:spcBef>
                <a:spcPts val="799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  <a:ea typeface="Arial Unicode MS"/>
              </a:rPr>
              <a:t>He thought they were very good festival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01480" indent="-430200">
              <a:spcBef>
                <a:spcPts val="799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  <a:ea typeface="Arial Unicode MS"/>
              </a:rPr>
              <a:t>The first morden Olympic Games were organized in 1896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01480" indent="-430200">
              <a:spcBef>
                <a:spcPts val="799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  <a:ea typeface="Arial Unicode MS"/>
              </a:rPr>
              <a:t>Russia didn`t take part in them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01480" indent="-430200">
              <a:spcBef>
                <a:spcPts val="799"/>
              </a:spcBef>
              <a:tabLst>
                <a:tab algn="l" pos="0"/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19240" y="227160"/>
            <a:ext cx="747684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8920" indent="-357480" algn="ctr"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  <a:ea typeface="Arial Unicode MS"/>
              </a:rPr>
              <a:t>Strech Your Mind!!!</a:t>
            </a:r>
            <a:br>
              <a:rPr sz="3100"/>
            </a:br>
            <a:r>
              <a:rPr b="1" i="1" lang="ru-RU" sz="3100" spc="-1" strike="noStrike">
                <a:solidFill>
                  <a:srgbClr val="99284c"/>
                </a:solidFill>
                <a:latin typeface="Arial"/>
                <a:ea typeface="Arial Unicode MS"/>
              </a:rPr>
              <a:t>Синквейн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571760"/>
            <a:ext cx="785808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01480" indent="-430200">
              <a:spcBef>
                <a:spcPts val="700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 Unicode MS"/>
              </a:rPr>
              <a:t>1 Noun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Arial Unicode MS"/>
              </a:rPr>
              <a:t>(одно существительное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 Unicode MS"/>
              </a:rPr>
              <a:t>)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Arial Unicode MS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430200">
              <a:spcBef>
                <a:spcPts val="700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 Unicode MS"/>
              </a:rPr>
              <a:t>2 Adjectives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Arial Unicode MS"/>
              </a:rPr>
              <a:t> (два прилагательны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430200">
              <a:spcBef>
                <a:spcPts val="700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 Unicode MS"/>
              </a:rPr>
              <a:t>3 Verbs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Arial Unicode MS"/>
              </a:rPr>
              <a:t> (три глаго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430200">
              <a:spcBef>
                <a:spcPts val="700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 Unicode MS"/>
              </a:rPr>
              <a:t>1 Sentence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Arial Unicode MS"/>
              </a:rPr>
              <a:t> (одно предлож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430200">
              <a:spcBef>
                <a:spcPts val="700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949320"/>
                <a:tab algn="l" pos="1398600"/>
                <a:tab algn="l" pos="1847880"/>
                <a:tab algn="l" pos="2297160"/>
                <a:tab algn="l" pos="2746440"/>
                <a:tab algn="l" pos="3195720"/>
                <a:tab algn="l" pos="3645000"/>
                <a:tab algn="l" pos="4094280"/>
                <a:tab algn="l" pos="4543560"/>
                <a:tab algn="l" pos="4992840"/>
                <a:tab algn="l" pos="5442120"/>
                <a:tab algn="l" pos="5891040"/>
                <a:tab algn="l" pos="6340320"/>
                <a:tab algn="l" pos="6789600"/>
                <a:tab algn="l" pos="7238880"/>
                <a:tab algn="l" pos="7688160"/>
                <a:tab algn="l" pos="8137440"/>
                <a:tab algn="l" pos="8586720"/>
                <a:tab algn="l" pos="903600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 Unicode MS"/>
              </a:rPr>
              <a:t>1 Noun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Arial Unicode MS"/>
              </a:rPr>
              <a:t> (одно существительно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49960" y="4505400"/>
            <a:ext cx="2209680" cy="1795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19240" y="227160"/>
            <a:ext cx="747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8920" indent="-357480" algn="ctr"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  <a:ea typeface="Arial Unicode MS"/>
              </a:rPr>
              <a:t>Acrostic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7480" y="1857240"/>
            <a:ext cx="858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600360" y="3060720"/>
            <a:ext cx="4799160" cy="3112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1-04-24T03:00:3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