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400-CC25-430A-B989-8239621F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14C-F390-4FCE-8DA9-59124642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623-6209-41BB-8DD7-F9E90F29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7D8-9109-4C26-B8EE-F22BA097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6D5-360B-490C-9D3F-1A237E40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A8B-82D0-48C2-AED1-57B2C6B2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E9D-3706-4B54-9837-3C5AE081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598-7F9C-4D07-9853-47F8A93D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E31-A05D-425C-8089-B3F7D2CC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0A8-4805-4398-A54A-4DC49D3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96E-B8F6-45E5-95A3-45D43D4A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2AE7-A255-4455-87F2-FDFAB271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9E2B6-7A81-416F-99C9-0E20CE388C3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dern No. 20"/>
              </a:rPr>
              <a:t>The Olympic Games</a:t>
            </a:r>
            <a:endParaRPr b="1" i="1" lang="en-US" sz="6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7480" algn="ctr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  <a:ea typeface="Arial Unicode MS"/>
              </a:rPr>
              <a:t>Acrost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9040" y="1839960"/>
            <a:ext cx="345132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lym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h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rgan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000" y="1857240"/>
            <a:ext cx="92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560" y="41371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80"/>
                </a:solidFill>
                <a:latin typeface="Baskerville Old Face"/>
              </a:rPr>
              <a:t>Russia joined the Olympic movement in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80"/>
                </a:solidFill>
                <a:latin typeface="Baskerville Old Face"/>
              </a:rPr>
              <a:t>1952. Since then it has won a lot of gold,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80"/>
                </a:solidFill>
                <a:latin typeface="Baskerville Old Face"/>
              </a:rPr>
              <a:t>silver, and bronze medals. In 1980 Moscow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80"/>
                </a:solidFill>
                <a:latin typeface="Baskerville Old Face"/>
              </a:rPr>
              <a:t>hosted the Twenty-Second Olympic Games.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799160" cy="31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4191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In 1894, a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renchman,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Baron Pierre de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oubertin, addressed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all the sports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governing bodies and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pointed out the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gnificance of sports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and its educational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value.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52880" y="685800"/>
            <a:ext cx="381960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95280" y="1371600"/>
            <a:ext cx="6096240" cy="325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00040" y="214200"/>
            <a:ext cx="7466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7480" algn="ctr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100" spc="-1" strike="noStrike">
                <a:solidFill>
                  <a:srgbClr val="f7d47d"/>
                </a:solidFill>
                <a:latin typeface="Arial"/>
                <a:ea typeface="Arial Unicode MS"/>
              </a:rPr>
              <a:t>What are we going to discu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2160720"/>
            <a:ext cx="686772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at they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Olympic Games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59280" y="3836880"/>
            <a:ext cx="3384720" cy="302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57120" y="428760"/>
          <a:ext cx="7239240" cy="621828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3080"/>
              </a:tblGrid>
              <a:tr h="1098360">
                <a:tc>
                  <a:txBody>
                    <a:bodyPr lIns="90000" rIns="90000" tIns="1299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1440">
                      <a:solidFill>
                        <a:srgbClr val="c16059"/>
                      </a:solidFill>
                    </a:lnT>
                    <a:lnB w="43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nt to know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1440">
                      <a:solidFill>
                        <a:srgbClr val="c16059"/>
                      </a:solidFill>
                    </a:lnT>
                    <a:lnB w="43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learned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1440">
                      <a:solidFill>
                        <a:srgbClr val="c16059"/>
                      </a:solidFill>
                    </a:lnT>
                    <a:lnB w="43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511992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4320">
                      <a:solidFill>
                        <a:srgbClr val="c16059"/>
                      </a:solidFill>
                    </a:lnT>
                    <a:lnB w="1440">
                      <a:solidFill>
                        <a:srgbClr val="c16059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4320">
                      <a:solidFill>
                        <a:srgbClr val="c16059"/>
                      </a:solidFill>
                    </a:lnT>
                    <a:lnB w="1440">
                      <a:solidFill>
                        <a:srgbClr val="c16059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4320">
                      <a:solidFill>
                        <a:srgbClr val="c16059"/>
                      </a:solidFill>
                    </a:lnT>
                    <a:lnB w="1440">
                      <a:solidFill>
                        <a:srgbClr val="c16059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9240" y="131760"/>
            <a:ext cx="7476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7480" algn="ctr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  <a:ea typeface="Arial Unicode MS"/>
              </a:rPr>
              <a:t>Make up a story using these KEY WOR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079640"/>
            <a:ext cx="8460000" cy="77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3280" indent="-430200"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The Olympic Gam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They included not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very four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an international sports festival that began in Gr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 Roman emperor ended the Olymp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In the 19</a:t>
            </a:r>
            <a:r>
              <a:rPr b="0" lang="ru-RU" sz="2800" spc="-1" strike="noStrike" baseline="33000">
                <a:solidFill>
                  <a:srgbClr val="333333"/>
                </a:solidFill>
                <a:latin typeface="Arial"/>
                <a:ea typeface="Arial Unicode MS"/>
              </a:rPr>
              <a:t>th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 centary a French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spcBef>
                <a:spcPts val="799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~ brought the Olympics back to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 Narrow"/>
                <a:ea typeface="Arial Unicode MS"/>
              </a:rPr>
              <a:t>~ They took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sports compet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in 394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78000" y="-128520"/>
            <a:ext cx="6957720" cy="728640"/>
            <a:chOff x="378000" y="-128520"/>
            <a:chExt cx="6957720" cy="7286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378000" y="-128520"/>
              <a:ext cx="695772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78000" y="-128520"/>
              <a:ext cx="69577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0" y="720720"/>
            <a:ext cx="88200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y took place in 776 BC in ancient Greec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y included competitions in music, orator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Women could compete or watch the Ga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Spartans changed the programme of the Ga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odosius ended the Games in 500 A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He thought they were very good festiva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 first morden Olympic Games were organized in 1896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Russia didn`t take part in 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0920" y="836640"/>
          <a:ext cx="7238880" cy="5211720"/>
        </p:xfrm>
        <a:graphic>
          <a:graphicData uri="http://schemas.openxmlformats.org/drawingml/2006/table">
            <a:tbl>
              <a:tblPr/>
              <a:tblGrid>
                <a:gridCol w="2413080"/>
                <a:gridCol w="2412720"/>
                <a:gridCol w="2413080"/>
              </a:tblGrid>
              <a:tr h="1096920">
                <a:tc>
                  <a:txBody>
                    <a:bodyPr lIns="90000" rIns="90000" tIns="1299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1440">
                      <a:solidFill>
                        <a:srgbClr val="c16059"/>
                      </a:solidFill>
                    </a:lnT>
                    <a:lnB w="43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nt to know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1440">
                      <a:solidFill>
                        <a:srgbClr val="c16059"/>
                      </a:solidFill>
                    </a:lnT>
                    <a:lnB w="43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learned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1440">
                      <a:solidFill>
                        <a:srgbClr val="c16059"/>
                      </a:solidFill>
                    </a:lnT>
                    <a:lnB w="43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411480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4320">
                      <a:solidFill>
                        <a:srgbClr val="c16059"/>
                      </a:solidFill>
                    </a:lnT>
                    <a:lnB w="1440">
                      <a:solidFill>
                        <a:srgbClr val="c16059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4320">
                      <a:solidFill>
                        <a:srgbClr val="c16059"/>
                      </a:solidFill>
                    </a:lnT>
                    <a:lnB w="1440">
                      <a:solidFill>
                        <a:srgbClr val="c16059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4320">
                      <a:solidFill>
                        <a:srgbClr val="c16059"/>
                      </a:solidFill>
                    </a:lnT>
                    <a:lnB w="1440">
                      <a:solidFill>
                        <a:srgbClr val="c16059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8000" y="-128520"/>
            <a:ext cx="6957720" cy="728640"/>
            <a:chOff x="378000" y="-128520"/>
            <a:chExt cx="6957720" cy="7286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378000" y="-128520"/>
              <a:ext cx="695772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78000" y="-128520"/>
              <a:ext cx="69577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720720"/>
            <a:ext cx="88200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y took place in 776 BC in ancient Greec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y included competitions in music, orator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Women could compete or watch the Ga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Spartans changed the programme of the Ga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odosius ended the Games in 500 A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He thought they were very good festiva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 first morden Olympic Games were organized in 1896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Russia didn`t take part in 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9240" y="227160"/>
            <a:ext cx="74768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7480" algn="ctr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  <a:ea typeface="Arial Unicode MS"/>
              </a:rPr>
              <a:t>Strech Your Mind!!!</a:t>
            </a:r>
            <a:br>
              <a:rPr sz="3100"/>
            </a:br>
            <a:r>
              <a:rPr b="1" i="1" lang="ru-RU" sz="3100" spc="-1" strike="noStrike">
                <a:solidFill>
                  <a:srgbClr val="99284c"/>
                </a:solidFill>
                <a:latin typeface="Arial"/>
                <a:ea typeface="Arial Unicode MS"/>
              </a:rPr>
              <a:t>Синквей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71760"/>
            <a:ext cx="78580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1480" indent="-430200">
              <a:spcBef>
                <a:spcPts val="700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1 Noun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(одно существительно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)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00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2 Adjectives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 (два прилагательн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00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3 Verbs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 (три глаго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00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1 Sentence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 (одно предло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00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1 Noun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 (одно 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49960" y="4505400"/>
            <a:ext cx="2209680" cy="179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7480" algn="ctr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  <a:ea typeface="Arial Unicode MS"/>
              </a:rPr>
              <a:t>Acrost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7480" y="1857240"/>
            <a:ext cx="858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00360" y="3060720"/>
            <a:ext cx="4799160" cy="3112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24T03:00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