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25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9382-DF9E-41F7-B44B-B24B69FD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58E-7EFE-4281-82E0-9BCE8504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DC38-80F8-4F24-B06C-3065D9FF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4A86-B4BB-444C-8C04-E953765E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6570-4493-4A94-A3EA-157587E0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6FC3-B0ED-42CA-8EB3-AED375E6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555D-06E6-4918-8D85-7F7F3FF6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B4D3-6A5F-4969-804B-807F02EA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A8CB-EF10-4F9B-A110-143BAF56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FD09-0E9C-41FC-939E-F8CFBE94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18CA-1322-4D23-A038-EA4097FE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FEF-368C-459A-BA52-FDB1C536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49F8-2CE1-4569-8D9D-79800275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B460-399D-4B96-A044-AC2FC3D9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B9CA-3604-477E-9885-1CB98B7C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4F6A-5AA3-487D-B927-6C5122DA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A529-F0C5-4173-A425-BD762946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7B1-6828-4B7B-8797-F9414E38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B83-3AAD-4081-8BEB-45BB773D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5B4-DA72-4E1C-BC0E-33C1A9DB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111-E9FE-4588-BC29-D07BAA02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238-366C-40B6-A351-51F36376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6D4-7748-42D3-822D-84A10F93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D51C-6100-4E67-B9BC-A728DF6B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4184-E1BD-4C08-8A7E-98E66B936BD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0B15-A9F9-433C-A67F-B9D7E584139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33"/>
                </a:solidFill>
                <a:uFillTx/>
                <a:latin typeface="Times New Roman"/>
              </a:rPr>
              <a:t>Свобода и деятельность челове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171000"/>
            <a:ext cx="8610840" cy="590760"/>
          </a:xfrm>
          <a:prstGeom prst="rect">
            <a:avLst/>
          </a:prstGeom>
          <a:gradFill rotWithShape="0">
            <a:gsLst>
              <a:gs pos="0">
                <a:srgbClr val="677e38"/>
              </a:gs>
              <a:gs pos="100000">
                <a:srgbClr val="43532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Свобода есть познанная необходимость»(Гегель)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801720" cy="1536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2971800" y="114300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cc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</a:rPr>
              <a:t>природная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cc00"/>
                  </a:gs>
                  <a:gs pos="100000">
                    <a:srgbClr val="ff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cc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</a:rPr>
              <a:t>необходим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cc00"/>
                  </a:gs>
                  <a:gs pos="100000">
                    <a:srgbClr val="ff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7" name=""/>
          <p:cNvSpPr/>
          <p:nvPr/>
        </p:nvSpPr>
        <p:spPr>
          <a:xfrm rot="19784400">
            <a:off x="2209320" y="1599840"/>
            <a:ext cx="685800" cy="333360"/>
          </a:xfrm>
          <a:prstGeom prst="rightArrow">
            <a:avLst>
              <a:gd name="adj1" fmla="val 50000"/>
              <a:gd name="adj2" fmla="val 51431"/>
            </a:avLst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171160" y="2050920"/>
            <a:ext cx="6916680" cy="1191240"/>
            <a:chOff x="2171160" y="2050920"/>
            <a:chExt cx="6916680" cy="1191240"/>
          </a:xfrm>
        </p:grpSpPr>
        <p:sp>
          <p:nvSpPr>
            <p:cNvPr id="229" name=""/>
            <p:cNvSpPr/>
            <p:nvPr/>
          </p:nvSpPr>
          <p:spPr>
            <a:xfrm rot="1585200">
              <a:off x="2209320" y="2286000"/>
              <a:ext cx="685800" cy="333360"/>
            </a:xfrm>
            <a:prstGeom prst="rightArrow">
              <a:avLst>
                <a:gd name="adj1" fmla="val 50000"/>
                <a:gd name="adj2" fmla="val 51431"/>
              </a:avLst>
            </a:prstGeom>
            <a:solidFill>
              <a:srgbClr val="ffff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2971800" y="2286000"/>
              <a:ext cx="2625840" cy="68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"/>
                </a:rPr>
                <a:t>общественны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"/>
                </a:rPr>
                <a:t>условия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21840" y="2050920"/>
              <a:ext cx="3366000" cy="11912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аво,мораль,традиции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ычаи,общественн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нение и т.д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 txBox="1"/>
          <p:nvPr/>
        </p:nvSpPr>
        <p:spPr>
          <a:xfrm>
            <a:off x="3124080" y="335268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бор-?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752480" y="1752480"/>
            <a:ext cx="1524240" cy="342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057040" y="2666880"/>
            <a:ext cx="1143000" cy="274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371600" y="4571640"/>
            <a:ext cx="1676520" cy="1717920"/>
            <a:chOff x="1371600" y="4571640"/>
            <a:chExt cx="1676520" cy="171792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1371600" y="5334120"/>
              <a:ext cx="75564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flipV="1">
              <a:off x="2209680" y="4571640"/>
              <a:ext cx="83844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943440" y="4495320"/>
            <a:ext cx="1009440" cy="2029320"/>
            <a:chOff x="3943440" y="4495320"/>
            <a:chExt cx="1009440" cy="2029320"/>
          </a:xfrm>
        </p:grpSpPr>
        <p:sp>
          <p:nvSpPr>
            <p:cNvPr id="239" name=""/>
            <p:cNvSpPr txBox="1"/>
            <p:nvPr/>
          </p:nvSpPr>
          <p:spPr>
            <a:xfrm>
              <a:off x="3943440" y="5867280"/>
              <a:ext cx="100944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цели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419720" y="4495320"/>
              <a:ext cx="0" cy="1219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867280" y="3876840"/>
            <a:ext cx="3274200" cy="2908800"/>
            <a:chOff x="5867280" y="3876840"/>
            <a:chExt cx="3274200" cy="2908800"/>
          </a:xfrm>
        </p:grpSpPr>
        <p:grpSp>
          <p:nvGrpSpPr>
            <p:cNvPr id="242" name=""/>
            <p:cNvGrpSpPr/>
            <p:nvPr/>
          </p:nvGrpSpPr>
          <p:grpSpPr>
            <a:xfrm>
              <a:off x="6033240" y="3876840"/>
              <a:ext cx="3108240" cy="2908800"/>
              <a:chOff x="6033240" y="3876840"/>
              <a:chExt cx="3108240" cy="290880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7003800" y="3876840"/>
                <a:ext cx="1521720" cy="2006640"/>
                <a:chOff x="7003800" y="3876840"/>
                <a:chExt cx="1521720" cy="2006640"/>
              </a:xfrm>
            </p:grpSpPr>
            <p:pic>
              <p:nvPicPr>
                <p:cNvPr id="2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003800" y="4562640"/>
                  <a:ext cx="1179360" cy="1320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689240" y="3876840"/>
                  <a:ext cx="836280" cy="838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46" name=""/>
              <p:cNvSpPr/>
              <p:nvPr/>
            </p:nvSpPr>
            <p:spPr>
              <a:xfrm>
                <a:off x="6033240" y="5594400"/>
                <a:ext cx="3108240" cy="119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собенности воспри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ятия окружающего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ир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 flipH="1" flipV="1">
              <a:off x="5867280" y="4571640"/>
              <a:ext cx="91440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677960" y="3657600"/>
            <a:ext cx="6475320" cy="825480"/>
          </a:xfrm>
          <a:prstGeom prst="rect">
            <a:avLst/>
          </a:prstGeom>
          <a:solidFill>
            <a:srgbClr val="677e38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ыбор зависит - от собственных побуждени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80720" y="247680"/>
            <a:ext cx="5791320" cy="590400"/>
          </a:xfrm>
          <a:prstGeom prst="rect">
            <a:avLst/>
          </a:prstGeom>
          <a:gradFill rotWithShape="0">
            <a:gsLst>
              <a:gs pos="0">
                <a:srgbClr val="677e38"/>
              </a:gs>
              <a:gs pos="100000">
                <a:srgbClr val="43532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вободное общество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143000" y="1339920"/>
            <a:ext cx="200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Свобода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71600" y="990720"/>
            <a:ext cx="4650480" cy="1191240"/>
          </a:xfrm>
          <a:prstGeom prst="rect">
            <a:avLst/>
          </a:prstGeom>
          <a:solidFill>
            <a:srgbClr val="ffcc00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Состояние человека способ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действовать во всех важных де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лах на основе выбо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149220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ff00"/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514600" y="914400"/>
            <a:ext cx="1371600" cy="4572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752480" y="2438280"/>
            <a:ext cx="4921200" cy="1590840"/>
            <a:chOff x="1752480" y="2438280"/>
            <a:chExt cx="4921200" cy="1590840"/>
          </a:xfrm>
        </p:grpSpPr>
        <p:pic>
          <p:nvPicPr>
            <p:cNvPr id="255" name="" descr=""/>
            <p:cNvPicPr/>
            <p:nvPr/>
          </p:nvPicPr>
          <p:blipFill>
            <a:blip r:embed="rId3"/>
            <a:stretch/>
          </p:blipFill>
          <p:spPr>
            <a:xfrm>
              <a:off x="6248520" y="2438280"/>
              <a:ext cx="425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 txBox="1"/>
            <p:nvPr/>
          </p:nvSpPr>
          <p:spPr>
            <a:xfrm>
              <a:off x="1752480" y="2819520"/>
              <a:ext cx="2330640" cy="56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Государство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00720" y="2867040"/>
              <a:ext cx="1214280" cy="485640"/>
            </a:xfrm>
            <a:prstGeom prst="leftRightArrow">
              <a:avLst>
                <a:gd name="adj1" fmla="val 50000"/>
                <a:gd name="adj2" fmla="val 49776"/>
              </a:avLst>
            </a:prstGeom>
            <a:solidFill>
              <a:srgbClr val="ffff00"/>
            </a:solidFill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069200" y="3429000"/>
            <a:ext cx="1826280" cy="1907640"/>
            <a:chOff x="1069200" y="3429000"/>
            <a:chExt cx="1826280" cy="1907640"/>
          </a:xfrm>
        </p:grpSpPr>
        <p:grpSp>
          <p:nvGrpSpPr>
            <p:cNvPr id="259" name=""/>
            <p:cNvGrpSpPr/>
            <p:nvPr/>
          </p:nvGrpSpPr>
          <p:grpSpPr>
            <a:xfrm>
              <a:off x="1097280" y="3429000"/>
              <a:ext cx="1798200" cy="1359000"/>
              <a:chOff x="1097280" y="3429000"/>
              <a:chExt cx="1798200" cy="1359000"/>
            </a:xfrm>
          </p:grpSpPr>
          <p:sp>
            <p:nvSpPr>
              <p:cNvPr id="260" name=""/>
              <p:cNvSpPr/>
              <p:nvPr/>
            </p:nvSpPr>
            <p:spPr>
              <a:xfrm>
                <a:off x="1097280" y="3962520"/>
                <a:ext cx="1567440" cy="82548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сеобщи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онтрол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133720" y="3429000"/>
                <a:ext cx="761760" cy="457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1069200" y="4876920"/>
              <a:ext cx="166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иктату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895480" y="3429000"/>
            <a:ext cx="2780640" cy="2670120"/>
            <a:chOff x="2895480" y="3429000"/>
            <a:chExt cx="2780640" cy="2670120"/>
          </a:xfrm>
        </p:grpSpPr>
        <p:grpSp>
          <p:nvGrpSpPr>
            <p:cNvPr id="264" name=""/>
            <p:cNvGrpSpPr/>
            <p:nvPr/>
          </p:nvGrpSpPr>
          <p:grpSpPr>
            <a:xfrm>
              <a:off x="2895480" y="3429000"/>
              <a:ext cx="2780640" cy="1755000"/>
              <a:chOff x="2895480" y="3429000"/>
              <a:chExt cx="2780640" cy="1755000"/>
            </a:xfrm>
          </p:grpSpPr>
          <p:sp>
            <p:nvSpPr>
              <p:cNvPr id="265" name=""/>
              <p:cNvSpPr/>
              <p:nvPr/>
            </p:nvSpPr>
            <p:spPr>
              <a:xfrm>
                <a:off x="2909160" y="4724280"/>
                <a:ext cx="2766960" cy="45972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е вмешательство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95480" y="3429000"/>
                <a:ext cx="1371600" cy="1143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427560" y="5273640"/>
              <a:ext cx="181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пад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мократ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895480" y="3429000"/>
            <a:ext cx="5363640" cy="3508200"/>
            <a:chOff x="2895480" y="3429000"/>
            <a:chExt cx="5363640" cy="3508200"/>
          </a:xfrm>
        </p:grpSpPr>
        <p:grpSp>
          <p:nvGrpSpPr>
            <p:cNvPr id="269" name=""/>
            <p:cNvGrpSpPr/>
            <p:nvPr/>
          </p:nvGrpSpPr>
          <p:grpSpPr>
            <a:xfrm>
              <a:off x="2895480" y="3429000"/>
              <a:ext cx="5363640" cy="2700000"/>
              <a:chOff x="2895480" y="3429000"/>
              <a:chExt cx="5363640" cy="2700000"/>
            </a:xfrm>
          </p:grpSpPr>
          <p:sp>
            <p:nvSpPr>
              <p:cNvPr id="270" name=""/>
              <p:cNvSpPr/>
              <p:nvPr/>
            </p:nvSpPr>
            <p:spPr>
              <a:xfrm>
                <a:off x="6012000" y="4572000"/>
                <a:ext cx="2247120" cy="155700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оощрение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вободы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граниченное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регулирование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895480" y="3429000"/>
                <a:ext cx="4191120" cy="1066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6354000" y="6111720"/>
              <a:ext cx="170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Шведский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социализ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379440" y="2286000"/>
            <a:ext cx="8556480" cy="4597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Narrow"/>
              </a:rPr>
              <a:t>Охарактеризуйте виды взаимоотношений государства и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677e38"/>
              </a:gs>
              <a:gs pos="100000">
                <a:srgbClr val="43532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вобода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705720" y="121932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19720" y="2666880"/>
            <a:ext cx="676080" cy="1136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705720" y="419112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191120" y="99072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676520" y="121932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6705720" y="270504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4191120" y="449568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1676520" y="419112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1676520" y="2705040"/>
            <a:ext cx="1120680" cy="1143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06160" y="5603760"/>
            <a:ext cx="6863760" cy="8254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Свобода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ажнейшая ценность цивилизова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человеч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495680" y="2666880"/>
            <a:ext cx="520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 rot="1934400">
            <a:off x="3352680" y="259056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ffff00"/>
          </a:soli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9018200">
            <a:off x="3352680" y="388584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319000">
            <a:off x="4495320" y="22096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0890000">
            <a:off x="5867280" y="31996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8736000">
            <a:off x="5715000" y="259056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ffff00"/>
          </a:soli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2734400">
            <a:off x="5714640" y="388584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16281000">
            <a:off x="4495320" y="4038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0710000">
            <a:off x="3200400" y="31996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677e38"/>
              </a:gs>
              <a:gs pos="100000">
                <a:srgbClr val="43532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вобода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95280" y="5105520"/>
            <a:ext cx="1236960" cy="1371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86000" y="990720"/>
            <a:ext cx="6400800" cy="4800600"/>
          </a:xfrm>
          <a:prstGeom prst="cloudCallout">
            <a:avLst>
              <a:gd name="adj1" fmla="val -45236"/>
              <a:gd name="adj2" fmla="val 3452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9828800">
            <a:off x="2900520" y="2590560"/>
            <a:ext cx="58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 здравствует феодализм!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тлое будущее человече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3962520"/>
            <a:ext cx="27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авенство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41040" y="2004840"/>
            <a:ext cx="238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вобода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76320" y="4952880"/>
          <a:ext cx="2971800" cy="18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952880"/>
                    <a:ext cx="2971800" cy="1852560"/>
                  </a:xfrm>
                  <a:prstGeom prst="rect">
                    <a:avLst/>
                  </a:prstGeom>
                  <a:ln w="76320">
                    <a:solidFill>
                      <a:srgbClr val="9900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677e38"/>
              </a:gs>
              <a:gs pos="100000">
                <a:srgbClr val="43532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вобода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990720"/>
            <a:ext cx="6400800" cy="4800600"/>
          </a:xfrm>
          <a:prstGeom prst="cloudCallout">
            <a:avLst>
              <a:gd name="adj1" fmla="val -45236"/>
              <a:gd name="adj2" fmla="val 3452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9828800">
            <a:off x="2900520" y="2590560"/>
            <a:ext cx="58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 здравствует капитализм!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тлое будущее человече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3962520"/>
            <a:ext cx="27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авенство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41040" y="2004840"/>
            <a:ext cx="238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вобода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828800" y="5181480"/>
            <a:ext cx="1447920" cy="1370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677e38"/>
              </a:gs>
              <a:gs pos="100000">
                <a:srgbClr val="43532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вобода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990720"/>
            <a:ext cx="6400800" cy="4800600"/>
          </a:xfrm>
          <a:prstGeom prst="cloudCallout">
            <a:avLst>
              <a:gd name="adj1" fmla="val -45236"/>
              <a:gd name="adj2" fmla="val 3452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3962520"/>
            <a:ext cx="27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авенство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41040" y="2004840"/>
            <a:ext cx="238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вобода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9828800">
            <a:off x="2900520" y="2590560"/>
            <a:ext cx="58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 здравствует коммунизм!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тлое будущее человече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677e38"/>
              </a:gs>
              <a:gs pos="100000">
                <a:srgbClr val="43532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Буриданов осел.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311720" y="1219320"/>
            <a:ext cx="116208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877000" y="2666880"/>
            <a:ext cx="3114720" cy="1971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441680" y="4687920"/>
            <a:ext cx="90036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?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62120" y="2666880"/>
            <a:ext cx="3114720" cy="1971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356000" y="2895480"/>
            <a:ext cx="1130400" cy="971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90000" y="1174680"/>
            <a:ext cx="312840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Абсолютная свобода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и чем неограничен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ый выб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363560" y="2839680"/>
            <a:ext cx="1026360" cy="1026360"/>
            <a:chOff x="4363560" y="2839680"/>
            <a:chExt cx="1026360" cy="1026360"/>
          </a:xfrm>
        </p:grpSpPr>
        <p:sp>
          <p:nvSpPr>
            <p:cNvPr id="163" name=""/>
            <p:cNvSpPr/>
            <p:nvPr/>
          </p:nvSpPr>
          <p:spPr>
            <a:xfrm rot="2686800">
              <a:off x="4266720" y="3238200"/>
              <a:ext cx="1219320" cy="228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8086800">
              <a:off x="4266720" y="3238200"/>
              <a:ext cx="1219320" cy="228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677e38"/>
              </a:gs>
              <a:gs pos="100000">
                <a:srgbClr val="43532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Буриданов осел.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311720" y="1219320"/>
            <a:ext cx="1162080" cy="855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441680" y="4687920"/>
            <a:ext cx="90036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?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000" y="1174680"/>
            <a:ext cx="312840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Абсолютная свобода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и чем неограничен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ый выб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886200" y="1981080"/>
            <a:ext cx="1924200" cy="2738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523880" cy="1460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523880" y="2819520"/>
            <a:ext cx="1524240" cy="1460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943600" y="32479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26720" y="5197320"/>
            <a:ext cx="351972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Человек абсолютно св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дным быть не може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171000"/>
            <a:ext cx="8610840" cy="590760"/>
          </a:xfrm>
          <a:prstGeom prst="rect">
            <a:avLst/>
          </a:prstGeom>
          <a:gradFill rotWithShape="0">
            <a:gsLst>
              <a:gs pos="0">
                <a:srgbClr val="677e38"/>
              </a:gs>
              <a:gs pos="100000">
                <a:srgbClr val="43532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Свобода есть познанная необходимость»(Гегель)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00400" y="914400"/>
            <a:ext cx="3095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объективн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и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916440" y="2133720"/>
            <a:ext cx="1663560" cy="2733480"/>
            <a:chOff x="3916440" y="2133720"/>
            <a:chExt cx="1663560" cy="273348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3916440" y="3200400"/>
              <a:ext cx="166356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505400" y="2133720"/>
              <a:ext cx="485640" cy="838080"/>
            </a:xfrm>
            <a:prstGeom prst="downArrow">
              <a:avLst>
                <a:gd name="adj1" fmla="val 50000"/>
                <a:gd name="adj2" fmla="val 43143"/>
              </a:avLst>
            </a:prstGeom>
            <a:solidFill>
              <a:srgbClr val="ffff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4260960" y="3327480"/>
              <a:ext cx="973080" cy="13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"/>
          <p:cNvGrpSpPr/>
          <p:nvPr/>
        </p:nvGrpSpPr>
        <p:grpSpPr>
          <a:xfrm>
            <a:off x="4952880" y="4648320"/>
            <a:ext cx="3298680" cy="1948680"/>
            <a:chOff x="4952880" y="4648320"/>
            <a:chExt cx="3298680" cy="1948680"/>
          </a:xfrm>
        </p:grpSpPr>
        <p:grpSp>
          <p:nvGrpSpPr>
            <p:cNvPr id="181" name=""/>
            <p:cNvGrpSpPr/>
            <p:nvPr/>
          </p:nvGrpSpPr>
          <p:grpSpPr>
            <a:xfrm>
              <a:off x="6691680" y="5029200"/>
              <a:ext cx="1559880" cy="1567800"/>
              <a:chOff x="6691680" y="5029200"/>
              <a:chExt cx="1559880" cy="1567800"/>
            </a:xfrm>
          </p:grpSpPr>
          <p:pic>
            <p:nvPicPr>
              <p:cNvPr id="1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58000" y="5029200"/>
                <a:ext cx="1117440" cy="121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6691680" y="6137280"/>
                <a:ext cx="155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сознана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952880" y="4648320"/>
              <a:ext cx="167652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178320" y="1869840"/>
            <a:ext cx="2654280" cy="3083040"/>
            <a:chOff x="6178320" y="1869840"/>
            <a:chExt cx="2654280" cy="3083040"/>
          </a:xfrm>
        </p:grpSpPr>
        <p:sp>
          <p:nvSpPr>
            <p:cNvPr id="186" name=""/>
            <p:cNvSpPr txBox="1"/>
            <p:nvPr/>
          </p:nvSpPr>
          <p:spPr>
            <a:xfrm rot="2197800">
              <a:off x="6248160" y="2514600"/>
              <a:ext cx="25146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00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atin typeface="Arial"/>
                </a:rPr>
                <a:t>принятие решений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00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atin typeface="Arial"/>
                </a:rPr>
                <a:t>со знанием дел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7391520" y="3733920"/>
              <a:ext cx="0" cy="1218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992160" y="4648320"/>
            <a:ext cx="3503160" cy="1678680"/>
            <a:chOff x="992160" y="4648320"/>
            <a:chExt cx="3503160" cy="1678680"/>
          </a:xfrm>
        </p:grpSpPr>
        <p:grpSp>
          <p:nvGrpSpPr>
            <p:cNvPr id="189" name=""/>
            <p:cNvGrpSpPr/>
            <p:nvPr/>
          </p:nvGrpSpPr>
          <p:grpSpPr>
            <a:xfrm>
              <a:off x="992160" y="5334120"/>
              <a:ext cx="1847880" cy="992880"/>
              <a:chOff x="992160" y="5334120"/>
              <a:chExt cx="1847880" cy="992880"/>
            </a:xfrm>
          </p:grpSpPr>
          <p:pic>
            <p:nvPicPr>
              <p:cNvPr id="1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19320" y="5334120"/>
                <a:ext cx="1350720" cy="46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992160" y="5867280"/>
                <a:ext cx="1847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е осознан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>
              <a:off x="2895120" y="4648320"/>
              <a:ext cx="160020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165680" y="1914480"/>
            <a:ext cx="2088000" cy="3114720"/>
            <a:chOff x="1165680" y="1914480"/>
            <a:chExt cx="2088000" cy="3114720"/>
          </a:xfrm>
        </p:grpSpPr>
        <p:sp>
          <p:nvSpPr>
            <p:cNvPr id="194" name=""/>
            <p:cNvSpPr txBox="1"/>
            <p:nvPr/>
          </p:nvSpPr>
          <p:spPr>
            <a:xfrm rot="19180800">
              <a:off x="1066320" y="2590560"/>
              <a:ext cx="22860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221304"/>
                      </a:gs>
                      <a:gs pos="50000">
                        <a:srgbClr val="f7f6f6"/>
                      </a:gs>
                      <a:gs pos="100000">
                        <a:srgbClr val="221304"/>
                      </a:gs>
                    </a:gsLst>
                    <a:lin ang="5400000"/>
                  </a:gradFill>
                  <a:latin typeface="Arial"/>
                </a:rPr>
                <a:t>Раб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21304"/>
                    </a:gs>
                    <a:gs pos="50000">
                      <a:srgbClr val="f7f6f6"/>
                    </a:gs>
                    <a:gs pos="100000">
                      <a:srgbClr val="221304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828800" y="3733920"/>
              <a:ext cx="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171000"/>
            <a:ext cx="8610840" cy="590760"/>
          </a:xfrm>
          <a:prstGeom prst="rect">
            <a:avLst/>
          </a:prstGeom>
          <a:gradFill rotWithShape="0">
            <a:gsLst>
              <a:gs pos="0">
                <a:srgbClr val="677e38"/>
              </a:gs>
              <a:gs pos="100000">
                <a:srgbClr val="43532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Свобода есть познанная необходимость»(Гегель)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76720" y="990720"/>
            <a:ext cx="3095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объективн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и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9720" y="990720"/>
            <a:ext cx="7491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50000">
                      <a:srgbClr val="ffebfa"/>
                    </a:gs>
                    <a:gs pos="100000">
                      <a:srgbClr val="5e9eff"/>
                    </a:gs>
                  </a:gsLst>
                  <a:lin ang="5400000"/>
                </a:gradFill>
                <a:latin typeface="Arial"/>
              </a:rPr>
              <a:t>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50000">
                    <a:srgbClr val="ffebfa"/>
                  </a:gs>
                  <a:gs pos="100000">
                    <a:srgbClr val="5e9e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086480" y="1555920"/>
            <a:ext cx="2753280" cy="2526480"/>
            <a:chOff x="1086480" y="1555920"/>
            <a:chExt cx="2753280" cy="2526480"/>
          </a:xfrm>
        </p:grpSpPr>
        <p:sp>
          <p:nvSpPr>
            <p:cNvPr id="200" name=""/>
            <p:cNvSpPr/>
            <p:nvPr/>
          </p:nvSpPr>
          <p:spPr>
            <a:xfrm rot="2724000">
              <a:off x="3078720" y="158328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ff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1905120" y="2438280"/>
              <a:ext cx="10252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086480" y="3622680"/>
              <a:ext cx="2565720" cy="459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ожий промысе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75920" y="4403880"/>
            <a:ext cx="3807720" cy="2379960"/>
            <a:chOff x="475920" y="4403880"/>
            <a:chExt cx="3807720" cy="2379960"/>
          </a:xfrm>
        </p:grpSpPr>
        <p:grpSp>
          <p:nvGrpSpPr>
            <p:cNvPr id="204" name=""/>
            <p:cNvGrpSpPr/>
            <p:nvPr/>
          </p:nvGrpSpPr>
          <p:grpSpPr>
            <a:xfrm>
              <a:off x="1447920" y="4403880"/>
              <a:ext cx="1904760" cy="2286000"/>
              <a:chOff x="1447920" y="4403880"/>
              <a:chExt cx="1904760" cy="2286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181240" y="4403880"/>
                <a:ext cx="485640" cy="976320"/>
              </a:xfrm>
              <a:prstGeom prst="downArrow">
                <a:avLst>
                  <a:gd name="adj1" fmla="val 50000"/>
                  <a:gd name="adj2" fmla="val 50259"/>
                </a:avLst>
              </a:prstGeom>
              <a:solidFill>
                <a:srgbClr val="ffff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1447920" y="5165640"/>
                <a:ext cx="1904760" cy="1524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Impact"/>
                  </a:rPr>
                  <a:t>свободы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Impact"/>
                  </a:rPr>
                  <a:t>нет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  <a:ea typeface="Impact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475920" y="6384960"/>
              <a:ext cx="38077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«абсолютное предопределение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621240" y="2133720"/>
            <a:ext cx="2366280" cy="2440800"/>
            <a:chOff x="3621240" y="2133720"/>
            <a:chExt cx="2366280" cy="2440800"/>
          </a:xfrm>
        </p:grpSpPr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4267080" y="2935440"/>
              <a:ext cx="1025640" cy="11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621240" y="4114800"/>
              <a:ext cx="2366280" cy="459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ог дал свобод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48320" y="2133720"/>
              <a:ext cx="380880" cy="7617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657600" y="4648320"/>
            <a:ext cx="2362320" cy="1676160"/>
            <a:chOff x="3657600" y="4648320"/>
            <a:chExt cx="2362320" cy="1676160"/>
          </a:xfrm>
        </p:grpSpPr>
        <p:sp>
          <p:nvSpPr>
            <p:cNvPr id="213" name=""/>
            <p:cNvSpPr/>
            <p:nvPr/>
          </p:nvSpPr>
          <p:spPr>
            <a:xfrm>
              <a:off x="4648320" y="464832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ffff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3657600" y="5334120"/>
              <a:ext cx="236232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ff"/>
                      </a:gs>
                      <a:gs pos="50000">
                        <a:srgbClr val="ffcc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atin typeface="Arial"/>
                </a:rPr>
                <a:t>свобода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cc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ff"/>
                      </a:gs>
                      <a:gs pos="50000">
                        <a:srgbClr val="ffcc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atin typeface="Arial"/>
                </a:rPr>
                <a:t>выбор между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cc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ff"/>
                      </a:gs>
                      <a:gs pos="50000">
                        <a:srgbClr val="ffcc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atin typeface="Arial"/>
                </a:rPr>
                <a:t>добром и злом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cc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652000" y="1638360"/>
            <a:ext cx="3459600" cy="3591360"/>
            <a:chOff x="5652000" y="1638360"/>
            <a:chExt cx="3459600" cy="359136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6162840" y="2819520"/>
              <a:ext cx="1295280" cy="10666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7534440" y="2819520"/>
              <a:ext cx="138096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 rot="19099800">
              <a:off x="5914800" y="167616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ff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77440" y="4038480"/>
              <a:ext cx="3134160" cy="11912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еобходимость, в ви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 объективных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кон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70080" y="0"/>
            <a:ext cx="8484840" cy="2288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«Не в воображаемой независимости от законов прир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ключается свобода человека, а в познании этих закон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 в основанной на этом знании возможности планомер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ставлять законы природы действовать для определе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целей.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Ф.Энгель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095880" y="5334120"/>
            <a:ext cx="3048120" cy="1465920"/>
            <a:chOff x="6095880" y="5334120"/>
            <a:chExt cx="3048120" cy="1465920"/>
          </a:xfrm>
        </p:grpSpPr>
        <p:sp>
          <p:nvSpPr>
            <p:cNvPr id="222" name=""/>
            <p:cNvSpPr/>
            <p:nvPr/>
          </p:nvSpPr>
          <p:spPr>
            <a:xfrm>
              <a:off x="7467480" y="5334120"/>
              <a:ext cx="304920" cy="533160"/>
            </a:xfrm>
            <a:prstGeom prst="downArrow">
              <a:avLst>
                <a:gd name="adj1" fmla="val 50000"/>
                <a:gd name="adj2" fmla="val 43713"/>
              </a:avLst>
            </a:prstGeom>
            <a:solidFill>
              <a:srgbClr val="ffff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95880" y="5791320"/>
              <a:ext cx="304812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33"/>
                  </a:solidFill>
                  <a:latin typeface="Times New Roman"/>
                </a:rPr>
                <a:t>Общая закономерна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33"/>
                  </a:solidFill>
                  <a:latin typeface="Times New Roman"/>
                </a:rPr>
                <a:t>линия всегда пробьет себе дорогу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03:49:58Z</dcterms:created>
  <dc:creator>elior</dc:creator>
  <dc:description/>
  <dc:language>en-US</dc:language>
  <cp:lastModifiedBy>Чернов Алексей</cp:lastModifiedBy>
  <dcterms:modified xsi:type="dcterms:W3CDTF">2002-04-12T16:19:05Z</dcterms:modified>
  <cp:revision>15</cp:revision>
  <dc:subject/>
  <dc:title>Свобода и деятельность человека</dc:title>
</cp:coreProperties>
</file>