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12.jpeg" ContentType="image/jpeg"/>
  <Override PartName="/ppt/media/image10.wmf" ContentType="image/x-wmf"/>
  <Override PartName="/ppt/media/image5.wmf" ContentType="image/x-wmf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A86-E34E-4D97-8CF6-4BBD32FF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41B-AA39-4D36-8B25-7B1B6E6D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180-5F50-49D7-BB7A-E8231FDD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A6B-53CB-4521-9E90-1AAF85AE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66E-F606-45A6-8FE3-4AF4FF9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FCF-F3E4-4004-B5D7-AE9142F2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C3D-038F-4C59-96FB-FEC1F43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F54-6D68-42CF-85C9-C6081C4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21B-FE4A-41CC-A59E-A7CE8A5D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D7D-9E8A-4AF3-9508-F4D8CC0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A7B-5EDC-4904-877B-8D4B0FC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754-90B4-4147-A013-FA22A88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1FBB-3A9E-428D-9FEC-527349A26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82160" cy="126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равильно жить, чтобы как дольше сохранить здоровье и работоспособ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211640" y="328464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66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79280" y="4084560"/>
            <a:ext cx="89647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курс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узнать как устроен наш организм , как он функционирует, как связан с окружающей средой  с целью сохране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Сформировать представления о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j0297072"/>
          <p:cNvPicPr/>
          <p:nvPr/>
        </p:nvPicPr>
        <p:blipFill>
          <a:blip r:embed="rId2"/>
          <a:stretch/>
        </p:blipFill>
        <p:spPr>
          <a:xfrm>
            <a:off x="539640" y="333360"/>
            <a:ext cx="14194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j0288940"/>
          <p:cNvPicPr/>
          <p:nvPr/>
        </p:nvPicPr>
        <p:blipFill>
          <a:blip r:embed="rId3"/>
          <a:stretch/>
        </p:blipFill>
        <p:spPr>
          <a:xfrm>
            <a:off x="179280" y="2349360"/>
            <a:ext cx="1133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-111960"/>
            <a:ext cx="9144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Несколько 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Comic Sans MS"/>
              </a:rPr>
              <a:t>интересных фактов о челов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Эпидемия гриппа 1918-1919 годов унесла жизни более 20 миллионов человек в США и Евро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к, который выкуривает пачку сигарет в день, выпивает пол-чашки смолы в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к - единственный представитель животного мира, способный рисовать прямые ли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Длина волос на голове, отращиваемых в среднем человеком в течение жизни - 725 кило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 блондинов борода растет быстрее, чем у брюне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При улыбке у человека "работают" 17 муску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Мужчины считаются карликами при росте ниже 130 см, женщины - ниже 120 с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Каждый палец человека за время жизни сгибается примерно 25 миллионов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Размер сердца человека примерно равен величине его кулака. Вес сердца взрослого человека составляет 220-26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ческий мозг генерирует за день больше электрических импульсов, чем все телефоны мира вместе взят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Общий вес бактерий, живущих в организме человека, составляет 2 килограм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головном мозге человека за одну секунду происходит 100 000 химических реакц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Дети рождаются без коленных чашечек. Они появляются только в возрасте 2-6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Площадь поверхности человеческих легких примерно равна площади теннисного к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 человека примерно 2 миллиона потовых желез. Средний взрослый человек с каждым литром пота теряет 540 калорий. Мужчины потеют примерно на 40% больше, чем женщ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ихнуть с открытыми глазами невозмож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Женщины моргают примерно в 2 раза чаще, чем мужч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Самая сильная мышца в человеческом организме - язы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Мессопотамии за смерть пациента врача, лечившего его, казнили, а за ослепление - ослепля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Люди с голубыми глазами более чувствительны к боли, чем все ост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Hогти на пальцах руки растут примерно в 4 раза быстрее, чем на ног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За время жизни кожа человека сменяется примерно 1000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Существует более 100 различных вирусов, вызывающих насмор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даряясь головой об стену можно терять 150 калорий в ча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теле взрослого человека около 75 километров (!) нерв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kl39"/>
          <p:cNvPicPr/>
          <p:nvPr/>
        </p:nvPicPr>
        <p:blipFill>
          <a:blip r:embed="rId1"/>
          <a:stretch/>
        </p:blipFill>
        <p:spPr>
          <a:xfrm>
            <a:off x="7380360" y="533412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3000"/>
                                        <p:tgtEl>
                                          <p:spTgt spid="4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4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уки  о чело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Анатом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рассечение)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и внутреннем строении человека и  его внешних особенн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Гистолог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– наука о ткан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атолог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– наука, изучающая изменение органов после боле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Топограф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изучает расположение органов и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ласт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занимаетс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писанием внешних форм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Физи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функциях всего организма  и отдельных органов и законах из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Гигие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влиянии факторов среды и производительной деятельности на здоровья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Псих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,  изучающая закономерности психических процессов  и личностных свойств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85676"/>
          <p:cNvPicPr/>
          <p:nvPr/>
        </p:nvPicPr>
        <p:blipFill>
          <a:blip r:embed="rId1"/>
          <a:stretch/>
        </p:blipFill>
        <p:spPr>
          <a:xfrm>
            <a:off x="6948360" y="189000"/>
            <a:ext cx="181764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0297070"/>
          <p:cNvPicPr/>
          <p:nvPr/>
        </p:nvPicPr>
        <p:blipFill>
          <a:blip r:embed="rId2"/>
          <a:stretch/>
        </p:blipFill>
        <p:spPr>
          <a:xfrm>
            <a:off x="395280" y="0"/>
            <a:ext cx="1400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изучения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85289"/>
          <p:cNvPicPr/>
          <p:nvPr/>
        </p:nvPicPr>
        <p:blipFill>
          <a:blip r:embed="rId1"/>
          <a:stretch/>
        </p:blipFill>
        <p:spPr>
          <a:xfrm>
            <a:off x="395280" y="33336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j0336474"/>
          <p:cNvPicPr/>
          <p:nvPr/>
        </p:nvPicPr>
        <p:blipFill>
          <a:blip r:embed="rId2"/>
          <a:stretch/>
        </p:blipFill>
        <p:spPr>
          <a:xfrm>
            <a:off x="250920" y="5084640"/>
            <a:ext cx="108108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j0254476"/>
          <p:cNvPicPr/>
          <p:nvPr/>
        </p:nvPicPr>
        <p:blipFill>
          <a:blip r:embed="rId3"/>
          <a:stretch/>
        </p:blipFill>
        <p:spPr>
          <a:xfrm>
            <a:off x="7236000" y="3357720"/>
            <a:ext cx="1223640" cy="1257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1619280" y="907920"/>
            <a:ext cx="6840360" cy="602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физи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ли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Лабораторные 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Санитарное об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Электрокарди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Электроэнцефа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Ультрозвуков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Рент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ондирование и д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j0240719"/>
          <p:cNvPicPr/>
          <p:nvPr/>
        </p:nvPicPr>
        <p:blipFill>
          <a:blip r:embed="rId4"/>
          <a:stretch/>
        </p:blipFill>
        <p:spPr>
          <a:xfrm>
            <a:off x="250920" y="2276640"/>
            <a:ext cx="1163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История изучения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 "/>
          <p:cNvPicPr/>
          <p:nvPr/>
        </p:nvPicPr>
        <p:blipFill>
          <a:blip r:embed="rId2"/>
          <a:stretch/>
        </p:blipFill>
        <p:spPr>
          <a:xfrm>
            <a:off x="4716360" y="692280"/>
            <a:ext cx="1244880" cy="154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 "/>
          <p:cNvPicPr/>
          <p:nvPr/>
        </p:nvPicPr>
        <p:blipFill>
          <a:blip r:embed="rId3"/>
          <a:stretch/>
        </p:blipFill>
        <p:spPr>
          <a:xfrm>
            <a:off x="250920" y="2997360"/>
            <a:ext cx="1441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 "/>
          <p:cNvPicPr/>
          <p:nvPr/>
        </p:nvPicPr>
        <p:blipFill>
          <a:blip r:embed="rId4"/>
          <a:stretch/>
        </p:blipFill>
        <p:spPr>
          <a:xfrm>
            <a:off x="250920" y="836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ippokrates"/>
          <p:cNvPicPr/>
          <p:nvPr/>
        </p:nvPicPr>
        <p:blipFill>
          <a:blip r:embed="rId5"/>
          <a:stretch/>
        </p:blipFill>
        <p:spPr>
          <a:xfrm>
            <a:off x="250920" y="479736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 "/>
          <p:cNvPicPr/>
          <p:nvPr/>
        </p:nvPicPr>
        <p:blipFill>
          <a:blip r:embed="rId6"/>
          <a:stretch/>
        </p:blipFill>
        <p:spPr>
          <a:xfrm>
            <a:off x="4788000" y="2708280"/>
            <a:ext cx="129672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 "/>
          <p:cNvPicPr/>
          <p:nvPr/>
        </p:nvPicPr>
        <p:blipFill>
          <a:blip r:embed="rId7"/>
          <a:stretch/>
        </p:blipFill>
        <p:spPr>
          <a:xfrm>
            <a:off x="4859280" y="479736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9"/>
          <p:cNvSpPr/>
          <p:nvPr/>
        </p:nvSpPr>
        <p:spPr>
          <a:xfrm>
            <a:off x="1835280" y="836640"/>
            <a:ext cx="2736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акл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 – V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мы развиваются по законам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763640" y="328464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384-322г до н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сли о душе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1619280" y="4869000"/>
            <a:ext cx="295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ппократ 460-3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лияние среды на здоровье людей. Клятва мед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6280200" y="85716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156360" y="765000"/>
            <a:ext cx="280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лавдий Гален 130 – 200 н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ы о функциях органов.  Изучил строение костей и мыщ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156360" y="2781360"/>
            <a:ext cx="280836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реас   Веза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14-15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исал и изобразил  внутренние органы и скелет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516720" y="5084640"/>
            <a:ext cx="2627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ильям Гарвей 1587-16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крыл круги кровообра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botkin"/>
          <p:cNvPicPr/>
          <p:nvPr/>
        </p:nvPicPr>
        <p:blipFill>
          <a:blip r:embed="rId1"/>
          <a:stretch/>
        </p:blipFill>
        <p:spPr>
          <a:xfrm>
            <a:off x="4572000" y="18900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мечников"/>
          <p:cNvPicPr/>
          <p:nvPr/>
        </p:nvPicPr>
        <p:blipFill>
          <a:blip r:embed="rId2"/>
          <a:stretch/>
        </p:blipFill>
        <p:spPr>
          <a:xfrm>
            <a:off x="324000" y="476280"/>
            <a:ext cx="142848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avlov1"/>
          <p:cNvPicPr/>
          <p:nvPr/>
        </p:nvPicPr>
        <p:blipFill>
          <a:blip r:embed="rId3"/>
          <a:stretch/>
        </p:blipFill>
        <p:spPr>
          <a:xfrm>
            <a:off x="324000" y="2565360"/>
            <a:ext cx="157320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сеченов"/>
          <p:cNvPicPr/>
          <p:nvPr/>
        </p:nvPicPr>
        <p:blipFill>
          <a:blip r:embed="rId4"/>
          <a:stretch/>
        </p:blipFill>
        <p:spPr>
          <a:xfrm>
            <a:off x="395280" y="4941720"/>
            <a:ext cx="151128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burdenko"/>
          <p:cNvPicPr/>
          <p:nvPr/>
        </p:nvPicPr>
        <p:blipFill>
          <a:blip r:embed="rId5"/>
          <a:stretch/>
        </p:blipFill>
        <p:spPr>
          <a:xfrm>
            <a:off x="4716360" y="2492280"/>
            <a:ext cx="1513080" cy="165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uhtomskiy"/>
          <p:cNvPicPr/>
          <p:nvPr/>
        </p:nvPicPr>
        <p:blipFill>
          <a:blip r:embed="rId6"/>
          <a:stretch/>
        </p:blipFill>
        <p:spPr>
          <a:xfrm>
            <a:off x="4932360" y="4697280"/>
            <a:ext cx="1576440" cy="2160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7"/>
          <p:cNvSpPr/>
          <p:nvPr/>
        </p:nvSpPr>
        <p:spPr>
          <a:xfrm>
            <a:off x="6300720" y="0"/>
            <a:ext cx="28432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ткин Сергей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32 -18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врач-терапевт. Создал учение, согласно которому организм представляет собой единое целое, а ведущую роль в его жизнедеятельности и связи с внешней средой играет нервная сист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443640" y="2421000"/>
            <a:ext cx="270036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рденко Николай Нилов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76 – 1946)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хирург. Создатель хирургической школы экспериментального направления. Разработал операции на спинном мозг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6659640" y="4724280"/>
            <a:ext cx="2484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хтомский Алексей Алексе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75 – 1942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вестный физиолог. Создал учение о доминант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ринцип доминанты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908000" y="692280"/>
            <a:ext cx="223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чников Илья Иль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45-19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 фагоцитар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ии иммун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2195640" y="2697120"/>
            <a:ext cx="2376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лов Иван Петро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49-1936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ал физиологию пищеварения, высшей нервной деятельности животных и человека. Выявил механизмы возникновения условных рефлек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2050920" y="486900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ченов  Иван Миха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29-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оположник русской школы физиологов. Доказал, что психическая жизнь человека является результатом деятельности клеток головного мозга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971640" y="189000"/>
            <a:ext cx="741672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машнее задание</a:t>
            </a:r>
            <a:endParaRPr b="1" lang="en-US" sz="40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40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Picture 5" descr="c2568a5cf64ce1f8d6fcd900c77ae078"/>
          <p:cNvPicPr/>
          <p:nvPr/>
        </p:nvPicPr>
        <p:blipFill>
          <a:blip r:embed="rId1"/>
          <a:stretch/>
        </p:blipFill>
        <p:spPr>
          <a:xfrm>
            <a:off x="250920" y="5229360"/>
            <a:ext cx="1511280" cy="1417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79280" y="1125360"/>
            <a:ext cx="8137800" cy="488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.Принести 2 тетра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2 л для к/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8 л для проверочных рабо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2. В рабочей тетради  выполнить задания 2,3,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3. Прочитать в учебнике  ВВедени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4.  Написать мини – сочинение на тему «Что значит быть здоровым?»,  оформ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203640" y="5877000"/>
            <a:ext cx="4105080" cy="61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Удачи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857760" y="1071720"/>
            <a:ext cx="309708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Люди учатся, когда они учат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Сенека Луций Аней</a:t>
            </a:r>
            <a:r>
              <a:rPr b="1" lang="ru-RU" sz="18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2146be6a8d9df65c46424b85af887d05"/>
          <p:cNvPicPr/>
          <p:nvPr/>
        </p:nvPicPr>
        <p:blipFill>
          <a:blip r:embed="rId3"/>
          <a:stretch/>
        </p:blipFill>
        <p:spPr>
          <a:xfrm>
            <a:off x="6659640" y="90792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0:41:35Z</dcterms:created>
  <dc:creator>Светлана Николаевна</dc:creator>
  <dc:description/>
  <dc:language>en-US</dc:language>
  <cp:lastModifiedBy>Пользователь</cp:lastModifiedBy>
  <dcterms:modified xsi:type="dcterms:W3CDTF">2013-09-10T19:32:51Z</dcterms:modified>
  <cp:revision>6</cp:revision>
  <dc:subject/>
  <dc:title>Биология человек </dc:title>
</cp:coreProperties>
</file>