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gif" ContentType="image/gif"/>
  <Override PartName="/ppt/media/image8.gif" ContentType="image/gif"/>
  <Override PartName="/ppt/media/image18.jpeg" ContentType="image/jpeg"/>
  <Override PartName="/ppt/media/image7.gif" ContentType="image/gif"/>
  <Override PartName="/ppt/media/image6.gif" ContentType="image/gif"/>
  <Override PartName="/ppt/media/image13.jpeg" ContentType="image/jpeg"/>
  <Override PartName="/ppt/media/image4.png" ContentType="image/png"/>
  <Override PartName="/ppt/media/image3.gif" ContentType="image/gif"/>
  <Override PartName="/ppt/media/image12.jpeg" ContentType="image/jpeg"/>
  <Override PartName="/ppt/media/image10.wmf" ContentType="image/x-wmf"/>
  <Override PartName="/ppt/media/image5.wmf" ContentType="image/x-wmf"/>
  <Override PartName="/ppt/media/image24.jpeg" ContentType="image/jpeg"/>
  <Override PartName="/ppt/media/image1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23.gif" ContentType="image/gif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5.gif" ContentType="image/gif"/>
  <Override PartName="/ppt/media/image2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2B3B-E910-4209-8722-4F2731FAC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C6AD-76E5-4444-90F4-E5DBF50B5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261E-1B1A-40ED-B98D-2B217EC2E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C2AB-8CD5-4A50-B120-18673F96A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DFD6-688D-48B0-B37D-1602C6FD6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680D-3DB3-46EA-AA68-CDCD3E061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6EC6-07DA-4F33-835A-15E162FF7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BA00-4309-4E01-835C-772B58867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ADF5-C52B-4AC9-AEE7-7B3D2B7FA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5FE5-74C0-43D8-8961-55F09708E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D7B3-629B-4D49-8547-4CE057AD9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D5C1-D48A-4714-8DC1-8C01E001D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FF5BA-CAA1-424C-A926-E13CE9654CE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image" Target="../media/image9.gif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4.jpeg"/><Relationship Id="rId3" Type="http://schemas.openxmlformats.org/officeDocument/2006/relationships/image" Target="../media/image25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82160" cy="1268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99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0000"/>
                </a:solidFill>
                <a:latin typeface="Monotype Corsiva"/>
              </a:rPr>
              <a:t>Человек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94920" y="1628280"/>
            <a:ext cx="82090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Проблема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как правильно жить, чтобы как дольше сохранить здоровье и работоспособност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4"/>
          <p:cNvSpPr/>
          <p:nvPr/>
        </p:nvSpPr>
        <p:spPr>
          <a:xfrm>
            <a:off x="4211640" y="3284640"/>
            <a:ext cx="1008000" cy="10080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66"/>
              </a:gs>
              <a:gs pos="100000">
                <a:srgbClr val="99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179280" y="4084560"/>
            <a:ext cx="8964720" cy="25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Задачи курса: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990000"/>
                </a:solidFill>
                <a:latin typeface="Times New Roman"/>
              </a:rPr>
              <a:t>узнать как устроен наш организм , как он функционирует, как связан с окружающей средой  с целью сохранения здоровь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Times New Roman"/>
              </a:rPr>
              <a:t>Сформировать представления о здоровом образе жиз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8" descr="j0297072"/>
          <p:cNvPicPr/>
          <p:nvPr/>
        </p:nvPicPr>
        <p:blipFill>
          <a:blip r:embed="rId2"/>
          <a:stretch/>
        </p:blipFill>
        <p:spPr>
          <a:xfrm>
            <a:off x="539640" y="333360"/>
            <a:ext cx="1419480" cy="9334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j0288940"/>
          <p:cNvPicPr/>
          <p:nvPr/>
        </p:nvPicPr>
        <p:blipFill>
          <a:blip r:embed="rId3"/>
          <a:stretch/>
        </p:blipFill>
        <p:spPr>
          <a:xfrm>
            <a:off x="179280" y="2349360"/>
            <a:ext cx="113364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4"/>
          <p:cNvSpPr/>
          <p:nvPr/>
        </p:nvSpPr>
        <p:spPr>
          <a:xfrm>
            <a:off x="0" y="-111960"/>
            <a:ext cx="9144000" cy="69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280" rIns="44280" tIns="44280" bIns="442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600" spc="-1" strike="noStrike" u="sng">
                <a:solidFill>
                  <a:srgbClr val="333399"/>
                </a:solidFill>
                <a:uFillTx/>
                <a:latin typeface="Arial"/>
              </a:rPr>
              <a:t>Несколько  </a:t>
            </a:r>
            <a:r>
              <a:rPr b="1" lang="ru-RU" sz="1600" spc="-1" strike="noStrike" u="sng">
                <a:solidFill>
                  <a:srgbClr val="333399"/>
                </a:solidFill>
                <a:uFillTx/>
                <a:latin typeface="Comic Sans MS"/>
              </a:rPr>
              <a:t>интересных фактов о человек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Comic Sans MS"/>
              </a:rPr>
              <a:t> 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1400" spc="-1" strike="noStrike">
                <a:solidFill>
                  <a:srgbClr val="000066"/>
                </a:solidFill>
                <a:latin typeface="Comic Sans MS"/>
              </a:rPr>
              <a:t>Эпидемия гриппа 1918-1919 годов унесла жизни более 20 миллионов человек в США и Европ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Comic Sans MS"/>
              </a:rPr>
              <a:t>Человек, который выкуривает пачку сигарет в день, выпивает пол-чашки смолы в го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Comic Sans MS"/>
              </a:rPr>
              <a:t>Человек - единственный представитель животного мира, способный рисовать прямые лини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Comic Sans MS"/>
              </a:rPr>
              <a:t>Длина волос на голове, отращиваемых в среднем человеком в течение жизни - 725 километров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Comic Sans MS"/>
              </a:rPr>
              <a:t>У блондинов борода растет быстрее, чем у брюнетов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Comic Sans MS"/>
              </a:rPr>
              <a:t>При улыбке у человека "работают" 17 мускулов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Comic Sans MS"/>
              </a:rPr>
              <a:t> </a:t>
            </a:r>
            <a:r>
              <a:rPr b="1" lang="ru-RU" sz="1400" spc="-1" strike="noStrike">
                <a:solidFill>
                  <a:srgbClr val="000066"/>
                </a:solidFill>
                <a:latin typeface="Comic Sans MS"/>
              </a:rPr>
              <a:t>Мужчины считаются карликами при росте ниже 130 см, женщины - ниже 120 см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Comic Sans MS"/>
              </a:rPr>
              <a:t>Каждый палец человека за время жизни сгибается примерно 25 миллионов раз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Comic Sans MS"/>
              </a:rPr>
              <a:t> </a:t>
            </a:r>
            <a:r>
              <a:rPr b="1" lang="ru-RU" sz="1400" spc="-1" strike="noStrike">
                <a:solidFill>
                  <a:srgbClr val="000066"/>
                </a:solidFill>
                <a:latin typeface="Comic Sans MS"/>
              </a:rPr>
              <a:t>Размер сердца человека примерно равен величине его кулака. Вес сердца взрослого человека составляет 220-260 г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Comic Sans MS"/>
              </a:rPr>
              <a:t>Человеческий мозг генерирует за день больше электрических импульсов, чем все телефоны мира вместе взяты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Comic Sans MS"/>
              </a:rPr>
              <a:t>Общий вес бактерий, живущих в организме человека, составляет 2 килограмм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Comic Sans MS"/>
              </a:rPr>
              <a:t> </a:t>
            </a:r>
            <a:r>
              <a:rPr b="1" lang="ru-RU" sz="1400" spc="-1" strike="noStrike">
                <a:solidFill>
                  <a:srgbClr val="000066"/>
                </a:solidFill>
                <a:latin typeface="Comic Sans MS"/>
              </a:rPr>
              <a:t>В головном мозге человека за одну секунду происходит 100 000 химических реакций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Comic Sans MS"/>
              </a:rPr>
              <a:t>Дети рождаются без коленных чашечек. Они появляются только в возрасте 2-6 лет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Comic Sans MS"/>
              </a:rPr>
              <a:t>Площадь поверхности человеческих легких примерно равна площади теннисного корт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Comic Sans MS"/>
              </a:rPr>
              <a:t>У человека примерно 2 миллиона потовых желез. Средний взрослый человек с каждым литром пота теряет 540 калорий. Мужчины потеют примерно на 40% больше, чем женщины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Comic Sans MS"/>
              </a:rPr>
              <a:t>Чихнуть с открытыми глазами невозможно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Comic Sans MS"/>
              </a:rPr>
              <a:t>Женщины моргают примерно в 2 раза чаще, чем мужчин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Comic Sans MS"/>
              </a:rPr>
              <a:t>Самая сильная мышца в человеческом организме - язык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Comic Sans MS"/>
              </a:rPr>
              <a:t>В Мессопотамии за смерть пациента врача, лечившего его, казнили, а за ослепление - ослеплял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Comic Sans MS"/>
              </a:rPr>
              <a:t>Люди с голубыми глазами более чувствительны к боли, чем все остал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Comic Sans MS"/>
              </a:rPr>
              <a:t>Hогти на пальцах руки растут примерно в 4 раза быстрее, чем на ногах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Comic Sans MS"/>
              </a:rPr>
              <a:t>За время жизни кожа человека сменяется примерно 1000 раз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Comic Sans MS"/>
              </a:rPr>
              <a:t> </a:t>
            </a:r>
            <a:r>
              <a:rPr b="1" lang="ru-RU" sz="1400" spc="-1" strike="noStrike">
                <a:solidFill>
                  <a:srgbClr val="000066"/>
                </a:solidFill>
                <a:latin typeface="Comic Sans MS"/>
              </a:rPr>
              <a:t>Существует более 100 различных вирусов, вызывающих насморк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Comic Sans MS"/>
              </a:rPr>
              <a:t> </a:t>
            </a:r>
            <a:r>
              <a:rPr b="1" lang="ru-RU" sz="1400" spc="-1" strike="noStrike">
                <a:solidFill>
                  <a:srgbClr val="000066"/>
                </a:solidFill>
                <a:latin typeface="Comic Sans MS"/>
              </a:rPr>
              <a:t>Ударяясь головой об стену можно терять 150 калорий в час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Comic Sans MS"/>
              </a:rPr>
              <a:t>В теле взрослого человека около 75 километров (!) нервов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kl39"/>
          <p:cNvPicPr/>
          <p:nvPr/>
        </p:nvPicPr>
        <p:blipFill>
          <a:blip r:embed="rId1"/>
          <a:stretch/>
        </p:blipFill>
        <p:spPr>
          <a:xfrm>
            <a:off x="7380360" y="5334120"/>
            <a:ext cx="140976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1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10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10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10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1000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1000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1000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1000"/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1000"/>
                                        <p:tgtEl>
                                          <p:spTgt spid="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1000"/>
                                        <p:tgtEl>
                                          <p:spTgt spid="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1000"/>
                                        <p:tgtEl>
                                          <p:spTgt spid="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1000"/>
                                        <p:tgtEl>
                                          <p:spTgt spid="4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1000"/>
                                        <p:tgtEl>
                                          <p:spTgt spid="4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1000"/>
                                        <p:tgtEl>
                                          <p:spTgt spid="4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1000"/>
                                        <p:tgtEl>
                                          <p:spTgt spid="4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1000"/>
                                        <p:tgtEl>
                                          <p:spTgt spid="4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1000"/>
                                        <p:tgtEl>
                                          <p:spTgt spid="4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1000"/>
                                        <p:tgtEl>
                                          <p:spTgt spid="47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1000"/>
                                        <p:tgtEl>
                                          <p:spTgt spid="47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1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1000"/>
                                        <p:tgtEl>
                                          <p:spTgt spid="47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1000"/>
                                        <p:tgtEl>
                                          <p:spTgt spid="47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3000"/>
                                        <p:tgtEl>
                                          <p:spTgt spid="47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1000"/>
                                        <p:tgtEl>
                                          <p:spTgt spid="47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1000"/>
                                        <p:tgtEl>
                                          <p:spTgt spid="47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6" end="2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1000"/>
                                        <p:tgtEl>
                                          <p:spTgt spid="47">
                                            <p:txEl>
                                              <p:pRg st="26" end="2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229600" cy="8366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33ccff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imes New Roman"/>
              </a:rPr>
              <a:t>Науки  о человек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2400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Comic Sans MS"/>
              </a:rPr>
              <a:t>Анатомия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(рассечение) – </a:t>
            </a:r>
            <a:r>
              <a:rPr b="0" lang="ru-RU" sz="2000" spc="-1" strike="noStrike">
                <a:solidFill>
                  <a:srgbClr val="0000ff"/>
                </a:solidFill>
                <a:latin typeface="Comic Sans MS"/>
              </a:rPr>
              <a:t>наука о и внутреннем строении человека и  его внешних особенностя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00"/>
                </a:solidFill>
                <a:latin typeface="Comic Sans MS"/>
              </a:rPr>
              <a:t>Гистология</a:t>
            </a:r>
            <a:r>
              <a:rPr b="0" lang="ru-RU" sz="2000" spc="-1" strike="noStrike">
                <a:solidFill>
                  <a:srgbClr val="0000ff"/>
                </a:solidFill>
                <a:latin typeface="Comic Sans MS"/>
              </a:rPr>
              <a:t> – наука о тканя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00"/>
                </a:solidFill>
                <a:latin typeface="Comic Sans MS"/>
              </a:rPr>
              <a:t>Патологическая анатомия</a:t>
            </a:r>
            <a:r>
              <a:rPr b="0" lang="ru-RU" sz="2000" spc="-1" strike="noStrike">
                <a:solidFill>
                  <a:srgbClr val="0000ff"/>
                </a:solidFill>
                <a:latin typeface="Comic Sans MS"/>
              </a:rPr>
              <a:t> – наука, изучающая изменение органов после болез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00"/>
                </a:solidFill>
                <a:latin typeface="Comic Sans MS"/>
              </a:rPr>
              <a:t>Топографическая анатомия</a:t>
            </a:r>
            <a:r>
              <a:rPr b="0" lang="ru-RU" sz="2000" spc="-1" strike="noStrike">
                <a:solidFill>
                  <a:srgbClr val="0000ff"/>
                </a:solidFill>
                <a:latin typeface="Comic Sans MS"/>
              </a:rPr>
              <a:t>  изучает расположение органов и ткан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00"/>
                </a:solidFill>
                <a:latin typeface="Comic Sans MS"/>
              </a:rPr>
              <a:t>Пластическая анатомия</a:t>
            </a:r>
            <a:r>
              <a:rPr b="0" lang="ru-RU" sz="2000" spc="-1" strike="noStrike">
                <a:solidFill>
                  <a:srgbClr val="0000ff"/>
                </a:solidFill>
                <a:latin typeface="Comic Sans MS"/>
              </a:rPr>
              <a:t> занимается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0000ff"/>
                </a:solidFill>
                <a:latin typeface="Comic Sans MS"/>
              </a:rPr>
              <a:t>описанием внешних форм те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Comic Sans MS"/>
              </a:rPr>
              <a:t>Физиология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0" lang="ru-RU" sz="2000" spc="-1" strike="noStrike">
                <a:solidFill>
                  <a:srgbClr val="0000ff"/>
                </a:solidFill>
                <a:latin typeface="Comic Sans MS"/>
              </a:rPr>
              <a:t>наука о функциях всего организма  и отдельных органов и законах из развит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Comic Sans MS"/>
              </a:rPr>
              <a:t>Гигиена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0" lang="ru-RU" sz="2000" spc="-1" strike="noStrike">
                <a:solidFill>
                  <a:srgbClr val="0000ff"/>
                </a:solidFill>
                <a:latin typeface="Comic Sans MS"/>
              </a:rPr>
              <a:t>наука о влиянии факторов среды и производительной деятельности на здоровья человека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Comic Sans MS"/>
              </a:rPr>
              <a:t>Психология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0" lang="ru-RU" sz="2000" spc="-1" strike="noStrike">
                <a:solidFill>
                  <a:srgbClr val="0000ff"/>
                </a:solidFill>
                <a:latin typeface="Comic Sans MS"/>
              </a:rPr>
              <a:t>наука,  изучающая закономерности психических процессов  и личностных свойства челове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j0285676"/>
          <p:cNvPicPr/>
          <p:nvPr/>
        </p:nvPicPr>
        <p:blipFill>
          <a:blip r:embed="rId1"/>
          <a:stretch/>
        </p:blipFill>
        <p:spPr>
          <a:xfrm>
            <a:off x="6948360" y="189000"/>
            <a:ext cx="1817640" cy="9334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j0297070"/>
          <p:cNvPicPr/>
          <p:nvPr/>
        </p:nvPicPr>
        <p:blipFill>
          <a:blip r:embed="rId2"/>
          <a:stretch/>
        </p:blipFill>
        <p:spPr>
          <a:xfrm>
            <a:off x="395280" y="0"/>
            <a:ext cx="140004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bbe0e3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етоды изучения челове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j0285289"/>
          <p:cNvPicPr/>
          <p:nvPr/>
        </p:nvPicPr>
        <p:blipFill>
          <a:blip r:embed="rId1"/>
          <a:stretch/>
        </p:blipFill>
        <p:spPr>
          <a:xfrm>
            <a:off x="395280" y="333360"/>
            <a:ext cx="914400" cy="12096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j0336474"/>
          <p:cNvPicPr/>
          <p:nvPr/>
        </p:nvPicPr>
        <p:blipFill>
          <a:blip r:embed="rId2"/>
          <a:stretch/>
        </p:blipFill>
        <p:spPr>
          <a:xfrm>
            <a:off x="250920" y="5084640"/>
            <a:ext cx="1081080" cy="11527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j0254476"/>
          <p:cNvPicPr/>
          <p:nvPr/>
        </p:nvPicPr>
        <p:blipFill>
          <a:blip r:embed="rId3"/>
          <a:stretch/>
        </p:blipFill>
        <p:spPr>
          <a:xfrm>
            <a:off x="7236000" y="3357720"/>
            <a:ext cx="1223640" cy="1257120"/>
          </a:xfrm>
          <a:prstGeom prst="rect">
            <a:avLst/>
          </a:prstGeom>
          <a:ln w="0">
            <a:noFill/>
          </a:ln>
        </p:spPr>
      </p:pic>
      <p:sp>
        <p:nvSpPr>
          <p:cNvPr id="57" name="Text Box 10"/>
          <p:cNvSpPr/>
          <p:nvPr/>
        </p:nvSpPr>
        <p:spPr>
          <a:xfrm>
            <a:off x="1619280" y="907920"/>
            <a:ext cx="6840360" cy="6021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cc3300"/>
                </a:solidFill>
                <a:latin typeface="Comic Sans MS"/>
              </a:rPr>
              <a:t>Наблюд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cc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Comic Sans MS"/>
              </a:rPr>
              <a:t>физиологическ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cc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Comic Sans MS"/>
              </a:rPr>
              <a:t>клиническ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Comic Sans MS"/>
              </a:rPr>
              <a:t>Лабораторные  исслед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Comic Sans MS"/>
              </a:rPr>
              <a:t>Санитарное обслед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Comic Sans MS"/>
              </a:rPr>
              <a:t>Электрокардиограмм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Comic Sans MS"/>
              </a:rPr>
              <a:t>Электроэнцефалограм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Comic Sans MS"/>
              </a:rPr>
              <a:t>Ультрозвуковое исслед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Comic Sans MS"/>
              </a:rPr>
              <a:t>Рентг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Comic Sans MS"/>
              </a:rPr>
              <a:t>Зондирование и др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1" descr="j0240719"/>
          <p:cNvPicPr/>
          <p:nvPr/>
        </p:nvPicPr>
        <p:blipFill>
          <a:blip r:embed="rId4"/>
          <a:stretch/>
        </p:blipFill>
        <p:spPr>
          <a:xfrm>
            <a:off x="250920" y="2276640"/>
            <a:ext cx="1163520" cy="182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4000" y="-31644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ffff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Monotype Corsiva"/>
              </a:rPr>
              <a:t>История изучения челове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1" descr=" "/>
          <p:cNvPicPr/>
          <p:nvPr/>
        </p:nvPicPr>
        <p:blipFill>
          <a:blip r:embed="rId2"/>
          <a:stretch/>
        </p:blipFill>
        <p:spPr>
          <a:xfrm>
            <a:off x="4716360" y="692280"/>
            <a:ext cx="1244880" cy="15494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 "/>
          <p:cNvPicPr/>
          <p:nvPr/>
        </p:nvPicPr>
        <p:blipFill>
          <a:blip r:embed="rId3"/>
          <a:stretch/>
        </p:blipFill>
        <p:spPr>
          <a:xfrm>
            <a:off x="250920" y="2997360"/>
            <a:ext cx="1441440" cy="16556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 "/>
          <p:cNvPicPr/>
          <p:nvPr/>
        </p:nvPicPr>
        <p:blipFill>
          <a:blip r:embed="rId4"/>
          <a:stretch/>
        </p:blipFill>
        <p:spPr>
          <a:xfrm>
            <a:off x="250920" y="836640"/>
            <a:ext cx="1368360" cy="18003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9" descr="hippokrates"/>
          <p:cNvPicPr/>
          <p:nvPr/>
        </p:nvPicPr>
        <p:blipFill>
          <a:blip r:embed="rId5"/>
          <a:stretch/>
        </p:blipFill>
        <p:spPr>
          <a:xfrm>
            <a:off x="250920" y="4797360"/>
            <a:ext cx="1428480" cy="19051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4" descr=" "/>
          <p:cNvPicPr/>
          <p:nvPr/>
        </p:nvPicPr>
        <p:blipFill>
          <a:blip r:embed="rId6"/>
          <a:stretch/>
        </p:blipFill>
        <p:spPr>
          <a:xfrm>
            <a:off x="4788000" y="2708280"/>
            <a:ext cx="1296720" cy="1584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7" descr=" "/>
          <p:cNvPicPr/>
          <p:nvPr/>
        </p:nvPicPr>
        <p:blipFill>
          <a:blip r:embed="rId7"/>
          <a:stretch/>
        </p:blipFill>
        <p:spPr>
          <a:xfrm>
            <a:off x="4859280" y="4797360"/>
            <a:ext cx="1368360" cy="1727280"/>
          </a:xfrm>
          <a:prstGeom prst="rect">
            <a:avLst/>
          </a:prstGeom>
          <a:ln w="0">
            <a:noFill/>
          </a:ln>
        </p:spPr>
      </p:pic>
      <p:sp>
        <p:nvSpPr>
          <p:cNvPr id="66" name="Text Box 19"/>
          <p:cNvSpPr/>
          <p:nvPr/>
        </p:nvSpPr>
        <p:spPr>
          <a:xfrm>
            <a:off x="1835280" y="836640"/>
            <a:ext cx="273672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Геракли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 – V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рганизмы развиваются по законам приро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0"/>
          <p:cNvSpPr/>
          <p:nvPr/>
        </p:nvSpPr>
        <p:spPr>
          <a:xfrm>
            <a:off x="1763640" y="3284640"/>
            <a:ext cx="2952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ристотель 384-322г до н 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ысли о душе челове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1"/>
          <p:cNvSpPr/>
          <p:nvPr/>
        </p:nvSpPr>
        <p:spPr>
          <a:xfrm>
            <a:off x="1619280" y="4869000"/>
            <a:ext cx="295272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Гиппократ 460-37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лияние среды на здоровье людей. Клятва медик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2"/>
          <p:cNvSpPr/>
          <p:nvPr/>
        </p:nvSpPr>
        <p:spPr>
          <a:xfrm>
            <a:off x="6280200" y="857160"/>
            <a:ext cx="1460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3"/>
          <p:cNvSpPr/>
          <p:nvPr/>
        </p:nvSpPr>
        <p:spPr>
          <a:xfrm>
            <a:off x="6156360" y="765000"/>
            <a:ext cx="280836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лавдий Гален 130 – 200 н 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Работы о функциях органов.  Изучил строение костей и мыщц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4"/>
          <p:cNvSpPr/>
          <p:nvPr/>
        </p:nvSpPr>
        <p:spPr>
          <a:xfrm>
            <a:off x="6156360" y="2781360"/>
            <a:ext cx="2808360" cy="132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Андреас   Везал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1514-156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писал и изобразил  внутренние органы и скелет челове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5"/>
          <p:cNvSpPr/>
          <p:nvPr/>
        </p:nvSpPr>
        <p:spPr>
          <a:xfrm>
            <a:off x="6516720" y="5084640"/>
            <a:ext cx="26272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Уильям Гарвей 1587-165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ткрыл круги кровообращ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13" descr="botkin"/>
          <p:cNvPicPr/>
          <p:nvPr/>
        </p:nvPicPr>
        <p:blipFill>
          <a:blip r:embed="rId1"/>
          <a:stretch/>
        </p:blipFill>
        <p:spPr>
          <a:xfrm>
            <a:off x="4572000" y="189000"/>
            <a:ext cx="1584360" cy="1800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мечников"/>
          <p:cNvPicPr/>
          <p:nvPr/>
        </p:nvPicPr>
        <p:blipFill>
          <a:blip r:embed="rId2"/>
          <a:stretch/>
        </p:blipFill>
        <p:spPr>
          <a:xfrm>
            <a:off x="324000" y="476280"/>
            <a:ext cx="1428480" cy="16574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7" descr="pavlov1"/>
          <p:cNvPicPr/>
          <p:nvPr/>
        </p:nvPicPr>
        <p:blipFill>
          <a:blip r:embed="rId3"/>
          <a:stretch/>
        </p:blipFill>
        <p:spPr>
          <a:xfrm>
            <a:off x="324000" y="2565360"/>
            <a:ext cx="1573200" cy="21859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" descr="сеченов"/>
          <p:cNvPicPr/>
          <p:nvPr/>
        </p:nvPicPr>
        <p:blipFill>
          <a:blip r:embed="rId4"/>
          <a:stretch/>
        </p:blipFill>
        <p:spPr>
          <a:xfrm>
            <a:off x="395280" y="4941720"/>
            <a:ext cx="1511280" cy="17002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4" descr="burdenko"/>
          <p:cNvPicPr/>
          <p:nvPr/>
        </p:nvPicPr>
        <p:blipFill>
          <a:blip r:embed="rId5"/>
          <a:stretch/>
        </p:blipFill>
        <p:spPr>
          <a:xfrm>
            <a:off x="4716360" y="2492280"/>
            <a:ext cx="1513080" cy="16574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6" descr="uhtomskiy"/>
          <p:cNvPicPr/>
          <p:nvPr/>
        </p:nvPicPr>
        <p:blipFill>
          <a:blip r:embed="rId6"/>
          <a:stretch/>
        </p:blipFill>
        <p:spPr>
          <a:xfrm>
            <a:off x="4932360" y="4697280"/>
            <a:ext cx="1576440" cy="216072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17"/>
          <p:cNvSpPr/>
          <p:nvPr/>
        </p:nvSpPr>
        <p:spPr>
          <a:xfrm>
            <a:off x="6300720" y="0"/>
            <a:ext cx="2843280" cy="17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Боткин Сергей Петрови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1832 -1889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усский врач-терапевт. Создал учение, согласно которому организм представляет собой единое целое, а ведущую роль в его жизнедеятельности и связи с внешней средой играет нервная систем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8"/>
          <p:cNvSpPr/>
          <p:nvPr/>
        </p:nvSpPr>
        <p:spPr>
          <a:xfrm>
            <a:off x="6443640" y="2421000"/>
            <a:ext cx="2700360" cy="15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Бурденко Николай Нилович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1876 – 1946)</a:t>
            </a:r>
            <a:br>
              <a:rPr sz="14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усский хирург. Создатель хирургической школы экспериментального направления. Разработал операции на спинном мозг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9"/>
          <p:cNvSpPr/>
          <p:nvPr/>
        </p:nvSpPr>
        <p:spPr>
          <a:xfrm>
            <a:off x="6659640" y="4724280"/>
            <a:ext cx="24843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хтомский Алексей Алексеевич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1875 – 1942)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звестный физиолог. Создал учение о доминанте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принцип доминанты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20"/>
          <p:cNvSpPr/>
          <p:nvPr/>
        </p:nvSpPr>
        <p:spPr>
          <a:xfrm>
            <a:off x="1908000" y="692280"/>
            <a:ext cx="22323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ечников Илья Ильич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1845-191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втор фагоцитарн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еории иммуните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21"/>
          <p:cNvSpPr/>
          <p:nvPr/>
        </p:nvSpPr>
        <p:spPr>
          <a:xfrm>
            <a:off x="2195640" y="2697120"/>
            <a:ext cx="237636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авлов Иван Петрович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1849-1936)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зучал физиологию пищеварения, высшей нервной деятельности животных и человека. Выявил механизмы возникновения условных рефлек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2"/>
          <p:cNvSpPr/>
          <p:nvPr/>
        </p:nvSpPr>
        <p:spPr>
          <a:xfrm>
            <a:off x="2050920" y="4869000"/>
            <a:ext cx="30243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еченов  Иван Михайлови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1829-19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сновоположник русской школы физиологов. Доказал, что психическая жизнь человека является результатом деятельности клеток головного мозга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WordArt 4"/>
          <p:cNvSpPr txBox="1"/>
          <p:nvPr/>
        </p:nvSpPr>
        <p:spPr>
          <a:xfrm>
            <a:off x="971640" y="189000"/>
            <a:ext cx="7416720" cy="184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584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009999"/>
                    </a:gs>
                    <a:gs pos="100000">
                      <a:srgbClr val="ffcc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Домашнее задание</a:t>
            </a:r>
            <a:endParaRPr b="1" lang="en-US" sz="4000" spc="1" strike="noStrike">
              <a:ln w="1584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009999"/>
                  </a:gs>
                  <a:gs pos="100000">
                    <a:srgbClr val="ffccff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584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009999"/>
                    </a:gs>
                    <a:gs pos="100000">
                      <a:srgbClr val="ffcc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 </a:t>
            </a:r>
            <a:endParaRPr b="1" lang="en-US" sz="4000" spc="1" strike="noStrike">
              <a:ln w="1584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009999"/>
                  </a:gs>
                  <a:gs pos="100000">
                    <a:srgbClr val="ffccff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86" name="Picture 5" descr="c2568a5cf64ce1f8d6fcd900c77ae078"/>
          <p:cNvPicPr/>
          <p:nvPr/>
        </p:nvPicPr>
        <p:blipFill>
          <a:blip r:embed="rId1"/>
          <a:stretch/>
        </p:blipFill>
        <p:spPr>
          <a:xfrm>
            <a:off x="250920" y="5229360"/>
            <a:ext cx="1511280" cy="1417680"/>
          </a:xfrm>
          <a:prstGeom prst="rect">
            <a:avLst/>
          </a:prstGeom>
          <a:ln w="0">
            <a:noFill/>
          </a:ln>
        </p:spPr>
      </p:pic>
      <p:sp>
        <p:nvSpPr>
          <p:cNvPr id="87" name="Text Box 6"/>
          <p:cNvSpPr/>
          <p:nvPr/>
        </p:nvSpPr>
        <p:spPr>
          <a:xfrm>
            <a:off x="179280" y="1125360"/>
            <a:ext cx="8137800" cy="4885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Monotype Corsiva"/>
              </a:rPr>
              <a:t>1.Принести 2 тетрад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66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Monotype Corsiva"/>
              </a:rPr>
              <a:t> </a:t>
            </a:r>
            <a:r>
              <a:rPr b="1" lang="ru-RU" sz="2800" spc="-1" strike="noStrike">
                <a:solidFill>
                  <a:srgbClr val="000066"/>
                </a:solidFill>
                <a:latin typeface="Monotype Corsiva"/>
              </a:rPr>
              <a:t>12 л для к/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66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Monotype Corsiva"/>
              </a:rPr>
              <a:t>18 л для проверочных работ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Monotype Corsiva"/>
              </a:rPr>
              <a:t>2. В рабочей тетради  выполнить задания 2,3,4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Monotype Corsiva"/>
              </a:rPr>
              <a:t>3. Прочитать в учебнике  ВВедение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Monotype Corsiva"/>
              </a:rPr>
              <a:t>4.  Написать мини – сочинение на тему «Что значит быть здоровым?»,  оформить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WordArt 7"/>
          <p:cNvSpPr txBox="1"/>
          <p:nvPr/>
        </p:nvSpPr>
        <p:spPr>
          <a:xfrm>
            <a:off x="3203640" y="5877000"/>
            <a:ext cx="4105080" cy="6141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00"/>
                    </a:gs>
                    <a:gs pos="100000">
                      <a:srgbClr val="ffcc00"/>
                    </a:gs>
                  </a:gsLst>
                  <a:lin ang="5400000"/>
                </a:gradFill>
                <a:latin typeface="Monotype Corsiva"/>
              </a:rPr>
              <a:t>Удачи!!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6600"/>
                  </a:gs>
                  <a:gs pos="100000">
                    <a:srgbClr val="ffcc00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  <p:sp>
        <p:nvSpPr>
          <p:cNvPr id="89" name="Text Box 9"/>
          <p:cNvSpPr/>
          <p:nvPr/>
        </p:nvSpPr>
        <p:spPr>
          <a:xfrm>
            <a:off x="3857760" y="1071720"/>
            <a:ext cx="3097080" cy="1008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Monotype Corsiva"/>
              </a:rPr>
              <a:t>Люди учатся, когда они учат. </a:t>
            </a:r>
            <a:br>
              <a:rPr sz="2000"/>
            </a:br>
            <a:r>
              <a:rPr b="1" lang="ru-RU" sz="2000" spc="-1" strike="noStrike">
                <a:solidFill>
                  <a:srgbClr val="800000"/>
                </a:solidFill>
                <a:latin typeface="Monotype Corsiva"/>
              </a:rPr>
              <a:t>Сенека Луций Аней</a:t>
            </a:r>
            <a:r>
              <a:rPr b="1" lang="ru-RU" sz="1800" spc="-1" strike="noStrike">
                <a:solidFill>
                  <a:srgbClr val="800000"/>
                </a:solidFill>
                <a:latin typeface="Monotype Corsiv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0" descr="2146be6a8d9df65c46424b85af887d05"/>
          <p:cNvPicPr/>
          <p:nvPr/>
        </p:nvPicPr>
        <p:blipFill>
          <a:blip r:embed="rId3"/>
          <a:stretch/>
        </p:blipFill>
        <p:spPr>
          <a:xfrm>
            <a:off x="6659640" y="907920"/>
            <a:ext cx="194472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4T10:41:35Z</dcterms:created>
  <dc:creator>Светлана Николаевна</dc:creator>
  <dc:description/>
  <dc:language>en-US</dc:language>
  <cp:lastModifiedBy>Пользователь</cp:lastModifiedBy>
  <dcterms:modified xsi:type="dcterms:W3CDTF">2013-09-10T19:32:51Z</dcterms:modified>
  <cp:revision>6</cp:revision>
  <dc:subject/>
  <dc:title>Биология человек </dc:title>
</cp:coreProperties>
</file>