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0BB-20D8-4963-BA97-52EDB2DF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12E-9EFE-4208-83B4-1E9F9CB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04E-1670-4F6F-8D04-BF2F10A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9FA-CEAE-4118-8BF7-EB68273D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FDE-4EE5-4D0C-9409-811A19E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7C5-6843-49EC-9165-0C38D31B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E07-FEC2-49FB-BA18-6F80E9E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98A-344F-413E-BFB7-8EF4ABD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619-CD1C-4DDA-9ABB-49DA40D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FA3-4688-47E2-B0D0-4989DD3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2B7-E54A-4EF5-862E-79B80A8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460-6ED1-4FB7-A016-C914774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3E83-3D09-4A9E-9543-DEDA7FB3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8;&#1089;&#1090;&#1077;&#1076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3573360"/>
            <a:ext cx="7956720" cy="3095280"/>
            <a:chOff x="395280" y="3573360"/>
            <a:chExt cx="7956720" cy="3095280"/>
          </a:xfrm>
        </p:grpSpPr>
        <p:grpSp>
          <p:nvGrpSpPr>
            <p:cNvPr id="42" name=""/>
            <p:cNvGrpSpPr/>
            <p:nvPr/>
          </p:nvGrpSpPr>
          <p:grpSpPr>
            <a:xfrm>
              <a:off x="395280" y="3573360"/>
              <a:ext cx="2509920" cy="3095280"/>
              <a:chOff x="395280" y="3573360"/>
              <a:chExt cx="2509920" cy="309528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4115880"/>
                <a:ext cx="250992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7840" y="3573360"/>
                <a:ext cx="1581120" cy="104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" name=""/>
            <p:cNvSpPr/>
            <p:nvPr/>
          </p:nvSpPr>
          <p:spPr>
            <a:xfrm>
              <a:off x="3780000" y="515772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боту выполнила учитель физики первой категории МБОУ «ОСОШ№3» г. Очер Пермский кр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Бавкун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Татьяна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икола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611280" y="765000"/>
            <a:ext cx="8064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гнитное поле Зем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48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, расплавленные, слои ядра Земли находятся в постоянном движении. В результате этого в нем возникают молекулярные электрические токи. Поскольку электрический ток – это направленное движение заряженных частиц, то можно сказать, что магнитное поле создается движущимися заряженными частицами, как положительными, так и отрицательны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ые магнитные поля, формирующие в конечном итоге магнитное поле Земли.  Средняя напряженность поля на поверхности Земли составляет около 0,5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Эрстед — единица напряженности магнитного поля)сантиметр грам секу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732120" cy="24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агнитное поле Земли"/>
          <p:cNvPicPr/>
          <p:nvPr/>
        </p:nvPicPr>
        <p:blipFill>
          <a:blip r:embed="rId1"/>
          <a:stretch/>
        </p:blipFill>
        <p:spPr>
          <a:xfrm>
            <a:off x="2700360" y="2565360"/>
            <a:ext cx="4667400" cy="3659400"/>
          </a:xfrm>
          <a:prstGeom prst="rect">
            <a:avLst/>
          </a:prstGeom>
          <a:ln w="3240">
            <a:solidFill>
              <a:srgbClr val="41808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11280" y="476280"/>
            <a:ext cx="42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физ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Уильям Герберт изготовил шарообразный магнит, исследовал его с помощью маленькой магнитной стрелки и пришел к выводу, что земной шар - огромный космический маг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843200" cy="1701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476280"/>
            <a:ext cx="2490840" cy="18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4284720" y="907920"/>
            <a:ext cx="4373640" cy="4032360"/>
          </a:xfrm>
          <a:prstGeom prst="rect">
            <a:avLst/>
          </a:prstGeom>
          <a:ln w="3240">
            <a:solidFill>
              <a:srgbClr val="41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9640" y="2060640"/>
            <a:ext cx="333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нитные и географические полюса Земли не совпадают. Причем магнитные постоянно находятся в дрей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300px-Magnetosphere_rendition.jpg"/>
          <p:cNvPicPr/>
          <p:nvPr/>
        </p:nvPicPr>
        <p:blipFill>
          <a:blip r:embed="rId1"/>
          <a:stretch/>
        </p:blipFill>
        <p:spPr>
          <a:xfrm>
            <a:off x="2050920" y="3284640"/>
            <a:ext cx="528660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26028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ебольшом удалении от поверхности Земли, порядка трёх её радиусов, магнитные силовые линии имеют диполеподобное расположение (Диполь — общепринятая система, приближенного изображения распространения поля). Эта область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змосфе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ем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ре удаления от поверхности Земли усиливается воздействие солнечного ветра со стороны Солнца геомагнитное поле сжимается, а с противоположной, ночной стороны, оно вытягивается в длинный хвост.(Солнечный ветер это поток ионизированных частиц, отбрасываемых верхними слоями солнца-солнечной короной, со скоростью 300-1200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Рисунок10.png"/>
          <p:cNvPicPr/>
          <p:nvPr/>
        </p:nvPicPr>
        <p:blipFill>
          <a:blip r:embed="rId1"/>
          <a:stretch/>
        </p:blipFill>
        <p:spPr>
          <a:xfrm>
            <a:off x="4500720" y="189000"/>
            <a:ext cx="4286160" cy="281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836640"/>
            <a:ext cx="36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ое магнитное поле надежно защищает поверхность Земли от космического излучения, действие которого на живые организмы разрушительно.  В состав космического излучения, кроме электронов, протонов, входят и другие частицы, движущиеся в пространстве с огромными скоростями. Множество природных явлений связанно с солнечным ветром, например: полярное сияние и магнитные бу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403416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115687main_4.jpg"/>
          <p:cNvPicPr/>
          <p:nvPr/>
        </p:nvPicPr>
        <p:blipFill>
          <a:blip r:embed="rId1"/>
          <a:stretch/>
        </p:blipFill>
        <p:spPr>
          <a:xfrm>
            <a:off x="6227640" y="1268280"/>
            <a:ext cx="2524320" cy="299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05264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ом взаимодействия солнечного ветра с магнитным полем Земли является полярное сияние. Вторгаясь в земную атмосферу, частицы солнечного ветра (в основном электроны и протоны) направляются магнитным полем (на них действует сила Лоренца Названа в честь голландского физика Хендрика Лоренца, который вывел выражение для этой силы в 1892 году.) и определённым образом фокус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1497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лкиваясь с атомами и молекулами атмосферного воздуха, они ионизируют их, в результате чего возникает свечение, которое называют полярным си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971640" y="2556360"/>
            <a:ext cx="70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700280"/>
            <a:ext cx="741708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3:10:46Z</dcterms:created>
  <dc:creator>USER-PK</dc:creator>
  <dc:description/>
  <dc:language>en-US</dc:language>
  <cp:lastModifiedBy>USER-PK</cp:lastModifiedBy>
  <dcterms:modified xsi:type="dcterms:W3CDTF">2003-12-31T20:30:3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40000000000010250300207f7000400038000</vt:lpwstr>
  </property>
</Properties>
</file>