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9.jpeg" ContentType="image/jpeg"/>
  <Override PartName="/ppt/media/image10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12.jpeg" ContentType="image/jpeg"/>
  <Override PartName="/ppt/media/image43.gif" ContentType="image/gif"/>
  <Override PartName="/ppt/media/image5.jpeg" ContentType="image/jpeg"/>
  <Override PartName="/ppt/media/image26.jpeg" ContentType="image/jpeg"/>
  <Override PartName="/ppt/media/image4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AEF0-1846-4E86-9C63-182B46D72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265C-7F76-49A5-94C9-EDA184688F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D9F-C7A0-47AE-A011-6EDF62C5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696-1164-436B-BC5B-19F317C9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F2A-7595-47B4-A214-23E8800B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AF4-36E2-40FE-8E15-B6E7C9CF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9E1-3453-4312-B9EB-38A7447B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B70-15E4-4DA7-B49D-D8BFC4B8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603-E17D-4A52-A989-1E87FB6D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D65-5BFE-4183-A540-6343751F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573-F725-4ABE-B994-6CF2F293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287-C9B7-416F-BDFA-C55643E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2E1-043A-469B-9EB4-95C03C9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F9E-1E64-47F6-9996-55C58254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9BD5-E242-4AFF-B327-E65CDB3E3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8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15960" y="158760"/>
            <a:ext cx="7858080" cy="190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2"/>
          <a:stretch/>
        </p:blipFill>
        <p:spPr>
          <a:xfrm>
            <a:off x="1371600" y="1547640"/>
            <a:ext cx="6613560" cy="2281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лебедь рак и щука.jpg"/>
          <p:cNvPicPr/>
          <p:nvPr/>
        </p:nvPicPr>
        <p:blipFill>
          <a:blip r:embed="rId3"/>
          <a:stretch/>
        </p:blipFill>
        <p:spPr>
          <a:xfrm>
            <a:off x="324000" y="3429000"/>
            <a:ext cx="2232000" cy="3097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Ворона и лисица.jpg"/>
          <p:cNvPicPr/>
          <p:nvPr/>
        </p:nvPicPr>
        <p:blipFill>
          <a:blip r:embed="rId4"/>
          <a:stretch/>
        </p:blipFill>
        <p:spPr>
          <a:xfrm>
            <a:off x="6723000" y="3487680"/>
            <a:ext cx="2097000" cy="303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Ольга\Рабочий стол\картинки\Крылов\3128015.jpg"/>
          <p:cNvPicPr/>
          <p:nvPr/>
        </p:nvPicPr>
        <p:blipFill>
          <a:blip r:embed="rId5"/>
          <a:stretch/>
        </p:blipFill>
        <p:spPr>
          <a:xfrm>
            <a:off x="3486240" y="3514680"/>
            <a:ext cx="23367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181440" y="620640"/>
            <a:ext cx="54738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форизмы из бас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.А. Крылова уже при его жизни использовались его современниками наряду с пословицами и поговорка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.А.Крылов обогатил русский язык, русскую речь крылатыми, остроумными, образными выражениями-сравн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Ольга\Рабочий стол\картинки\Крылов\krylov.jpg"/>
          <p:cNvPicPr/>
          <p:nvPr/>
        </p:nvPicPr>
        <p:blipFill>
          <a:blip r:embed="rId1"/>
          <a:stretch/>
        </p:blipFill>
        <p:spPr>
          <a:xfrm>
            <a:off x="5364000" y="765000"/>
            <a:ext cx="3745080" cy="499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00040" y="1357200"/>
            <a:ext cx="814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вы, друзья, как ни садитесь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в музыканты не годи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 только воз и ныне там.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под каждым ей листком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л готов и стол, и дом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ртышка к старости слаба глазами с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 радости в зобу дыханье сперло.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, совсем без драки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гу попасть в большие забияк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Крылатые выраж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MD\Мои рисунки\boy_works.gif"/>
          <p:cNvPicPr/>
          <p:nvPr/>
        </p:nvPicPr>
        <p:blipFill>
          <a:blip r:embed="rId1"/>
          <a:stretch/>
        </p:blipFill>
        <p:spPr>
          <a:xfrm>
            <a:off x="7143840" y="4786200"/>
            <a:ext cx="158256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9">
            <a:hlinkClick r:id="rId1" action="ppaction://hlinksldjump"/>
          </p:cNvPr>
          <p:cNvSpPr/>
          <p:nvPr/>
        </p:nvSpPr>
        <p:spPr>
          <a:xfrm>
            <a:off x="428760" y="1428840"/>
            <a:ext cx="3643200" cy="4643280"/>
          </a:xfrm>
          <a:custGeom>
            <a:avLst/>
            <a:gdLst>
              <a:gd name="textAreaLeft" fmla="*/ 177840 w 3643200"/>
              <a:gd name="textAreaRight" fmla="*/ 3465360 w 3643200"/>
              <a:gd name="textAreaTop" fmla="*/ 177840 h 4643280"/>
              <a:gd name="textAreaBottom" fmla="*/ 4465440 h 4643280"/>
            </a:gdLst>
            <a:ahLst/>
            <a:rect l="textAreaLeft" t="textAreaTop" r="textAreaRight" b="textAreaBottom"/>
            <a:pathLst>
              <a:path w="21600" h="27529">
                <a:moveTo>
                  <a:pt x="3600" y="0"/>
                </a:moveTo>
                <a:arcTo wR="3600" hR="3600" stAng="16200000" swAng="-5400000"/>
                <a:lnTo>
                  <a:pt x="0" y="23929"/>
                </a:lnTo>
                <a:arcTo wR="3600" hR="3600" stAng="10800000" swAng="-5400000"/>
                <a:lnTo>
                  <a:pt x="18000" y="27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Ольга\Рабочий стол\картинки\Крылов\im04.jpg"/>
          <p:cNvPicPr/>
          <p:nvPr/>
        </p:nvPicPr>
        <p:blipFill>
          <a:blip r:embed="rId3"/>
          <a:stretch/>
        </p:blipFill>
        <p:spPr>
          <a:xfrm>
            <a:off x="4714920" y="1071720"/>
            <a:ext cx="3714840" cy="264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Ольга\Рабочий стол\картинки\Крылов\im05.jpg"/>
          <p:cNvPicPr/>
          <p:nvPr/>
        </p:nvPicPr>
        <p:blipFill>
          <a:blip r:embed="rId4"/>
          <a:stretch/>
        </p:blipFill>
        <p:spPr>
          <a:xfrm>
            <a:off x="4714920" y="4000680"/>
            <a:ext cx="3843360" cy="2671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428760" y="214200"/>
            <a:ext cx="822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укушка и Пету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Кук и пет.jpg"/>
          <p:cNvPicPr/>
          <p:nvPr/>
        </p:nvPicPr>
        <p:blipFill>
          <a:blip r:embed="rId1"/>
          <a:stretch/>
        </p:blipFill>
        <p:spPr>
          <a:xfrm>
            <a:off x="4890960" y="1125360"/>
            <a:ext cx="3921120" cy="551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кукушка и петух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8" descr="Зер и об.jpg"/>
          <p:cNvPicPr/>
          <p:nvPr/>
        </p:nvPicPr>
        <p:blipFill>
          <a:blip r:embed="rId1"/>
          <a:stretch/>
        </p:blipFill>
        <p:spPr>
          <a:xfrm>
            <a:off x="76320" y="1295280"/>
            <a:ext cx="4424400" cy="3357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Зерк и Обез.jpg"/>
          <p:cNvPicPr/>
          <p:nvPr/>
        </p:nvPicPr>
        <p:blipFill>
          <a:blip r:embed="rId2"/>
          <a:stretch/>
        </p:blipFill>
        <p:spPr>
          <a:xfrm>
            <a:off x="4581360" y="3224160"/>
            <a:ext cx="449928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000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з какой басни фр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85960"/>
            <a:ext cx="5686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Лето красное проп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С ним была плутовка та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А воз и ныне 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Чтоб музыкантом быть, так надобно умен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«Соседка, перестань срамиться» – ей шавка говор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C:\Documents and Settings\Ольга\Рабочий стол\картинки\Крылов\1220130510_output_000006.gif"/>
          <p:cNvPicPr/>
          <p:nvPr/>
        </p:nvPicPr>
        <p:blipFill>
          <a:blip r:embed="rId1"/>
          <a:stretch/>
        </p:blipFill>
        <p:spPr>
          <a:xfrm>
            <a:off x="7215120" y="4214880"/>
            <a:ext cx="1700280" cy="117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Documents and Settings\Ольга\Рабочий стол\картинки\Крылов\lebed_rak_schuka1.jpg"/>
          <p:cNvPicPr/>
          <p:nvPr/>
        </p:nvPicPr>
        <p:blipFill>
          <a:blip r:embed="rId2"/>
          <a:stretch/>
        </p:blipFill>
        <p:spPr>
          <a:xfrm>
            <a:off x="7215120" y="1714680"/>
            <a:ext cx="1643040" cy="103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Documents and Settings\Ольга\Рабочий стол\картинки\Крылов\ddd.gif"/>
          <p:cNvPicPr/>
          <p:nvPr/>
        </p:nvPicPr>
        <p:blipFill>
          <a:blip r:embed="rId3"/>
          <a:stretch/>
        </p:blipFill>
        <p:spPr>
          <a:xfrm>
            <a:off x="7215120" y="428760"/>
            <a:ext cx="1635120" cy="112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:\Documents and Settings\Ольга\Рабочий стол\картинки\Крылов\Slon_moska01.jpg"/>
          <p:cNvPicPr/>
          <p:nvPr/>
        </p:nvPicPr>
        <p:blipFill>
          <a:blip r:embed="rId4"/>
          <a:stretch/>
        </p:blipFill>
        <p:spPr>
          <a:xfrm>
            <a:off x="7215120" y="2857680"/>
            <a:ext cx="1657440" cy="1252440"/>
          </a:xfrm>
          <a:prstGeom prst="rect">
            <a:avLst/>
          </a:prstGeom>
          <a:ln w="0">
            <a:noFill/>
          </a:ln>
        </p:spPr>
      </p:pic>
      <p:cxnSp>
        <p:nvCxnSpPr>
          <p:cNvPr id="102" name="Прямая со стрелкой 36"/>
          <p:cNvCxnSpPr/>
          <p:nvPr/>
        </p:nvCxnSpPr>
        <p:spPr>
          <a:xfrm>
            <a:off x="3714840" y="2143080"/>
            <a:ext cx="3286800" cy="257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38"/>
          <p:cNvCxnSpPr/>
          <p:nvPr/>
        </p:nvCxnSpPr>
        <p:spPr>
          <a:xfrm>
            <a:off x="4428000" y="2928600"/>
            <a:ext cx="2715480" cy="278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Прямая со стрелкой 40"/>
          <p:cNvCxnSpPr/>
          <p:nvPr/>
        </p:nvCxnSpPr>
        <p:spPr>
          <a:xfrm flipV="1">
            <a:off x="3071520" y="2142360"/>
            <a:ext cx="40726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Прямая со стрелкой 42"/>
          <p:cNvCxnSpPr/>
          <p:nvPr/>
        </p:nvCxnSpPr>
        <p:spPr>
          <a:xfrm flipV="1">
            <a:off x="5499720" y="1356840"/>
            <a:ext cx="1572120" cy="292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Прямая со стрелкой 44"/>
          <p:cNvCxnSpPr/>
          <p:nvPr/>
        </p:nvCxnSpPr>
        <p:spPr>
          <a:xfrm flipV="1">
            <a:off x="5643720" y="3785760"/>
            <a:ext cx="142920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7" name="Picture 4" descr="is"/>
          <p:cNvPicPr/>
          <p:nvPr/>
        </p:nvPicPr>
        <p:blipFill>
          <a:blip r:embed="rId5"/>
          <a:stretch/>
        </p:blipFill>
        <p:spPr>
          <a:xfrm>
            <a:off x="7215120" y="5500800"/>
            <a:ext cx="1559160" cy="119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МЕНИТЫЕ БАСН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0440" y="2636640"/>
            <a:ext cx="37339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Monotype Corsiva"/>
              </a:rPr>
              <a:t>МИХАЛКОВ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Monotype Corsiva"/>
              </a:rPr>
              <a:t>Сергей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Monotype Corsiva"/>
              </a:rPr>
              <a:t>Владимирович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Monotype Corsiva"/>
              </a:rPr>
              <a:t>род. в 1913 г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5" descr="Портрет Михалкова.jpg"/>
          <p:cNvPicPr/>
          <p:nvPr/>
        </p:nvPicPr>
        <p:blipFill>
          <a:blip r:embed="rId1"/>
          <a:stretch/>
        </p:blipFill>
        <p:spPr>
          <a:xfrm>
            <a:off x="339840" y="1393920"/>
            <a:ext cx="4087800" cy="5127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450072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рет С. Михал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. И. Глазу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8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8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8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8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32360" y="2492280"/>
            <a:ext cx="3997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6" descr="Петух и цыпленок.jpg"/>
          <p:cNvPicPr/>
          <p:nvPr/>
        </p:nvPicPr>
        <p:blipFill>
          <a:blip r:embed="rId1"/>
          <a:stretch/>
        </p:blipFill>
        <p:spPr>
          <a:xfrm>
            <a:off x="611280" y="1197000"/>
            <a:ext cx="4176720" cy="528300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. В.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386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Ай, Моська! Знать, она сильна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•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Ворона каркнула во всё воронье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рло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•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Ты виноват уж тем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•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А вы, друзья, как ни садитесь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484520" y="170028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303d9a"/>
                </a:solidFill>
                <a:latin typeface="Calibri"/>
              </a:rPr>
              <a:t>что лает на Слона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305080" y="2760840"/>
            <a:ext cx="5867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303d9a"/>
                </a:solidFill>
                <a:latin typeface="Calibri"/>
              </a:rPr>
              <a:t>сыр выпал. С ним была плутовка таков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600360" y="4076640"/>
            <a:ext cx="5867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303d9a"/>
                </a:solidFill>
                <a:latin typeface="Calibri"/>
              </a:rPr>
              <a:t>что хочется мне кушать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919240" y="522936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303d9a"/>
                </a:solidFill>
                <a:latin typeface="Calibri"/>
              </a:rPr>
              <a:t>все в музыканты не годитесь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родолжи строчку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51703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анкт-Петербурге сооружен памятник Крылову. На каждой    стороне высокого постамента, на котором разместился памятник, – барельефные изображения персонажей наиболее известных басен Крылова. Памятник был сооружен на деньги, которые собрали по всей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5" descr="krilov_pamyatnik.jpg"/>
          <p:cNvPicPr/>
          <p:nvPr/>
        </p:nvPicPr>
        <p:blipFill>
          <a:blip r:embed="rId1"/>
          <a:stretch/>
        </p:blipFill>
        <p:spPr>
          <a:xfrm>
            <a:off x="2720880" y="95400"/>
            <a:ext cx="3795840" cy="50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МЕНИТЫЕ БАСН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120" y="190512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ЭЗОП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УД. ВЕЛАСКЕС ДИЕ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Velasquez_Diego_Aesop_posters_b"/>
          <p:cNvPicPr/>
          <p:nvPr/>
        </p:nvPicPr>
        <p:blipFill>
          <a:blip r:embed="rId1"/>
          <a:stretch/>
        </p:blipFill>
        <p:spPr>
          <a:xfrm>
            <a:off x="380880" y="1600200"/>
            <a:ext cx="3429000" cy="502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8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ульптурные композиции героев басен И. А. Кры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3" descr="Ворона и Лисица памятник.jpg"/>
          <p:cNvPicPr/>
          <p:nvPr/>
        </p:nvPicPr>
        <p:blipFill>
          <a:blip r:embed="rId1"/>
          <a:stretch/>
        </p:blipFill>
        <p:spPr>
          <a:xfrm>
            <a:off x="32400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Памятник Слону и Моське.jpg"/>
          <p:cNvPicPr/>
          <p:nvPr/>
        </p:nvPicPr>
        <p:blipFill>
          <a:blip r:embed="rId2"/>
          <a:stretch/>
        </p:blipFill>
        <p:spPr>
          <a:xfrm>
            <a:off x="2340000" y="1773360"/>
            <a:ext cx="6350040" cy="4228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6836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рона и Лис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067280" y="6165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н и Мось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Кукушка и петух.jpg"/>
          <p:cNvPicPr/>
          <p:nvPr/>
        </p:nvPicPr>
        <p:blipFill>
          <a:blip r:embed="rId1"/>
          <a:stretch/>
        </p:blipFill>
        <p:spPr>
          <a:xfrm>
            <a:off x="324000" y="189000"/>
            <a:ext cx="4392360" cy="5856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kvartet1.JPG"/>
          <p:cNvPicPr/>
          <p:nvPr/>
        </p:nvPicPr>
        <p:blipFill>
          <a:blip r:embed="rId2"/>
          <a:stretch/>
        </p:blipFill>
        <p:spPr>
          <a:xfrm>
            <a:off x="1355760" y="549360"/>
            <a:ext cx="7251840" cy="5437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46836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кушка и Пету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643280" y="616572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рт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Памятник Мартышка и очки.jpg"/>
          <p:cNvPicPr/>
          <p:nvPr/>
        </p:nvPicPr>
        <p:blipFill>
          <a:blip r:embed="rId1"/>
          <a:stretch/>
        </p:blipFill>
        <p:spPr>
          <a:xfrm>
            <a:off x="971640" y="182520"/>
            <a:ext cx="4865760" cy="64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Памятник Обезьяна и Зеркало.jpg"/>
          <p:cNvPicPr/>
          <p:nvPr/>
        </p:nvPicPr>
        <p:blipFill>
          <a:blip r:embed="rId2"/>
          <a:stretch/>
        </p:blipFill>
        <p:spPr>
          <a:xfrm>
            <a:off x="1500120" y="1125360"/>
            <a:ext cx="7008840" cy="52563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3132000" y="54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кало и Обезья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6300720" y="12589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тышка и 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Горизонтальный свиток 1"/>
          <p:cNvSpPr/>
          <p:nvPr/>
        </p:nvSpPr>
        <p:spPr>
          <a:xfrm>
            <a:off x="304920" y="0"/>
            <a:ext cx="8227800" cy="6553080"/>
          </a:xfrm>
          <a:prstGeom prst="horizontalScroll">
            <a:avLst>
              <a:gd name="adj" fmla="val 7615"/>
            </a:avLst>
          </a:prstGeom>
          <a:solidFill>
            <a:srgbClr val="ffffff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2" descr="Перо.png"/>
          <p:cNvPicPr/>
          <p:nvPr/>
        </p:nvPicPr>
        <p:blipFill>
          <a:blip r:embed="rId1"/>
          <a:stretch/>
        </p:blipFill>
        <p:spPr>
          <a:xfrm>
            <a:off x="5505480" y="469800"/>
            <a:ext cx="2419200" cy="2011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1143000" y="8571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Хорошо ли вы знаете названия басен Ивана Андреевича Крылов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тгадайте басню по первым  слов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066680" y="2057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Ворона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74320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Лисица»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000080" y="250020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Мартышка 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00024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ч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990720" y="289548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Стрекоз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i="1" lang="ru-RU" sz="1800" spc="-1" strike="noStrike">
                <a:solidFill>
                  <a:srgbClr val="b32c16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666880" y="28954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уравей»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1066680" y="3429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Слон и</a:t>
            </a:r>
            <a:r>
              <a:rPr b="1" i="1" lang="ru-RU" sz="2000" spc="-1" strike="noStrike">
                <a:solidFill>
                  <a:srgbClr val="b32c16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2362320" y="342900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ось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1066680" y="3886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Кот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286000" y="38862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ар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990720" y="4343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Лебед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2286000" y="4343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Щука и Ра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90720" y="48006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Зеркало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2514600" y="480060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езья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1066680" y="5257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Волк и</a:t>
            </a:r>
            <a:r>
              <a:rPr b="1" i="1" lang="ru-RU" sz="2000" spc="-1" strike="noStrike">
                <a:solidFill>
                  <a:srgbClr val="b32c16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2209680" y="5257800"/>
            <a:ext cx="19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Ягнёно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4876920" y="2133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Лисица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6400800" y="21337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иноград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4952880" y="25909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Свинья п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6705720" y="259092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уб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5029200" y="30481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Кукушка и</a:t>
            </a:r>
            <a:r>
              <a:rPr b="1" i="1" lang="ru-RU" sz="2000" spc="-1" strike="noStrike">
                <a:solidFill>
                  <a:srgbClr val="b32c16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6"/>
          <p:cNvSpPr/>
          <p:nvPr/>
        </p:nvSpPr>
        <p:spPr>
          <a:xfrm>
            <a:off x="6705720" y="30481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ету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4857840" y="4143240"/>
            <a:ext cx="1000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4952880" y="350532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Осёл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2"/>
          <p:cNvSpPr/>
          <p:nvPr/>
        </p:nvSpPr>
        <p:spPr>
          <a:xfrm>
            <a:off x="6248520" y="3505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лове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3"/>
          <p:cNvSpPr/>
          <p:nvPr/>
        </p:nvSpPr>
        <p:spPr>
          <a:xfrm>
            <a:off x="4929120" y="5000760"/>
            <a:ext cx="337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3d9a"/>
                </a:solidFill>
                <a:latin typeface="Calibri"/>
                <a:ea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75 0.05412 C 0.06459 0.05204 0.06389 0.05111 0.06146 0.04117 C 0.06233 0.01642 0.06372 -0.00486 0.06841 -0.02844 C 0.0698 -0.03538 0.0724 -0.03885 0.07553 -0.04533 C 0.07639 -0.04695 0.07622 -0.04926 0.07691 -0.05088 C 0.08698 -0.07424 0.10434 -0.08973 0.12344 -0.09597 C 0.12813 -0.09528 0.13299 -0.09551 0.1375 -0.09412 C 0.13924 -0.09366 0.14011 -0.09135 0.14167 -0.09019 C 0.15018 -0.08395 0.15747 -0.0784 0.16563 -0.07146 C 0.17188 -0.06082 0.17674 -0.05111 0.18403 -0.0414 C 0.19219 -0.03053 0.1948 -0.01434 0.20087 -0.00208 C 0.204 0.0185 0.20209 0.01064 0.20504 0.0222 C 0.20643 0.06129 0.21789 0.11587 0.19375 0.14616 C 0.19323 0.14801 0.19341 0.15033 0.19237 0.15171 C 0.19132 0.1531 0.18959 0.15287 0.1882 0.15356 C 0.18125 0.15773 0.17431 0.16166 0.16702 0.1649 C 0.15191 0.16258 0.13681 0.16189 0.12344 0.15171 C 0.11789 0.14755 0.11077 0.13298 0.11077 0.13321 C 0.10886 0.12489 0.10712 0.11679 0.10504 0.1087 C 0.10556 0.09366 0.10521 0.07863 0.10643 0.0636 C 0.1066 0.06129 0.10869 0.06013 0.10938 0.05805 C 0.11112 0.0525 0.11216 0.04672 0.11355 0.04117 C 0.11737 0.0259 0.12153 0.00671 0.129 -0.00578 C 0.1375 -0.01989 0.14914 -0.03353 0.16007 -0.04348 C 0.16285 -0.04602 0.16667 -0.04787 0.16997 -0.04903 C 0.17362 -0.05041 0.18108 -0.05273 0.18108 -0.0525 C 0.18351 -0.05203 0.18612 -0.0525 0.1882 -0.05088 C 0.1908 -0.04903 0.19167 -0.04417 0.19375 -0.0414 C 0.20035 -0.03261 0.20417 -0.02035 0.21216 -0.01341 C 0.22119 -0.00555 0.21476 -0.01017 0.23334 -0.00578 C 0.24584 0.00648 0.24011 0.00324 0.24879 0.00717 C 0.2533 0.01365 0.25834 0.01827 0.26424 0.0222 C 0.26928 0.03608 0.26563 0.02822 0.2783 0.04487 C 0.28021 0.04741 0.28403 0.05227 0.28403 0.0525 C 0.28733 0.06568 0.28282 0.04996 0.28959 0.0636 C 0.29184 0.06823 0.29306 0.07378 0.29532 0.07863 C 0.29966 0.11263 0.29671 0.14824 0.30226 0.18178 C 0.30434 0.19403 0.31233 0.20329 0.31494 0.21554 C 0.31945 0.23682 0.32639 0.2574 0.33039 0.27937 C 0.32969 0.31082 0.33369 0.33095 0.32205 0.3543 C 0.31823 0.37026 0.32483 0.34575 0.31355 0.36934 C 0.30643 0.38414 0.3 0.39501 0.28681 0.3994 C 0.27813 0.40703 0.26893 0.41166 0.25869 0.41443 C 0.24532 0.42299 0.24653 0.41952 0.22622 0.41628 C 0.22119 0.41281 0.21875 0.41027 0.21494 0.40495 C 0.21303 0.39755 0.21007 0.39154 0.20799 0.38437 C 0.2066 0.37211 0.20348 0.36286 0.20226 0.3506 C 0.20313 0.31707 0.20278 0.30689 0.20643 0.28122 C 0.20712 0.27683 0.20712 0.27243 0.20799 0.26781 C 0.20955 0.25925 0.21355 0.24191 0.21355 0.24214 C 0.2165 0.21323 0.22483 0.19403 0.23612 0.17045 C 0.26337 0.11355 0.30834 0.05065 0.36007 0.03724 C 0.37084 0.03862 0.38178 0.03885 0.39237 0.04117 C 0.40122 0.04325 0.40452 0.05042 0.41216 0.05597 C 0.43282 0.07146 0.41719 0.05458 0.43889 0.07493 C 0.45105 0.08626 0.46007 0.09968 0.47362 0.1087 C 0.48924 0.13714 0.51129 0.15934 0.52744 0.18733 C 0.53559 0.2012 0.54358 0.20999 0.55 0.22687 C 0.55886 0.2507 0.56424 0.27359 0.56684 0.29996 C 0.56598 0.32632 0.5658 0.35268 0.56424 0.37882 C 0.56372 0.38761 0.55 0.39755 0.55 0.39778 C 0.54948 0.3994 0.54966 0.40171 0.54879 0.4031 C 0.54549 0.40703 0.54132 0.40934 0.53733 0.41258 C 0.53559 0.41397 0.5349 0.41675 0.53334 0.41813 C 0.5316 0.41952 0.52934 0.41929 0.52744 0.41998 C 0.5191 0.43178 0.504 0.4364 0.49237 0.43872 C 0.48264 0.43687 0.47362 0.43617 0.46563 0.43317 C 0.45157 0.42877 0.44775 0.39154 0.44028 0.37882 C 0.4375 0.36702 0.43542 0.35916 0.43334 0.3469 C 0.43386 0.32308 0.43351 0.29926 0.43473 0.27567 C 0.43525 0.26457 0.44341 0.24422 0.4474 0.23613 C 0.45139 0.22479 0.4573 0.20999 0.46424 0.20051 C 0.47327 0.18848 0.48646 0.17415 0.49723 0.16675 C 0.50417 0.15749 0.51233 0.15541 0.52188 0.15171 C 0.53143 0.15356 0.54098 0.15426 0.55 0.15749 C 0.55799 0.16027 0.56476 0.16698 0.57257 0.17045 C 0.57813 0.17623 0.58195 0.18039 0.58681 0.18733 C 0.59219 0.19542 0.59549 0.20537 0.60087 0.21369 C 0.60834 0.22526 0.61789 0.2352 0.62483 0.24746 C 0.62882 0.25463 0.63247 0.26087 0.63612 0.26781 C 0.63872 0.27336 0.64462 0.28307 0.64462 0.2833 C 0.6474 0.29232 0.64914 0.29672 0.65434 0.30366 C 0.65903 0.32447 0.6625 0.34551 0.66841 0.36564 C 0.67049 0.39986 0.67205 0.43478 0.66702 0.46878 C 0.66441 0.5044 0.66563 0.48127 0.66563 0.53816 E">
                                      <p:cBhvr>
                                        <p:cTn id="40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8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28760" y="42840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Documents and Settings\Ольга\Рабочий стол\картинки\блестяшки- цветочки\d0a1d0bed0bbd0bdd0b5d187d0bdd0b0d18f20d180d0b0d0b4d0bed181d182d18c.gif"/>
          <p:cNvPicPr/>
          <p:nvPr/>
        </p:nvPicPr>
        <p:blipFill>
          <a:blip r:embed="rId1"/>
          <a:stretch/>
        </p:blipFill>
        <p:spPr>
          <a:xfrm>
            <a:off x="2500200" y="1785960"/>
            <a:ext cx="3643560" cy="3656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МЕНИТЫЕ БАСН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6920" y="1699920"/>
            <a:ext cx="419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Monotype Corsiva"/>
              </a:rPr>
              <a:t>ЖАН  ДЕ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Monotype Corsiva"/>
              </a:rPr>
              <a:t>ЛАФОНТЕН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7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ХУД. ВЕЛАСКЕС ДИЕГ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delafontaine"/>
          <p:cNvPicPr/>
          <p:nvPr/>
        </p:nvPicPr>
        <p:blipFill>
          <a:blip r:embed="rId1"/>
          <a:stretch/>
        </p:blipFill>
        <p:spPr>
          <a:xfrm>
            <a:off x="395280" y="1484280"/>
            <a:ext cx="3306600" cy="506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6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45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МЕНИТЫЕ БАСН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3640" y="200448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ВА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НДРЕЕВИ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РЫ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(1768-184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.А. КРЫЛ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УД. К. БРЮЛЛОВ</a:t>
            </a:r>
            <a:r>
              <a:rPr b="0" lang="ru-RU" sz="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5krylov"/>
          <p:cNvPicPr/>
          <p:nvPr/>
        </p:nvPicPr>
        <p:blipFill>
          <a:blip r:embed="rId1"/>
          <a:stretch/>
        </p:blipFill>
        <p:spPr>
          <a:xfrm>
            <a:off x="426960" y="1413000"/>
            <a:ext cx="4367160" cy="521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8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8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8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8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8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8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7120" y="228564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й писатель, баснописец, журналист, родился 13 февраля 1769 г. в Москве в семье отставного офицера. Детские годы писателя прошли в Твери и на Урале. Правильного образования он так и не получил. Семья его жила очень бедно, еще подростком Крылов вынужден был поступить на службу в канцелярию земского суда на должность подканцеляриста. В 1782 г. Крылов переезжает в Петербург, где устраивается на работу мелким чиновником в Казенной палате.       Крылов занимается самообразованием, изучает литературу и математику, французский и итальянский языки. В 1777—1790 гг. молодой чиновник пробует силы на драматическом поприще. В 1809 —1843 создал более 200 басен, проникнутых демократическим духом, отличающихся сатирической остротой, ярким и метким языком. В них обличались общественные и человеческие пороки. 9 ноября  1844 в возрасте 75 лет Крылов скончался. Похоронен в Петербур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krylov1"/>
          <p:cNvPicPr/>
          <p:nvPr/>
        </p:nvPicPr>
        <p:blipFill>
          <a:blip r:embed="rId1"/>
          <a:stretch/>
        </p:blipFill>
        <p:spPr>
          <a:xfrm>
            <a:off x="214200" y="0"/>
            <a:ext cx="1816200" cy="22701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916360" y="890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ылов Иван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000" y="3573360"/>
            <a:ext cx="81169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БАС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это короткий комический рассказ в стих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ли прозе с прямым моральным выводо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дающим рассказу аллегорический смыс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лавные герои: животные, растения, лю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Ольга\Рабочий стол\картинки\Крылов\3128015.jpg"/>
          <p:cNvPicPr/>
          <p:nvPr/>
        </p:nvPicPr>
        <p:blipFill>
          <a:blip r:embed="rId1"/>
          <a:stretch/>
        </p:blipFill>
        <p:spPr>
          <a:xfrm>
            <a:off x="357120" y="214200"/>
            <a:ext cx="2335320" cy="307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басни"/>
          <p:cNvPicPr/>
          <p:nvPr/>
        </p:nvPicPr>
        <p:blipFill>
          <a:blip r:embed="rId2"/>
          <a:stretch/>
        </p:blipFill>
        <p:spPr>
          <a:xfrm>
            <a:off x="3564000" y="357120"/>
            <a:ext cx="212724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Ольга\Рабочий стол\картинки\Крылов\p979825.jpg"/>
          <p:cNvPicPr/>
          <p:nvPr/>
        </p:nvPicPr>
        <p:blipFill>
          <a:blip r:embed="rId3"/>
          <a:stretch/>
        </p:blipFill>
        <p:spPr>
          <a:xfrm>
            <a:off x="6572160" y="357120"/>
            <a:ext cx="2143080" cy="295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Лебедь, Щука и Р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Ольга\Рабочий стол\картинки\Крылов\lrsh.jpg"/>
          <p:cNvPicPr/>
          <p:nvPr/>
        </p:nvPicPr>
        <p:blipFill>
          <a:blip r:embed="rId1"/>
          <a:stretch/>
        </p:blipFill>
        <p:spPr>
          <a:xfrm>
            <a:off x="4786200" y="1285920"/>
            <a:ext cx="3714840" cy="27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Ольга\Рабочий стол\картинки\Крылов\3a.jpg"/>
          <p:cNvPicPr/>
          <p:nvPr/>
        </p:nvPicPr>
        <p:blipFill>
          <a:blip r:embed="rId2"/>
          <a:stretch/>
        </p:blipFill>
        <p:spPr>
          <a:xfrm>
            <a:off x="1785960" y="4286160"/>
            <a:ext cx="5572080" cy="239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Ольга\Рабочий стол\картинки\Крылов\resize.jpeg"/>
          <p:cNvPicPr/>
          <p:nvPr/>
        </p:nvPicPr>
        <p:blipFill>
          <a:blip r:embed="rId3"/>
          <a:stretch/>
        </p:blipFill>
        <p:spPr>
          <a:xfrm>
            <a:off x="285840" y="1285920"/>
            <a:ext cx="37065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трекоза  и  Мурав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Documents and Settings\Ольга\Рабочий стол\картинки\Крылов\1983.jpg"/>
          <p:cNvPicPr/>
          <p:nvPr/>
        </p:nvPicPr>
        <p:blipFill>
          <a:blip r:embed="rId1"/>
          <a:stretch/>
        </p:blipFill>
        <p:spPr>
          <a:xfrm>
            <a:off x="714240" y="1143000"/>
            <a:ext cx="2714760" cy="328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Ольга\Рабочий стол\картинки\Крылов\d6ad471ff08908958ef8edf40d5d4a1d.jpg"/>
          <p:cNvPicPr/>
          <p:nvPr/>
        </p:nvPicPr>
        <p:blipFill>
          <a:blip r:embed="rId2"/>
          <a:stretch/>
        </p:blipFill>
        <p:spPr>
          <a:xfrm>
            <a:off x="2357280" y="4572000"/>
            <a:ext cx="4457880" cy="205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Ольга\Рабочий стол\картинки\Крылов\1220130510_output_000006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29080" y="1143000"/>
            <a:ext cx="424980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мартышка и очки jpg"/>
          <p:cNvPicPr/>
          <p:nvPr/>
        </p:nvPicPr>
        <p:blipFill>
          <a:blip r:embed="rId1"/>
          <a:stretch/>
        </p:blipFill>
        <p:spPr>
          <a:xfrm>
            <a:off x="539640" y="1773360"/>
            <a:ext cx="2946600" cy="417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мартышка и очки"/>
          <p:cNvPicPr/>
          <p:nvPr/>
        </p:nvPicPr>
        <p:blipFill>
          <a:blip r:embed="rId2"/>
          <a:stretch/>
        </p:blipFill>
        <p:spPr>
          <a:xfrm>
            <a:off x="3902040" y="1628640"/>
            <a:ext cx="4979880" cy="446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9:35:58Z</dcterms:created>
  <dc:creator>Ольга</dc:creator>
  <dc:description/>
  <dc:language>en-US</dc:language>
  <cp:lastModifiedBy>user</cp:lastModifiedBy>
  <dcterms:modified xsi:type="dcterms:W3CDTF">2011-06-02T02:11:33Z</dcterms:modified>
  <cp:revision>67</cp:revision>
  <dc:subject/>
  <dc:title>Иван Андреевич Крылов</dc:title>
</cp:coreProperties>
</file>