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20E2D-0A31-4B20-A3A0-8654F3185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8701B-F3D0-45B3-A0F2-549E4240D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65227-A5C3-4AA0-B500-F24DE2969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77B33-14E6-45A5-8E8C-19AF2A8C2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90423-B716-4151-91C5-7C886BDFF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1CF78-D6FC-4AD3-A482-8A8BFD569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3C637-D47A-4AA5-B5A0-AE7C1A9CC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F2E90-2E2B-4BD8-8DF5-C29E72CF7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6239C-F2DC-4E73-BFFE-83F49484B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1135B-B10C-4F77-B6E0-C7F4E658F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06836-723F-4CEA-A603-D795313E3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ACFDF-27E9-46BE-937B-70938412A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265BB-790A-40F1-9DB6-7205B5512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8CCCB-859F-4038-BEF7-3BA52B11A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6B3FC-8AF6-46D3-95E7-54D062728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C6EB7-E30E-4613-AF8E-10C44F2E7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376DF-5B45-4584-855B-AAECE989C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24A89-E2CC-4EDA-A27E-167194C4F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0053D-E02B-48ED-AAEC-BF743F292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B82B4-C7F6-421E-932D-8502D52A5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41EDA-1105-4FBF-83F0-40EE1C25A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59C2E-CD74-4399-8308-CF6CC08F5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F2E73-6188-4D69-AEF9-DE7D3380B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F38D4-6211-4877-9619-0CF0A5D1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77576-53A0-403B-BFF7-65F7D65039E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1957E-4941-4E3B-92B3-2A1AF02FEF3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Высоцкий 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Владимир Семенович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771640" y="1700280"/>
            <a:ext cx="3454560" cy="33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ВЫСОЦКИЙ Владимир Семенович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Родился (25 января 1938, Москва — 25 июля 1980, там же), русский поэт, автор и исполнитель песен на собственные стихи, актер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Родился в семье военнослужащего, Семена Владимировича, и переводчицы с немецкого, Нины Максимовны Высоцких. В 1941-43 гг. с матерью находился в эвакуации в Чкаловской (ныне — Оренбургской) области; в 1947-49 жил в Германии с отцом и его второй женой. В юности заметное влияние на Высоцкого оказала творческая дружеская компания, собиравшаяся в доме по Большому Каретному переулку (Л. Кочарян, А. Макаров, В. Акимов и др.), где жил и он сам с отцом и мачехой в 1949-55 гг. (впоследствии переехал к матери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Первые песн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604836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В 1960 окончил Школу-студию МХАТ (среди преподавателей — способствовавший формированию литературных интересов Высоцкого А. Д. Синявский, специалист по поэзии «серебряного века»), недолгое время работал в Театре им. А. С. Пушкина, Театре миниатюр, снимался в кино в эпизодических ролях. В начале 1960- х появились (и вскоре были записаны на тогдашние катушечные магнитофоны) первые песни Высоцкого, связанные обычно с тюремной темой: «Татуировка», «Рецидивист», «Формулировка» и др. Отражая присущий интеллигенции того времени интерес к уличному и лагерному фольклору, эти песни (сам автор называл их «стилизациями») в то же время содержат оригинальную авторскую интерпретацию такой тематики, табуированной для официальной советской культуры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588000" y="1197000"/>
            <a:ext cx="23050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ронизируя над неожиданным «благородством» героя из уголовной среды, поэт еще и пародировал расхожие речевые штампы советской идеологии («Зачем нам врут: / «Народный суд!» - / Народу я не видел…» и т. п.). В то же время песни о героях-маргиналах несли в себе присущий вообще русской культуре пафос сочувствия «маленькому человеку», зачастую противостоящему бездушной и отталкивающей его среде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Взлет актер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-360" y="1268280"/>
            <a:ext cx="676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ажным творческим рубежом стал для Высоцкого 1964 год. Он приходит работать в преобразованный тогда Театр драмы и комедии на Таганке под руководством Ю. П. Любимова и вскоре становится одним из ведущих его актеров, демонстрируя мощную экспрессивную манеру игры: участвует в поэтических спектаклях («Павшие и живые», по стихам поэтов-фронтовиков, 1965), А. А. Вознесенского («Антимиры», 1965), В. В. Маяковского («Послушайте!», 1967), получает заглавную роль в пьесе Б. Брехта «Жизнь Галилея» (1966), роль Хлопуши в драматической поэме С. А. Есенина «Пугачев» (1967). В 1967 на экраны выходит фильм С. С Говорухина и Б. В. Дурова «Вертикаль» с участием Высоцкого как актера и автора-исполнителя песен о горах, впервые широко «показавший» его стране и сильно способствовавший росту его популярности. К этому же времени (1967-68) относятся и первые крупные кинороли Высоцкого в фильмах «Короткие встречи» (режиссер К. Г. Муратова), «Интервенция» (режиссер Г. И. Полока), «Служили два товарища» (режиссер Е. Е. Карелов)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943680" y="1413000"/>
            <a:ext cx="220032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На пути к эпосу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 вторую половину 1970-х гг. приходится заключительный период творчества Высоцкого. В эти годы им были сыграны несколько значительных ролей в театре (Лопахин в «Вишневом саде», 1975; Свидригайлов в «Преступлении и наказании», 1979) и кино: Ибрагим Ганнибал («Сказ про то, как царь Петр арапа женил», 1976), Глеб Жеглов («Место встречи изменить нельзя», 1979), Дон Гуан («Маленькие трагедии», 1980). В поэзии этих лет ощутимо, с одной стороны, своеобразное подведение итогов, выразившееся в разработке новой для поэта темы детства как темы автобиографической («Баллада о детстве», «О конце войны»), в возвращении к лагерной теме («Был побег на рывок…», «Райские яблоки») и к своим давним сюжетам («Конец «Охоты на волков»…», «Через десять лет»), а с другой стороны — открытие новых возможностей песенного жанра: усиление эпического начала, умение вместить в сюжет целую человеческую судьбу, обычно трагическую, связанную с судьбой общенациональной («Разбойничья», «Летела жизнь»). Тяготение к эпосу выразилось и в попытке написать прозаический «Роман о девочках» (1977). Еще прежде Высоцкий написал сценарии «Как-то так все вышло» (начало 1970-х гг.) и «Где Центр?» (1975); фильмы по ним поставлены не был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53964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1967 познакомился с известной французской актрисой Мариной Влади, вскоре знакомство переросло в бурный роман, в 1970 они поженились, это обстоятельство помогло Высоцкому сделаться «выездным». Начиная с 1973, он побывал в Англии, Италии, США, Канаде, Мексике и других странах, постоянно бывал во Франции. Во Франции вышли три диска. В составе труппы Театра на Таганке Высоцкий выступал (1975-1980) на сценах Болгарии, Венгрии, Югославии, Франции, Польши. Впечатления от поездок отразились в песнях, как серьезных, так и шуточных («Черногорские мотивы», «Письмо к другу, или Зарисовка о Париже» и др.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Пророк в своем Отечестве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Широкий творческий диапазон, погруженность в жизненную стихию, непоказной, органичный нонконформизм, неуемная фантазия, разговорный язык, насыщенный фразеологизмами и каламбурами богатый словообразовательными возможностями и одновременно рифмовкой («скалолазка моя» — «скалоласковая», «на тыши те» — «не отыщите»…, «нам бермуторно на сердце и бермутно на душе»), противостоявший гладкому и выхолощенному советскому новоязу, пронзительная, на разрыв аорты, манера исполнения — все это обеспечило песням Высоцкого широчайшую, поистине всенародную популярность. В 1960-1980-е годы в стране трудно было найти дом, квартиру, где бы не звучали песни Высоцкого — «всенародного Володи» (А. Вознесенский) — чаще всего переписанные на магнитной ленте, не всегда качественной. Власти, однако, предпочитали не замечать этой популярности, более того, не только замалчивали ее, но и время от времени обрушивались с критикой в ведущих советских изданиях («Комсомольская правда», «Советская Россия» и др.). Стихи Высоцкого не допускались на страницы книг и журналов; за всю его жизнь в СССР вышли лишь несколько его грампластинок-миньонов (по 3-4 песни на каждой). Высоцкий не являлся членом творческих союзов и потому не имел официального статуса литератора или композитора. Многочисленные выступления поэта перед публикой носили обычно полулегальный характер и часто оборачивались неприятностями для их организаторов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042920" y="2565000"/>
            <a:ext cx="715032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громное напряжение на пределе человеческих сил в последние годы, болезненно переживаемое непризнание официальной литературой, сложные, с нарастающим конфликтом отношения в театре, личные проблемы, подорванное здоровье оборвали жизнь Высоцкого на творческом взлете. Его смерть и похороны в дни московской Олимпиады стали событием национального масштаба и вылились в первое за долгие десятилетия советской истории массовое народное волеизъявление.. Официальное признание поэта состоялось лишь в эпоху «перестройки», во второй половине 1980-х гг. В 1987 ему была посмертно присуждена Государственная премия СССР. В 1989 в Москве был открыт Центр-музей В. С. Высоцкого. В 1990-е годы оформилось и высоцковедение, стали проводиться научные конференции, выходить монографии и сборники статей. В русской поэзии 20 в. Высоцкий по праву занял свое высокое место.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132000" y="0"/>
            <a:ext cx="256392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1T09:10:15Z</dcterms:created>
  <dc:creator>55555</dc:creator>
  <dc:description/>
  <dc:language>en-US</dc:language>
  <cp:lastModifiedBy>55555</cp:lastModifiedBy>
  <dcterms:modified xsi:type="dcterms:W3CDTF">2004-05-11T09:26:27Z</dcterms:modified>
  <cp:revision>2</cp:revision>
  <dc:subject/>
  <dc:title>Высоцкий  Владимир Семенович</dc:title>
</cp:coreProperties>
</file>