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B8D8-26E8-4C85-A358-A971358A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7B73-7480-4BBA-9D3D-CA761061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198C-221D-44A4-BB82-59D93D44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DCE5-0F43-411C-B652-F42F15B5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BC2E-CC97-44F2-9CF6-8A4D17B8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2045-B4A7-49D2-B477-FC9EBBED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453F-445C-48FB-929D-9A0BB68F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9EF0-24FC-4E82-95FB-87C6386C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1098-364B-4A2E-A136-BD1E6C22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57F-3227-46E9-BD4C-01F17B27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B224-1A95-4024-9BC0-84CA0E2D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9675-1AE1-4A72-9E5D-6D25B1F0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1D76-D3C4-41E5-8B4A-F25E8946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559F-C51E-4E15-9DED-8B10AB5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2615-67EF-4F03-8F93-8871F030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398B-AAC7-4BEE-AEBD-E5BCFC6E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FA56-EB74-4DE8-8DBD-5A6DED24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DB2A-E0F4-4981-9C31-83F5FA00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6939-0407-4B33-816F-13319BDE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1047-89A0-4DD8-A609-B3D17F71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EE8E-E284-42AC-A0EF-D8A72989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9E32-4A12-47AC-B64E-1DDC9165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9382-A514-4AF4-9D14-29B0A0A7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AC36-CA56-4234-8BC7-AAC2B15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0616-16C1-4170-9ECF-136117492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107B-447A-43F6-8F12-3C2D3042C0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ысоцкий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ладимир Семенович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4545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ЫСОЦКИЙ Владимир Семенович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дился (25 января 1938, Москва — 25 июля 1980, там же), русский поэт, автор и исполнитель песен на собственные стихи, 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дился в семье военнослужащего, Семена Владимировича, и переводчицы с немецкого, Нины Максимовны Высоцких. В 1941-43 гг. с матерью находился в эвакуации в Чкаловской (ныне — Оренбургской) области; в 1947-49 жил в Германии с отцом и его второй женой. В юности заметное влияние на Высоцкого оказала творческая дружеская компания, собиравшаяся в доме по Большому Каретному переулку (Л. Кочарян, А. Макаров, В. Акимов и др.), где жил и он сам с отцом и мачехой в 1949-55 гг. (впоследствии переехал к мате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ервые пес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60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1960 окончил Школу-студию МХАТ (среди преподавателей — способствовавший формированию литературных интересов Высоцкого А. Д. Синявский, специалист по поэзии «серебряного века»), недолгое время работал в Театре им. А. С. Пушкина, Театре миниатюр, снимался в кино в эпизодических ролях. В начале 1960- х появились (и вскоре были записаны на тогдашние катушечные магнитофоны) первые песни Высоцкого, связанные обычно с тюремной темой: «Татуировка», «Рецидивист», «Формулировка» и др. Отражая присущий интеллигенции того времени интерес к уличному и лагерному фольклору, эти песни (сам автор называл их «стилизациями») в то же время содержат оригинальную авторскую интерпретацию такой тематики, табуированной для официальной советской культур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88000" y="119700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ронизируя над неожиданным «благородством» героя из уголовной среды, поэт еще и пародировал расхожие речевые штампы советской идеологии («Зачем нам врут: / «Народный суд!» - / Народу я не видел…» и т. п.). В то же время песни о героях-маргиналах несли в себе присущий вообще русской культуре пафос сочувствия «маленькому человеку», зачастую противостоящему бездушной и отталкивающей его сред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злет акт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ажным творческим рубежом стал для Высоцкого 1964 год. Он приходит работать в преобразованный тогда Театр драмы и комедии на Таганке под руководством Ю. П. Любимова и вскоре становится одним из ведущих его актеров, демонстрируя мощную экспрессивную манеру игры: участвует в поэтических спектаклях («Павшие и живые», по стихам поэтов-фронтовиков, 1965), А. А. Вознесенского («Антимиры», 1965), В. В. Маяковского («Послушайте!», 1967), получает заглавную роль в пьесе Б. Брехта «Жизнь Галилея» (1966), роль Хлопуши в драматической поэме С. А. Есенина «Пугачев» (1967). В 1967 на экраны выходит фильм С. С Говорухина и Б. В. Дурова «Вертикаль» с участием Высоцкого как актера и автора-исполнителя песен о горах, впервые широко «показавший» его стране и сильно способствовавший росту его популярности. К этому же времени (1967-68) относятся и первые крупные кинороли Высоцкого в фильмах «Короткие встречи» (режиссер К. Г. Муратова), «Интервенция» (режиссер Г. И. Полока), «Служили два товарища» (режиссер Е. Е. Карелов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943680" y="1413000"/>
            <a:ext cx="2200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 пути к эпос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вторую половину 1970-х гг. приходится заключительный период творчества Высоцкого. В эти годы им были сыграны несколько значительных ролей в театре (Лопахин в «Вишневом саде», 1975; Свидригайлов в «Преступлении и наказании», 1979) и кино: Ибрагим Ганнибал («Сказ про то, как царь Петр арапа женил», 1976), Глеб Жеглов («Место встречи изменить нельзя», 1979), Дон Гуан («Маленькие трагедии», 1980). В поэзии этих лет ощутимо, с одной стороны, своеобразное подведение итогов, выразившееся в разработке новой для поэта темы детства как темы автобиографической («Баллада о детстве», «О конце войны»), в возвращении к лагерной теме («Был побег на рывок…», «Райские яблоки») и к своим давним сюжетам («Конец «Охоты на волков»…», «Через десять лет»), а с другой стороны — открытие новых возможностей песенного жанра: усиление эпического начала, умение вместить в сюжет целую человеческую судьбу, обычно трагическую, связанную с судьбой общенациональной («Разбойничья», «Летела жизнь»). Тяготение к эпосу выразилось и в попытке написать прозаический «Роман о девочках» (1977). Еще прежде Высоцкий написал сценарии «Как-то так все вышло» (начало 1970-х гг.) и «Где Центр?» (1975); фильмы по ним поставлены не бы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67 познакомился с известной французской актрисой Мариной Влади, вскоре знакомство переросло в бурный роман, в 1970 они поженились, это обстоятельство помогло Высоцкому сделаться «выездным». Начиная с 1973, он побывал в Англии, Италии, США, Канаде, Мексике и других странах, постоянно бывал во Франции. Во Франции вышли три диска. В составе труппы Театра на Таганке Высоцкий выступал (1975-1980) на сценах Болгарии, Венгрии, Югославии, Франции, Польши. Впечатления от поездок отразились в песнях, как серьезных, так и шуточных («Черногорские мотивы», «Письмо к другу, или Зарисовка о Париже» и др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рок в своем Отечеств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рокий творческий диапазон, погруженность в жизненную стихию, непоказной, органичный нонконформизм, неуемная фантазия, разговорный язык, насыщенный фразеологизмами и каламбурами богатый словообразовательными возможностями и одновременно рифмовкой («скалолазка моя» — «скалоласковая», «на тыши те» — «не отыщите»…, «нам бермуторно на сердце и бермутно на душе»), противостоявший гладкому и выхолощенному советскому новоязу, пронзительная, на разрыв аорты, манера исполнения — все это обеспечило песням Высоцкого широчайшую, поистине всенародную популярность. В 1960-1980-е годы в стране трудно было найти дом, квартиру, где бы не звучали песни Высоцкого — «всенародного Володи» (А. Вознесенский) — чаще всего переписанные на магнитной ленте, не всегда качественной. Власти, однако, предпочитали не замечать этой популярности, более того, не только замалчивали ее, но и время от времени обрушивались с критикой в ведущих советских изданиях («Комсомольская правда», «Советская Россия» и др.). Стихи Высоцкого не допускались на страницы книг и журналов; за всю его жизнь в СССР вышли лишь несколько его грампластинок-миньонов (по 3-4 песни на каждой). Высоцкий не являлся членом творческих союзов и потому не имел официального статуса литератора или композитора. Многочисленные выступления поэта перед публикой носили обычно полулегальный характер и часто оборачивались неприятностями для их организатор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565000"/>
            <a:ext cx="71503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громное напряжение на пределе человеческих сил в последние годы, болезненно переживаемое непризнание официальной литературой, сложные, с нарастающим конфликтом отношения в театре, личные проблемы, подорванное здоровье оборвали жизнь Высоцкого на творческом взлете. Его смерть и похороны в дни московской Олимпиады стали событием национального масштаба и вылились в первое за долгие десятилетия советской истории массовое народное волеизъявление.. Официальное признание поэта состоялось лишь в эпоху «перестройки», во второй половине 1980-х гг. В 1987 ему была посмертно присуждена Государственная премия СССР. В 1989 в Москве был открыт Центр-музей В. С. Высоцкого. В 1990-е годы оформилось и высоцковедение, стали проводиться научные конференции, выходить монографии и сборники статей. В русской поэзии 20 в. Высоцкий по праву занял свое высокое место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563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9:10:15Z</dcterms:created>
  <dc:creator>55555</dc:creator>
  <dc:description/>
  <dc:language>en-US</dc:language>
  <cp:lastModifiedBy>55555</cp:lastModifiedBy>
  <dcterms:modified xsi:type="dcterms:W3CDTF">2004-05-11T09:26:27Z</dcterms:modified>
  <cp:revision>2</cp:revision>
  <dc:subject/>
  <dc:title>Высоцкий  Владимир Семенович</dc:title>
</cp:coreProperties>
</file>