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637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2DBE-5662-4BB2-B2D4-D4EC1FFF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A70E-17A4-4DF6-8751-E43D6234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EEFF-C599-4B47-B770-7BC885B0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236B-6CB9-41AF-9811-0CEA8E58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5DA64-1776-434F-B1CA-204E460C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D7DC0-2556-420D-8199-5E2460B7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3CA58-D4B4-4CE9-BDF4-5FA29A19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10E48-2787-45B8-AAF4-C86754F6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DB0F1-8690-44F6-9D1F-B2591153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7B5F2-4B34-492C-8E03-6A8A4515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72BAE-78CD-473D-9008-5148E685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6A83-60DB-4212-B0AC-84178D61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53753-A3BC-470B-92F2-B36C063B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4C479-F575-4027-8A3B-548E1C95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113F2-644E-4953-A840-189EFD88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6C71F-6D85-4FBC-9961-47CD541E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D8AE7-B6F6-4F39-A7CB-DAD30F2A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5CDE-EB4C-4016-8E05-090A0729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B443-8B2B-4767-97F7-72255BD3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3FAD-9D21-4D0D-93F2-A91690D3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9D72-C2CE-4EED-9D97-A14157E1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FEC0-9555-40BB-9D4A-316A5151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F184-8CCD-4D9F-95C0-BDD67575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C714-0EC3-4CEA-94FF-689E756D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6CCA-D129-4789-82AC-C402648AB2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E97B-A3FC-4F0D-85F0-450AA48ACF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3357360"/>
            <a:ext cx="66355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Georgia"/>
              </a:rPr>
              <a:t>Написание </a:t>
            </a:r>
            <a:r>
              <a:rPr b="1" lang="en-US" sz="4300" spc="-1" strike="noStrike">
                <a:solidFill>
                  <a:srgbClr val="ff0000"/>
                </a:solidFill>
                <a:latin typeface="Georgia"/>
              </a:rPr>
              <a:t>НЕ</a:t>
            </a:r>
            <a:r>
              <a:rPr b="1" lang="en-US" sz="43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Georgia"/>
              </a:rPr>
              <a:t>с наречиями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Georgia"/>
              </a:rPr>
              <a:t>на –О, -Е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528A6-8446-479F-8854-7FB8E47E3B6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ес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4041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. В каких из данных слов </a:t>
            </a: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н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пишется слитно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) (не)пого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) (не)серьёзно,  а беспечн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) (не)правильно пиш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) (не)цветё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В каких из данных слов </a:t>
            </a: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н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является приставкой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) вовсе (не)легко сдел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) (не)взлюби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) (не)сложная задач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)(не)годов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. Н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с наречиями на –о,-е пишется слитно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) поступил (не)леп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) написал (не)брежно, но правильн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) повторил (не)быстро,а медленн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) выглядел отнюдь (не)красив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 Н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с наречиями на –о,-е пишется раздельно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) (не)разумно,а глуп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) (не)пого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) (не)большой,но рыбны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) ничем (не)выда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е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является частицей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) (не)рях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) (не)ясная пого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) (не)навиди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) (не)любит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B6CB-1630-40D8-9CEF-9DA2C0D2E54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А,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А,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80B6-F95D-4B96-9A43-9AA3F98727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Игра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«Третий лишний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»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000" y="1904760"/>
            <a:ext cx="849636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I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I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1. Поступил (не)лепо                                 1. Ответил (не)вер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2. Написал (не)брежно                             2.  Прибил (не)крепк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3. Спросил (не)вежливо                           3. Остановился (не)ожидан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               </a:t>
            </a: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III        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1. Говорил (не)быстро, а медленно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2. Выглядел отнюдь (не)красиво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3. Где-то (не)далеко прошумел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3DC2-587D-42A4-8068-5A0DE0B7B9B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Georgia"/>
              </a:rPr>
              <a:t>Игра «Третий лишний»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1. Н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eorgia"/>
              </a:rPr>
              <a:t>ев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ежливо (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eorgia"/>
              </a:rPr>
              <a:t>грубо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2. Н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eorgia"/>
              </a:rPr>
              <a:t>ео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жиданно (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eorgia"/>
              </a:rPr>
              <a:t>не употр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3. Н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eorgia"/>
              </a:rPr>
              <a:t>ед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алеко (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eorgia"/>
              </a:rPr>
              <a:t>близко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14842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11640" y="206064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2637000"/>
            <a:ext cx="151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435640" y="3429000"/>
            <a:ext cx="3054240" cy="26128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-1728720" y="3933720"/>
            <a:ext cx="172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828720" y="3141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-1044720" y="3284640"/>
            <a:ext cx="21600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16000" y="2205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2205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42920" y="1700280"/>
            <a:ext cx="64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92360" y="1700280"/>
            <a:ext cx="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1052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19280" y="105264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62E2-1781-44EF-B5B9-366E2C1356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4960" y="309240"/>
            <a:ext cx="809928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Аукцион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5435640" y="1197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еожидан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35640" y="2708280"/>
            <a:ext cx="252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едруж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64000" y="3429000"/>
            <a:ext cx="2449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поступат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           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езависим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92720" y="5300640"/>
            <a:ext cx="37083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поступать)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еосмотритель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4365720"/>
            <a:ext cx="3672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действоват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                  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есамостоятель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1197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Как с луны свалился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040" y="2637000"/>
            <a:ext cx="43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Как кошка с собакой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3500280"/>
            <a:ext cx="40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Идти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своей дорогой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0200" y="4365720"/>
            <a:ext cx="324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Идти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на поводу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5373720"/>
            <a:ext cx="36003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Играть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с огнем -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2B84-582A-40A2-8DB9-011A3A640B32}" type="slidenum">
              <a:t>14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Задание на развитие быстроты реакции и мышления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оедините части слов, записанные в два столб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вовсе не                                       1)  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не                                                  2)  дова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недол                                            3)  лив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неле                                              4)  стро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)неправ                                          5)  а зл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)него                                              6)  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7)невеж                                           7)  соко, а низ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8)не ту                                             8)  краси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9)не вы                                            9)  п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0) не добрый                                   10)  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0820-1F97-451D-A9E9-C86C146B8C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флекс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сегодня я узнал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было интересно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было трудно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я выполнял задания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я понял, что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теперь я могу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я почувствовал, что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я приобрел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я научился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у меня получилось 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я смог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я попробую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меня удивило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мне захотелось…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E209-C110-488B-804B-BBE53594E1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eorgia"/>
              </a:rPr>
              <a:t>Желаю успехов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84A8-0DE0-4200-8EFA-917841650AF8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Цели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Познакомиться с правилами написания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НЕ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 с наречиями на –О, -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Научиться обозначать новую орфограмм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Научиться выбирать правильное написание наречи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B1ED-382C-4908-81C6-816DEEE8ED6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5120" y="582480"/>
            <a:ext cx="809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Наречия на –О, -Е образуются от качественных прилагательных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2637000"/>
            <a:ext cx="8820000" cy="38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74"/>
              </a:spcBef>
              <a:buClr>
                <a:srgbClr val="ffcc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Georgia"/>
              </a:rPr>
              <a:t>Неуклюже       </a:t>
            </a:r>
            <a:r>
              <a:rPr b="1" lang="en-US" sz="4300" spc="-1" strike="noStrike" u="sng">
                <a:solidFill>
                  <a:srgbClr val="ffffff"/>
                </a:solidFill>
                <a:uFillTx/>
                <a:latin typeface="Georgia"/>
              </a:rPr>
              <a:t>неуклюж</a:t>
            </a:r>
            <a:r>
              <a:rPr b="1" lang="en-US" sz="4300" spc="-1" strike="noStrike">
                <a:solidFill>
                  <a:srgbClr val="ffffff"/>
                </a:solidFill>
                <a:latin typeface="Georgia"/>
              </a:rPr>
              <a:t>ий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74"/>
              </a:spcBef>
              <a:buClr>
                <a:srgbClr val="ffcc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Georgia"/>
              </a:rPr>
              <a:t>Нелепо       </a:t>
            </a:r>
            <a:r>
              <a:rPr b="1" lang="en-US" sz="4300" spc="-1" strike="noStrike" u="sng">
                <a:solidFill>
                  <a:srgbClr val="ffffff"/>
                </a:solidFill>
                <a:uFillTx/>
                <a:latin typeface="Georgia"/>
              </a:rPr>
              <a:t>нелеп</a:t>
            </a:r>
            <a:r>
              <a:rPr b="1" lang="en-US" sz="4300" spc="-1" strike="noStrike">
                <a:solidFill>
                  <a:srgbClr val="ffffff"/>
                </a:solidFill>
                <a:latin typeface="Georgia"/>
              </a:rPr>
              <a:t>ый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74"/>
              </a:spcBef>
              <a:buClr>
                <a:srgbClr val="ffcc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Georgia"/>
              </a:rPr>
              <a:t>Громко      </a:t>
            </a:r>
            <a:r>
              <a:rPr b="1" lang="en-US" sz="4300" spc="-1" strike="noStrike" u="sng">
                <a:solidFill>
                  <a:srgbClr val="ffffff"/>
                </a:solidFill>
                <a:uFillTx/>
                <a:latin typeface="Georgia"/>
              </a:rPr>
              <a:t>громк</a:t>
            </a:r>
            <a:r>
              <a:rPr b="1" lang="en-US" sz="4300" spc="-1" strike="noStrike">
                <a:solidFill>
                  <a:srgbClr val="ffffff"/>
                </a:solidFill>
                <a:latin typeface="Georgia"/>
              </a:rPr>
              <a:t>ий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140360" y="306864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131640" y="386064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131640" y="465300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32360" y="3213000"/>
            <a:ext cx="0" cy="71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40720" y="3141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635280" y="2708280"/>
            <a:ext cx="14472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2708280"/>
            <a:ext cx="14436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3933720"/>
            <a:ext cx="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4005360"/>
            <a:ext cx="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700360" y="3573000"/>
            <a:ext cx="14292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43280" y="3573360"/>
            <a:ext cx="14436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51280" y="4724280"/>
            <a:ext cx="0" cy="21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51640" y="4724280"/>
            <a:ext cx="0" cy="144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700360" y="4365360"/>
            <a:ext cx="14292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365720"/>
            <a:ext cx="14436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6547-FBF6-40C6-AA86-6D6D2865AAB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авописание НЕ с существительными, прилагательными, наречия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905120"/>
          <a:ext cx="8229600" cy="4402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асти реч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ит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дель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мя существитель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мя прилагатель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реч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нависть  Неправда(ложь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лепый  Нехорош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плохой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ряшлив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глупо(умно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 правд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а ложь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 хорош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а плохой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 глуп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а умно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BB81-E0C3-4187-B877-E1FDA5A497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4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Georgia"/>
              </a:rPr>
              <a:t>Примечание.</a:t>
            </a:r>
            <a:br>
              <a:rPr sz="3500"/>
            </a:br>
            <a:r>
              <a:rPr b="1" lang="en-US" sz="3500" spc="-1" strike="noStrike">
                <a:solidFill>
                  <a:srgbClr val="ffffff"/>
                </a:solidFill>
                <a:latin typeface="Georgia"/>
              </a:rPr>
              <a:t>Всегда </a:t>
            </a:r>
            <a:r>
              <a:rPr b="1" lang="en-US" sz="3500" spc="-1" strike="noStrike">
                <a:solidFill>
                  <a:srgbClr val="ff0000"/>
                </a:solidFill>
                <a:latin typeface="Georgia"/>
              </a:rPr>
              <a:t>раздельно</a:t>
            </a:r>
            <a:r>
              <a:rPr b="1" lang="en-US" sz="3500" spc="-1" strike="noStrike">
                <a:solidFill>
                  <a:srgbClr val="ffffff"/>
                </a:solidFill>
                <a:latin typeface="Georgia"/>
              </a:rPr>
              <a:t> пишем </a:t>
            </a:r>
            <a:r>
              <a:rPr b="1" lang="en-US" sz="3500" spc="-1" strike="noStrike">
                <a:solidFill>
                  <a:srgbClr val="ff0000"/>
                </a:solidFill>
                <a:latin typeface="Georgia"/>
              </a:rPr>
              <a:t>НЕ</a:t>
            </a:r>
            <a:r>
              <a:rPr b="1" lang="en-US" sz="3500" spc="-1" strike="noStrike">
                <a:solidFill>
                  <a:srgbClr val="ffffff"/>
                </a:solidFill>
                <a:latin typeface="Georgia"/>
              </a:rPr>
              <a:t> с наречиями,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если есть слова, усиливающие отрицание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(отнюдь не…, вовсе не…, далеко не…, ничуть не…, нисколько не…):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Georgia"/>
              </a:rPr>
              <a:t>нисколько не</a:t>
            </a:r>
            <a:r>
              <a:rPr b="1" lang="en-US" sz="2500" spc="-1" strike="noStrike">
                <a:solidFill>
                  <a:srgbClr val="ffffff"/>
                </a:solidFill>
                <a:latin typeface="Georgia"/>
              </a:rPr>
              <a:t> жалк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Georgia"/>
              </a:rPr>
              <a:t>о</a:t>
            </a:r>
            <a:r>
              <a:rPr b="1" lang="en-US" sz="2500" spc="-1" strike="noStrike">
                <a:solidFill>
                  <a:srgbClr val="ffffff"/>
                </a:solidFill>
                <a:latin typeface="Georgia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если наречие в сравнительной или превосходной степени: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Georgia"/>
              </a:rPr>
              <a:t>говорил н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Georgia"/>
              </a:rPr>
              <a:t>е м</a:t>
            </a:r>
            <a:r>
              <a:rPr b="1" lang="en-US" sz="2500" spc="-1" strike="noStrike">
                <a:solidFill>
                  <a:srgbClr val="ffffff"/>
                </a:solidFill>
                <a:latin typeface="Georgia"/>
              </a:rPr>
              <a:t>едленнее (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Georgia"/>
              </a:rPr>
              <a:t>ср.ст.</a:t>
            </a:r>
            <a:r>
              <a:rPr b="1" lang="en-US" sz="2500" spc="-1" strike="noStrike">
                <a:solidFill>
                  <a:srgbClr val="ffffff"/>
                </a:solidFill>
                <a:latin typeface="Georgia"/>
              </a:rPr>
              <a:t>);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если наречие пишется через дефис: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Georgia"/>
              </a:rPr>
              <a:t>поступил не п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Georgia"/>
              </a:rPr>
              <a:t>о-т</a:t>
            </a:r>
            <a:r>
              <a:rPr b="1" lang="en-US" sz="2500" spc="-1" strike="noStrike">
                <a:solidFill>
                  <a:srgbClr val="ffffff"/>
                </a:solidFill>
                <a:latin typeface="Georgia"/>
              </a:rPr>
              <a:t>оварищески;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если наречие не оканчивается на –О, -Е: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Georgia"/>
              </a:rPr>
              <a:t>вникал н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Georgia"/>
              </a:rPr>
              <a:t>е с</a:t>
            </a:r>
            <a:r>
              <a:rPr b="1" lang="en-US" sz="2500" spc="-1" strike="noStrike">
                <a:solidFill>
                  <a:srgbClr val="ffffff"/>
                </a:solidFill>
                <a:latin typeface="Georgia"/>
              </a:rPr>
              <a:t>разу (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Georgia"/>
              </a:rPr>
              <a:t>не на -О, -Е</a:t>
            </a:r>
            <a:r>
              <a:rPr b="1" lang="en-US" sz="2500" spc="-1" strike="noStrike">
                <a:solidFill>
                  <a:srgbClr val="ffffff"/>
                </a:solidFill>
                <a:latin typeface="Georgia"/>
              </a:rPr>
              <a:t>);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6156360" y="2997360"/>
            <a:ext cx="216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4581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544500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48000" y="6308640"/>
            <a:ext cx="18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03280" y="335772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5B3C-8310-4D39-A19C-9B4959ACDCD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знакомление с «трудными» словами для запоминания и активными использования в реч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вероят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прият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подале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леп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взрач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783D-3F69-486E-97C1-1E2098B4FA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785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Georgia"/>
              </a:rPr>
              <a:t>Невероятно</a:t>
            </a:r>
            <a:r>
              <a:rPr b="1" lang="en-US" sz="25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– </a:t>
            </a:r>
            <a:r>
              <a:rPr b="1" lang="en-US" sz="2200" spc="-1" strike="noStrike">
                <a:solidFill>
                  <a:srgbClr val="ffcc00"/>
                </a:solidFill>
                <a:latin typeface="Georgia"/>
              </a:rPr>
              <a:t>1. Неправдоподобно.</a:t>
            </a: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                                                        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Н: Невероятно умный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                                    </a:t>
            </a:r>
            <a:r>
              <a:rPr b="1" lang="en-US" sz="2200" spc="-1" strike="noStrike">
                <a:solidFill>
                  <a:srgbClr val="ffcc00"/>
                </a:solidFill>
                <a:latin typeface="Georgia"/>
              </a:rPr>
              <a:t>2. Очень большой, значительный,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Georgia"/>
              </a:rPr>
              <a:t>                                         </a:t>
            </a:r>
            <a:r>
              <a:rPr b="1" lang="en-US" sz="2200" spc="-1" strike="noStrike">
                <a:solidFill>
                  <a:srgbClr val="ffcc00"/>
                </a:solidFill>
                <a:latin typeface="Georgia"/>
              </a:rPr>
              <a:t>чрезвычайны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                                                       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Н: Невероятно сильны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Georgia"/>
              </a:rPr>
              <a:t>Непритворно</a:t>
            </a:r>
            <a:r>
              <a:rPr b="1" lang="en-US" sz="2500" spc="-1" strike="noStrike">
                <a:solidFill>
                  <a:srgbClr val="ffffff"/>
                </a:solidFill>
                <a:latin typeface="Georgia"/>
              </a:rPr>
              <a:t>  -     </a:t>
            </a:r>
            <a:r>
              <a:rPr b="1" lang="en-US" sz="2500" spc="-1" strike="noStrike">
                <a:solidFill>
                  <a:srgbClr val="ff0000"/>
                </a:solidFill>
                <a:latin typeface="Georgia"/>
              </a:rPr>
              <a:t>непритворный</a:t>
            </a: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 - </a:t>
            </a:r>
            <a:r>
              <a:rPr b="1" lang="en-US" sz="2200" spc="-1" strike="noStrike">
                <a:solidFill>
                  <a:srgbClr val="ffcc00"/>
                </a:solidFill>
                <a:latin typeface="Georgia"/>
              </a:rPr>
              <a:t>лишенный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Georgia"/>
              </a:rPr>
              <a:t>                                        </a:t>
            </a:r>
            <a:r>
              <a:rPr b="1" lang="en-US" sz="2200" spc="-1" strike="noStrike">
                <a:solidFill>
                  <a:srgbClr val="ffcc00"/>
                </a:solidFill>
                <a:latin typeface="Georgia"/>
              </a:rPr>
              <a:t>притворства,  искренний.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                                                      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Н: Непритворно удивленны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Georgia"/>
              </a:rPr>
              <a:t>Неподалеку</a:t>
            </a: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 – </a:t>
            </a:r>
            <a:r>
              <a:rPr b="1" lang="en-US" sz="2200" spc="-1" strike="noStrike">
                <a:solidFill>
                  <a:srgbClr val="ffcc00"/>
                </a:solidFill>
                <a:latin typeface="Georgia"/>
              </a:rPr>
              <a:t>недалеко , поблизости</a:t>
            </a:r>
            <a:r>
              <a:rPr b="1" lang="en-US" sz="2200" spc="-1" strike="noStrike">
                <a:solidFill>
                  <a:srgbClr val="0000ff"/>
                </a:solidFill>
                <a:latin typeface="Georgia"/>
              </a:rPr>
              <a:t>.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                                                     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Н: Поселиться неподалеку от рек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Georgia"/>
              </a:rPr>
              <a:t>Нелепо</a:t>
            </a:r>
            <a:r>
              <a:rPr b="1" lang="en-US" sz="2500" spc="-1" strike="noStrike">
                <a:solidFill>
                  <a:srgbClr val="ffffff"/>
                </a:solidFill>
                <a:latin typeface="Georgia"/>
              </a:rPr>
              <a:t>  -    </a:t>
            </a:r>
            <a:r>
              <a:rPr b="1" lang="en-US" sz="2500" spc="-1" strike="noStrike">
                <a:solidFill>
                  <a:srgbClr val="ff0000"/>
                </a:solidFill>
                <a:latin typeface="Georgia"/>
              </a:rPr>
              <a:t>нелепый</a:t>
            </a:r>
            <a:r>
              <a:rPr b="1" lang="en-US" sz="22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– </a:t>
            </a:r>
            <a:r>
              <a:rPr b="1" lang="en-US" sz="2200" spc="-1" strike="noStrike">
                <a:solidFill>
                  <a:srgbClr val="ffcc00"/>
                </a:solidFill>
                <a:latin typeface="Georgia"/>
              </a:rPr>
              <a:t>не оправдываемый здравым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Georgia"/>
              </a:rPr>
              <a:t>                                     </a:t>
            </a:r>
            <a:r>
              <a:rPr b="1" lang="en-US" sz="2200" spc="-1" strike="noStrike">
                <a:solidFill>
                  <a:srgbClr val="ffcc00"/>
                </a:solidFill>
                <a:latin typeface="Georgia"/>
              </a:rPr>
              <a:t>смыслом, странный, несуразный.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                                                      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Н: Нелепо отвечает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Georgia"/>
              </a:rPr>
              <a:t>Невзрачно</a:t>
            </a: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 – </a:t>
            </a:r>
            <a:r>
              <a:rPr b="1" lang="en-US" sz="2200" spc="-1" strike="noStrike">
                <a:solidFill>
                  <a:srgbClr val="ffcc00"/>
                </a:solidFill>
                <a:latin typeface="Georgia"/>
              </a:rPr>
              <a:t>непривлекательно по внешности, некрасиво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                                                      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Н: Невзрачно одеты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555640" y="227664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618920" y="4581360"/>
            <a:ext cx="358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449C-81BE-433D-8CD9-606CCC80A1F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4358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Неподалеку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(даль, дальни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Невероятно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(вероятность, вероятны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Непритворно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(притвориться,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                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притворятьс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Нелепо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(нелепый, нелепость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Невзрачно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(невзрачный,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невзрачност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836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83664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484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148428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2708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270828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189080" y="357336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973080" y="400536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73AA-6738-4F6B-B6E4-0CC9B4A624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237960"/>
            <a:ext cx="8964720" cy="6620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55640" y="5805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5F6D-46F2-489D-A682-9DCBCEF0DE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8933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0:55:35Z</dcterms:created>
  <dc:creator>school#76</dc:creator>
  <dc:description/>
  <dc:language>en-US</dc:language>
  <cp:lastModifiedBy>user5</cp:lastModifiedBy>
  <dcterms:modified xsi:type="dcterms:W3CDTF">2008-11-20T11:48:28Z</dcterms:modified>
  <cp:revision>79</cp:revision>
  <dc:subject/>
  <dc:title>Слайд 1</dc:title>
</cp:coreProperties>
</file>