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637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D759-EEAF-49F9-A371-64421BCC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7825-E686-450E-9E73-0D2DDB9D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8CF7-D0ED-4258-B056-FBE00141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9BE8-E2AB-479C-852A-927CCD6C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B32EA-BA49-4D87-A8E2-FAA7E17C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A1C9E-59CD-4442-8786-8017F141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7C131-7061-403C-B079-02F48B88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8D749-7716-4611-BCEC-5F849DA4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5F77A-F7BD-486B-B5B9-F4ECCEE4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797AF-C6D3-48E7-9E2F-1D1F2FF4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A6A07-A10A-4B14-A501-B49ED3BA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86D3-C0DB-43D5-98A0-965795CA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4F159-1360-4147-9D64-71B9F20B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F24AC-1E24-4E63-9BE1-DE9DC499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616DE-D017-4C3C-8DCB-27CBAC2D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88AEE-4CC0-4478-9FF8-C8D36F43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A30B5-0379-4314-A296-098EBAEA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06E-27CA-4891-9A88-647299C8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3A0-60AC-4B9A-BA09-05A32DFE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31E-E0DF-405F-9615-4ED9B342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5436-81C1-4515-8FB8-3DC1AA29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EF5E-E842-4BD7-A7B9-F03AD7DD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43CB-374E-40E6-9A3D-8227E605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D51-1042-4012-80E0-940C054E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DD91-D459-44F9-8820-8745E69B4D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ECF8-7771-4200-B56D-F64B452884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3357360"/>
            <a:ext cx="66355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Georgia"/>
              </a:rPr>
              <a:t>Написание </a:t>
            </a:r>
            <a:r>
              <a:rPr b="1" lang="en-US" sz="4300" spc="-1" strike="noStrike">
                <a:solidFill>
                  <a:srgbClr val="ff0000"/>
                </a:solidFill>
                <a:latin typeface="Georgia"/>
              </a:rPr>
              <a:t>НЕ</a:t>
            </a:r>
            <a:r>
              <a:rPr b="1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Georgia"/>
              </a:rPr>
              <a:t>с наречиями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Georgia"/>
              </a:rPr>
              <a:t>на –О, -Е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36A94-4E54-4FF5-B453-01B9CA8231B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ес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4041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В каких из данных слов 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н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пишется слитно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) (не)пог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) (не)серьёзно,  а беспечн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) (не)правильно пиш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) (не)цветё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В каких из данных слов 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н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является приставкой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) вовсе (не)легко сдел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) (не)взлюби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) (не)сложная задач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)(не)годов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. Н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с наречиями на –о,-е пишется слитно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) поступил (не)леп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) написал (не)брежно, но правильн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) повторил (не)быстро,а медленн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) выглядел отнюдь (не)красив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Н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с наречиями на –о,-е пишется раздельно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(не)разумно,а глуп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(не)пого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(не)большой,но рыбны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) ничем (не)выда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е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является частице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(не)рях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(не)ясная пого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(не)навиди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) (не)любит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2C54-C83D-49F0-BF5D-0EDFF5B56C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А,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А,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19E6-FF70-4C4C-B90C-5F12C9E3A0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Игра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«Третий лишний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904760"/>
            <a:ext cx="849636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I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1. Поступил (не)лепо                                 1. Ответил (не)вер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2. Написал (не)брежно                             2.  Прибил (не)креп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3. Спросил (не)вежливо                           3. Остановился (не)ожидан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               </a:t>
            </a: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III        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1. Говорил (не)быстро, а медленно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2. Выглядел отнюдь (не)красиво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3. Где-то (не)далеко прошумел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6993-CFBA-4D3B-9609-11953745734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Georgia"/>
              </a:rPr>
              <a:t>Игра «Третий лишний»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1. Н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ев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ежливо (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грубо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2. Н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ео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жиданно (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не употр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3. Н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ед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алеко (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близко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1484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1640" y="206064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263700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435640" y="3429000"/>
            <a:ext cx="3054240" cy="2612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-1728720" y="3933720"/>
            <a:ext cx="172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828720" y="3141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1044720" y="3284640"/>
            <a:ext cx="21600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2205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2205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42920" y="1700280"/>
            <a:ext cx="64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2360" y="1700280"/>
            <a:ext cx="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1052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19280" y="105264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B334-514D-451A-A9DB-4177450076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4960" y="309240"/>
            <a:ext cx="809928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Аукцион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5435640" y="1197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еожидан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35640" y="2708280"/>
            <a:ext cx="252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едруж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3429000"/>
            <a:ext cx="2449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поступат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    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езависим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92720" y="5300640"/>
            <a:ext cx="37083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поступать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еосмотритель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365720"/>
            <a:ext cx="3672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действоват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           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есамостоятель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1197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Как с луны свалился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040" y="2637000"/>
            <a:ext cx="43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Как кошка с собакой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500280"/>
            <a:ext cx="40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Идти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своей дорогой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0200" y="4365720"/>
            <a:ext cx="32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Идти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на поводу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5373720"/>
            <a:ext cx="3600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Играть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с огнем -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B253-B405-4250-B416-FD126F16D6A6}" type="slidenum">
              <a:t>14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Задание на развитие быстроты реакции и мышления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оедините части слов, записанные в два столб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вовсе не                                       1)  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не                                                  2)  дова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недол                                            3)  лив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неле                                              4)  стро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)неправ                                          5)  а зл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)него                                              6)  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7)невеж                                           7)  соко, а низ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8)не ту                                             8)  краси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9)не вы                                            9)  п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0) не добрый                                   10)  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2AD0-C1B4-4938-80F3-E04BD94D6F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флекс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сегодня я узнал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было интересно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было трудно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я выполнял задания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я понял, что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теперь я могу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я почувствовал, что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я приобрел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я научился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у меня получилось 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я смог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я попробую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меня удивило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мне захотелось…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5AFE-D6A4-48D7-AD9B-C2E920395D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Желаю успехов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C61E-F942-451A-A848-83E43F4F5834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Цели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Познакомиться с правилами написания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НЕ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 с наречиями на –О, -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Научиться обозначать новую орфограмм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Научиться выбирать правильное написание нареч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1C9E-91B0-4070-AE62-B6CCD4AC098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5120" y="582480"/>
            <a:ext cx="809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Наречия на –О, -Е образуются от качественных прилагательных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2637000"/>
            <a:ext cx="882000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74"/>
              </a:spcBef>
              <a:buClr>
                <a:srgbClr val="ffcc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Georgia"/>
              </a:rPr>
              <a:t>Неуклюже       </a:t>
            </a:r>
            <a:r>
              <a:rPr b="1" lang="en-US" sz="4300" spc="-1" strike="noStrike" u="sng">
                <a:solidFill>
                  <a:srgbClr val="ffffff"/>
                </a:solidFill>
                <a:uFillTx/>
                <a:latin typeface="Georgia"/>
              </a:rPr>
              <a:t>неуклюж</a:t>
            </a:r>
            <a:r>
              <a:rPr b="1" lang="en-US" sz="4300" spc="-1" strike="noStrike">
                <a:solidFill>
                  <a:srgbClr val="ffffff"/>
                </a:solidFill>
                <a:latin typeface="Georgia"/>
              </a:rPr>
              <a:t>ий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74"/>
              </a:spcBef>
              <a:buClr>
                <a:srgbClr val="ffcc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Georgia"/>
              </a:rPr>
              <a:t>Нелепо       </a:t>
            </a:r>
            <a:r>
              <a:rPr b="1" lang="en-US" sz="4300" spc="-1" strike="noStrike" u="sng">
                <a:solidFill>
                  <a:srgbClr val="ffffff"/>
                </a:solidFill>
                <a:uFillTx/>
                <a:latin typeface="Georgia"/>
              </a:rPr>
              <a:t>нелеп</a:t>
            </a:r>
            <a:r>
              <a:rPr b="1" lang="en-US" sz="4300" spc="-1" strike="noStrike">
                <a:solidFill>
                  <a:srgbClr val="ffffff"/>
                </a:solidFill>
                <a:latin typeface="Georgia"/>
              </a:rPr>
              <a:t>ый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74"/>
              </a:spcBef>
              <a:buClr>
                <a:srgbClr val="ffcc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Georgia"/>
              </a:rPr>
              <a:t>Громко      </a:t>
            </a:r>
            <a:r>
              <a:rPr b="1" lang="en-US" sz="4300" spc="-1" strike="noStrike" u="sng">
                <a:solidFill>
                  <a:srgbClr val="ffffff"/>
                </a:solidFill>
                <a:uFillTx/>
                <a:latin typeface="Georgia"/>
              </a:rPr>
              <a:t>громк</a:t>
            </a:r>
            <a:r>
              <a:rPr b="1" lang="en-US" sz="4300" spc="-1" strike="noStrike">
                <a:solidFill>
                  <a:srgbClr val="ffffff"/>
                </a:solidFill>
                <a:latin typeface="Georgia"/>
              </a:rPr>
              <a:t>ий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140360" y="3068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131640" y="386064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131640" y="465300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32360" y="3213000"/>
            <a:ext cx="0" cy="71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40720" y="3141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635280" y="2708280"/>
            <a:ext cx="14472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2708280"/>
            <a:ext cx="14436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3933720"/>
            <a:ext cx="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4005360"/>
            <a:ext cx="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700360" y="3573000"/>
            <a:ext cx="14292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43280" y="3573360"/>
            <a:ext cx="14436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51280" y="4724280"/>
            <a:ext cx="0" cy="21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51640" y="4724280"/>
            <a:ext cx="0" cy="14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700360" y="4365360"/>
            <a:ext cx="14292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365720"/>
            <a:ext cx="14436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9335-3B9D-4A96-A611-87268E63C25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авописание НЕ с существительными, прилагательными, наречия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905120"/>
          <a:ext cx="8229600" cy="4402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асти реч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ит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дель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мя существитель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мя прилагатель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реч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нависть  Неправда(ложь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лепый  Нехорош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плохой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ряшлив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глупо(умно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 прав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а ложь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 хорош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а плохой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 глуп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а умно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031D-E9DC-44D8-8689-9417066DF0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Georgia"/>
              </a:rPr>
              <a:t>Примечание.</a:t>
            </a:r>
            <a:br>
              <a:rPr sz="3500"/>
            </a:br>
            <a:r>
              <a:rPr b="1" lang="en-US" sz="3500" spc="-1" strike="noStrike">
                <a:solidFill>
                  <a:srgbClr val="ffffff"/>
                </a:solidFill>
                <a:latin typeface="Georgia"/>
              </a:rPr>
              <a:t>Всегда </a:t>
            </a:r>
            <a:r>
              <a:rPr b="1" lang="en-US" sz="3500" spc="-1" strike="noStrike">
                <a:solidFill>
                  <a:srgbClr val="ff0000"/>
                </a:solidFill>
                <a:latin typeface="Georgia"/>
              </a:rPr>
              <a:t>раздельно</a:t>
            </a:r>
            <a:r>
              <a:rPr b="1" lang="en-US" sz="3500" spc="-1" strike="noStrike">
                <a:solidFill>
                  <a:srgbClr val="ffffff"/>
                </a:solidFill>
                <a:latin typeface="Georgia"/>
              </a:rPr>
              <a:t> пишем </a:t>
            </a:r>
            <a:r>
              <a:rPr b="1" lang="en-US" sz="3500" spc="-1" strike="noStrike">
                <a:solidFill>
                  <a:srgbClr val="ff0000"/>
                </a:solidFill>
                <a:latin typeface="Georgia"/>
              </a:rPr>
              <a:t>НЕ</a:t>
            </a:r>
            <a:r>
              <a:rPr b="1" lang="en-US" sz="3500" spc="-1" strike="noStrike">
                <a:solidFill>
                  <a:srgbClr val="ffffff"/>
                </a:solidFill>
                <a:latin typeface="Georgia"/>
              </a:rPr>
              <a:t> с наречиями,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если есть слова, усиливающие отрицание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(отнюдь не…, вовсе не…, далеко не…, ничуть не…, нисколько не…):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Georgia"/>
              </a:rPr>
              <a:t>нисколько не</a:t>
            </a:r>
            <a:r>
              <a:rPr b="1" lang="en-US" sz="2500" spc="-1" strike="noStrike">
                <a:solidFill>
                  <a:srgbClr val="ffffff"/>
                </a:solidFill>
                <a:latin typeface="Georgia"/>
              </a:rPr>
              <a:t> жалк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Georgia"/>
              </a:rPr>
              <a:t>о</a:t>
            </a:r>
            <a:r>
              <a:rPr b="1" lang="en-US" sz="2500" spc="-1" strike="noStrike">
                <a:solidFill>
                  <a:srgbClr val="ffffff"/>
                </a:solidFill>
                <a:latin typeface="Georgia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если наречие в сравнительной или превосходной степени: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Georgia"/>
              </a:rPr>
              <a:t>говорил н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Georgia"/>
              </a:rPr>
              <a:t>е м</a:t>
            </a:r>
            <a:r>
              <a:rPr b="1" lang="en-US" sz="2500" spc="-1" strike="noStrike">
                <a:solidFill>
                  <a:srgbClr val="ffffff"/>
                </a:solidFill>
                <a:latin typeface="Georgia"/>
              </a:rPr>
              <a:t>едленнее (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Georgia"/>
              </a:rPr>
              <a:t>ср.ст.</a:t>
            </a:r>
            <a:r>
              <a:rPr b="1" lang="en-US" sz="2500" spc="-1" strike="noStrike">
                <a:solidFill>
                  <a:srgbClr val="ffffff"/>
                </a:solidFill>
                <a:latin typeface="Georgia"/>
              </a:rPr>
              <a:t>);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если наречие пишется через дефис: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Georgia"/>
              </a:rPr>
              <a:t>поступил не п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Georgia"/>
              </a:rPr>
              <a:t>о-т</a:t>
            </a:r>
            <a:r>
              <a:rPr b="1" lang="en-US" sz="2500" spc="-1" strike="noStrike">
                <a:solidFill>
                  <a:srgbClr val="ffffff"/>
                </a:solidFill>
                <a:latin typeface="Georgia"/>
              </a:rPr>
              <a:t>оварищески;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если наречие не оканчивается на –О, -Е: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Georgia"/>
              </a:rPr>
              <a:t>вникал н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Georgia"/>
              </a:rPr>
              <a:t>е с</a:t>
            </a:r>
            <a:r>
              <a:rPr b="1" lang="en-US" sz="2500" spc="-1" strike="noStrike">
                <a:solidFill>
                  <a:srgbClr val="ffffff"/>
                </a:solidFill>
                <a:latin typeface="Georgia"/>
              </a:rPr>
              <a:t>разу (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Georgia"/>
              </a:rPr>
              <a:t>не на -О, -Е</a:t>
            </a:r>
            <a:r>
              <a:rPr b="1" lang="en-US" sz="2500" spc="-1" strike="noStrike">
                <a:solidFill>
                  <a:srgbClr val="ffffff"/>
                </a:solidFill>
                <a:latin typeface="Georgia"/>
              </a:rPr>
              <a:t>)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2997360"/>
            <a:ext cx="216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4581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544500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48000" y="630864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3280" y="335772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034C-837B-4210-9AF4-AAED8DF2FE1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знакомление с «трудными» словами для запоминания и активными использования в реч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вероят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прият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подале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леп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взрач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9B98-5CD0-4765-9E87-6EB13948AC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Georgia"/>
              </a:rPr>
              <a:t>Невероятно</a:t>
            </a:r>
            <a:r>
              <a:rPr b="1" lang="en-US" sz="25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1" lang="en-US" sz="2200" spc="-1" strike="noStrike">
                <a:solidFill>
                  <a:srgbClr val="ffcc00"/>
                </a:solidFill>
                <a:latin typeface="Georgia"/>
              </a:rPr>
              <a:t>1. Неправдоподобно.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  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Н: Невероятно умный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                                    </a:t>
            </a:r>
            <a:r>
              <a:rPr b="1" lang="en-US" sz="2200" spc="-1" strike="noStrike">
                <a:solidFill>
                  <a:srgbClr val="ffcc00"/>
                </a:solidFill>
                <a:latin typeface="Georgia"/>
              </a:rPr>
              <a:t>2. Очень большой, значительный,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Georgia"/>
              </a:rPr>
              <a:t>                                         </a:t>
            </a:r>
            <a:r>
              <a:rPr b="1" lang="en-US" sz="2200" spc="-1" strike="noStrike">
                <a:solidFill>
                  <a:srgbClr val="ffcc00"/>
                </a:solidFill>
                <a:latin typeface="Georgia"/>
              </a:rPr>
              <a:t>чрезвычайны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 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Н: Невероятно сильны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Georgia"/>
              </a:rPr>
              <a:t>Непритворно</a:t>
            </a:r>
            <a:r>
              <a:rPr b="1" lang="en-US" sz="2500" spc="-1" strike="noStrike">
                <a:solidFill>
                  <a:srgbClr val="ffffff"/>
                </a:solidFill>
                <a:latin typeface="Georgia"/>
              </a:rPr>
              <a:t>  -     </a:t>
            </a:r>
            <a:r>
              <a:rPr b="1" lang="en-US" sz="2500" spc="-1" strike="noStrike">
                <a:solidFill>
                  <a:srgbClr val="ff0000"/>
                </a:solidFill>
                <a:latin typeface="Georgia"/>
              </a:rPr>
              <a:t>непритворный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 - </a:t>
            </a:r>
            <a:r>
              <a:rPr b="1" lang="en-US" sz="2200" spc="-1" strike="noStrike">
                <a:solidFill>
                  <a:srgbClr val="ffcc00"/>
                </a:solidFill>
                <a:latin typeface="Georgia"/>
              </a:rPr>
              <a:t>лишенный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Georgia"/>
              </a:rPr>
              <a:t>                                        </a:t>
            </a:r>
            <a:r>
              <a:rPr b="1" lang="en-US" sz="2200" spc="-1" strike="noStrike">
                <a:solidFill>
                  <a:srgbClr val="ffcc00"/>
                </a:solidFill>
                <a:latin typeface="Georgia"/>
              </a:rPr>
              <a:t>притворства,  искренний.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Н: Непритворно удивленны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Georgia"/>
              </a:rPr>
              <a:t>Неподалеку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 – </a:t>
            </a:r>
            <a:r>
              <a:rPr b="1" lang="en-US" sz="2200" spc="-1" strike="noStrike">
                <a:solidFill>
                  <a:srgbClr val="ffcc00"/>
                </a:solidFill>
                <a:latin typeface="Georgia"/>
              </a:rPr>
              <a:t>недалеко , поблизости</a:t>
            </a:r>
            <a:r>
              <a:rPr b="1" lang="en-US" sz="2200" spc="-1" strike="noStrike">
                <a:solidFill>
                  <a:srgbClr val="0000ff"/>
                </a:solidFill>
                <a:latin typeface="Georgia"/>
              </a:rPr>
              <a:t>.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                                                     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Н: Поселиться неподалеку от рек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Georgia"/>
              </a:rPr>
              <a:t>Нелепо</a:t>
            </a:r>
            <a:r>
              <a:rPr b="1" lang="en-US" sz="2500" spc="-1" strike="noStrike">
                <a:solidFill>
                  <a:srgbClr val="ffffff"/>
                </a:solidFill>
                <a:latin typeface="Georgia"/>
              </a:rPr>
              <a:t>  -    </a:t>
            </a:r>
            <a:r>
              <a:rPr b="1" lang="en-US" sz="2500" spc="-1" strike="noStrike">
                <a:solidFill>
                  <a:srgbClr val="ff0000"/>
                </a:solidFill>
                <a:latin typeface="Georgia"/>
              </a:rPr>
              <a:t>нелепый</a:t>
            </a:r>
            <a:r>
              <a:rPr b="1" lang="en-US" sz="2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1" lang="en-US" sz="2200" spc="-1" strike="noStrike">
                <a:solidFill>
                  <a:srgbClr val="ffcc00"/>
                </a:solidFill>
                <a:latin typeface="Georgia"/>
              </a:rPr>
              <a:t>не оправдываемый здравым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Georgia"/>
              </a:rPr>
              <a:t>                                     </a:t>
            </a:r>
            <a:r>
              <a:rPr b="1" lang="en-US" sz="2200" spc="-1" strike="noStrike">
                <a:solidFill>
                  <a:srgbClr val="ffcc00"/>
                </a:solidFill>
                <a:latin typeface="Georgia"/>
              </a:rPr>
              <a:t>смыслом, странный, несуразный.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Н: Нелепо отвечает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Georgia"/>
              </a:rPr>
              <a:t>Невзрачно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 – </a:t>
            </a:r>
            <a:r>
              <a:rPr b="1" lang="en-US" sz="2200" spc="-1" strike="noStrike">
                <a:solidFill>
                  <a:srgbClr val="ffcc00"/>
                </a:solidFill>
                <a:latin typeface="Georgia"/>
              </a:rPr>
              <a:t>непривлекательно по внешности, некрасиво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                                                      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Н: Невзрачно одеты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555640" y="227664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618920" y="4581360"/>
            <a:ext cx="358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0FC0-7ECF-456C-9187-11C7E1F29F6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4358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Неподалеку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(даль, дальни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Невероятно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(вероятность, вероятны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Непритворно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(притвориться,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притворятьс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Нелепо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(нелепый, нелепость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Невзрачно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(невзрачный,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невзрачност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836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83664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484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148428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2708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270828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189080" y="357336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973080" y="400536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FA11-C4B4-4370-9BC1-6BC8D2EEF7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237960"/>
            <a:ext cx="8964720" cy="6620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55640" y="580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CFE9-766F-4B66-B837-553E8407D3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893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0:55:35Z</dcterms:created>
  <dc:creator>school#76</dc:creator>
  <dc:description/>
  <dc:language>en-US</dc:language>
  <cp:lastModifiedBy>user5</cp:lastModifiedBy>
  <dcterms:modified xsi:type="dcterms:W3CDTF">2008-11-20T11:48:28Z</dcterms:modified>
  <cp:revision>79</cp:revision>
  <dc:subject/>
  <dc:title>Слайд 1</dc:title>
</cp:coreProperties>
</file>