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0EC-C507-4AA5-A993-05979945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8EF-EE26-46BF-85DF-AAD6DEA7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E63-E7E2-4F30-829F-2A863075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F9F-15AE-40BA-B0A4-454573E9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DAF8-4DC2-47D3-92B6-C446B00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8971-B809-440C-AF22-8822251F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13F7-7E43-4959-AA15-CCFAA4F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533E-D906-413E-8E37-069CF37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FE03-943A-4A12-9A81-2C4F5754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17D-051C-4ECF-A775-14D409D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34C1-ABBC-4769-BCCD-135C8BC0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663-763D-4FBB-92D6-898BB13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09F4-16E6-481D-A3F5-66D883C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40CD-2187-438A-8DDF-67DE2DC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F12E-EE68-44BE-B74D-B7B188F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F259-E873-44B9-87E4-C362076D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95DF-6251-4AF8-AC3E-445003F8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5DA-B5DF-4A24-8701-7ABDE62E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D26-D069-42DE-AD73-1A996FDB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5CB-1A31-4B7E-90CB-D72EBBD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919-04AC-4785-9AC5-A82AF4B1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98C-7C5F-4FC6-A629-1429E12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34F-8586-42C3-A7F5-91F83B7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DC9-5653-40BB-B823-63CB08C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C08-24BF-4F6E-BBA2-4A9B73532B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E620-4B5A-4514-B032-F08944E9AB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68680" y="-360"/>
            <a:ext cx="60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учно – практическая конференция «Умная сов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7800" y="3645360"/>
            <a:ext cx="36676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втор: Бикетов Яросла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АО «РЖД»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школа – интернат № 2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иронова Наталья Михайловна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учитель начальных классов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9400" y="623664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 Нижнеудинск, 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824960" y="5634000"/>
            <a:ext cx="131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5634000"/>
            <a:ext cx="131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90073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Книга для чтения по ботанике: Для учащихся 5-6 кл. / Сост. Д. И. Трийтак.- 2-е изд., перераб.-М.: Просвещение, 198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Новая иллюстрированная энциклопедия в 20 томах. Кн. 14. Ве – Ге. – М.: большая Российская энциклопедия, ООО «ТД «Издательство Мир книги», 2006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6558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главле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ред и польза гриб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накомство с мицелия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гриб лечит люд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пы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Фотографии после наблюдени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вод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4340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4480"/>
            <a:ext cx="89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ред и польза гриб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уществует бесчисленное множество живых организмов, населяющих нашу планету. В процессе эволюции они исчезают, видоизменяются или зарождаются новые. В быту мы часто сталкиваемся с зеленоватым налетом на несвежих продуктах питания. Меня заинтересовал вопрос: что же это за налет, почему мы хлеб с таким налетом считаем непригодным для питания и вместе с тем покупаем сыр в магазине с таким же налетом и считаем его съедобным? И вот что я узнал по этому поводу. Оказывается, этот налет называется плесенью. Вот какое определение в своем толковом словаре дает Владимир Даль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лесен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* – налеты на продуктах питания растительных остатках и др. органических субстратах, образованные плесневыми грибами из класса оомицетов, сумчатых и несовершенных грибов. Некоторые плесневые грибы вызывают болезни растений, животных и человека; другие используют в сыроварении, фармацевтической промышленности (аспергилл и пеницилл и др.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331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Знакомство с мицелиями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уществует множество форм грибов, не похожих друг на друга. Некоторые, например, бактерии и дрожжи состоят из одной клетки и рассмотреть их можно только в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микроско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Плесен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похожа на студенистую плёнку или на кусочек бархата - зелёного, серого, используют в сыроделии для придания сыру определённого аромата, а также при производстве лекарств. Но большинство грибов состоит из огромного количества бесцветных волокон. Их называют мицелий, или грибни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9856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ак гриб лечит люд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де же растёт целебный гриб пеницилл, из которого изготовляют лекарство пенициллин? Оказывается, его можно найти и на сыром кирпиче, и на позеленевшей апельсиновой корке, и в склянке с чернилами – везде, где есть подходящие условия для его жизн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нтересна история изучения лекарственных свойств зелёного пеницил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70-х годах прошлого столетия зашёл между учёными спор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авда или нет, будто из зелёной плесени развиваются невидимые простым глазом микробы, которые несут человеку болезни. Док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ор Манассеин решил проверить, так ли это. Кончиком стального прокалённого пера он сеял споры гриба в пробирку с питательной жидкостью. Там вырастал зелёный пушок, но микробов в соседстве с грибом микроскоп не обнаруживал. Манассеин  мог утверждать, что в пробирке с зелёной плесенью не развивались вредоносные микробы: плесень не давала им рас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те же годы работал в Петербурге другой доктор - Алексей Герасимович Полотебнов. К нему в клинику поступил больной с незаживающими язвами на руке. Во время перевязки Полотебнов приложил к язвам кусочки материи, пропитанные смесью, невиданной ещё в медицине. Странная была это смесь! Кусочки грибницы да зелёная пыль плесени. Её Полотебнов смёл рисовальной кисточкой с позеленевшей апельсиновой корки и растёр в чашке с миндальным маслом. Но именно эта смесь помогла больному. Через двое суток незаживающие язвы зажил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октор Полотебнов стал лечить зелёной плесенью других больных и тоже успешно. Он писал в своих научных статьях о том, что нужно испробовать зелёную плесень для заживления операционных ран и гнойных нарывов. Но Полотебнов не мог объяснить, почему зелёная плесень излечивает больных. Тогда наука ещё не в силах была дать отв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твет был найден позже, уже после смерти Полотебнова, когда знаменитый учёный Илья Ильич Мечников открыл «закон борьбы» между микробами. Он первый сказал, что борьбой, которая происходит в природе между микробами, может воспользоваться и человек. Те микробы, которые убивают болезнетворных  микробов, могут стать помощниками человек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икробы против микробов! Закон, открытый Мечниковым, стали применять в своих работах учёные всего мира. Этот закон помог английскому профессору Флеммингу объяснить явления, произошедшие в его лаборатори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6838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738648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плоских стеклянных чашечках, наполненных питательным студнем, у Флемминга рос посев микроба, вызывающего заражение крови. Изучая развитие микроба, Флемминг каждое утро осматривал свои чашечки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И однажды профессор увидел, что в одной из чашечек выросло совсем не то, что он сеял. На поверхности студня проступали пятна зеленой плесени. Здесь поселился   непрошенный жилец – гриб пеницилл. Тесня врага, он испортил посев болезнетворного микроба. Вещество, которое выделял гриб в питательный студень, убивал микробов. Это вещество и назвали по имени гриба – пенициллин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Можно было развести пенициллин в 800 и более раз, и все же он оказывался губительным для микробов. Но недолго он сохранял силу: старая плесень не могла убивать микробов. Это же заметил до Флемминга доктор Манассеин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Долго работали учёные над тем, чтобы превратить пенициллин в лекарство. Им удалось сделать это в 1941 году. Была война. На нашу Родину напали фашисты. Нам нужно было много пенициллина – чудесного лекарства, которое спасало жизнь раненым. И советские учёные – ботаники в короткое время решили эту задачу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одном из московских бомбоубежищ были расставлены чашечки с картофелем, смоченным слабым раствором медного купороса. Это были приманки для плесневых грибов. Как только в чашечке вырастал зелёный пушок, его доставляли в лабораторию профессора Ермольевой на испытание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лаборатории шла работа до глубокой ночи. Учёные забывали об усталости при мысли о том, что они борются за спасение жизни бойцов – защитников Родины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Множество плесневых грибов испытала профессор Ермольева со своей сотрудницей Балезиной, отбирая самых лучших истребителей микробов. Из этих грибков и был получен наш первый советский пенициллин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Первым больным, исцеленным советским пенициллином, был красноармеец, раненый в грудь осколком снаряда. Рана не заживала: микроб стафилококк продолжал разрушать кровь. Раненого привезли с фронта в московский госпиталь без сознания. Но когда в заражённую кровь был введён пенициллин, кровь постепенно очистилась от гноя. Рана зажила, больной стал чувствовать себя намного лучше и вскоре был выписан из клиники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Уже в первые два месяца лечения пенициллином в московском госпитале удалось вернуть здоровье 1227 больным. Это была новая победа советской медицины, которая в дни войны   приближала День Победы над врагом всего человечества – фашизмом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Пенициллин не только убивает стафилококк, вызывающий у человека заражение крови. Пенициллин побеждает микробов – возбудителей дифтерии, менингита, воспаление лёгких, сибирской язвы и других болезней. И в то же время этот препарат безвреден для человека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68384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пы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бралось для опы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рались кусочки хлеба с одного батон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ерилизованная бан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Целлофановый пак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моченный пак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еклянная тарел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пыты начаты утром 22 ноября 2006 г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6927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252360" y="5949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Опыты закончены 28 ноября 2006 года 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616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очке кусочек хлеба засох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2 ноября, вечер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появился белый налёт.На тарелке хлеб стал как камень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3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на белый налёт нарос синий.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4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всё заросло синей плесенью.В пакете хлеб начал гнить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5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2000" y="-360"/>
            <a:ext cx="361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появилась лучевая плесен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26 ноября.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ещё больше появилось лучевой плесе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 27 ноября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хлеб начал гнит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 28 ноябр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8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6781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тографии после наблюдений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23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9299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на тарелке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4535640" cy="2421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995640" y="213300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ухом целлофановом пакет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4356000" cy="3019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59558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терилизованной бан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84720" y="2852640"/>
            <a:ext cx="3600360" cy="2881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0" y="5660640"/>
            <a:ext cx="30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моченном целлофановом пакет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7157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45:39Z</dcterms:created>
  <dc:creator>User</dc:creator>
  <dc:description/>
  <dc:language>en-US</dc:language>
  <cp:lastModifiedBy>User</cp:lastModifiedBy>
  <dcterms:modified xsi:type="dcterms:W3CDTF">2007-12-02T11:08:35Z</dcterms:modified>
  <cp:revision>13</cp:revision>
  <dc:subject/>
  <dc:title>Слайд 1</dc:title>
</cp:coreProperties>
</file>