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D666-1B05-4B03-826A-2F47F07E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48CC-DDDF-4934-AC04-85D5A019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91E6-D6AA-4E60-82F3-4AA75A2F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4634-996C-4D60-9A41-0A1716BE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4503-DBF9-4D9F-9C1A-C2C75E38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25A6-50DA-4C2E-9111-7BF958DA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1F06-8E33-4DB2-8AEE-36037420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29E1-0367-4CB5-B6D6-2C54DFB1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9A09-BF2A-4025-91E0-F0BC9C8D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5341-76A0-4F56-A8A0-952A238E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FAFD-7461-4000-A7E3-F844AC6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604D-2FAB-44E7-80B4-54AD874F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030D-2D36-4E6B-9D18-6C5CB916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357C-731B-43E5-A781-68F542F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7472-8EF4-42F6-A52A-2C037804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BB23-6FC5-4933-B53E-085995D8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1F4B-FA95-424C-A721-CBFAFFBC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5522-5432-4BFF-893D-0F247867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2035-835D-43EC-8841-722FF7BA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F6A8-0142-4F29-941E-A859C87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C2AB-55DB-41F5-AD4B-61219B83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8C27-9969-4AC0-93DA-EBBF8C93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E1EC-6D79-4036-8AD7-19FB1F9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69CD-762A-4B34-8CFE-E700EE2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A282-4EA8-412B-86F8-1703AA8F3F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4CC0-0992-4A62-979D-64C7BF6C63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chekhov-vestnik.narod.ru/Index.files/2010/jpg/img00701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0/03/Moscow_Malaya_Dmitrovka_Street_29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museum.ru/imgB.asp?33887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g0.liveinternet.ru/images/attach/b/3/19/539/19539465_Anton_Chekhov_and_Olga_Knipper2C_1901.jpg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vanmeetin.ru/research/chekhov/people/withKnipper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zt.ru/f/upload/picture/10/01/25/image_14744.jpg" TargetMode="External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709.photobucket.com/albums/ww99/elchernijeva/05chekhov1.jpg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bat-sc9-chehov.narod.ru/chehov-tomsk-w.jpg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www.putevoditel.nakurorte.ru/uploads/posts/2008-01/1200753919_chexov1.jpg" TargetMode="External"/><Relationship Id="rId8" Type="http://schemas.openxmlformats.org/officeDocument/2006/relationships/image" Target="../media/image32.jpeg"/><Relationship Id="rId9" Type="http://schemas.openxmlformats.org/officeDocument/2006/relationships/hyperlink" Target="http://upload.wikimedia.org/wikipedia/ru/2/22/Chehov_v_serpuhove.JPG" TargetMode="External"/><Relationship Id="rId10" Type="http://schemas.openxmlformats.org/officeDocument/2006/relationships/image" Target="../media/image33.jpeg"/><Relationship Id="rId11" Type="http://schemas.openxmlformats.org/officeDocument/2006/relationships/hyperlink" Target="http://susvet.info/files/images/Chiekhov_v_Ialtie.jpg" TargetMode="External"/><Relationship Id="rId12" Type="http://schemas.openxmlformats.org/officeDocument/2006/relationships/image" Target="../media/image34.jpeg"/><Relationship Id="rId13" Type="http://schemas.openxmlformats.org/officeDocument/2006/relationships/hyperlink" Target="http://i.sakh.name/m/f/5/f5ba9db3d8435a30d7ee7321cf90305d.jpg" TargetMode="External"/><Relationship Id="rId14" Type="http://schemas.openxmlformats.org/officeDocument/2006/relationships/image" Target="../media/image35.jpeg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img0.liveinternet.ru/images/attach/b/1/25/360/25360571_1211235308_1.jpg" TargetMode="External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2months.ru/userfiles/image/polenovo.jpg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yur-gulov.narod.ru/taganrog/muzeum/images/4.jpe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live4fun.ru/small_pictures/img_37744038_2117_1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s45.radikal.ru/i110/0904/09/90314ce937a2.jpg" TargetMode="External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ethno.germes.ru/photo/events/58ee907d65524f4ebf3c.jpg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artlib.ru/objects/gallery_74/artlib_gallery-37068-b.jpg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www.artrussia.ru/pic_p/p365_110.jpg" TargetMode="External"/><Relationship Id="rId8" Type="http://schemas.openxmlformats.org/officeDocument/2006/relationships/image" Target="../media/image43.jpeg"/><Relationship Id="rId9" Type="http://schemas.openxmlformats.org/officeDocument/2006/relationships/hyperlink" Target="http://bibnout.ru/chehov/images/p15_antonchexovpeternalich.jpg" TargetMode="External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library.taganrog.ru/chehov/alley/family/12.jpg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bibnout.ru/chehov/images/p19_eyachexova,mat-pisalya.jpg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a/a3/Taganrog_gymnasium_boys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g.rian.ru/images/12487/74/124877481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telesem.ru/images/stories/726/chekhov_.jpg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temernik.ru/gallery/albums/userpics/10267/normal_teatr_m1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feb-web.ru/feb/chekhov/pictures/lc1-081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pchekhov.ru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pchekhov.r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04920" y="533520"/>
            <a:ext cx="4457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191120" y="1219320"/>
            <a:ext cx="44384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нто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ло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60-190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" descr="Картинка 1837 из 53109">
            <a:hlinkClick r:id="rId5"/>
          </p:cNvPr>
          <p:cNvPicPr/>
          <p:nvPr/>
        </p:nvPicPr>
        <p:blipFill>
          <a:blip r:embed="rId6"/>
          <a:srcRect l="1501" t="0" r="0" b="0"/>
          <a:stretch/>
        </p:blipFill>
        <p:spPr>
          <a:xfrm>
            <a:off x="1219320" y="395280"/>
            <a:ext cx="6629400" cy="47102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3"/>
          <p:cNvSpPr/>
          <p:nvPr/>
        </p:nvSpPr>
        <p:spPr>
          <a:xfrm>
            <a:off x="457200" y="5334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естра и братья Чеховы: Мария, Антон, Иван, Михаил. Фото 1892. Мелихо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4648320" y="150120"/>
            <a:ext cx="41907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С 1890 по 1892 год, по возвращении в Москву из поездки по Сахалину, Чехов поселился в небольшом двухэтажном флигеле на Малой Дмитровке. Здесь он работал над книгой «Остров Сахалин», рассказами «Попрыгунья», «Дуэль», «Палата № 6», а также встречался с писателями В. Г. Короленк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Д. В. Григорович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В. А. Гиляровски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П. Д. Боборыкины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Д. С. Мережковски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В. И. Немировичем-Данченко, известными актёр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А. П. Ленским и А. И. Южиным, художником И. И. Левитаном. Флигель сохранился до нашего времени и отмечен памятной доской с барельефом А. П. 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Файл:Moscow Malaya Dmitrovka Street 2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114300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31920" y="685800"/>
            <a:ext cx="4087800" cy="5410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24280" y="1279440"/>
            <a:ext cx="40500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9900"/>
                </a:solidFill>
                <a:latin typeface="Times New Roman"/>
              </a:rPr>
              <a:t>1892 по 1899 годы Чехов проживал в подмосковном имении Мелихово, где сейчас работает один из главных чеховских музеев. За годы «мелиховского сидения» было написано 42 произвед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9900"/>
                </a:solidFill>
                <a:latin typeface="Times New Roman"/>
              </a:rPr>
              <a:t>Позднее Чехов много</a:t>
            </a:r>
            <a:r>
              <a:rPr b="1" lang="ru-RU" sz="25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ff9900"/>
                </a:solidFill>
                <a:latin typeface="Times New Roman"/>
              </a:rPr>
              <a:t>путешествовал по Европ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914400" y="457200"/>
            <a:ext cx="7467480" cy="5151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447920" y="56689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Мелихово. Флигель А. П. Че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4800600" cy="4421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486400" y="12952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 Мелих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rcRect l="0" t="0" r="0" b="6181"/>
          <a:stretch/>
        </p:blipFill>
        <p:spPr>
          <a:xfrm>
            <a:off x="3886200" y="2793960"/>
            <a:ext cx="4572000" cy="379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" descr="Картинка 78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380880"/>
            <a:ext cx="6476760" cy="4605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33520" y="5227560"/>
            <a:ext cx="7848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А. П. Чехов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Д. М. Мусина-Пушкина в Мелихове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5"/>
          <a:srcRect l="0" t="0" r="0" b="8622"/>
          <a:stretch/>
        </p:blipFill>
        <p:spPr>
          <a:xfrm>
            <a:off x="582480" y="380880"/>
            <a:ext cx="3989520" cy="5791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257800" y="2119320"/>
            <a:ext cx="3200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А. П. Чехов после возвращения из клиники. Мелих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4495680" y="152280"/>
            <a:ext cx="44960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Times New Roman"/>
              </a:rPr>
              <a:t>Последние годы Чехов, у которого обострился туберкулёз, для поправления здоровья, постоянно живёт в своём доме по Ялтой, лишь изредка наезжая в Москву, где его жена, артистка Ольга Леонардовна Книппер, занимает одно из выдающихся мест в известной труппе московского «Литературно - художественного кружка» Станиславского. В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Times New Roman"/>
              </a:rPr>
              <a:t>1900 г., при первых же выборах в Пушкинское отделение академии наук, Чехов был избран в число его почётных академиков. В 1902 Чехов вместе с В. Г. Короленко отказался от звания академика после распоряжения Николая II аннулировать избрание Максима Горького в почётные академик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39760" y="609480"/>
            <a:ext cx="4103640" cy="533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762120" y="380880"/>
            <a:ext cx="7467480" cy="5151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23880" y="5745240"/>
            <a:ext cx="60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А. П. Чехов в кабинете. Ял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" descr="Картинка 48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533520"/>
            <a:ext cx="4057920" cy="4800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3520" y="57150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 П. Чехов с женой - Ольгой Книппер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Картинка 153 из 6494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533520"/>
            <a:ext cx="3475080" cy="4876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Прямоугольник 3"/>
          <p:cNvSpPr/>
          <p:nvPr/>
        </p:nvSpPr>
        <p:spPr>
          <a:xfrm>
            <a:off x="1292040" y="5927760"/>
            <a:ext cx="671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емья Чеховых. Фото 1874. Таганро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>
            <a:lum contrast="18000"/>
          </a:blip>
          <a:srcRect l="0" t="1516" r="0" b="0"/>
          <a:stretch/>
        </p:blipFill>
        <p:spPr>
          <a:xfrm>
            <a:off x="1295280" y="1668600"/>
            <a:ext cx="6477120" cy="4198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22860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9 января в семье Чеховых родился третий ребенок — Антон. Раннее детство Антона протекало в бесконечных церковных праздниках, именинах. В будние дни, после школы братья втроем бегали рыбачить или ловить щеглов и чиж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4572000" cy="371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8600" y="5759280"/>
            <a:ext cx="87631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33"/>
                </a:solidFill>
                <a:latin typeface="Arial"/>
              </a:rPr>
              <a:t>А. П. Чехов с А. М. Горьким и Л.Н. Толстым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029200" y="609480"/>
            <a:ext cx="3733920" cy="4876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Картинка 51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52440"/>
            <a:ext cx="6934320" cy="4905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28600" y="541008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П. Е. Чехов среди артис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Московского теа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"/>
          <p:cNvSpPr/>
          <p:nvPr/>
        </p:nvSpPr>
        <p:spPr>
          <a:xfrm>
            <a:off x="152280" y="337680"/>
            <a:ext cx="8763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 1884 года Чехов страдал кровотечением из правого легкого. Одни исследователи считают, что роковую роль в жизни писателя сыграло путешествие на Сахалин — ведь была распутица и ехать пришлось тысячи километров на лошадях, в сырой одежде и насквозь промокших валенках. Другие причиной обострения туберкулезного процесса называли частые переезды из Ялты в Москву в самое неблагоприятное для здоровья время. Летом 1904 Чехов выехал на курорт в Германию из-за резкого обострения болезни, с которой ему не удалось справиться. Писатель скончался 2 (15) июля 1904 г. в г. Баденвейлере, Германия. По свидетельству жены Ольги Леонардовны, в начале ночи Чехов проснулся и первый раз в жизни сам попросил послать за доктором. После он велел дать шампанского. Антон Павлович сел и как-то значительно, громко сказал доктору по-немецки: „Ich sterbe“. Потом повторил для студента или для меня по-русски: „Я умираю“. Потом взял бокал, повернул ко мне лицо, улыбнулся своей удивительной улыбкой, сказал: „Давно я не пил шампанского…“, покойно выпил всё до дна, тихо лег на левый бок и вскоре умолкнул навсегда». Был похоронен на Новодевичьем кладбище в Москве рядом с могилой от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" descr="Картинка 350 из 58091">
            <a:hlinkClick r:id="rId5"/>
          </p:cNvPr>
          <p:cNvPicPr/>
          <p:nvPr/>
        </p:nvPicPr>
        <p:blipFill>
          <a:blip r:embed="rId6"/>
          <a:srcRect l="0" t="0" r="0" b="3845"/>
          <a:stretch/>
        </p:blipFill>
        <p:spPr>
          <a:xfrm>
            <a:off x="304920" y="457200"/>
            <a:ext cx="4647960" cy="5715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105520" y="2286000"/>
            <a:ext cx="350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Мог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А.П. Чехова 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Новодевичь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кладби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" descr="Картинка 39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895480"/>
            <a:ext cx="2238480" cy="3353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Картинка 176 из 6494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29200" y="380880"/>
            <a:ext cx="2933640" cy="2076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Файл:Chehov v serpuhov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4191120"/>
            <a:ext cx="2438640" cy="219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40384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Картинка 858 из 55433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95280" y="304920"/>
            <a:ext cx="2895840" cy="2173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281952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Памятники А.П. Чехову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разных город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" descr="Картинка 54 из 649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380880"/>
            <a:ext cx="6248520" cy="4689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2280" y="52574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Так сейчас выглядит дом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А.П. Чехова в Таганрог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" descr="Картинка 1132 из 54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533520"/>
            <a:ext cx="6629400" cy="4514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52280" y="52578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А так – дом А.П. Чехова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в Мелихов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" descr="Картинка 72 из 64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380880"/>
            <a:ext cx="7086600" cy="5318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838080" y="583740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Музей-лавка Чеховых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«Куда бы я ни поехал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за границу ли, в Кры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или на Кавказ,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Таганрог 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не миную.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Чех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7" name="" descr="Картинка 57 из 64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609480"/>
            <a:ext cx="2913120" cy="4191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Картинка 151 из 64948">
            <a:hlinkClick r:id="rId5"/>
          </p:cNvPr>
          <p:cNvPicPr/>
          <p:nvPr/>
        </p:nvPicPr>
        <p:blipFill>
          <a:blip r:embed="rId6"/>
          <a:srcRect l="0" t="0" r="0" b="5746"/>
          <a:stretch/>
        </p:blipFill>
        <p:spPr>
          <a:xfrm>
            <a:off x="3429000" y="990720"/>
            <a:ext cx="5410080" cy="33289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1430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рикатуры на А.П. Чех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" descr="Картинка 60 из 64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3962520"/>
            <a:ext cx="3352680" cy="2252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Картинка 63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533520"/>
            <a:ext cx="2462400" cy="2743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Картинка 389 из 580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3581280"/>
            <a:ext cx="2200320" cy="28958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Картинка 477 из 5809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2743200"/>
            <a:ext cx="2292480" cy="3276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733920" y="609480"/>
            <a:ext cx="373860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228600" y="510552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Е. Я. Чехова, мать писате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0400" y="5133960"/>
            <a:ext cx="34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П. Е. Чехов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отец писате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Картинка 1 из 6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304920"/>
            <a:ext cx="3792600" cy="4724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2 из 4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6280" y="304920"/>
            <a:ext cx="3790800" cy="4724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6629400" cy="467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533412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м, в котором родился Чехов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0" y="76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начала Чехов учился в греческой школе в Таганроге. Содержащий школу грек заставлял зазубривать уроки, бил учеников линейкой, ставил в угол на колени. В 8 лет, после двух лет учёбы, Чехов поступает в таганрогскую гимназию - старейшее учебное заведение на юге России. Оно давала солидное по тем временам образование и воспитание. Окончившие восемь классов гимназии молодые люди могли без экзаменов поступить в любой российский университет или поехать учиться за границу. Гимназия сформировала у Чехова отвращение к лицемерию и фальши. Здесь формировалось его видение мира, любовь к книгам, знаниям и театру. Здесь он получил свой первый литературный псевдоним «Чехонте», которым его наградил учитель Закона Божьего Фёдор Покровский. Здесь начинались его первые литературные и сценические опыты. Музыка, книги пробуждали в юном Чехове стремление к творче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Картинка 3 из 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838080"/>
            <a:ext cx="8077320" cy="445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" descr="Картинка 144 из 649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457200"/>
            <a:ext cx="3957480" cy="5715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529 из 580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91040" y="457200"/>
            <a:ext cx="336240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4876920"/>
            <a:ext cx="380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В кругу род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и друз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152280" y="70920"/>
            <a:ext cx="876312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33"/>
                </a:solidFill>
                <a:latin typeface="Arial"/>
              </a:rPr>
              <a:t>Большую роль в жизни Чехова сыграл таганрогский театр, основанный в 1827 году. Впервые в театре Антон побывал в 13 лет, посмотрел оперетту Жака Оффенбаха «Прекрасная Елена» и вскоре стал страстным поклонником театра. Чехов-гимназист издавал юмористические журналы, придумывал подписи к рисункам, писал юмористические рассказы, сценки. Первая драма «Безотцовщина» была написана 18-летним Чеховым в период учёбы в гимназии. Гимназический период Чехова был важным периодом созревания и формирования его личности, развития её духовных основ. Гимназические годы дали Чехову огромный материал для писательской работ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Картинка 1 из 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505320"/>
            <a:ext cx="6248520" cy="2882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7 из 2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92800" y="3429000"/>
            <a:ext cx="2432160" cy="3048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39640" y="380880"/>
            <a:ext cx="433728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410080" y="1676520"/>
            <a:ext cx="312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А. П. Чехов-студент медицинского факультета Московского универс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0"/>
              <a:ext cx="5334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3886200" y="317880"/>
            <a:ext cx="51055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ехов, будучи студентом, начал помещать рассказы, юморески под псевдонимом Антоша Чехонте или совсем без подписи, в изданиях «малой прессы», преимущественно юмористических: московских журналах «Будильник», «Зритель» и в петербургских юмористических еженедельниках «Осколки», «Стрекоза». Чехов сотрудничал в «Петербургской газете», в газете «Новое время» и в «Русских ведомостях». В 1884 году вышел сборник его рассказов — «Сказки Мельпомены» (за подписью «А. Чехонте»); в 1887 г. появился второй сборник — «В сумерках», который показал, что в лице Чехова русская литература приобрела новое, вдумчивое и тонко-художественное дарование. Основное время он посвящал сотрудничеству с «Русской мыслью», в которой впервые были опубликованы «Палата № 6», «Человек в футляре», «Дом с мезонином» и множество других рассказов. Успех всё возрастал, особенное внимание обратили на себя произведения «Степь», «Скучная история», «Дуэль», «Рассказ неизвестного человека», «Мужики» и несколько друг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14280" y="685800"/>
            <a:ext cx="357840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6320" y="5486400"/>
            <a:ext cx="3962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ложка журнала «Осколк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2-27T14:44:14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