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DDF-8330-4C88-A10D-403A7E12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11C-8EA0-44C0-A4BA-7F56D0F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761-9C44-47B4-81C8-269EFA60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F30-6093-43F2-8F73-BD4DADA5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E59-2CEF-4C81-9D81-A1BBEA5D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14A-3F3B-4E06-8A48-E1C61667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E1A-C2E8-4116-BA4D-31045061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A0-5553-4065-81B5-620A264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D5B-5569-4DC6-AFC0-327F21A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079-244B-4566-80BF-059D547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670-08E4-47FC-97D4-A15EB09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DD4-2D19-4A12-835C-EEB5FFA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CF6-6B46-439A-AE57-5A350D9EA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6-02.photosight.ru/05/12599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2005-02.photosight.ru/07/75429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lando.nnov.ru/photos/live/28/1814828_1_F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cio.rsu.ru/webp/class5/potok96/Marchenko/karg2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rt.1september.ru/2006/20/no20_135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dom-teremok.narod.ru/igr/kar3.jp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adushki.appee.ru/media/&#1061;&#1083;&#1077;&#1073;&#1085;&#1080;&#1094;&#1072;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sbuka.ru/foto/1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north.ru/pixs/1178524183-2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kitalets.ru/graph/photogallery/138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mples.ru/private/f000051/solovec_1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6/07/09/00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061280" y="712800"/>
            <a:ext cx="700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Урок по географии в 9 классе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«Роль Европейского Север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eff2"/>
                </a:solidFill>
                <a:latin typeface="Arial"/>
              </a:rPr>
              <a:t>развитии русской культу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eff2"/>
                </a:solidFill>
                <a:latin typeface="Arial"/>
              </a:rPr>
              <a:t>(заочное путешеств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766520" y="565956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Учитель географии и би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Горячева Наталия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Картинка 7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28 из 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gr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405800" y="5950080"/>
            <a:ext cx="55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аргопольская иг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41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32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Картинка 39 из 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54 из 9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201840"/>
            <a:ext cx="485928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kar001"/>
          <p:cNvPicPr/>
          <p:nvPr/>
        </p:nvPicPr>
        <p:blipFill>
          <a:blip r:embed="rId7"/>
          <a:stretch/>
        </p:blipFill>
        <p:spPr>
          <a:xfrm>
            <a:off x="6156360" y="0"/>
            <a:ext cx="2203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76720" y="692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емогодская рез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артинка 18 из 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артинка 14 из 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F0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492360" y="47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ьба по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Картинка 49 из 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79280" y="3213000"/>
            <a:ext cx="86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9c6d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овершить заочное путешествие на Европейский Сев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знакомиться с влиянием Европейского Севера на развитие рус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знать народные художественные промыслы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Европейского Севера;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спитывать любовь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nie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260280"/>
            <a:ext cx="588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устюж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ение п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еб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67182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11 из 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артинка 1 из 997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95640" y="333360"/>
            <a:ext cx="17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Киж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а 56 из 99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kor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687240" y="260280"/>
            <a:ext cx="43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алые Кар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артинка 11 из 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24000" y="24192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ыводы урока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 богатству и разнообразию культурного наследия Европейский Север занимает выдающееся место 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сколько беднее были бы наша история и культура, наше национальное самосознание без этих храмов, городов и сел, мастеров и традици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риобщение к наследию Севера, понимание его делает нас не «Иванами, не помнящими родства», а культурными людьми, истинными россиянами, сознательными гражданами сво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Мы можем гордиться славными делами наших предков, но доказать, что мы достойны называться их потомками и продолжателями их дела, мож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олько творчески продолжая и развивая их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артинка 18 из 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31948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0360" y="260280"/>
            <a:ext cx="83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ьев А. А. Природные святыни России // География в школе. 1996.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гова М. Л. Изучение природных достопримечательностей России/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 в школе. 1999.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рявцева Т. А. «Я живу в России!»: Кн. Для семейного чтения- М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вещение; СПб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инка 20 из 9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900000" y="47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 скалистом острове Валаам в Ладожском оз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оит монастырь – старейший на русском сев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артинка 50 из 6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61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39640" y="620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 студеными волнами Белого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ышаются Соловецки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а 29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артинка 2 из 9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549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риста лет стены монастыря были неприступ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звестен лишь один случай взятия креп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0306-000354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76360" y="5229360"/>
            <a:ext cx="62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огодское круж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58:22Z</dcterms:created>
  <dc:creator>Наташа</dc:creator>
  <dc:description/>
  <dc:language>en-US</dc:language>
  <cp:lastModifiedBy>Коля</cp:lastModifiedBy>
  <dcterms:modified xsi:type="dcterms:W3CDTF">2013-07-05T12:07:03Z</dcterms:modified>
  <cp:revision>11</cp:revision>
  <dc:subject/>
  <dc:title>Слайд 1</dc:title>
</cp:coreProperties>
</file>