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B0E-A632-4F9E-AA89-AA438E0E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CDE-B55A-4AB3-9951-2B797C8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2F4-3554-4995-B744-E9BF101F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33A-FD7E-478F-AE9C-195C40D4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512-195D-4566-A5C3-A39D8B8A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43C-0870-40D4-B609-099B194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C00-E9B2-426C-B96C-20C4A58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232-428C-4EB3-BE17-462B3B34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44E5-1AE6-41D1-B5E3-589D63C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320C-4417-4DBD-8687-A421C24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D64-6A53-4BA1-B1E4-CBA0E99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046-4772-4066-824D-3828871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25E9-552D-4942-AE11-6EC5B08E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CFCF-1C94-4ED0-AABD-FBA8AC0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767C-02FF-4434-8E06-294E53E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A9F-BD32-46FF-AD86-FA9D3E0E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258D-8EA4-4BFC-80A7-54CB7CE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373-481B-4652-93B0-54272D7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D91-9BDD-4859-A5C1-B3FD3B1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229-BF6B-4BB4-A109-64F71D99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876-D966-4EA5-A209-A4464E8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F16-09E5-45A1-AB95-8D13E43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0B7-6960-43CD-A7DC-125E46C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88C-AB3C-4CF5-83FE-0DBC51A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272E-5FD1-402B-BB60-0BA29326EC3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2D16-A6C2-4E77-BC06-6EECB728145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329-F228-44F7-8170-FD69AD7EB2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^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3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 x -0,5 = 0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чебник (страница 377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BC3-146B-43B0-8AED-305CB91581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Системный подход в моделирован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CD5-3A42-4372-922D-28D98A8C3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21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506-BE58-4AD7-A170-87A28F65F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Любая информационная модель является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системой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99"/>
                </a:solidFill>
                <a:latin typeface="Comic Sans MS"/>
              </a:rPr>
              <a:t>Систем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является совокупностью взаимосвязанных объектов, которые называются элементами систем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FA5-4604-4B27-BD9B-5FD88F85FB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8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A40-F7FA-4A60-A317-4567FCA113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татист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Модели, описывающие состояние системы в определенный момент времени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astellar"/>
              </a:rPr>
              <a:t>стат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844-0BBF-4D9F-9FAA-B13229357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нам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0578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Модели, описывающие процессы изменения и развития систем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динам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5E-80A5-45A9-9E3B-F6C7A7E3F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Что такое моделирование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34920" y="2781360"/>
            <a:ext cx="6546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Модел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0F1-54D5-4399-BC41-95287FE64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то такое модель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 action="ppaction://hlinksldjump"/>
              </a:rPr>
              <a:t>Мод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некий новый объект, который отражает некоторые существенные свойства изучаемого явления или процесс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дель сохраняет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4C6-E1AC-415C-B3C7-0F5B53543EB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Один и тот же объект может иметь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множество моделей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, а разные объекты могут описываться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дной моделью</a:t>
            </a:r>
            <a:r>
              <a:rPr b="1" lang="en-US" sz="40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F52-0783-484F-90AF-F12ED433C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1484280"/>
            <a:ext cx="8424720" cy="3379320"/>
            <a:chOff x="324000" y="1484280"/>
            <a:chExt cx="8424720" cy="3379320"/>
          </a:xfrm>
        </p:grpSpPr>
        <p:sp>
          <p:nvSpPr>
            <p:cNvPr id="162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4000" y="32846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Л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УЧЕ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ИЗИЧЕСКИЕ ИЛИ ХИМИЧЕСКИЕ ОПЫ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722-FF12-423C-96C7-21FB716867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C49-59EE-4CB7-BC8E-81AF200BC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Естественные языки служат для создания </a:t>
            </a:r>
            <a:r>
              <a:rPr b="1" i="1" lang="en-US" sz="3000" spc="-1" strike="noStrike">
                <a:solidFill>
                  <a:srgbClr val="ffff66"/>
                </a:solidFill>
                <a:latin typeface="Century"/>
              </a:rPr>
              <a:t>описате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, а формальные языки – </a:t>
            </a:r>
            <a:r>
              <a:rPr b="1" lang="en-US" sz="3000" spc="-1" strike="noStrike">
                <a:solidFill>
                  <a:srgbClr val="ffff66"/>
                </a:solidFill>
                <a:latin typeface="Century"/>
              </a:rPr>
              <a:t>форма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3B3-7092-4C0E-A764-C8A184D9EC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6870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процесс построения информационных моделей с помощью формальных языко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DFC-D929-46D7-99F7-BB283F228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Анализ результатов моделирования и корректировка исследуемой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8B3-0246-4E4D-A430-E49FF7C8C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АиО</cp:lastModifiedBy>
  <dcterms:modified xsi:type="dcterms:W3CDTF">2009-11-25T19:36:00Z</dcterms:modified>
  <cp:revision>10</cp:revision>
  <dc:subject/>
  <dc:title>МОДЕЛИРОВАНИЕ И ФОРМАЛИЗАЦИЯ</dc:title>
</cp:coreProperties>
</file>