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D20-7B50-4CB7-A186-BAD31CCC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029-D98D-4F42-9FE4-033305E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DAC-6820-47B9-A555-255A2C93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A42-388D-4D55-B832-BEB2DCB8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99B-AC7D-456D-A272-D9CE4DD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BCD-DC92-4245-94E3-0B2DE003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D486-7FD0-4A95-851C-6657B4D2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421D-C7B9-4E6A-BAC0-D35EBFC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B02-FA3B-4787-B368-C1010D2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4BDF-824F-4E10-8D3C-C074E7F2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DD5-9C2A-4CBE-8E3F-3434F5D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EFB-156C-4E61-AE6C-69257806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0049-744B-4635-965D-BFEA88F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8AF-C7E5-46B6-AF82-9F22F33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CF65-7717-4053-9D5E-BE5024D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B6F1-6E75-4B4B-BDB8-EEC8E51E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9ECC-5AE6-49F1-B039-6D5D7D9C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7E2-9944-4A79-A620-2580865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0AA-0460-46AA-8EEF-CE68246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B4B-788E-47F6-B1C7-D7471108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E94-A4FF-4373-9597-3727745B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82C-CA54-466A-95AD-CC6665C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216-BEC8-4ABE-8B1D-EBBF3D7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787-C6BC-458E-A2AB-CC72CEE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91B-B47B-4F48-ADF8-14469DCDCF1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5F1-9E08-4275-AAE1-C06698B913B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1753-12EF-458F-BF3B-63CD999D1B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^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3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 x -0,5 = 0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чебник (страница 377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EB9-681D-4415-8E3C-C8BF78982B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Системный подход в моделирован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BAD-4BB5-46F5-A4AD-4E8412E7C1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21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CA3-02BD-4C8F-A887-2D37682F2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Любая информационная модель является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системой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99"/>
                </a:solidFill>
                <a:latin typeface="Comic Sans MS"/>
              </a:rPr>
              <a:t>Систем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является совокупностью взаимосвязанных объектов, которые называются элементами систем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06E-217D-45DD-A001-BE9A78B384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8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A3E-33E1-431A-8895-627F95D19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татист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Модели, описывающие состояние системы в определенный момент времени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astellar"/>
              </a:rPr>
              <a:t>стат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C89-598C-4A71-B7D3-04D4339BC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нам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0578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Модели, описывающие процессы изменения и развития систем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динам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F29-3E69-4637-AA47-698CE97A8C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Что такое моделирование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34920" y="2781360"/>
            <a:ext cx="6546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Модел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455-2119-4D25-BC28-3D8133FF4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то такое модель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 action="ppaction://hlinksldjump"/>
              </a:rPr>
              <a:t>Мод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некий новый объект, который отражает некоторые существенные свойства изучаемого явления или процесс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дель сохраняет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146-4A1B-45D0-A096-CD3FFDCAF56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Один и тот же объект может иметь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множество моделей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, а разные объекты могут описываться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дной моделью</a:t>
            </a:r>
            <a:r>
              <a:rPr b="1" lang="en-US" sz="40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74B-EBDA-4A6D-B789-269EA3BC02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1484280"/>
            <a:ext cx="8424720" cy="3379320"/>
            <a:chOff x="324000" y="1484280"/>
            <a:chExt cx="8424720" cy="3379320"/>
          </a:xfrm>
        </p:grpSpPr>
        <p:sp>
          <p:nvSpPr>
            <p:cNvPr id="162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4000" y="32846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Л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УЧЕ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ИЗИЧЕСКИЕ ИЛИ ХИМИЧЕСКИЕ ОПЫ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70C-03EE-404F-8D21-E511FB83A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5BA-248F-423E-97AA-E357901D9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Естественные языки служат для создания </a:t>
            </a:r>
            <a:r>
              <a:rPr b="1" i="1" lang="en-US" sz="3000" spc="-1" strike="noStrike">
                <a:solidFill>
                  <a:srgbClr val="ffff66"/>
                </a:solidFill>
                <a:latin typeface="Century"/>
              </a:rPr>
              <a:t>описате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, а формальные языки – </a:t>
            </a:r>
            <a:r>
              <a:rPr b="1" lang="en-US" sz="3000" spc="-1" strike="noStrike">
                <a:solidFill>
                  <a:srgbClr val="ffff66"/>
                </a:solidFill>
                <a:latin typeface="Century"/>
              </a:rPr>
              <a:t>форма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585-2B73-4AB2-BBC9-9D38A2B7F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6870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процесс построения информационных моделей с помощью формальных языко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0F4-723A-4B3E-80D6-5C2796958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Анализ результатов моделирования и корректировка исследуемой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10E-F444-4CED-AAE5-A409453CB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АиО</cp:lastModifiedBy>
  <dcterms:modified xsi:type="dcterms:W3CDTF">2009-11-25T19:36:00Z</dcterms:modified>
  <cp:revision>10</cp:revision>
  <dc:subject/>
  <dc:title>МОДЕЛИРОВАНИЕ И ФОРМАЛИЗАЦИЯ</dc:title>
</cp:coreProperties>
</file>