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E78-3701-47C8-9B7C-AFCC9782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861-7471-4DD9-BCF2-22A23EE2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8E7-8CA2-494D-A58D-2EADE9B0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CFB-EC17-45FD-A16E-5CF8AFB8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02C-8EB5-4C28-932E-6E955D5C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6FD-85B4-442C-A9AF-525231EF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8BF-9680-4336-8C64-4944FBEC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486-636A-4EA8-949E-A802B49D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FDE-E0BE-4364-8DBF-4F83E8FD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893-1E13-4D17-ACCF-F7020C79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90A-52A8-408A-AC86-8881D195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3B9-E4CD-4A56-A952-8F220CE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CFD-5247-464F-A576-351E3EF305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89000"/>
            <a:ext cx="770400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000000"/>
                    </a:gs>
                    <a:gs pos="100000">
                      <a:srgbClr val="ff99cc"/>
                    </a:gs>
                  </a:gsLst>
                  <a:lin ang="13500000"/>
                </a:gradFill>
                <a:latin typeface="Times New Roman"/>
              </a:rPr>
              <a:t>АВСТРАЛ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000000"/>
                  </a:gs>
                  <a:gs pos="100000">
                    <a:srgbClr val="ff99cc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530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71640" y="0"/>
            <a:ext cx="6840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езные ископаемы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14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богата разнообразными полезными ископаемыми. Новые открытия минеральных руд, сделанные на континенте за последние 10—15 лет, выдвинули материк на одно из первых мест в мире по запасам и добыче таких полезных ископаемых, как железная руда, бокситы, свинцово-цинковые руды. Самые большие в Австралии залежи железной руды, которые начали разрабатываться с 60-х годов XX века, находятся в районе хребта Хамерсли на северо-западе материка (месторождения Маунт-Ньюмен, Маунт-Голдсуэрта и др.). Железная руда имеется также в штате Южная Австралия в хребте Мидлбэк (Айрон-Ноб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1879560" cy="208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533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5280" y="1989000"/>
            <a:ext cx="842472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33336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ографическое полож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970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— материк в Южном полушарии площадью 7 617 930 км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простирается от крайней восточной оконечности, мыса Байрона (153° 40' в.д. от Гринвича), до крайней оконечности на запад, мыса Инскрипции (113° 1' в.д.), на протяжении 40 градусов долготы (4300 км.) и от крайней северной оконечности, мыса Йорка (10° 43' Ю.Ш..), до крайней южной, мыса Вильсона (39° 9' Ю.Ш..), почти на протяжении 28 1/2° градусов широты (3180 км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30481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19280" y="260280"/>
            <a:ext cx="59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льеф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2536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обладают равнины. Около 95 % поверхности не превышают 600 м над уровнем моря. Западно-Австралийское плоскогорье — средние высоты 400—500 метров. Центральная низменность с преобладающими высотами до 100 м над уровнем моря. В районе озера Эйр низшая точка — 12 м ниже уровня моря. На юго-западе — хребет Флиндерси Маунт-Лофти. Большой Водораздельный хребет, средневысотный, с плоскими вершинами, крутыми, переходящими на западе в холмистые предгорья. На юге в Австралийских Альпах высшая точка — гора Косцюшко, 2230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010040"/>
            <a:ext cx="3048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206064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нове территории континента лежит старая Австралийская платформа, представляющая часть материка Гондвана в южном полушарии Зем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260280"/>
            <a:ext cx="7632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ологическое стро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2584440"/>
            <a:ext cx="4716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9160"/>
            <a:ext cx="554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йский континент расположен в пределах трех основных теплых климатических поясов южного полушария: субэкваториального, тропического, субтропического. Субэкваториальный климат, характерный для северной и северо-восточной части континента, отличается ровным ходом температур и большим количеством осадков. Осадки сюда приносит влажный северо-западный муссон, и выпадают они главным образом летом. Зимой, в сухой период года, дожди выпадают только эпизодичес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8728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имат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35640" y="3770280"/>
            <a:ext cx="37083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3333600" cy="219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187280" y="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ные ресурс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7496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ные ресурсы континента невелики. Реки, стекающие с восточных склонов Большого Водораздельного хребта, — короткие, в верховьях текут в узких ущельях. Здесь они вполне могут быть использованы, а отчасти уже используются для строительства ГЭС. При выходе на прибрежную равнину реки замедляют свое течение, их глубина увеличивается. Многие из них в устьевых частях даже доступны для крупных океанских судов. На западных склонах Большого Водораздельного хребта берут начало реки, прокладывающие свой путь по внутренним равнинам. В районе горы Косцюшко начинается самая многоводная река в Австралии — Мурр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0"/>
            <a:ext cx="871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тительный мир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54200"/>
            <a:ext cx="60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Австралийский материк длительное время, начиная с середины мелового периода, находился в условиях изоляции от других частей земного шара, его растительный мир очень своеобразен. Из 12 тыс. видов высших растений более 9 тыс. — эндемики, то есть произрастают только на Австралийском континенте.  В то же время здесь встречаются и такие растения, которые присущи Южной Америке, Южной Африке и островам Малайского архипелага. Это свидетельствует о том, что многие миллионы лет назад между материками существовали сухопутные связ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940360" y="2049480"/>
            <a:ext cx="32036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9280" y="0"/>
            <a:ext cx="871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тный мир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475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образие животных Австралии невелико: известно всего 235 видов млекопитающих, 720 — птиц, 420 — рептилий и 120 видов амфибий, обитающих на этом континенте и прилегающих остров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03880" y="4352760"/>
            <a:ext cx="3840120" cy="250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4572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68360" y="0"/>
            <a:ext cx="4321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в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14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встралии в закономерной последовательности представлены все типы почв, свойственные тропическому, субэкваториальному и субтропическому природным поясам. В районе влажных тропических лесов на севере распространены красные почвы, сменяющиеся по направлению к югу красно-бурыми и коричневыми почвами во влажных саваннах и серо-коричневыми в сухих саванная. Красно-бурые и коричневые почвы, содержащие перегной, немного фосфора и калий, ценны для сельскохозяйственного использования. В пределах зоны красно-бурых почв располагаются основные посевы пшеницы Австрал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02888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1938240" cy="216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59640" y="965160"/>
            <a:ext cx="2484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22T23:06:50Z</dcterms:modified>
  <cp:revision>2</cp:revision>
  <dc:subject/>
  <dc:title>PowerPoint Presentation</dc:title>
</cp:coreProperties>
</file>