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32.wmf" ContentType="image/x-wmf"/>
  <Override PartName="/ppt/media/image20.jpeg" ContentType="image/jpeg"/>
  <Override PartName="/ppt/media/image33.gif" ContentType="image/gif"/>
  <Override PartName="/ppt/media/image28.jpeg" ContentType="image/jpeg"/>
  <Override PartName="/ppt/media/image12.jpeg" ContentType="image/jpeg"/>
  <Override PartName="/ppt/media/image7.jpeg" ContentType="image/jpeg"/>
  <Override PartName="/ppt/media/image35.gif" ContentType="image/gif"/>
  <Override PartName="/ppt/media/image9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4.gif" ContentType="image/gif"/>
  <Override PartName="/ppt/media/image36.png" ContentType="image/png"/>
  <Override PartName="/ppt/media/image6.png" ContentType="image/png"/>
  <Override PartName="/ppt/media/image14.wmf" ContentType="image/x-wmf"/>
  <Override PartName="/ppt/media/image11.gif" ContentType="image/gif"/>
  <Override PartName="/ppt/media/image5.jpeg" ContentType="image/jpeg"/>
  <Override PartName="/ppt/media/image18.wmf" ContentType="image/x-wmf"/>
  <Override PartName="/ppt/media/image26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5.jpeg" ContentType="image/jpeg"/>
  <Override PartName="/ppt/media/image16.wmf" ContentType="image/x-wmf"/>
  <Override PartName="/ppt/media/image1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1795-B697-4C21-A64D-0B27087CC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04EB-8B95-4DBB-893C-D9C248CE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006E-A13C-4371-818E-4AC6BF381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6B60-DAB8-451F-818C-82FC3FF09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57A46-7AF5-4412-8476-658663614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970B6-D8E6-41AD-88C1-FE5CE9D1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2C2C-7D45-4746-BEC6-55C62E93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C7B72-35AD-432B-86E1-F093873E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3AB0B-BD20-47C4-93F6-6E77000A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876F-7235-4627-9FFE-574E5DEE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2576E-A8FC-4BCD-9F2D-0F1502A7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3DD5-8CCE-4A34-9E51-5EDD67B7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31BE-4EB5-4679-8DD1-A5CFCD65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80B0-C0A0-4C20-9E57-38285517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E78DE-B3F9-4184-9D81-E92DE710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7F12-8451-4F3A-91C1-55A40643B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C57F-10E9-405E-8E74-F2532CE4D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A9B19-C801-4AD5-A90C-1914C5A13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C178E-8B89-4DEB-9BB3-9D5C2FCE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6ED5E-4664-4013-86E6-0B9C7C45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6B07D-41E7-4ECF-A401-55758BE9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8F5EC-9A54-4CEC-8261-9090BB8F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32D4-B0AF-4950-882B-41F33E9D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7B6A6-A0C7-4752-8732-48B0DF0A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61D73-2085-4F64-8EFF-2EF98B53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E66E5-69E8-479A-A4EC-F6198A49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ABA40-D182-4F83-A136-2E2265B7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7DCD3-C7B7-486F-90E1-27BA4200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8DA67-22F6-4C05-B8ED-6E7E02B66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73A46-57BB-49FC-9494-A757B2B82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63A5-9035-4DCD-BDAA-4CCEFAE4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F855-2660-4674-A63F-EA890258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60D2-EDA7-4F0E-A474-3D006832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A961-1188-474A-897C-F0E2656D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C080-9B18-4CDB-9245-FCA1763B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6286-ED6A-4BC1-A3A6-5295E1FD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5531-F1CB-4DE9-879C-1A4497773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2052-8D05-4967-98CD-372BE3404A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2AED-BD34-47D0-BED4-843BD165A2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&#1055;&#1088;&#1077;&#1079;&#1077;&#1085;&#1090;&#1072;&#1094;&#1080;&#1103;%20&#1091;&#1088;&#1086;&#1082;&#1072;%20&#1088;&#1080;&#1089;&#1086;&#1074;&#1072;&#1085;&#1080;&#1103;.ppt" TargetMode="External"/><Relationship Id="rId3" Type="http://schemas.openxmlformats.org/officeDocument/2006/relationships/hyperlink" Target="file:///&#1055;&#1088;&#1077;&#1079;&#1077;&#1085;&#1090;&#1072;&#1094;&#1080;&#1103;%20&#1091;&#1088;&#1086;&#1082;&#1072;%20&#1088;&#1080;&#1089;&#1086;&#1074;&#1072;&#1085;&#1080;&#1103;.ppt" TargetMode="External"/><Relationship Id="rId4" Type="http://schemas.openxmlformats.org/officeDocument/2006/relationships/hyperlink" Target="file:///&#1055;&#1088;&#1077;&#1079;&#1077;&#1085;&#1090;&#1072;&#1094;&#1080;&#1103;%20&#1091;&#1088;&#1086;&#1082;&#1072;%20&#1088;&#1080;&#1089;&#1086;&#1074;&#1072;&#1085;&#1080;&#1103;.ppt" TargetMode="External"/><Relationship Id="rId5" Type="http://schemas.openxmlformats.org/officeDocument/2006/relationships/slide" Target="slide13.xml"/><Relationship Id="rId6" Type="http://schemas.openxmlformats.org/officeDocument/2006/relationships/slide" Target="slide18.xml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slide" Target="slide12.xml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slide" Target="slide12.xm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gif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gif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«октобер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4800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Monotype Corsiva"/>
              </a:rPr>
              <a:t>Октябрь – первый суровый месяц осени, когда властвуют холодные северо-восточные ветры, начинаются заморозки; идет мокрый снег и дождь,</a:t>
            </a:r>
            <a:r>
              <a:rPr b="0" lang="en-US" sz="2800" spc="-1" strike="noStrike">
                <a:solidFill>
                  <a:srgbClr val="ffffcc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Monotype Corsiva"/>
              </a:rPr>
              <a:t>потому он ещё и </a:t>
            </a:r>
            <a:r>
              <a:rPr b="1" lang="en-US" sz="2800" spc="-1" strike="noStrike">
                <a:solidFill>
                  <a:srgbClr val="ffffcc"/>
                </a:solidFill>
                <a:latin typeface="Informal Roman"/>
              </a:rPr>
              <a:t>предзимье, позимник.</a:t>
            </a:r>
            <a:r>
              <a:rPr b="1" lang="en-US" sz="2800" spc="-1" strike="noStrike">
                <a:solidFill>
                  <a:srgbClr val="ffffcc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1898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Black"/>
              </a:rPr>
              <a:t>«новембер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5105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4" marL="185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Monotype Corsiv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Ноябрь – месяц первых заморозков и снега – зазимье, предзимье: с утра может дождь дождить, а к вечеру сугробами снег леж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09480" y="457200"/>
            <a:ext cx="2133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228600"/>
            <a:ext cx="1981080" cy="1447920"/>
          </a:xfrm>
          <a:custGeom>
            <a:avLst/>
            <a:gdLst>
              <a:gd name="textAreaLeft" fmla="*/ 170640 w 1981080"/>
              <a:gd name="textAreaRight" fmla="*/ 1810440 w 1981080"/>
              <a:gd name="textAreaTop" fmla="*/ 170640 h 1447920"/>
              <a:gd name="textAreaBottom" fmla="*/ 1277280 h 1447920"/>
            </a:gdLst>
            <a:ahLst/>
            <a:rect l="textAreaLeft" t="textAreaTop" r="textAreaRight" b="textAreaBottom"/>
            <a:pathLst>
              <a:path w="2955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952" y="21600"/>
                </a:lnTo>
                <a:arcTo wR="3600" hR="3600" stAng="10800000" swAng="5400000"/>
                <a:lnTo>
                  <a:pt x="29552" y="3600"/>
                </a:lnTo>
                <a:arcTo wR="3600" hR="3600" stAng="5400000" swAng="5400000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форм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цв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52680" y="2514600"/>
            <a:ext cx="2514600" cy="1752480"/>
          </a:xfrm>
          <a:prstGeom prst="bevel">
            <a:avLst>
              <a:gd name="adj" fmla="val 12500"/>
            </a:avLst>
          </a:prstGeom>
          <a:solidFill>
            <a:srgbClr val="333300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карт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304920"/>
            <a:ext cx="1981080" cy="1447560"/>
          </a:xfrm>
          <a:custGeom>
            <a:avLst/>
            <a:gdLst>
              <a:gd name="textAreaLeft" fmla="*/ 170280 w 1981080"/>
              <a:gd name="textAreaRight" fmla="*/ 1810800 w 1981080"/>
              <a:gd name="textAreaTop" fmla="*/ 170280 h 1447560"/>
              <a:gd name="textAreaBottom" fmla="*/ 1277280 h 1447560"/>
            </a:gdLst>
            <a:ahLst/>
            <a:rect l="textAreaLeft" t="textAreaTop" r="textAreaRight" b="textAreaBottom"/>
            <a:pathLst>
              <a:path w="2955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959" y="21600"/>
                </a:lnTo>
                <a:arcTo wR="3600" hR="3600" stAng="10800000" swAng="5400000"/>
                <a:lnTo>
                  <a:pt x="29559" y="3600"/>
                </a:lnTo>
                <a:arcTo wR="3600" hR="3600" stAng="5400000" swAng="5400000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Путешеств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по музе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2666880"/>
            <a:ext cx="1904760" cy="1600200"/>
          </a:xfrm>
          <a:custGeom>
            <a:avLst/>
            <a:gdLst>
              <a:gd name="textAreaLeft" fmla="*/ 188280 w 1904760"/>
              <a:gd name="textAreaRight" fmla="*/ 1716480 w 1904760"/>
              <a:gd name="textAreaTop" fmla="*/ 188280 h 1600200"/>
              <a:gd name="textAreaBottom" fmla="*/ 1411920 h 1600200"/>
            </a:gdLst>
            <a:ahLst/>
            <a:rect l="textAreaLeft" t="textAreaTop" r="textAreaRight" b="textAreaBottom"/>
            <a:pathLst>
              <a:path w="2571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2110" y="21600"/>
                </a:lnTo>
                <a:arcTo wR="3600" hR="3600" stAng="10800000" swAng="5400000"/>
                <a:lnTo>
                  <a:pt x="25710" y="3600"/>
                </a:lnTo>
                <a:arcTo wR="3600" hR="3600" stAng="5400000" swAng="5400000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Кроссво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5029200"/>
            <a:ext cx="1981440" cy="1523880"/>
          </a:xfrm>
          <a:custGeom>
            <a:avLst/>
            <a:gdLst>
              <a:gd name="textAreaLeft" fmla="*/ 179280 w 1981440"/>
              <a:gd name="textAreaRight" fmla="*/ 1802160 w 1981440"/>
              <a:gd name="textAreaTop" fmla="*/ 179280 h 1523880"/>
              <a:gd name="textAreaBottom" fmla="*/ 1344600 h 1523880"/>
            </a:gdLst>
            <a:ahLst/>
            <a:rect l="textAreaLeft" t="textAreaTop" r="textAreaRight" b="textAreaBottom"/>
            <a:pathLst>
              <a:path w="2808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4484" y="21600"/>
                </a:lnTo>
                <a:arcTo wR="3600" hR="3600" stAng="10800000" swAng="5400000"/>
                <a:lnTo>
                  <a:pt x="28084" y="3600"/>
                </a:lnTo>
                <a:arcTo wR="3600" hR="3600" stAng="5400000" swAng="5400000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б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ю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867280" y="4952880"/>
            <a:ext cx="1905120" cy="1600200"/>
          </a:xfrm>
          <a:custGeom>
            <a:avLst/>
            <a:gdLst>
              <a:gd name="textAreaLeft" fmla="*/ 188280 w 1905120"/>
              <a:gd name="textAreaRight" fmla="*/ 1716840 w 1905120"/>
              <a:gd name="textAreaTop" fmla="*/ 188280 h 1600200"/>
              <a:gd name="textAreaBottom" fmla="*/ 1411920 h 1600200"/>
            </a:gdLst>
            <a:ahLst/>
            <a:rect l="textAreaLeft" t="textAreaTop" r="textAreaRight" b="textAreaBottom"/>
            <a:pathLst>
              <a:path w="2571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2115" y="21600"/>
                </a:lnTo>
                <a:arcTo wR="3600" hR="3600" stAng="10800000" swAng="5400000"/>
                <a:lnTo>
                  <a:pt x="25715" y="3600"/>
                </a:lnTo>
                <a:arcTo wR="3600" hR="3600" stAng="5400000" swAng="5400000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б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ложени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и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086600" y="2743200"/>
            <a:ext cx="2057400" cy="1676520"/>
          </a:xfrm>
          <a:custGeom>
            <a:avLst/>
            <a:gdLst>
              <a:gd name="textAreaLeft" fmla="*/ 197280 w 2057400"/>
              <a:gd name="textAreaRight" fmla="*/ 1860120 w 2057400"/>
              <a:gd name="textAreaTop" fmla="*/ 197280 h 1676520"/>
              <a:gd name="textAreaBottom" fmla="*/ 1479240 h 1676520"/>
            </a:gdLst>
            <a:ahLst/>
            <a:rect l="textAreaLeft" t="textAreaTop" r="textAreaRight" b="textAreaBottom"/>
            <a:pathLst>
              <a:path w="2650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2906" y="21600"/>
                </a:lnTo>
                <a:arcTo wR="3600" hR="3600" stAng="10800000" swAng="5400000"/>
                <a:lnTo>
                  <a:pt x="26506" y="3600"/>
                </a:lnTo>
                <a:arcTo wR="3600" hR="3600" stAng="5400000" swAng="5400000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Карандаш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наброс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819520" y="1752480"/>
            <a:ext cx="8380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0968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200400" y="4266720"/>
            <a:ext cx="8380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5410080" y="42667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5866920" y="3276360"/>
            <a:ext cx="1219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5105160" y="1676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>
            <a:hlinkClick r:id="rId5" action="ppaction://hlinksldjump"/>
          </p:cNvPr>
          <p:cNvSpPr/>
          <p:nvPr/>
        </p:nvSpPr>
        <p:spPr>
          <a:xfrm>
            <a:off x="1600200" y="838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rId6" action="ppaction://hlinksldjump"/>
          </p:cNvPr>
          <p:cNvSpPr/>
          <p:nvPr/>
        </p:nvSpPr>
        <p:spPr>
          <a:xfrm>
            <a:off x="380880" y="33526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362320" y="571500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19920" y="5486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162920" y="33526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34120" y="762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19720" y="3657600"/>
            <a:ext cx="304560" cy="152280"/>
          </a:xfrm>
          <a:custGeom>
            <a:avLst/>
            <a:gdLst>
              <a:gd name="textAreaLeft" fmla="*/ 9720 w 304560"/>
              <a:gd name="textAreaRight" fmla="*/ 294840 w 30456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8153280" cy="631368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914400" y="609480"/>
            <a:ext cx="5943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Заглянем в музей..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457280" y="1273320"/>
            <a:ext cx="6230880" cy="43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ван Шишкин «Осен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2575080" y="380880"/>
            <a:ext cx="41688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8534160" cy="5638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6095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В.Поленов «Золотая осен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00"/>
                </a:solidFill>
                <a:latin typeface="Arial"/>
              </a:rPr>
              <a:t>Осень – любимая пора А.С. Пушк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Monotype Corsiva"/>
              </a:rPr>
              <a:t>   </a:t>
            </a:r>
            <a:r>
              <a:rPr b="0" lang="en-US" sz="2400" spc="-1" strike="noStrike">
                <a:solidFill>
                  <a:srgbClr val="800000"/>
                </a:solidFill>
                <a:latin typeface="Monotype Corsiva"/>
              </a:rPr>
              <a:t>&lt;…&gt;</a:t>
            </a:r>
            <a:r>
              <a:rPr b="0" lang="ru-RU" sz="2400" spc="-1" strike="noStrike">
                <a:solidFill>
                  <a:srgbClr val="800000"/>
                </a:solidFill>
                <a:latin typeface="Monotype Corsiva"/>
              </a:rPr>
              <a:t> Унылая пора! Очей очаровань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Monotype Corsiva"/>
              </a:rPr>
              <a:t>   </a:t>
            </a:r>
            <a:r>
              <a:rPr b="0" lang="ru-RU" sz="2400" spc="-1" strike="noStrike">
                <a:solidFill>
                  <a:srgbClr val="800000"/>
                </a:solidFill>
                <a:latin typeface="Monotype Corsiva"/>
              </a:rPr>
              <a:t>Приятна мне твоя прощальная краса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Monotype Corsiva"/>
              </a:rPr>
              <a:t>   </a:t>
            </a:r>
            <a:r>
              <a:rPr b="0" lang="ru-RU" sz="2400" spc="-1" strike="noStrike">
                <a:solidFill>
                  <a:srgbClr val="800000"/>
                </a:solidFill>
                <a:latin typeface="Monotype Corsiva"/>
              </a:rPr>
              <a:t>Люблю я пышное природы увядань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Monotype Corsiva"/>
              </a:rPr>
              <a:t>   </a:t>
            </a:r>
            <a:r>
              <a:rPr b="0" lang="ru-RU" sz="2400" spc="-1" strike="noStrike">
                <a:solidFill>
                  <a:srgbClr val="800000"/>
                </a:solidFill>
                <a:latin typeface="Monotype Corsiva"/>
              </a:rPr>
              <a:t>В багрец и в золото одетые леса, </a:t>
            </a:r>
            <a:r>
              <a:rPr b="0" lang="en-US" sz="2400" spc="-1" strike="noStrike">
                <a:solidFill>
                  <a:srgbClr val="800000"/>
                </a:solidFill>
                <a:latin typeface="Monotype Corsiva"/>
              </a:rPr>
              <a:t>&lt;…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Georgia"/>
              </a:rPr>
              <a:t>А. Пушкин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4795920" y="1523880"/>
            <a:ext cx="3967200" cy="4724640"/>
          </a:xfrm>
          <a:prstGeom prst="rect">
            <a:avLst/>
          </a:prstGeom>
          <a:ln w="0">
            <a:noFill/>
          </a:ln>
        </p:spPr>
      </p:pic>
      <p:sp>
        <p:nvSpPr>
          <p:cNvPr id="241" name="">
            <a:hlinkClick r:id="rId3" action="ppaction://hlinksldjump"/>
          </p:cNvPr>
          <p:cNvSpPr/>
          <p:nvPr/>
        </p:nvSpPr>
        <p:spPr>
          <a:xfrm>
            <a:off x="845820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7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410080" y="1599840"/>
            <a:ext cx="3276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ffffcc"/>
                </a:solidFill>
                <a:uFillTx/>
                <a:latin typeface="Arial"/>
              </a:rPr>
              <a:t>По горизонтали: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Monotype Corsiva"/>
              </a:rPr>
              <a:t>1. Растут – зеленеют,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Monotype Corsiva"/>
              </a:rPr>
              <a:t>    Упадут – пожелтеют,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Monotype Corsiva"/>
              </a:rPr>
              <a:t>    Полежат – почернеют</a:t>
            </a: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.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Monotype Corsiva"/>
              </a:rPr>
              <a:t>2. Голубая простыня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Monotype Corsiva"/>
              </a:rPr>
              <a:t>    Весь свет покрывает.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Monotype Corsiva"/>
              </a:rPr>
              <a:t>3. Меня ждут – не дождутся,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Monotype Corsiva"/>
              </a:rPr>
              <a:t>    А как завидят – разбегутся.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Monotype Corsiva"/>
              </a:rPr>
              <a:t>4.  Лети, а не птица,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Monotype Corsiva"/>
              </a:rPr>
              <a:t>     Воет, а не зверь.</a:t>
            </a:r>
            <a:br>
              <a:rPr sz="1600"/>
            </a:br>
            <a:br>
              <a:rPr sz="1600"/>
            </a:br>
            <a:r>
              <a:rPr b="0" i="1" lang="en-US" sz="1600" spc="-1" strike="noStrike" u="sng">
                <a:solidFill>
                  <a:srgbClr val="ffffcc"/>
                </a:solidFill>
                <a:uFillTx/>
                <a:latin typeface="Georgia"/>
              </a:rPr>
              <a:t>По вертикали:</a:t>
            </a:r>
            <a:br>
              <a:rPr sz="1600"/>
            </a:br>
            <a:r>
              <a:rPr b="0" i="1" lang="en-US" sz="1600" spc="-1" strike="noStrike">
                <a:solidFill>
                  <a:srgbClr val="ffffcc"/>
                </a:solidFill>
                <a:latin typeface="Monotype Corsiva"/>
              </a:rPr>
              <a:t>1. Светит, сверкает,</a:t>
            </a:r>
            <a:br>
              <a:rPr sz="1600"/>
            </a:br>
            <a:r>
              <a:rPr b="0" i="1" lang="en-US" sz="1600" spc="-1" strike="noStrike">
                <a:solidFill>
                  <a:srgbClr val="ffffcc"/>
                </a:solidFill>
                <a:latin typeface="Monotype Corsiva"/>
              </a:rPr>
              <a:t>    Всех согревает.</a:t>
            </a:r>
            <a:br>
              <a:rPr sz="1600"/>
            </a:br>
            <a:r>
              <a:rPr b="0" i="1" lang="en-US" sz="1600" spc="-1" strike="noStrike">
                <a:solidFill>
                  <a:srgbClr val="ffffcc"/>
                </a:solidFill>
                <a:latin typeface="Monotype Corsiva"/>
              </a:rPr>
              <a:t>2. Пусты поля,</a:t>
            </a:r>
            <a:br>
              <a:rPr sz="1600"/>
            </a:br>
            <a:r>
              <a:rPr b="0" i="1" lang="en-US" sz="1600" spc="-1" strike="noStrike">
                <a:solidFill>
                  <a:srgbClr val="ffffcc"/>
                </a:solidFill>
                <a:latin typeface="Monotype Corsiva"/>
              </a:rPr>
              <a:t>    Мокнет земля,</a:t>
            </a:r>
            <a:br>
              <a:rPr sz="1600"/>
            </a:br>
            <a:r>
              <a:rPr b="0" i="1" lang="en-US" sz="1600" spc="-1" strike="noStrike">
                <a:solidFill>
                  <a:srgbClr val="ffffcc"/>
                </a:solidFill>
                <a:latin typeface="Monotype Corsiva"/>
              </a:rPr>
              <a:t>    Дождь поливает.</a:t>
            </a:r>
            <a:br>
              <a:rPr sz="1600"/>
            </a:br>
            <a:r>
              <a:rPr b="0" i="1" lang="en-US" sz="1600" spc="-1" strike="noStrike">
                <a:solidFill>
                  <a:srgbClr val="ffffcc"/>
                </a:solidFill>
                <a:latin typeface="Monotype Corsiva"/>
              </a:rPr>
              <a:t>     Когда это бывает?</a:t>
            </a:r>
            <a:br>
              <a:rPr sz="1600"/>
            </a:br>
            <a:r>
              <a:rPr b="0" i="1" lang="en-US" sz="1600" spc="-1" strike="noStrike">
                <a:solidFill>
                  <a:srgbClr val="ffffcc"/>
                </a:solidFill>
                <a:latin typeface="Monotype Corsiva"/>
              </a:rPr>
              <a:t>3.  Рук много, а нога одна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703080" y="1627560"/>
            <a:ext cx="3446280" cy="3556800"/>
            <a:chOff x="703080" y="1627560"/>
            <a:chExt cx="3446280" cy="3556800"/>
          </a:xfrm>
        </p:grpSpPr>
        <p:grpSp>
          <p:nvGrpSpPr>
            <p:cNvPr id="245" name=""/>
            <p:cNvGrpSpPr/>
            <p:nvPr/>
          </p:nvGrpSpPr>
          <p:grpSpPr>
            <a:xfrm>
              <a:off x="703080" y="1627560"/>
              <a:ext cx="3446280" cy="3556800"/>
              <a:chOff x="703080" y="1627560"/>
              <a:chExt cx="3446280" cy="3556800"/>
            </a:xfrm>
          </p:grpSpPr>
          <p:sp>
            <p:nvSpPr>
              <p:cNvPr id="246" name=""/>
              <p:cNvSpPr/>
              <p:nvPr/>
            </p:nvSpPr>
            <p:spPr>
              <a:xfrm>
                <a:off x="1933920" y="3543120"/>
                <a:ext cx="246600" cy="273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441440" y="3543120"/>
                <a:ext cx="246600" cy="273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687320" y="2995200"/>
                <a:ext cx="246600" cy="27360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687320" y="3269160"/>
                <a:ext cx="246600" cy="27396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687320" y="4363920"/>
                <a:ext cx="246600" cy="27360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687320" y="3543120"/>
                <a:ext cx="246600" cy="27360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687320" y="3817080"/>
                <a:ext cx="246600" cy="27324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933920" y="4090320"/>
                <a:ext cx="246600" cy="27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687320" y="4090320"/>
                <a:ext cx="246600" cy="27324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441440" y="4090320"/>
                <a:ext cx="246600" cy="27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195560" y="4090320"/>
                <a:ext cx="246600" cy="27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949680" y="4090320"/>
                <a:ext cx="245520" cy="27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080" y="4911120"/>
                <a:ext cx="246600" cy="27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080" y="4637520"/>
                <a:ext cx="246600" cy="27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080" y="3543120"/>
                <a:ext cx="246600" cy="273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179800" y="3543120"/>
                <a:ext cx="246600" cy="273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933920" y="2995200"/>
                <a:ext cx="246600" cy="273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03080" y="4363920"/>
                <a:ext cx="246600" cy="273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03080" y="4090320"/>
                <a:ext cx="246600" cy="27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03080" y="3817080"/>
                <a:ext cx="246600" cy="273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918520" y="1901160"/>
                <a:ext cx="245520" cy="27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918520" y="2174760"/>
                <a:ext cx="246600" cy="27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918520" y="2448000"/>
                <a:ext cx="246600" cy="273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918520" y="2721960"/>
                <a:ext cx="246600" cy="27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918520" y="2995200"/>
                <a:ext cx="246600" cy="273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671560" y="2995200"/>
                <a:ext cx="246600" cy="273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425680" y="2995200"/>
                <a:ext cx="246600" cy="275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179800" y="2995200"/>
                <a:ext cx="246600" cy="273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656160" y="2448000"/>
                <a:ext cx="247320" cy="273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410280" y="2448000"/>
                <a:ext cx="246600" cy="273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164400" y="2448000"/>
                <a:ext cx="246600" cy="273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671560" y="2448000"/>
                <a:ext cx="246600" cy="273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918520" y="1627560"/>
                <a:ext cx="246600" cy="273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902760" y="1627560"/>
                <a:ext cx="246600" cy="273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656160" y="1627560"/>
                <a:ext cx="247320" cy="273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410280" y="1627560"/>
                <a:ext cx="246600" cy="275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164400" y="1627560"/>
                <a:ext cx="246600" cy="273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Georgia"/>
              </a:rPr>
              <a:t>Кроссвор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rId3" action="ppaction://hlinksldjump"/>
          </p:cNvPr>
          <p:cNvSpPr/>
          <p:nvPr/>
        </p:nvSpPr>
        <p:spPr>
          <a:xfrm>
            <a:off x="8381880" y="63244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4495680" cy="8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Выбор сюжет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3733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cccc00"/>
                </a:solidFill>
                <a:latin typeface="Georgia"/>
              </a:rPr>
              <a:t>Наступила золотая пора. Художница-осень играет всеми цветами радуги. На одном дереве можно найти желтые, оранжевые, красные, лиловые листья. Это богатство красок и привлекает к себе художник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00"/>
                </a:solidFill>
                <a:latin typeface="Georgia"/>
              </a:rPr>
              <a:t>           </a:t>
            </a:r>
            <a:r>
              <a:rPr b="0" lang="en-US" sz="2000" spc="-1" strike="noStrike">
                <a:solidFill>
                  <a:srgbClr val="cccc00"/>
                </a:solidFill>
                <a:latin typeface="Georgia"/>
              </a:rPr>
              <a:t>Я предлагаю вам на время ими стать и изобразить осенний пейзаж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343400" y="1828800"/>
            <a:ext cx="43434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eec94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олотая осень.</a:t>
            </a:r>
            <a:endParaRPr b="0" lang="en-US" sz="1800" spc="1" strike="noStrike">
              <a:ln w="0">
                <a:noFill/>
              </a:ln>
              <a:solidFill>
                <a:srgbClr val="feec94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eec94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ра листопада.</a:t>
            </a:r>
            <a:endParaRPr b="0" lang="en-US" sz="1800" spc="1" strike="noStrike">
              <a:ln w="0">
                <a:noFill/>
              </a:ln>
              <a:solidFill>
                <a:srgbClr val="feec94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8" name=""/>
          <p:cNvSpPr/>
          <p:nvPr/>
        </p:nvSpPr>
        <p:spPr>
          <a:xfrm>
            <a:off x="8229600" y="60199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09480" y="1371600"/>
            <a:ext cx="701064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олотая осень.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ра листопада.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Monotype Corsiva"/>
              </a:rPr>
              <a:t>Положение альбомного ли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55627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ртикально                 Горизонта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219320" y="1828800"/>
            <a:ext cx="1981080" cy="2971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181480" y="2514600"/>
            <a:ext cx="2819520" cy="175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29600" y="60958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Карандашный наброс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685800" y="1523880"/>
            <a:ext cx="3505320" cy="472464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5105520" y="1523880"/>
            <a:ext cx="3504960" cy="47246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8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419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66"/>
                </a:solidFill>
                <a:latin typeface="Arial"/>
              </a:rPr>
              <a:t>Оформление в цвет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152280" y="3733920"/>
            <a:ext cx="2219400" cy="31240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5257800" y="228600"/>
            <a:ext cx="3257640" cy="22417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2438280" y="1447920"/>
            <a:ext cx="2433600" cy="34290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4952880" y="3505320"/>
            <a:ext cx="2098800" cy="304776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6"/>
          <a:stretch/>
        </p:blipFill>
        <p:spPr>
          <a:xfrm>
            <a:off x="7149960" y="2590920"/>
            <a:ext cx="1994040" cy="289548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8686800" y="64008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9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3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7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1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8000"/>
                            </p:stCondLst>
                            <p:childTnLst>
                              <p:par>
                                <p:cTn id="16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5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327672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Arial"/>
              </a:rPr>
              <a:t>Начало – голос птиц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Arial"/>
              </a:rPr>
              <a:t>Конец – на дне пр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Arial"/>
              </a:rPr>
              <a:t>А в целом, в муз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Arial"/>
              </a:rPr>
              <a:t>Найдете без тр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3962520" y="2298600"/>
            <a:ext cx="4227480" cy="37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866920" y="685440"/>
            <a:ext cx="3048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00"/>
                </a:solidFill>
                <a:latin typeface="Footlight MT Light"/>
              </a:rPr>
              <a:t>Сделайте набросо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6781680" y="4114800"/>
            <a:ext cx="1857600" cy="188604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304920" y="762120"/>
            <a:ext cx="5410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2743200" y="295200"/>
            <a:ext cx="4038480" cy="27259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533520" y="2590920"/>
            <a:ext cx="80010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урок !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Georgia"/>
              </a:rPr>
              <a:t>Рябцева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Georgia"/>
              </a:rPr>
              <a:t>Светлана Геннадье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952880" y="1752480"/>
            <a:ext cx="3722760" cy="48006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лянская основная ш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таж работы 8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категория 12 разря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Цели и 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Углубить умение изображать по памяти, по представлению и на основе наблюдений несложные сюжеты из окружающей жизни; учить передавать перспекти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Развивать умение достигать выразительности рисунка, передавать в нем свое отношение к явлению осени, листопада, свое настроение, чувство цв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Воспитывать художественный вкус, чувство ц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Искусство учит понимать и видеть прекрасное в мире и природе, открывает много нов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Если на картине художник изобразил природу во всем её великолепии и богатстве красок и форм, то значит, эта картина называется – пейза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2849400" cy="37339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2438280" y="609480"/>
            <a:ext cx="2772000" cy="36547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4267080" y="1219320"/>
            <a:ext cx="2898720" cy="3806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6400800" y="2286000"/>
            <a:ext cx="2743200" cy="38797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457840" y="1371600"/>
            <a:ext cx="15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fornian FB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>
            <a:off x="685800" y="4614840"/>
            <a:ext cx="190512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477120" y="380520"/>
            <a:ext cx="220968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onotype Corsiva"/>
              </a:rPr>
              <a:t>Заглянем</a:t>
            </a:r>
            <a:r>
              <a:rPr b="1" lang="en-US" sz="2400" spc="-1" strike="noStrike">
                <a:solidFill>
                  <a:srgbClr val="ffff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Monotype Corsiva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Monotype Corsiva"/>
              </a:rPr>
              <a:t>в </a:t>
            </a:r>
            <a:r>
              <a:rPr b="1" lang="en-US" sz="3200" spc="-1" strike="noStrike">
                <a:solidFill>
                  <a:srgbClr val="ffff00"/>
                </a:solidFill>
                <a:latin typeface="Monotype Corsiva"/>
              </a:rPr>
              <a:t>гости</a:t>
            </a:r>
            <a:r>
              <a:rPr b="1" lang="en-US" sz="2400" spc="-1" strike="noStrike">
                <a:solidFill>
                  <a:srgbClr val="ffff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Monotype Corsiva"/>
              </a:rPr>
              <a:t>           </a:t>
            </a:r>
            <a:r>
              <a:rPr b="1" lang="en-US" sz="2400" spc="-1" strike="noStrike">
                <a:solidFill>
                  <a:srgbClr val="ffff00"/>
                </a:solidFill>
                <a:latin typeface="Monotype Corsiva"/>
              </a:rPr>
              <a:t>к </a:t>
            </a:r>
            <a:r>
              <a:rPr b="1" lang="en-US" sz="3200" spc="-1" strike="noStrike">
                <a:solidFill>
                  <a:srgbClr val="ffff00"/>
                </a:solidFill>
                <a:latin typeface="Monotype Corsiva"/>
              </a:rPr>
              <a:t>осени</a:t>
            </a:r>
            <a:r>
              <a:rPr b="1" lang="en-US" sz="2400" spc="-1" strike="noStrike">
                <a:solidFill>
                  <a:srgbClr val="ffff00"/>
                </a:solidFill>
                <a:latin typeface="Monotype Corsiv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609480"/>
            <a:ext cx="2590920" cy="2057400"/>
          </a:xfrm>
          <a:prstGeom prst="verticalScroll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ступитель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бесе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81280" y="3276720"/>
            <a:ext cx="2057400" cy="2057400"/>
          </a:xfrm>
          <a:prstGeom prst="verticalScroll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або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исун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400800" y="914400"/>
            <a:ext cx="2057400" cy="2057400"/>
          </a:xfrm>
          <a:prstGeom prst="verticalScroll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тог уро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ыстав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аб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86" idx="2"/>
            <a:endCxn id="187" idx="1"/>
          </p:cNvCxnSpPr>
          <p:nvPr/>
        </p:nvCxnSpPr>
        <p:spPr>
          <a:xfrm flipH="1" rot="16200000">
            <a:off x="1975320" y="2442600"/>
            <a:ext cx="1639080" cy="208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187" idx="3"/>
            <a:endCxn id="188" idx="2"/>
          </p:cNvCxnSpPr>
          <p:nvPr/>
        </p:nvCxnSpPr>
        <p:spPr>
          <a:xfrm flipV="1">
            <a:off x="5381280" y="2971440"/>
            <a:ext cx="2048760" cy="1334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"/>
          <p:cNvCxnSpPr>
            <a:stCxn id="186" idx="2"/>
            <a:endCxn id="186" idx="2"/>
          </p:cNvCxnSpPr>
          <p:nvPr/>
        </p:nvCxnSpPr>
        <p:spPr>
          <a:xfrm>
            <a:off x="1752120" y="26665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7518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«вересень», «вресен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5410080"/>
            <a:ext cx="8077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За то, что первый месяц осени лето провожает - прозвали сентябрь в народе «летопроводцем», за то, что лист в это время падает – «листопадником»: 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«</a:t>
            </a:r>
            <a:r>
              <a:rPr b="1" i="1" lang="en-US" sz="2400" spc="-1" strike="noStrike">
                <a:solidFill>
                  <a:srgbClr val="ffffff"/>
                </a:solidFill>
                <a:latin typeface="Monotype Corsiva"/>
              </a:rPr>
              <a:t>В сентябре и лист на дереве не держится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57200" y="304920"/>
            <a:ext cx="1585800" cy="10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our User Name</cp:lastModifiedBy>
  <dcterms:modified xsi:type="dcterms:W3CDTF">2008-06-01T11:52:21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