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33.gif" ContentType="image/gif"/>
  <Override PartName="/ppt/media/image28.jpeg" ContentType="image/jpeg"/>
  <Override PartName="/ppt/media/image12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gif" ContentType="image/gif"/>
  <Override PartName="/ppt/media/image36.png" ContentType="image/png"/>
  <Override PartName="/ppt/media/image6.png" ContentType="image/png"/>
  <Override PartName="/ppt/media/image14.wmf" ContentType="image/x-wmf"/>
  <Override PartName="/ppt/media/image11.gif" ContentType="image/gif"/>
  <Override PartName="/ppt/media/image5.jpeg" ContentType="image/jpeg"/>
  <Override PartName="/ppt/media/image18.wmf" ContentType="image/x-wmf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wmf" ContentType="image/x-wmf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B7C-672C-470D-A514-F85B679B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954-9212-4641-A077-E0CE9049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BB0-0794-47A2-8A35-9B1A2FE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682-F834-4D11-B08F-7379DEB5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AE74-7431-4E4D-8330-9FF75543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9268-214A-49B5-A897-66405C00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3508-EAA9-42D2-8BF9-9DEEB1DE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655E-4170-4A50-8BDB-E7EABEC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2381-51D4-4128-94B0-824B1A6E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258D-E60F-4F61-B4AB-9FED02C3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BB26-D49A-429F-A302-C7F80DAF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757-8C84-4077-925E-B7CEB93B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FCE7-FEE1-41FE-B49E-2C28888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B8E0-84B9-446F-8B72-7670155E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8D5C-7ECE-4A17-9939-4DB427B7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2E74-7FF6-4727-BCFD-91E5EA15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FC60-0B0C-4491-8A0A-6AAC091D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38CE-358B-42A7-A085-5D7CD019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CD14-0ACC-4C0B-B5BD-7D8A452C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59E0-FC02-4AD7-BE2B-0E19ED68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E44A-B9C2-43F5-9DE4-93BCCA50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07AB-BFE1-4A82-96EE-9B86B64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29D-DAAA-4141-83F7-E38FCBEA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CD29-64AE-4FB7-B66D-51698110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AB8F-997B-4BB2-8CBF-5600B922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1CD7-426A-4D37-AF89-1140E26C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4D75-875F-4DAA-BD4C-E1DBE45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AEAB-F14F-4143-9AE5-B6D29979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1690-6E91-4B33-8FFF-714679CA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62A6-7D38-41B1-BD69-C6607434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B9C-CC52-4746-B9B5-FABFB764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327-5FB8-4EA1-86DA-DCA3D921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385-E4E4-4709-B1ED-D81C78E2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7A8-83F9-4E18-A1B3-8C930C7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48E-CB6B-45B5-B4EA-5ABE223F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462-9FEC-49BE-91D4-6F13E4B0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8EB-241C-4212-8445-2CE44AEAD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53EB-C89C-4163-8A5A-4F4232782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E799-89E9-49EE-8C03-8BB18BB14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5;&#1088;&#1077;&#1079;&#1077;&#1085;&#1090;&#1072;&#1094;&#1080;&#1103;%20&#1091;&#1088;&#1086;&#1082;&#1072;%20&#1088;&#1080;&#1089;&#1086;&#1074;&#1072;&#1085;&#1080;&#1103;.ppt" TargetMode="External"/><Relationship Id="rId3" Type="http://schemas.openxmlformats.org/officeDocument/2006/relationships/hyperlink" Target="file:///&#1055;&#1088;&#1077;&#1079;&#1077;&#1085;&#1090;&#1072;&#1094;&#1080;&#1103;%20&#1091;&#1088;&#1086;&#1082;&#1072;%20&#1088;&#1080;&#1089;&#1086;&#1074;&#1072;&#1085;&#1080;&#1103;.ppt" TargetMode="External"/><Relationship Id="rId4" Type="http://schemas.openxmlformats.org/officeDocument/2006/relationships/hyperlink" Target="file:///&#1055;&#1088;&#1077;&#1079;&#1077;&#1085;&#1090;&#1072;&#1094;&#1080;&#1103;%20&#1091;&#1088;&#1086;&#1082;&#1072;%20&#1088;&#1080;&#1089;&#1086;&#1074;&#1072;&#1085;&#1080;&#1103;.ppt" TargetMode="External"/><Relationship Id="rId5" Type="http://schemas.openxmlformats.org/officeDocument/2006/relationships/slide" Target="slide1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«октобер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Октябрь – первый суровый месяц осени, когда властвуют холодные северо-восточные ветры, начинаются заморозки; идет мокрый снег и дождь,</a:t>
            </a: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потому он ещё и </a:t>
            </a:r>
            <a:r>
              <a:rPr b="1" lang="en-US" sz="2800" spc="-1" strike="noStrike">
                <a:solidFill>
                  <a:srgbClr val="ffffcc"/>
                </a:solidFill>
                <a:latin typeface="Informal Roman"/>
              </a:rPr>
              <a:t>предзимье, позимник.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898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«новемб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4" marL="185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Monotype Corsiv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оябрь – месяц первых заморозков и снега – зазимье, предзимье: с утра может дождь дождить, а к вечеру сугробами снег ле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28600"/>
            <a:ext cx="1981080" cy="1447920"/>
          </a:xfrm>
          <a:custGeom>
            <a:avLst/>
            <a:gdLst>
              <a:gd name="textAreaLeft" fmla="*/ 170640 w 1981080"/>
              <a:gd name="textAreaRight" fmla="*/ 1810440 w 198108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295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952" y="21600"/>
                </a:lnTo>
                <a:arcTo wR="3600" hR="3600" stAng="10800000" swAng="5400000"/>
                <a:lnTo>
                  <a:pt x="29552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форм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ц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514600"/>
            <a:ext cx="2514600" cy="1752480"/>
          </a:xfrm>
          <a:prstGeom prst="bevel">
            <a:avLst>
              <a:gd name="adj" fmla="val 12500"/>
            </a:avLst>
          </a:prstGeom>
          <a:solidFill>
            <a:srgbClr val="3333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кар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04920"/>
            <a:ext cx="1981080" cy="1447560"/>
          </a:xfrm>
          <a:custGeom>
            <a:avLst/>
            <a:gdLst>
              <a:gd name="textAreaLeft" fmla="*/ 170280 w 1981080"/>
              <a:gd name="textAreaRight" fmla="*/ 1810800 w 198108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2955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959" y="21600"/>
                </a:lnTo>
                <a:arcTo wR="3600" hR="3600" stAng="10800000" swAng="5400000"/>
                <a:lnTo>
                  <a:pt x="29559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утеше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 музе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666880"/>
            <a:ext cx="1904760" cy="1600200"/>
          </a:xfrm>
          <a:custGeom>
            <a:avLst/>
            <a:gdLst>
              <a:gd name="textAreaLeft" fmla="*/ 188280 w 1904760"/>
              <a:gd name="textAreaRight" fmla="*/ 1716480 w 1904760"/>
              <a:gd name="textAreaTop" fmla="*/ 188280 h 1600200"/>
              <a:gd name="textAreaBottom" fmla="*/ 1411920 h 1600200"/>
            </a:gdLst>
            <a:ahLst/>
            <a:rect l="textAreaLeft" t="textAreaTop" r="textAreaRight" b="textAreaBottom"/>
            <a:pathLst>
              <a:path w="2571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0" y="21600"/>
                </a:lnTo>
                <a:arcTo wR="3600" hR="3600" stAng="10800000" swAng="5400000"/>
                <a:lnTo>
                  <a:pt x="25710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рос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029200"/>
            <a:ext cx="1981440" cy="1523880"/>
          </a:xfrm>
          <a:custGeom>
            <a:avLst/>
            <a:gdLst>
              <a:gd name="textAreaLeft" fmla="*/ 179280 w 1981440"/>
              <a:gd name="textAreaRight" fmla="*/ 1802160 w 1981440"/>
              <a:gd name="textAreaTop" fmla="*/ 179280 h 1523880"/>
              <a:gd name="textAreaBottom" fmla="*/ 1344600 h 1523880"/>
            </a:gdLst>
            <a:ahLst/>
            <a:rect l="textAreaLeft" t="textAreaTop" r="textAreaRight" b="textAreaBottom"/>
            <a:pathLst>
              <a:path w="280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484" y="21600"/>
                </a:lnTo>
                <a:arcTo wR="3600" hR="3600" stAng="10800000" swAng="5400000"/>
                <a:lnTo>
                  <a:pt x="28084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ю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952880"/>
            <a:ext cx="1905120" cy="1600200"/>
          </a:xfrm>
          <a:custGeom>
            <a:avLst/>
            <a:gdLst>
              <a:gd name="textAreaLeft" fmla="*/ 188280 w 1905120"/>
              <a:gd name="textAreaRight" fmla="*/ 1716840 w 1905120"/>
              <a:gd name="textAreaTop" fmla="*/ 188280 h 1600200"/>
              <a:gd name="textAreaBottom" fmla="*/ 1411920 h 1600200"/>
            </a:gdLst>
            <a:ahLst/>
            <a:rect l="textAreaLeft" t="textAreaTop" r="textAreaRight" b="textAreaBottom"/>
            <a:pathLst>
              <a:path w="2571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5" y="21600"/>
                </a:lnTo>
                <a:arcTo wR="3600" hR="3600" stAng="10800000" swAng="5400000"/>
                <a:lnTo>
                  <a:pt x="25715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ож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2743200"/>
            <a:ext cx="2057400" cy="1676520"/>
          </a:xfrm>
          <a:custGeom>
            <a:avLst/>
            <a:gdLst>
              <a:gd name="textAreaLeft" fmla="*/ 197280 w 2057400"/>
              <a:gd name="textAreaRight" fmla="*/ 1860120 w 205740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65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906" y="21600"/>
                </a:lnTo>
                <a:arcTo wR="3600" hR="3600" stAng="10800000" swAng="5400000"/>
                <a:lnTo>
                  <a:pt x="26506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рандаш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набро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17524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0400" y="426672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410080" y="4266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6920" y="32763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10516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1600200" y="838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6" action="ppaction://hlinksldjump"/>
          </p:cNvPr>
          <p:cNvSpPr/>
          <p:nvPr/>
        </p:nvSpPr>
        <p:spPr>
          <a:xfrm>
            <a:off x="380880" y="3352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57150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5486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352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762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3657600"/>
            <a:ext cx="304560" cy="152280"/>
          </a:xfrm>
          <a:custGeom>
            <a:avLst/>
            <a:gdLst>
              <a:gd name="textAreaLeft" fmla="*/ 9720 w 304560"/>
              <a:gd name="textAreaRight" fmla="*/ 294840 w 3045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53280" cy="6313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6094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Заглянем в музей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457280" y="1273320"/>
            <a:ext cx="62308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 Шишкин «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575080" y="380880"/>
            <a:ext cx="4168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5638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.Поленов «Золотая 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00"/>
                </a:solidFill>
                <a:latin typeface="Arial"/>
              </a:rPr>
              <a:t>Осень – любимая пора А.С. Пушк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Monotype Corsiva"/>
              </a:rPr>
              <a:t>&lt;…&gt;</a:t>
            </a: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Унылая пора! Очей очарован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Приятна мне твоя прощальная крас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Люблю я пышное природы увяда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В багрец и в золото одетые леса, </a:t>
            </a:r>
            <a:r>
              <a:rPr b="0" lang="en-US" sz="2400" spc="-1" strike="noStrike">
                <a:solidFill>
                  <a:srgbClr val="800000"/>
                </a:solidFill>
                <a:latin typeface="Monotype Corsiva"/>
              </a:rPr>
              <a:t>&lt;…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А. Пушкин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795920" y="1523880"/>
            <a:ext cx="3967200" cy="472464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845820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10080" y="1599840"/>
            <a:ext cx="3276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По горизонтали: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1. Растут – зеленеют,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Упадут – пожелтеют,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Полежат – почернеют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2. Голубая простыня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Весь свет покрывает.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3. Меня ждут – не дождутся,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А как завидят – разбегутся.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4.  Лети, а не птица,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 Воет, а не зверь.</a:t>
            </a:r>
            <a:br>
              <a:rPr sz="1600"/>
            </a:br>
            <a:br>
              <a:rPr sz="1600"/>
            </a:b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Georgia"/>
              </a:rPr>
              <a:t>По вертикали: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1. Светит, сверкает,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    Всех согревает.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2. Пусты поля,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    Мокнет земля,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    Дождь поливает.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     Когда это бывает?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3.  Рук много, а нога одн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3080" y="1627560"/>
            <a:ext cx="3446280" cy="3556800"/>
            <a:chOff x="703080" y="1627560"/>
            <a:chExt cx="3446280" cy="3556800"/>
          </a:xfrm>
        </p:grpSpPr>
        <p:grpSp>
          <p:nvGrpSpPr>
            <p:cNvPr id="245" name=""/>
            <p:cNvGrpSpPr/>
            <p:nvPr/>
          </p:nvGrpSpPr>
          <p:grpSpPr>
            <a:xfrm>
              <a:off x="703080" y="1627560"/>
              <a:ext cx="3446280" cy="3556800"/>
              <a:chOff x="703080" y="1627560"/>
              <a:chExt cx="3446280" cy="3556800"/>
            </a:xfrm>
          </p:grpSpPr>
          <p:sp>
            <p:nvSpPr>
              <p:cNvPr id="246" name=""/>
              <p:cNvSpPr/>
              <p:nvPr/>
            </p:nvSpPr>
            <p:spPr>
              <a:xfrm>
                <a:off x="1933920" y="35431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41440" y="35431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87320" y="2995200"/>
                <a:ext cx="246600" cy="2736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687320" y="3269160"/>
                <a:ext cx="246600" cy="2739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687320" y="4363920"/>
                <a:ext cx="246600" cy="2736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87320" y="3543120"/>
                <a:ext cx="246600" cy="2736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87320" y="3817080"/>
                <a:ext cx="246600" cy="27324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920" y="40903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687320" y="4090320"/>
                <a:ext cx="246600" cy="27324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441440" y="40903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95560" y="40903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49680" y="4090320"/>
                <a:ext cx="24552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080" y="49111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080" y="46375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080" y="35431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79800" y="35431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33920" y="29952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3080" y="43639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3080" y="40903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3080" y="3817080"/>
                <a:ext cx="246600" cy="27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18520" y="1901160"/>
                <a:ext cx="24552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18520" y="217476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18520" y="24480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18520" y="272196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18520" y="29952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71560" y="29952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5680" y="2995200"/>
                <a:ext cx="246600" cy="27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79800" y="29952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56160" y="2448000"/>
                <a:ext cx="24732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10280" y="24480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4400" y="24480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71560" y="24480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18520" y="162756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02760" y="162756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56160" y="1627560"/>
                <a:ext cx="24732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10280" y="1627560"/>
                <a:ext cx="246600" cy="27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400" y="162756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Georgia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8381880" y="6324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49568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Выбор сюжет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cccc00"/>
                </a:solidFill>
                <a:latin typeface="Georgia"/>
              </a:rPr>
              <a:t>Наступила золотая пора. Художница-осень играет всеми цветами радуги. На одном дереве можно найти желтые, оранжевые, красные, лиловые листья. Это богатство красок и привлекает к себе художни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Georgia"/>
              </a:rPr>
              <a:t>           </a:t>
            </a:r>
            <a:r>
              <a:rPr b="0" lang="en-US" sz="2000" spc="-1" strike="noStrike">
                <a:solidFill>
                  <a:srgbClr val="cccc00"/>
                </a:solidFill>
                <a:latin typeface="Georgia"/>
              </a:rPr>
              <a:t>Я предлагаю вам на время ими стать и изобразить осенний пейзаж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343400" y="1828800"/>
            <a:ext cx="4343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eec94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ая осень.</a:t>
            </a:r>
            <a:endParaRPr b="0" lang="en-US" sz="1800" spc="1" strike="noStrike">
              <a:ln w="0">
                <a:noFill/>
              </a:ln>
              <a:solidFill>
                <a:srgbClr val="feec94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eec94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а листопада.</a:t>
            </a:r>
            <a:endParaRPr b="0" lang="en-US" sz="1800" spc="1" strike="noStrike">
              <a:ln w="0">
                <a:noFill/>
              </a:ln>
              <a:solidFill>
                <a:srgbClr val="feec94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/>
          <p:nvPr/>
        </p:nvSpPr>
        <p:spPr>
          <a:xfrm>
            <a:off x="82296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480" y="1371600"/>
            <a:ext cx="70106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ая осень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а листопада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Monotype Corsiva"/>
              </a:rPr>
              <a:t>Положение альбомного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тикально                 Горизонт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1828800"/>
            <a:ext cx="198108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2514600"/>
            <a:ext cx="281952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2960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Карандашный набро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505320" cy="47246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04960" cy="47246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"/>
              </a:rPr>
              <a:t>Оформление в цве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52280" y="3733920"/>
            <a:ext cx="2219400" cy="3124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257640" cy="2241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38280" y="1447920"/>
            <a:ext cx="2433600" cy="3429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4952880" y="3505320"/>
            <a:ext cx="2098800" cy="30477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149960" y="2590920"/>
            <a:ext cx="1994040" cy="2895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32767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Начало – голос пти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Конец – на дне п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А в целом, в муз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Найдете без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62520" y="2298600"/>
            <a:ext cx="42274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866920" y="685440"/>
            <a:ext cx="3048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Footlight MT Light"/>
              </a:rPr>
              <a:t>Сделайте наброс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857600" cy="1886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5410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743200" y="295200"/>
            <a:ext cx="4038480" cy="2725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533520" y="2590920"/>
            <a:ext cx="8001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 !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Рябцева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Светлана Геннад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722760" cy="4800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янская основ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ж работы 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категория 12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Углубить умение изображать по памяти, по представлению и на основе наблюдений несложные сюжеты из окружающей жизни; учить передавать перспект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Развивать умение достигать выразительности рисунка, передавать в нем свое отношение к явлению осени, листопада, свое настроение, чувств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оспитывать художественный вкус, чувств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Искусство учит понимать и видеть прекрасное в мире и природе, открывает много н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Если на картине художник изобразил природу во всем её великолепии и богатстве красок и форм, то значит, эта картина называется – пейз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849400" cy="3733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38280" y="609480"/>
            <a:ext cx="2772000" cy="3654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2898720" cy="380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400800" y="2286000"/>
            <a:ext cx="2743200" cy="3879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457840" y="1371600"/>
            <a:ext cx="1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85800" y="4614840"/>
            <a:ext cx="19051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77120" y="380520"/>
            <a:ext cx="22096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Заглянем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в </a:t>
            </a: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гости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к </a:t>
            </a: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осени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609480"/>
            <a:ext cx="2590920" cy="2057400"/>
          </a:xfrm>
          <a:prstGeom prst="verticalScrol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ступи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3276720"/>
            <a:ext cx="2057400" cy="2057400"/>
          </a:xfrm>
          <a:prstGeom prst="verticalScrol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ун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914400"/>
            <a:ext cx="2057400" cy="2057400"/>
          </a:xfrm>
          <a:prstGeom prst="verticalScrol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ста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6" idx="2"/>
            <a:endCxn id="187" idx="1"/>
          </p:cNvCxnSpPr>
          <p:nvPr/>
        </p:nvCxnSpPr>
        <p:spPr>
          <a:xfrm flipH="1" rot="16200000">
            <a:off x="1975320" y="2442600"/>
            <a:ext cx="1639080" cy="208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7" idx="3"/>
            <a:endCxn id="188" idx="2"/>
          </p:cNvCxnSpPr>
          <p:nvPr/>
        </p:nvCxnSpPr>
        <p:spPr>
          <a:xfrm flipV="1">
            <a:off x="5381280" y="2971440"/>
            <a:ext cx="2048760" cy="13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6" idx="2"/>
            <a:endCxn id="186" idx="2"/>
          </p:cNvCxnSpPr>
          <p:nvPr/>
        </p:nvCxnSpPr>
        <p:spPr>
          <a:xfrm>
            <a:off x="1752120" y="2666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вересень», «врес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За то, что первый месяц осени лето провожает - прозвали сентябрь в народе «летопроводцем», за то, что лист в это время падает – «листопадником»: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Monotype Corsiva"/>
              </a:rPr>
              <a:t>В сентябре и лист на дереве не держится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58580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8-06-01T11:52:2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