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5FF-DCB1-4973-91C1-D3B19078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5CE-71CB-46F8-8A82-A70157E8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571-878F-4ECE-8F96-6A458D1D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672-04DE-4CB6-BEF4-0B6E8626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9807-1193-401E-8E50-DF2D22AE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B83F-9D41-4FFA-9D67-CC873A7A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9A32-92B7-45B8-A3F6-0BECD2BB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6844-18C5-4D7F-88BB-393B3C46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B116-03D8-450A-BF61-7C6AA9B6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01AA-5BE3-4F23-AF29-F1260867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F151-C885-4CD6-8B4E-35E75D9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8FA-3B0C-4DD6-918E-9DA7AE28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D080-D624-42E8-B15C-189A41D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6447-D6C5-41EB-BCF2-5C80035F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C73C-7933-41B6-8297-8B1353A8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FB2F-4E48-47E4-8D42-2B545B3C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F2F5-29A2-4CC8-8598-2A3FADB2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C4D-6E8B-4B56-9FBC-171FC832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357-39FB-44F2-9354-9FA6187B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52F-3660-419C-B21A-01481A85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06B-4498-41D0-80C9-0AACF6A5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B0A-BB6B-4951-A8F7-18B5BA7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4B9-3568-40BE-B8BB-1C6C9842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626-42CD-4358-85A3-30482BCD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F8D2-CC5A-429A-81C5-5282DB14749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C5D3-4D73-4D42-BFEE-396C3DF466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бразовательная технолог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«Разви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для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мыслительн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99125"/>
          <p:cNvPicPr/>
          <p:nvPr/>
        </p:nvPicPr>
        <p:blipFill>
          <a:blip r:embed="rId1"/>
          <a:stretch/>
        </p:blipFill>
        <p:spPr>
          <a:xfrm>
            <a:off x="5940360" y="2421000"/>
            <a:ext cx="18144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Синквейн (от англ. «путь мысли»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Одно слово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ительное или местоимение, обозначающее предмет, о котором идё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Два слова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агательные или причастия, описывающие признаки и свойства выбранн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Три слова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ы, обозначающие совершаемые предметом или объектом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Фраза из четырёх слов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ает личное отношение автора к предмету или объ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Одно слово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зует суть предмета или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синквейн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и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етливый, криклив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ясняет, объясняет и жд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гда окончится эта пыт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ола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Пример синквейн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шевный, открыт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ящий, идущий, думаю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 идей – мал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з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игза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делится на четверки, которые меняются на каждом уроке, с тем, чтобы возникали неожиданные новые комбинации. Затем ребятам предлагается рассчитаться на 1, 2, 3, 4, таким образом у каждого члена группы появляется свой но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этого учитель предлагает школьникам обратиться к материалу урока, это может быть параграф учебника, статья, отдельно отпечатанный материал, задачи по определенной теме. Кратко обсуждается тема, ставится задача – разобраться в данном материале, к концу урока каждый член группы должен понять тему. Однако растолковывать ее друг другу ученики будут по частям, в результате чего группа и сможет понять ее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ь материал данного урока делится на четыре части. Первые номера каждой группы будут отвечать за первую часть, вторые – за вторую и так далее. Как только все поняли, ученики рассаживаются иначе: все первые номера собираются вместе, вторые тоже и т. д. Теперь это уже экспертные группы; их задача: изучить материал, обсудить его и объяснить своим партнерам по учению в групп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го состава. По завершении работы формируются новые группы, в составе которых есть учащиеся с номерами 1, 2, 3,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екция со «стопам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екция читается «дозированно». После каждой смысловой части делается остановка, идет обсуждение проблемного вопроса, поиск коллективного ответа на основной вопрос или выполняется групповое или индивидуальное зад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есурсы Интерне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международного журнала о критическом мышлении «Перем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Ct – net.net/ru/rwct_tcp_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стиваль педагогически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estiv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eptember.ru/2004_2005/index.php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subjec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ета «Первое сентябр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s/1september.ru/newspaper.php&amp;year=2004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num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http://kmspb.narod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812f"/>
                </a:solidFill>
                <a:latin typeface="Garamond"/>
              </a:rPr>
              <a:t>Критическое мышление -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о открытое оценочное мышление, не принимающее догм и развивающееся путём наложения новой информации на личный опыт. Технология рассчитана не на запоминание, а на вдумчивый творческий процесс познания мира, учитывая его многополяр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Структура построения урок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57120" y="1071720"/>
          <a:ext cx="8229600" cy="5265720"/>
        </p:xfrm>
        <a:graphic>
          <a:graphicData uri="http://schemas.openxmlformats.org/drawingml/2006/table">
            <a:tbl>
              <a:tblPr/>
              <a:tblGrid>
                <a:gridCol w="2170080"/>
                <a:gridCol w="60595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Стад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Содерж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я позволя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ть и обобщить имеющиеся у ученика зн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вать устойчивый интерес к изучаемой теме, мотивировать ученика к учебной деятель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мыс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я позволя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ить новую информацию, осмыслить её, соотнести с уже имеющимися знан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я позволя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ить полученную информ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ть у каждого ученика собственное отношение к изучаемому материал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екоторые приёмы развития критического мыш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тер («гроздь») – графический приём систематизации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ерные, неверные высказы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«Верите ли вы?» или «Дан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ометки на полях» (ИНСЕРТ) – использование ряда маркировочных знаков, которые ставятся на полях по мере чтения текста (активное чт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сание синквейна – в кратких выражениях резюмируется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рзина ид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Зигзаг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метки на полях (инсерт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8760" y="857160"/>
          <a:ext cx="8229600" cy="514368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51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алочка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 –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ся в тексте информация, которая уже известна ученику. При этом источник информации и степень достоверности её не имеет значения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ся новое знание, новая информация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ся то, что идёт вразрез с имеющимися представлениями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ся то, что осталось непонятным и требует дополнительных сведений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Условные обознач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«</a:t>
            </a:r>
            <a:r>
              <a:rPr b="0" i="1" lang="en-US" sz="3600" spc="-1" strike="noStrike">
                <a:solidFill>
                  <a:srgbClr val="3b812f"/>
                </a:solidFill>
                <a:latin typeface="Arial"/>
              </a:rPr>
              <a:t> v</a:t>
            </a: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 »  </a:t>
            </a:r>
            <a:r>
              <a:rPr b="0" i="1" lang="ru-RU" sz="3600" spc="-1" strike="noStrike">
                <a:solidFill>
                  <a:srgbClr val="cc9900"/>
                </a:solidFill>
                <a:latin typeface="Arial"/>
              </a:rPr>
              <a:t>-  я это уже 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« + »  </a:t>
            </a:r>
            <a:r>
              <a:rPr b="0" i="1" lang="ru-RU" sz="3600" spc="-1" strike="noStrike">
                <a:solidFill>
                  <a:srgbClr val="cc9900"/>
                </a:solidFill>
                <a:latin typeface="Arial"/>
              </a:rPr>
              <a:t>- новое для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« -  »  </a:t>
            </a:r>
            <a:r>
              <a:rPr b="0" i="1" lang="ru-RU" sz="3600" spc="-1" strike="noStrike">
                <a:solidFill>
                  <a:srgbClr val="cc9900"/>
                </a:solidFill>
                <a:latin typeface="Arial"/>
              </a:rPr>
              <a:t>- думал ина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« ? »  </a:t>
            </a:r>
            <a:r>
              <a:rPr b="0" i="1" lang="ru-RU" sz="3600" spc="-1" strike="noStrike">
                <a:solidFill>
                  <a:srgbClr val="cc9900"/>
                </a:solidFill>
                <a:latin typeface="Arial"/>
              </a:rPr>
              <a:t>- есть вопросы, нужна дополнитель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рзина (идей, понятий, имён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еник записывает в тетради всё, что ему известно по пробле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мен информацией в парах или групп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зывание по кругу сведений, фа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итель записывает всё на доске (правильные и неправильные версии, без комментарие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вязывание в логические цепи, исправление ошибок по мере усвоения новой информ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рафические организаторы (кластеры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ить главные смысловые единицы в виде ключевого слова или словосочетания (тем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ить связанные с ключевыми словами смысловые единицы (категории информаци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кретизировать категории мнениями и фактами, которые содержатся в осваиваемой информ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класте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3635280" y="3068640"/>
            <a:ext cx="2232000" cy="1274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 flipV="1">
            <a:off x="5508720" y="278100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6300720" y="2133720"/>
            <a:ext cx="1324080" cy="1019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2916360" y="292428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3"/>
          <p:cNvSpPr/>
          <p:nvPr/>
        </p:nvSpPr>
        <p:spPr>
          <a:xfrm>
            <a:off x="1619280" y="2205000"/>
            <a:ext cx="1258920" cy="954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36352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5"/>
          <p:cNvSpPr/>
          <p:nvPr/>
        </p:nvSpPr>
        <p:spPr>
          <a:xfrm>
            <a:off x="6084720" y="4149720"/>
            <a:ext cx="1562400" cy="1057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5435640" y="4076640"/>
            <a:ext cx="64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8"/>
          <p:cNvSpPr/>
          <p:nvPr/>
        </p:nvSpPr>
        <p:spPr>
          <a:xfrm>
            <a:off x="1908000" y="4149720"/>
            <a:ext cx="127476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 flipH="1">
            <a:off x="3131640" y="400536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1"/>
          <p:cNvSpPr/>
          <p:nvPr/>
        </p:nvSpPr>
        <p:spPr>
          <a:xfrm>
            <a:off x="1116000" y="530064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468360" y="443700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5"/>
          <p:cNvSpPr/>
          <p:nvPr/>
        </p:nvSpPr>
        <p:spPr>
          <a:xfrm flipH="1">
            <a:off x="1692360" y="4941720"/>
            <a:ext cx="3585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6"/>
          <p:cNvSpPr/>
          <p:nvPr/>
        </p:nvSpPr>
        <p:spPr>
          <a:xfrm>
            <a:off x="2627280" y="537372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7"/>
          <p:cNvSpPr/>
          <p:nvPr/>
        </p:nvSpPr>
        <p:spPr>
          <a:xfrm>
            <a:off x="2700360" y="5084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8"/>
          <p:cNvSpPr/>
          <p:nvPr/>
        </p:nvSpPr>
        <p:spPr>
          <a:xfrm>
            <a:off x="5724360" y="5373720"/>
            <a:ext cx="69876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9"/>
          <p:cNvSpPr/>
          <p:nvPr/>
        </p:nvSpPr>
        <p:spPr>
          <a:xfrm>
            <a:off x="7524720" y="537372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0"/>
          <p:cNvSpPr/>
          <p:nvPr/>
        </p:nvSpPr>
        <p:spPr>
          <a:xfrm flipH="1">
            <a:off x="6156360" y="515772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1"/>
          <p:cNvSpPr/>
          <p:nvPr/>
        </p:nvSpPr>
        <p:spPr>
          <a:xfrm>
            <a:off x="7380360" y="5157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2"/>
          <p:cNvSpPr/>
          <p:nvPr/>
        </p:nvSpPr>
        <p:spPr>
          <a:xfrm>
            <a:off x="539640" y="2276640"/>
            <a:ext cx="698760" cy="712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4"/>
          <p:cNvSpPr/>
          <p:nvPr/>
        </p:nvSpPr>
        <p:spPr>
          <a:xfrm flipH="1" flipV="1">
            <a:off x="1187280" y="2637000"/>
            <a:ext cx="43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5"/>
          <p:cNvSpPr/>
          <p:nvPr/>
        </p:nvSpPr>
        <p:spPr>
          <a:xfrm flipH="1">
            <a:off x="1115640" y="4653000"/>
            <a:ext cx="865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6"/>
          <p:cNvSpPr/>
          <p:nvPr/>
        </p:nvSpPr>
        <p:spPr>
          <a:xfrm>
            <a:off x="3492360" y="1989000"/>
            <a:ext cx="698760" cy="698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7"/>
          <p:cNvSpPr/>
          <p:nvPr/>
        </p:nvSpPr>
        <p:spPr>
          <a:xfrm flipV="1">
            <a:off x="2843280" y="227628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8"/>
          <p:cNvSpPr/>
          <p:nvPr/>
        </p:nvSpPr>
        <p:spPr>
          <a:xfrm>
            <a:off x="971640" y="62064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9"/>
          <p:cNvSpPr/>
          <p:nvPr/>
        </p:nvSpPr>
        <p:spPr>
          <a:xfrm flipH="1" flipV="1">
            <a:off x="1402920" y="1341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0"/>
          <p:cNvSpPr/>
          <p:nvPr/>
        </p:nvSpPr>
        <p:spPr>
          <a:xfrm>
            <a:off x="7885080" y="907920"/>
            <a:ext cx="698400" cy="698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1"/>
          <p:cNvSpPr/>
          <p:nvPr/>
        </p:nvSpPr>
        <p:spPr>
          <a:xfrm flipV="1">
            <a:off x="7380360" y="155700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2"/>
          <p:cNvSpPr/>
          <p:nvPr/>
        </p:nvSpPr>
        <p:spPr>
          <a:xfrm>
            <a:off x="8101080" y="206064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3"/>
          <p:cNvSpPr/>
          <p:nvPr/>
        </p:nvSpPr>
        <p:spPr>
          <a:xfrm>
            <a:off x="7596360" y="2492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8:06:46Z</dcterms:created>
  <dc:creator>hhh</dc:creator>
  <dc:description/>
  <dc:language>en-US</dc:language>
  <cp:lastModifiedBy>дети</cp:lastModifiedBy>
  <dcterms:modified xsi:type="dcterms:W3CDTF">2010-10-20T14:08:32Z</dcterms:modified>
  <cp:revision>14</cp:revision>
  <dc:subject/>
  <dc:title>Пометки на полях. И. Н. С. Е. Р. Т.</dc:title>
</cp:coreProperties>
</file>