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1.jpeg" ContentType="image/jpeg"/>
  <Override PartName="/ppt/media/image29.png" ContentType="image/png"/>
  <Override PartName="/ppt/media/image36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3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5.jpeg" ContentType="image/jpeg"/>
  <Override PartName="/ppt/media/image35.png" ContentType="image/png"/>
  <Override PartName="/ppt/media/image6.png" ContentType="image/png"/>
  <Override PartName="/ppt/media/image31.png" ContentType="image/png"/>
  <Override PartName="/ppt/media/image42.png" ContentType="image/png"/>
  <Override PartName="/ppt/media/image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8A0-F49E-433A-A1CB-410A6055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DBD-1AD5-4941-939F-6A1F66B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BF527-61DD-4D58-9DF5-3B84782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22421-7354-4812-8D8F-5BC45A1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3E483-8BEA-4E5A-BB41-9419F8CF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F839F-1DEF-4BE6-BD2F-14DFBEC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AD45E-266E-4980-BF2F-F1150FA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ABCC6-9232-4AFD-8F72-29296780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9EB99-4E60-4D3E-84D6-08E5089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AE56D-3F9A-4271-AF48-0EAE6211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67BBF-54ED-46CE-AE26-CD0AF33D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61E6C-E9A4-4B2A-8136-7831F687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11E-3003-483D-AEA6-4A582D9E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232F7-862C-4DB2-B435-D3DF0F13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4FBAB-A47B-40A2-8DF1-8DE5B828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82249-932A-488F-B2D5-8A041E3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2740-A814-476F-A1F4-8EC261A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F4621-822D-42ED-9FB3-54E7AB3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37901-71EA-4614-91CB-B99DAA0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065FF-2A71-4D1F-9052-4D18AA7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C15F6-45ED-4065-B55E-AA3624F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037EA-D34A-4D0C-9B2B-FFDED13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55EA2-83B3-4D07-8F80-97C786D0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988-05E6-4108-A9CA-8261283E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DE7CF-B3B5-47A1-96F6-BE5D41F5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E625E-31F1-406C-8E1D-6D0E196B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FFE2-8504-4526-BF58-B140C60B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330DE-3429-4F6F-9402-3C8AE59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5B193-5763-4727-B500-B679B0E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2264D-DFBA-40D1-BE13-89508464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4C07E-681C-47B1-BE98-789DED2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27CA9-3DAA-42F6-88CD-0B9025C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1E078-C965-4536-A94B-5D72742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1B4FD-9ACA-4CD6-8A62-8DC5A0C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5D4-CE99-4722-BD94-BD3BB2B2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BB66-C7FD-4254-B8E8-A98DD09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D94EB-A6F4-432B-94B4-F13ABA49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827DB-6F59-458B-B4F3-1C3F4ED2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E727C-3535-4FFA-AAA8-8F81358D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F5E0F-BBE2-40BB-B445-91CF492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22A30-01E3-4AD4-B73E-2279B007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FC85A-53E7-445C-9D7C-0453DF8F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4A24-0E94-4229-B47F-48F0628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A9EBE-CB3F-47E6-8A8B-0045197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1A8F-57ED-40B9-A9A4-BE3799A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9275-178A-4885-B876-43CDD6A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02191-7F36-49EA-97B0-3BB62AF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7A971-A9B8-4B05-8071-3B1F494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6A22E-2427-4598-B1E1-16FD8B4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18C15-A6C8-486C-B6AF-2DA65984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5EC69-E9FF-4682-AFAE-F120614E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021F-A51D-4A29-8B99-9A46044D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BF710-507B-47D0-99D2-01867DD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7938F-3DC9-4857-86EB-5794E76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856AE-1895-4971-B8B9-4514EE7F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B4994-6D39-4FF0-9508-6DBA6A1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FDE-33D9-424A-956E-CC90B41F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E6FA8-488A-4B42-AA68-4A77632F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BCE97-8C01-4700-BC46-6A96FDA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23133-9780-4AD1-AB98-C600518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97D11-8EBF-4D1E-853D-3C41C1A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E7114-023D-46F7-A9B9-DAE065F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DD57D-762E-4A1B-999B-FC9AEF06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8703F-E6BC-483D-84E5-278041F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09244-4600-42D1-85A7-5BCDFE20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D9DF9-0DC9-4906-A5B6-10FB86CF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4A1D8-5E14-471B-86A4-4F2865E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9DC-4686-4663-88FE-8BB4A35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B051B-48C6-41D4-96C3-CA9659A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1CCF7-81F7-4E4B-AAE2-4CF21C6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5F07F-7E7D-4CFD-939E-6208883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DEDC9-3D13-44E1-9597-10E7986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E446F-5582-4CD2-A0E3-B3AFC3E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6C316-B7BB-49C3-AAB9-1A063A9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8C712-9FAA-4BBF-85DF-DCDEE15F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35C59-91ED-4F63-A3E5-CCD6F8BE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A014B-96FC-4A44-A4C2-B5C401F4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E4A8F-CC24-4777-B15D-BB48D522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30B7-A521-4BE8-A015-EC7E7CD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C2FFA-AEF0-4D8D-97BB-ADAC0F31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8A3BD-D08D-452F-B0C1-EB482B6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F492D-E86A-473A-82A1-39E41BE6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BDE00-114C-4F51-A6B3-F57A8FA0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BCA60-2501-4051-9B9A-93AF766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FDDB4-E2E0-4B68-9AF5-BCC0F50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EC8B2-BA99-410A-91AD-BD2D6A48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BCD01-76BB-4393-882A-E8915420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404FB-E939-4E00-825C-FE9907D6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42707-B291-4120-B113-64968EF0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8335-2332-419D-8B02-669EA81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A20FD-939A-423A-947C-3A7F2666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51D2E-153C-4057-9EAA-F0D0D063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5CA2C-0C6F-49E3-833A-567A73C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27A06-A237-456A-BB3E-C60D1122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82E44-8637-420F-A3D2-2BC90EAD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28862-8257-48A5-AD66-0BA3A91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E2394-BA97-4065-881E-22CDB0E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AB625-948B-4895-B497-F7742EA1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1D59F-059C-460A-87E5-B224596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05DF2-6345-4238-AF88-555E2C13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B27A-880B-4290-9477-67D53B4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9ED29-F6B7-44BD-A1B1-3F876199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3BD9B-F474-4D03-A202-36EE6DE9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4CEEE-1846-4F87-8FB4-440E44EC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5D3-17A1-496A-AEF5-358E059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6B46-2D4C-41C8-93D7-663A2BA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3EC-CFC1-4B10-BB6C-8E1F02F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97D-EFD8-47BF-97C6-BBAB5E20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E22E-AC63-49D6-B4B2-B74F0D10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724-4214-4E26-BC7F-86C35B93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8957-A86D-4583-844B-629429FB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4A1D-8357-4D89-A8BF-A074978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AEB9-BC20-46B2-932C-84E5A2A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5958-521C-4A02-B755-370BF84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3E8A-AC01-45E9-8711-2E999F39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C94-F0AB-4E81-B42E-099A7F68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47FB-3D89-42E3-AAB9-D34DC7BF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3647-1A7F-4DD5-9E87-44F4A94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3EBF-A087-4FAA-B0A8-13B6D60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AE99-5EF9-4320-8AFC-174C1EC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BFFA-A228-4537-9B8C-52F4F51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B5D2-D4CB-4000-9FB8-163FCEA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9631-313A-4F91-8F11-78418765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8281-FBE4-4E8B-B204-E3FA5B4E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97CF-7FD3-4214-A78A-AE7FA45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FFE5-1C29-4EF9-A5A5-FD86A23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93E-C806-4B2B-9390-47C80BA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746D-625D-45E6-8C4D-F11309B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881B-A9CA-4A8D-86F7-90AD846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F597-4A9A-4978-BF68-6D526FC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AF66-BB93-4580-826B-1A596D7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18DC-F9B5-4F16-BC57-F505361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B517-742F-464B-9C94-B209733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C804-50AD-4959-9030-DCE530B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B189-4257-4D18-8890-3DAA4AC9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CD80-7099-4C3F-BA82-ADABF962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9304-6D76-45BA-8E3C-CD514A1C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DAC-510C-4D21-A897-BBE89A9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E4B8-7265-4BC1-9215-A638B927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62BC-BD08-40E4-AF88-EC3C9A8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5C9CD-D9AC-4D4F-BC86-9CDD2B4B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D39E-7372-48DB-B824-78669D2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7BA8-F277-4AC6-8E35-413DB60D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6724-2DC5-4CDE-9F30-08BA2C9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9493-2405-4CA7-8313-339D941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A6A4-C28D-4145-9FF6-B50E7BD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463A-4BD4-49AB-89C6-6CFB7B3C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1DCF-D5CE-487B-88AD-4D05CA5A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CCE-562A-4C3C-B1FF-E75B0C8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1944-6C64-4013-8E60-4CEAAB5D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098A-EA76-495B-BABB-502E1918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6FD8-B793-4C5D-8456-54EE7DD8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F742-28CF-4762-B035-F31E96C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08C3-E5BA-4F45-9C58-B60D9D32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4A17E-05F9-4C03-933A-CE8A7F6D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87310-78E1-4CA7-B1C4-451AE96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D361-DFD4-452E-96F8-38B10F5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8BB2-62D4-49CB-9AE5-5846C7D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813A-EEA9-4249-A405-973208B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943-0C9C-46BB-B52C-95833DA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9478-BA97-446D-9563-E931DE48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AABCB-26FC-4A1D-A216-654CB11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2F76-F7AA-4101-917C-1E587F3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15FE-7D3C-46FE-918A-1A2CD821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BE83-EEEB-4F6D-B027-30754746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96EE5-EEEE-49E9-9DF7-64D0AE5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B853-1BF5-4F5C-BDBB-DE498BDF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3F2A-F9F1-44C5-84F9-B570084A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D132-4FB0-45DC-B4A2-B127509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E381-5A40-48F8-BD6D-B0FB10C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DA7-8237-492E-8784-43896BC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80FC6-A152-4088-8CA3-80F6A4A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91C9-2E9F-4DF2-99D5-E10689B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B6BD-CE63-4F3C-8983-2B3D66B7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2EA4-A168-4B43-8981-7F0D5F33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3A91-1BDF-4A86-A56A-AFC60002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84E22-7F1A-4ECF-8685-64BD311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5A45B-1E47-4147-A0DF-98805A4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D5E8-43ED-4582-91B0-E5EA3A42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2F3B-C864-4F4E-BD04-216ACF2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0C08-8653-4786-8E1C-1207E3A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09D-A51D-4CD8-BA01-221A660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BDC6E-432E-4D36-A530-4F87D6D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9A03E-5B02-49F9-BA01-050BF1A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BBB5-5030-4552-80D0-7D5ABF2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20EB-AE26-4719-BAC1-22BCFE5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CBE9C-5066-44F3-B048-529E81D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65DFB-CC08-4B8F-A988-BB3BD697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62CC-D6AB-406A-82F6-0B7C6DE9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A4A3-5D12-4B49-ADCC-EA07A327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606E2-7F5E-4FCB-8EB6-B9D3D57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D53F-BF3B-4273-8D83-307B0E2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25D-0C00-47C0-BC1E-FAE4C815A9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30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2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7E98-793E-4A83-9650-D5B4C1BA06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0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6EC-4F95-4377-B129-84C5168AB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D5D-04A9-4C64-9CA8-AAD371CCE5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843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56C9-5961-4AF2-865D-E4A81551A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1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4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4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4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98E-693B-41B6-B710-226532697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85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6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7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8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9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0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1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2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3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4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7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8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9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0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1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2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3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4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5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6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9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0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1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2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3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C24-8FBE-4FFB-AEBF-35DEE234E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DCC5-4CFC-4A4E-A0CD-2FD1A2A40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B932-A0F9-4689-8C75-F31733546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13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43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44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45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46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47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56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3149-2B8D-4EF3-9713-84B35B240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20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7EB-8296-48C1-883F-8FAFE2C96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275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293E-4B74-47C4-9A8F-EDEBE5B11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4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258-5A98-4AAB-9F26-BC281D734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17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D75-C6C7-4035-AAE7-00205C2C0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88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976D-99F9-467C-9FF1-60BD40AF2E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59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25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26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27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E47-68BC-454E-AB7F-06A8F5EF0F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2.jpeg"/><Relationship Id="rId4" Type="http://schemas.openxmlformats.org/officeDocument/2006/relationships/image" Target="../media/image3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интегрированному уро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окружающему миру и русскому языку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4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Мир древности: далёкий и близкий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торостепенный член предложения –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стоятельство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ла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ОУ «Прогимназия «Идеал» г.Саратов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цева И.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98" name="Picture 11" descr="P137_2"/>
          <p:cNvPicPr/>
          <p:nvPr/>
        </p:nvPicPr>
        <p:blipFill>
          <a:blip r:embed="rId1"/>
          <a:stretch/>
        </p:blipFill>
        <p:spPr>
          <a:xfrm>
            <a:off x="6948360" y="4076640"/>
            <a:ext cx="1933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5" descr="рамка"/>
          <p:cNvPicPr/>
          <p:nvPr/>
        </p:nvPicPr>
        <p:blipFill>
          <a:blip r:embed="rId1"/>
          <a:stretch/>
        </p:blipFill>
        <p:spPr>
          <a:xfrm>
            <a:off x="1332000" y="692280"/>
            <a:ext cx="6480000" cy="46083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a-Храм-Луксор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08000" y="1197000"/>
            <a:ext cx="5329440" cy="3583080"/>
          </a:xfrm>
          <a:prstGeom prst="rect">
            <a:avLst/>
          </a:prstGeom>
          <a:ln w="0">
            <a:noFill/>
          </a:ln>
        </p:spPr>
      </p:pic>
      <p:sp>
        <p:nvSpPr>
          <p:cNvPr id="1137" name="WordArt 8"/>
          <p:cNvSpPr txBox="1"/>
          <p:nvPr/>
        </p:nvSpPr>
        <p:spPr>
          <a:xfrm>
            <a:off x="3635280" y="5805360"/>
            <a:ext cx="2190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Луксора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0" y="4797360"/>
            <a:ext cx="9144000" cy="18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ирамида Хеопса – крупнейшая пирамида мир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чудо – пирамида является усыпальнице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араона Хеопса, её высота   148 метров,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с около семи миллионов тон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39" name="Picture 5" descr="рамка"/>
          <p:cNvPicPr/>
          <p:nvPr/>
        </p:nvPicPr>
        <p:blipFill>
          <a:blip r:embed="rId1"/>
          <a:stretch/>
        </p:blipFill>
        <p:spPr>
          <a:xfrm>
            <a:off x="1908000" y="1197000"/>
            <a:ext cx="5112000" cy="3449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9" descr="0_2c577_f2dfbb54_-1-L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195640" y="141300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41" name="WordArt 8"/>
          <p:cNvSpPr txBox="1"/>
          <p:nvPr/>
        </p:nvSpPr>
        <p:spPr>
          <a:xfrm>
            <a:off x="1692360" y="333360"/>
            <a:ext cx="543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Пирамида Хеопса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5" descr="рамка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8" descr="akropol"/>
          <p:cNvPicPr/>
          <p:nvPr/>
        </p:nvPicPr>
        <p:blipFill>
          <a:blip r:embed="rId2"/>
          <a:stretch/>
        </p:blipFill>
        <p:spPr>
          <a:xfrm>
            <a:off x="611280" y="54936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1" descr="рамка"/>
          <p:cNvPicPr/>
          <p:nvPr/>
        </p:nvPicPr>
        <p:blipFill>
          <a:blip r:embed="rId3"/>
          <a:stretch/>
        </p:blipFill>
        <p:spPr>
          <a:xfrm>
            <a:off x="4284720" y="321300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6" descr="0_1ac68_8269f35f_L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572000" y="3500280"/>
            <a:ext cx="3957480" cy="2880000"/>
          </a:xfrm>
          <a:prstGeom prst="rect">
            <a:avLst/>
          </a:prstGeom>
          <a:ln w="0">
            <a:noFill/>
          </a:ln>
        </p:spPr>
      </p:pic>
      <p:sp>
        <p:nvSpPr>
          <p:cNvPr id="1146" name="WordArt 19"/>
          <p:cNvSpPr txBox="1"/>
          <p:nvPr/>
        </p:nvSpPr>
        <p:spPr>
          <a:xfrm>
            <a:off x="5724360" y="692280"/>
            <a:ext cx="25052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яя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Греция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7" name="WordArt 20"/>
          <p:cNvSpPr txBox="1"/>
          <p:nvPr/>
        </p:nvSpPr>
        <p:spPr>
          <a:xfrm>
            <a:off x="1476360" y="3860640"/>
            <a:ext cx="1447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крополь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8" name="WordArt 21"/>
          <p:cNvSpPr txBox="1"/>
          <p:nvPr/>
        </p:nvSpPr>
        <p:spPr>
          <a:xfrm>
            <a:off x="1116000" y="5950080"/>
            <a:ext cx="2543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Парфенон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49" name="Греческая музыка.mp3" descr=""/>
          <p:cNvPicPr/>
          <p:nvPr/>
        </p:nvPicPr>
        <p:blipFill>
          <a:blip r:embed="rId5"/>
          <a:stretch/>
        </p:blipFill>
        <p:spPr>
          <a:xfrm>
            <a:off x="8604360" y="6453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7" descr="0_1ac68_8269f35f_L"/>
          <p:cNvPicPr/>
          <p:nvPr/>
        </p:nvPicPr>
        <p:blipFill>
          <a:blip r:embed="rId1"/>
          <a:stretch/>
        </p:blipFill>
        <p:spPr>
          <a:xfrm>
            <a:off x="250920" y="115920"/>
            <a:ext cx="7777080" cy="58942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8" descr="Статуя богини Афины - Фидий - Парфенон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23000"/>
          </a:xfrm>
          <a:prstGeom prst="rect">
            <a:avLst/>
          </a:prstGeom>
          <a:ln w="0">
            <a:noFill/>
          </a:ln>
        </p:spPr>
      </p:pic>
      <p:sp>
        <p:nvSpPr>
          <p:cNvPr id="1152" name="WordArt 10"/>
          <p:cNvSpPr txBox="1"/>
          <p:nvPr/>
        </p:nvSpPr>
        <p:spPr>
          <a:xfrm>
            <a:off x="179280" y="6237360"/>
            <a:ext cx="8856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Мраморная статуя богини Афины знаменитого скульптора Фидия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" descr="52451764_ariadne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93680"/>
            <a:ext cx="3097080" cy="30384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5" descr="139"/>
          <p:cNvPicPr/>
          <p:nvPr/>
        </p:nvPicPr>
        <p:blipFill>
          <a:blip r:embed="rId2"/>
          <a:stretch/>
        </p:blipFill>
        <p:spPr>
          <a:xfrm>
            <a:off x="6588000" y="189000"/>
            <a:ext cx="2346480" cy="2736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6" descr="tantalus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492360" y="765000"/>
            <a:ext cx="2882880" cy="37436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8" descr="12227-152137-6a5bdf3249482fce6692b2b3bbb6db2e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24000" y="3789360"/>
            <a:ext cx="3095640" cy="25621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0" descr="ahilles_"/>
          <p:cNvPicPr/>
          <p:nvPr/>
        </p:nvPicPr>
        <p:blipFill>
          <a:blip r:embed="rId5"/>
          <a:stretch/>
        </p:blipFill>
        <p:spPr>
          <a:xfrm>
            <a:off x="6516720" y="3933720"/>
            <a:ext cx="2376360" cy="2170080"/>
          </a:xfrm>
          <a:prstGeom prst="rect">
            <a:avLst/>
          </a:prstGeom>
          <a:ln w="0">
            <a:noFill/>
          </a:ln>
        </p:spPr>
      </p:pic>
      <p:sp>
        <p:nvSpPr>
          <p:cNvPr id="1158" name="WordArt 18"/>
          <p:cNvSpPr txBox="1"/>
          <p:nvPr/>
        </p:nvSpPr>
        <p:spPr>
          <a:xfrm>
            <a:off x="684360" y="3357720"/>
            <a:ext cx="2286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риаднина нить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9" name="WordArt 19"/>
          <p:cNvSpPr txBox="1"/>
          <p:nvPr/>
        </p:nvSpPr>
        <p:spPr>
          <a:xfrm>
            <a:off x="3780000" y="4724280"/>
            <a:ext cx="2286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Танталовы муки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0" name="WordArt 20"/>
          <p:cNvSpPr txBox="1"/>
          <p:nvPr/>
        </p:nvSpPr>
        <p:spPr>
          <a:xfrm>
            <a:off x="971640" y="6381720"/>
            <a:ext cx="1895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амоклов меч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1" name="WordArt 22"/>
          <p:cNvSpPr txBox="1"/>
          <p:nvPr/>
        </p:nvSpPr>
        <p:spPr>
          <a:xfrm>
            <a:off x="6516720" y="3141720"/>
            <a:ext cx="246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вгиевы конюшни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2" name="WordArt 23"/>
          <p:cNvSpPr txBox="1"/>
          <p:nvPr/>
        </p:nvSpPr>
        <p:spPr>
          <a:xfrm>
            <a:off x="6516720" y="6237360"/>
            <a:ext cx="2305080" cy="2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хиллесова пята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74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сстановите последовательность предложений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пишите в тетрадь текст и озаглавьте его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В современном Риме сохранилось немал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евних построек, которые рассказывают нам 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шлом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Здесь красиво располагались храмы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банковск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Он был центром общественной жизни город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Очень интересен Римский фору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64" name="Муз®Nїт^ѕЇnЋ-_моя_любимая_музыка)).mp3" descr=""/>
          <p:cNvPicPr/>
          <p:nvPr/>
        </p:nvPicPr>
        <p:blipFill>
          <a:blip r:embed="rId1"/>
          <a:stretch/>
        </p:blipFill>
        <p:spPr>
          <a:xfrm>
            <a:off x="179280" y="276120"/>
            <a:ext cx="144720" cy="1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4080" cy="32400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080d"/>
                </a:solidFill>
                <a:latin typeface="Times New Roman"/>
              </a:rPr>
              <a:t>Здоровьесберегающие технологии</a:t>
            </a:r>
            <a:br>
              <a:rPr sz="4000"/>
            </a:br>
            <a:r>
              <a:rPr b="1" lang="ru-RU" sz="4000" spc="-1" strike="noStrike">
                <a:solidFill>
                  <a:srgbClr val="da080d"/>
                </a:solidFill>
                <a:latin typeface="Times New Roman"/>
              </a:rPr>
              <a:t> в начальной школе</a:t>
            </a:r>
            <a:br>
              <a:rPr sz="4000"/>
            </a:b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Коррекция зрения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Физминутка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Picture 5" descr="Рисунок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213372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6" descr="Рисунок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14880" y="3789360"/>
            <a:ext cx="2284560" cy="2208240"/>
          </a:xfrm>
          <a:prstGeom prst="rect">
            <a:avLst/>
          </a:prstGeom>
          <a:ln w="0">
            <a:noFill/>
          </a:ln>
        </p:spPr>
      </p:pic>
      <p:sp>
        <p:nvSpPr>
          <p:cNvPr id="1168" name="Oval 7"/>
          <p:cNvSpPr/>
          <p:nvPr/>
        </p:nvSpPr>
        <p:spPr>
          <a:xfrm rot="2149800">
            <a:off x="4225680" y="3670200"/>
            <a:ext cx="1143000" cy="1079640"/>
          </a:xfrm>
          <a:prstGeom prst="ellipse">
            <a:avLst/>
          </a:prstGeom>
          <a:gradFill rotWithShape="0">
            <a:gsLst>
              <a:gs pos="0">
                <a:srgbClr val="5adc66"/>
              </a:gs>
              <a:gs pos="50000">
                <a:srgbClr val="da080d"/>
              </a:gs>
              <a:gs pos="100000">
                <a:srgbClr val="5adc66"/>
              </a:gs>
            </a:gsLst>
            <a:lin ang="3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69" name="Игра.mp3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2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74" name="Picture 8" descr="0_2985f_846079dd_L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68760" y="1685880"/>
            <a:ext cx="3295440" cy="330696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83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87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91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95" dur="2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105" dur="3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77" name="Picture 5" descr="0_2985f_846079dd_L"/>
          <p:cNvPicPr/>
          <p:nvPr/>
        </p:nvPicPr>
        <p:blipFill>
          <a:blip r:embed="rId1"/>
          <a:stretch/>
        </p:blipFill>
        <p:spPr>
          <a:xfrm>
            <a:off x="3489480" y="0"/>
            <a:ext cx="1798560" cy="180504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15" dur="3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рамка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1528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Прогимназия 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851280" y="2997360"/>
            <a:ext cx="4465800" cy="2700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Рисунок1"/>
          <p:cNvPicPr/>
          <p:nvPr/>
        </p:nvPicPr>
        <p:blipFill>
          <a:blip r:embed="rId3"/>
          <a:stretch/>
        </p:blipFill>
        <p:spPr>
          <a:xfrm>
            <a:off x="2916360" y="2492280"/>
            <a:ext cx="5905440" cy="4029120"/>
          </a:xfrm>
          <a:prstGeom prst="rect">
            <a:avLst/>
          </a:prstGeom>
          <a:ln w="0">
            <a:noFill/>
          </a:ln>
        </p:spPr>
      </p:pic>
      <p:sp>
        <p:nvSpPr>
          <p:cNvPr id="1102" name="WordArt 5"/>
          <p:cNvSpPr txBox="1"/>
          <p:nvPr/>
        </p:nvSpPr>
        <p:spPr>
          <a:xfrm>
            <a:off x="2700360" y="476280"/>
            <a:ext cx="608652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ОУ "Прогимназия</a:t>
            </a:r>
            <a:endParaRPr b="1" i="1" lang="en-US" sz="54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Идеал"</a:t>
            </a:r>
            <a:endParaRPr b="1" i="1" lang="en-US" sz="54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ubPieSlice"/>
          <p:cNvSpPr/>
          <p:nvPr/>
        </p:nvSpPr>
        <p:spPr>
          <a:xfrm>
            <a:off x="1619280" y="404640"/>
            <a:ext cx="6769080" cy="6193080"/>
          </a:xfrm>
          <a:custGeom>
            <a:avLst/>
            <a:gdLst>
              <a:gd name="textAreaLeft" fmla="*/ 991080 w 6769080"/>
              <a:gd name="textAreaRight" fmla="*/ 5778000 w 676908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9" name="Oval 3"/>
          <p:cNvSpPr/>
          <p:nvPr/>
        </p:nvSpPr>
        <p:spPr>
          <a:xfrm>
            <a:off x="46432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80" name="Picture 5" descr="li10_2"/>
          <p:cNvPicPr/>
          <p:nvPr/>
        </p:nvPicPr>
        <p:blipFill>
          <a:blip r:embed="rId2"/>
          <a:stretch/>
        </p:blipFill>
        <p:spPr>
          <a:xfrm>
            <a:off x="16192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126" dur="5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132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135" dur="1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14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144" dur="1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6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7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8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0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1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2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3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4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5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6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7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9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0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1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2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3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4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5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6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7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8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9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0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1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2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3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4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5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6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7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8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9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0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1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2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3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4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5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6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7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56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60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64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68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72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76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80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1917720" y="955800"/>
            <a:ext cx="4967280" cy="4966920"/>
            <a:chOff x="1917720" y="955800"/>
            <a:chExt cx="4967280" cy="4966920"/>
          </a:xfrm>
        </p:grpSpPr>
        <p:sp>
          <p:nvSpPr>
            <p:cNvPr id="1229" name="Oval 3"/>
            <p:cNvSpPr/>
            <p:nvPr/>
          </p:nvSpPr>
          <p:spPr>
            <a:xfrm rot="16200000">
              <a:off x="5193720" y="22878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0" name="Oval 4"/>
            <p:cNvSpPr/>
            <p:nvPr/>
          </p:nvSpPr>
          <p:spPr>
            <a:xfrm rot="16200000">
              <a:off x="2601360" y="22878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1" name="Oval 5"/>
            <p:cNvSpPr/>
            <p:nvPr/>
          </p:nvSpPr>
          <p:spPr>
            <a:xfrm>
              <a:off x="3933720" y="354816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2" name="Oval 6"/>
            <p:cNvSpPr/>
            <p:nvPr/>
          </p:nvSpPr>
          <p:spPr>
            <a:xfrm>
              <a:off x="3933720" y="95580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3" name="Oval 7"/>
            <p:cNvSpPr/>
            <p:nvPr/>
          </p:nvSpPr>
          <p:spPr>
            <a:xfrm>
              <a:off x="4005360" y="304308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234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235" name="Picture 10" descr="0_2985f_846079dd_L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26160" y="2225520"/>
            <a:ext cx="1617840" cy="162432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2" descr="0_2985f_846079dd_L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164360" y="4869000"/>
            <a:ext cx="1677960" cy="168408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4" descr="0_2985f_846079dd_L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243000" y="4992840"/>
            <a:ext cx="1536480" cy="15411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5" descr="0_2985f_846079dd_L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0" y="2587680"/>
            <a:ext cx="1498680" cy="15033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6" descr="0_2985f_846079dd_L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250920" y="765000"/>
            <a:ext cx="1500120" cy="15051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7" descr="0_17a29_bfc59d0a_XL"/>
          <p:cNvPicPr/>
          <p:nvPr/>
        </p:nvPicPr>
        <p:blipFill>
          <a:blip r:embed="rId6"/>
          <a:stretch/>
        </p:blipFill>
        <p:spPr>
          <a:xfrm>
            <a:off x="7308720" y="765000"/>
            <a:ext cx="1262160" cy="1221120"/>
          </a:xfrm>
          <a:prstGeom prst="rect">
            <a:avLst/>
          </a:prstGeom>
          <a:ln w="0">
            <a:noFill/>
          </a:ln>
        </p:spPr>
      </p:pic>
      <p:sp>
        <p:nvSpPr>
          <p:cNvPr id="1241" name="WordArt 16"/>
          <p:cNvSpPr txBox="1"/>
          <p:nvPr/>
        </p:nvSpPr>
        <p:spPr>
          <a:xfrm>
            <a:off x="900000" y="115920"/>
            <a:ext cx="7344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анцуйте вместе с нами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000">
    <p:wheel spokes="3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3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89" dur="5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5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3" descr="0_2985f_846079dd_L"/>
          <p:cNvPicPr/>
          <p:nvPr/>
        </p:nvPicPr>
        <p:blipFill>
          <a:blip r:embed="rId1"/>
          <a:stretch/>
        </p:blipFill>
        <p:spPr>
          <a:xfrm rot="20353800">
            <a:off x="610920" y="0"/>
            <a:ext cx="2727360" cy="27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4" descr="0_17a29_bfc59d0a_XL"/>
          <p:cNvPicPr/>
          <p:nvPr/>
        </p:nvPicPr>
        <p:blipFill>
          <a:blip r:embed="rId2"/>
          <a:stretch/>
        </p:blipFill>
        <p:spPr>
          <a:xfrm>
            <a:off x="3492360" y="2349360"/>
            <a:ext cx="1729080" cy="167184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0_2985f_846079dd_L"/>
          <p:cNvPicPr/>
          <p:nvPr/>
        </p:nvPicPr>
        <p:blipFill>
          <a:blip r:embed="rId3"/>
          <a:stretch/>
        </p:blipFill>
        <p:spPr>
          <a:xfrm rot="3219600">
            <a:off x="6046920" y="209628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6" descr="0_2985f_846079dd_L"/>
          <p:cNvPicPr/>
          <p:nvPr/>
        </p:nvPicPr>
        <p:blipFill>
          <a:blip r:embed="rId4"/>
          <a:stretch/>
        </p:blipFill>
        <p:spPr>
          <a:xfrm rot="20424000">
            <a:off x="179280" y="3212640"/>
            <a:ext cx="2799000" cy="28083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7" descr="0_2985f_846079dd_L"/>
          <p:cNvPicPr/>
          <p:nvPr/>
        </p:nvPicPr>
        <p:blipFill>
          <a:blip r:embed="rId5"/>
          <a:stretch/>
        </p:blipFill>
        <p:spPr>
          <a:xfrm>
            <a:off x="4140360" y="3976560"/>
            <a:ext cx="2871720" cy="288144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8" descr="0_2985f_846079dd_L"/>
          <p:cNvPicPr/>
          <p:nvPr/>
        </p:nvPicPr>
        <p:blipFill>
          <a:blip r:embed="rId6"/>
          <a:stretch/>
        </p:blipFill>
        <p:spPr>
          <a:xfrm rot="1380000">
            <a:off x="4642920" y="0"/>
            <a:ext cx="2629080" cy="2637000"/>
          </a:xfrm>
          <a:prstGeom prst="rect">
            <a:avLst/>
          </a:prstGeom>
          <a:ln w="0">
            <a:noFill/>
          </a:ln>
        </p:spPr>
      </p:pic>
      <p:sp>
        <p:nvSpPr>
          <p:cNvPr id="1248" name="WordArt 10"/>
          <p:cNvSpPr txBox="1"/>
          <p:nvPr/>
        </p:nvSpPr>
        <p:spPr>
          <a:xfrm>
            <a:off x="2556000" y="2708280"/>
            <a:ext cx="352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дитесь.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3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роверьте текст.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В современном Риме сохранилось немал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ревних построек, которые рассказывают нам 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прошлом. Очень интересен Римский форум. Он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ыл центром общественной жизни города. Здесь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расиво располагались храмы,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рговы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анковски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оработаем на интерактивной доск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Сделайте синтаксический разбор предлож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десь красиво располагались храмы,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рговы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и банковски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остойте схему этого  предлож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Найдите и подчеркните обстоятельства в текст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Picture 5" descr="рамка"/>
          <p:cNvPicPr/>
          <p:nvPr/>
        </p:nvPicPr>
        <p:blipFill>
          <a:blip r:embed="rId1"/>
          <a:stretch/>
        </p:blipFill>
        <p:spPr>
          <a:xfrm>
            <a:off x="46836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7" descr="0_208c9_150145af_L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55640" y="549360"/>
            <a:ext cx="3959280" cy="29160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8" descr="рамка"/>
          <p:cNvPicPr/>
          <p:nvPr/>
        </p:nvPicPr>
        <p:blipFill>
          <a:blip r:embed="rId3"/>
          <a:stretch/>
        </p:blipFill>
        <p:spPr>
          <a:xfrm>
            <a:off x="4427640" y="3141720"/>
            <a:ext cx="4535280" cy="344952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8" descr="vat7"/>
          <p:cNvPicPr/>
          <p:nvPr/>
        </p:nvPicPr>
        <p:blipFill>
          <a:blip r:embed="rId4"/>
          <a:stretch/>
        </p:blipFill>
        <p:spPr>
          <a:xfrm>
            <a:off x="4716360" y="342900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4" name="WordArt 14"/>
          <p:cNvSpPr txBox="1"/>
          <p:nvPr/>
        </p:nvSpPr>
        <p:spPr>
          <a:xfrm>
            <a:off x="5724360" y="692280"/>
            <a:ext cx="25624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ий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им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5" name="WordArt 15"/>
          <p:cNvSpPr txBox="1"/>
          <p:nvPr/>
        </p:nvSpPr>
        <p:spPr>
          <a:xfrm>
            <a:off x="1403280" y="3860640"/>
            <a:ext cx="2476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имский форум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6" name="WordArt 16"/>
          <p:cNvSpPr txBox="1"/>
          <p:nvPr/>
        </p:nvSpPr>
        <p:spPr>
          <a:xfrm>
            <a:off x="1547640" y="5877000"/>
            <a:ext cx="2391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Пантеон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57" name="Музыка Древнего Рима.mp3" descr=""/>
          <p:cNvPicPr/>
          <p:nvPr/>
        </p:nvPicPr>
        <p:blipFill>
          <a:blip r:embed="rId5"/>
          <a:stretch/>
        </p:blipFill>
        <p:spPr>
          <a:xfrm>
            <a:off x="8675640" y="632448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4" descr="рамка"/>
          <p:cNvPicPr/>
          <p:nvPr/>
        </p:nvPicPr>
        <p:blipFill>
          <a:blip r:embed="rId1"/>
          <a:stretch/>
        </p:blipFill>
        <p:spPr>
          <a:xfrm>
            <a:off x="179280" y="169920"/>
            <a:ext cx="4392720" cy="33433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5" descr="рамка"/>
          <p:cNvPicPr/>
          <p:nvPr/>
        </p:nvPicPr>
        <p:blipFill>
          <a:blip r:embed="rId2"/>
          <a:stretch/>
        </p:blipFill>
        <p:spPr>
          <a:xfrm>
            <a:off x="4284720" y="3159000"/>
            <a:ext cx="4608360" cy="35038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6" descr="kolizei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95280" y="404640"/>
            <a:ext cx="3889440" cy="28800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7" descr="pompei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572000" y="341136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1262" name="WordArt 11"/>
          <p:cNvSpPr txBox="1"/>
          <p:nvPr/>
        </p:nvSpPr>
        <p:spPr>
          <a:xfrm>
            <a:off x="1619280" y="3789360"/>
            <a:ext cx="12859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Колизей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3" name="WordArt 13"/>
          <p:cNvSpPr txBox="1"/>
          <p:nvPr/>
        </p:nvSpPr>
        <p:spPr>
          <a:xfrm>
            <a:off x="2771640" y="5877000"/>
            <a:ext cx="12477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Помпеи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WordArt 4"/>
          <p:cNvSpPr txBox="1"/>
          <p:nvPr/>
        </p:nvSpPr>
        <p:spPr>
          <a:xfrm>
            <a:off x="2700360" y="213372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олшебный альбом</a:t>
            </a:r>
            <a:endParaRPr b="1" i="1" lang="en-US" sz="40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утешествий.</a:t>
            </a:r>
            <a:endParaRPr b="1" i="1" lang="en-US" sz="40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4" name="Picture 5" descr="imgB"/>
          <p:cNvPicPr/>
          <p:nvPr/>
        </p:nvPicPr>
        <p:blipFill>
          <a:blip r:embed="rId1">
            <a:lum contrast="30000"/>
          </a:blip>
          <a:stretch/>
        </p:blipFill>
        <p:spPr>
          <a:xfrm rot="21196200">
            <a:off x="1900080" y="4381200"/>
            <a:ext cx="2664000" cy="20685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6" descr="Forum_romanum"/>
          <p:cNvPicPr/>
          <p:nvPr/>
        </p:nvPicPr>
        <p:blipFill>
          <a:blip r:embed="rId2"/>
          <a:stretch/>
        </p:blipFill>
        <p:spPr>
          <a:xfrm>
            <a:off x="2843280" y="237960"/>
            <a:ext cx="2520720" cy="16542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7" descr="231_3138"/>
          <p:cNvPicPr/>
          <p:nvPr/>
        </p:nvPicPr>
        <p:blipFill>
          <a:blip r:embed="rId3">
            <a:lum contrast="12000"/>
          </a:blip>
          <a:stretch/>
        </p:blipFill>
        <p:spPr>
          <a:xfrm rot="295200">
            <a:off x="6300720" y="188640"/>
            <a:ext cx="2479680" cy="18478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8" descr="afinu_3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724360" y="4292640"/>
            <a:ext cx="288612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50000">
              <a:srgbClr val="e5d58a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5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158f9a2eda8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9640" y="528480"/>
            <a:ext cx="8064720" cy="5891400"/>
          </a:xfrm>
          <a:prstGeom prst="rect">
            <a:avLst/>
          </a:prstGeom>
          <a:ln w="0">
            <a:noFill/>
          </a:ln>
        </p:spPr>
      </p:pic>
      <p:sp>
        <p:nvSpPr>
          <p:cNvPr id="1266" name="WordArt 7"/>
          <p:cNvSpPr txBox="1"/>
          <p:nvPr/>
        </p:nvSpPr>
        <p:spPr>
          <a:xfrm>
            <a:off x="1332000" y="6524640"/>
            <a:ext cx="6335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.П. Брюллов "Последний день Помпеи"</a:t>
            </a:r>
            <a:endParaRPr b="1" i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4" descr="ж"/>
          <p:cNvPicPr/>
          <p:nvPr/>
        </p:nvPicPr>
        <p:blipFill>
          <a:blip r:embed="rId1"/>
          <a:stretch/>
        </p:blipFill>
        <p:spPr>
          <a:xfrm>
            <a:off x="1835280" y="1197000"/>
            <a:ext cx="5543280" cy="4435560"/>
          </a:xfrm>
          <a:prstGeom prst="rect">
            <a:avLst/>
          </a:prstGeom>
          <a:ln w="0">
            <a:noFill/>
          </a:ln>
        </p:spPr>
      </p:pic>
      <p:sp>
        <p:nvSpPr>
          <p:cNvPr id="1268" name="WordArt 6"/>
          <p:cNvSpPr txBox="1"/>
          <p:nvPr/>
        </p:nvSpPr>
        <p:spPr>
          <a:xfrm>
            <a:off x="324000" y="260280"/>
            <a:ext cx="3628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едакторы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9" name="WordArt 7"/>
          <p:cNvSpPr txBox="1"/>
          <p:nvPr/>
        </p:nvSpPr>
        <p:spPr>
          <a:xfrm>
            <a:off x="4788000" y="5734080"/>
            <a:ext cx="38480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Корректоры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0_2985f_846079dd_L"/>
          <p:cNvPicPr/>
          <p:nvPr/>
        </p:nvPicPr>
        <p:blipFill>
          <a:blip r:embed="rId1"/>
          <a:stretch/>
        </p:blipFill>
        <p:spPr>
          <a:xfrm>
            <a:off x="-252360" y="-100080"/>
            <a:ext cx="4852800" cy="5040360"/>
          </a:xfrm>
          <a:prstGeom prst="rect">
            <a:avLst/>
          </a:prstGeom>
          <a:ln w="0">
            <a:noFill/>
          </a:ln>
        </p:spPr>
      </p:pic>
      <p:sp>
        <p:nvSpPr>
          <p:cNvPr id="1271" name="WordArt 6"/>
          <p:cNvSpPr txBox="1"/>
          <p:nvPr/>
        </p:nvSpPr>
        <p:spPr>
          <a:xfrm>
            <a:off x="4284720" y="1268280"/>
            <a:ext cx="439272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ff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4400" spc="1" strike="noStrike">
              <a:ln w="31680">
                <a:solidFill>
                  <a:srgbClr val="800000"/>
                </a:solidFill>
                <a:miter/>
              </a:ln>
              <a:solidFill>
                <a:srgbClr val="ffff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2" name="Picture 8" descr="Scarabei - papyrus from  Egypt - amulet"/>
          <p:cNvPicPr/>
          <p:nvPr/>
        </p:nvPicPr>
        <p:blipFill>
          <a:blip r:embed="rId2">
            <a:alphaModFix amt="0"/>
          </a:blip>
          <a:stretch/>
        </p:blipFill>
        <p:spPr>
          <a:xfrm rot="7551000">
            <a:off x="4739760" y="2252160"/>
            <a:ext cx="2889360" cy="4089240"/>
          </a:xfrm>
          <a:prstGeom prst="rect">
            <a:avLst/>
          </a:prstGeom>
          <a:ln w="0">
            <a:noFill/>
          </a:ln>
        </p:spPr>
      </p:pic>
      <p:pic>
        <p:nvPicPr>
          <p:cNvPr id="1273" name="Игра.mp3" descr=""/>
          <p:cNvPicPr/>
          <p:nvPr/>
        </p:nvPicPr>
        <p:blipFill>
          <a:blip r:embed="rId3"/>
          <a:stretch/>
        </p:blipFill>
        <p:spPr>
          <a:xfrm>
            <a:off x="468360" y="645336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47121" fill="hold"/>
                                        <p:tgtEl>
                                          <p:spTgt spid="1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Picture 4" descr="egyptian-hieroglyphics-louvr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12475868_1"/>
          <p:cNvPicPr/>
          <p:nvPr/>
        </p:nvPicPr>
        <p:blipFill>
          <a:blip r:embed="rId2"/>
          <a:stretch/>
        </p:blipFill>
        <p:spPr>
          <a:xfrm>
            <a:off x="1979640" y="692280"/>
            <a:ext cx="6372360" cy="5518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Picture 4" descr="egyptian-hieroglyphics-louvr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87280" y="0"/>
            <a:ext cx="7956720" cy="6923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жуки"/>
          <p:cNvPicPr/>
          <p:nvPr/>
        </p:nvPicPr>
        <p:blipFill>
          <a:blip r:embed="rId2"/>
          <a:stretch/>
        </p:blipFill>
        <p:spPr>
          <a:xfrm>
            <a:off x="1619280" y="1197000"/>
            <a:ext cx="7056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16" name="Picture 4" descr="egyptian-hieroglyphics-louvr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6" descr="brasle2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63640" y="3645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8" descr="ph03724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24360" y="260280"/>
            <a:ext cx="3062520" cy="25369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9" descr="SKarabey_66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476360" y="189000"/>
            <a:ext cx="3240000" cy="3082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1" descr="b6ff1bf8fa9c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651640" y="3284640"/>
            <a:ext cx="301284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23" name="Picture 6" descr="egyptian-hieroglyphics-louvr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5092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9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700360" y="765000"/>
            <a:ext cx="5216400" cy="522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036800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33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Мир древности: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алёкий и близкий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торостепенный член  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едложения – обстоятельство»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5" descr="рамка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7" descr="0_192fd_14493741_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11280" y="476280"/>
            <a:ext cx="3962160" cy="29703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7" descr="рамка"/>
          <p:cNvPicPr/>
          <p:nvPr/>
        </p:nvPicPr>
        <p:blipFill>
          <a:blip r:embed="rId3"/>
          <a:stretch/>
        </p:blipFill>
        <p:spPr>
          <a:xfrm>
            <a:off x="4356000" y="3284640"/>
            <a:ext cx="4462560" cy="3394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1" descr="сф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572000" y="3500280"/>
            <a:ext cx="3968640" cy="2889360"/>
          </a:xfrm>
          <a:prstGeom prst="rect">
            <a:avLst/>
          </a:prstGeom>
          <a:ln w="0">
            <a:noFill/>
          </a:ln>
        </p:spPr>
      </p:pic>
      <p:sp>
        <p:nvSpPr>
          <p:cNvPr id="1131" name="WordArt 17"/>
          <p:cNvSpPr txBox="1"/>
          <p:nvPr/>
        </p:nvSpPr>
        <p:spPr>
          <a:xfrm>
            <a:off x="5796000" y="907920"/>
            <a:ext cx="256212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ий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Египет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2" name="WordArt 18"/>
          <p:cNvSpPr txBox="1"/>
          <p:nvPr/>
        </p:nvSpPr>
        <p:spPr>
          <a:xfrm>
            <a:off x="1258920" y="3933720"/>
            <a:ext cx="2114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Карнака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3" name="WordArt 19"/>
          <p:cNvSpPr txBox="1"/>
          <p:nvPr/>
        </p:nvSpPr>
        <p:spPr>
          <a:xfrm>
            <a:off x="1403280" y="5950080"/>
            <a:ext cx="26481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Большой сфинкс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34" name="Арабская музыка.mp3" descr=""/>
          <p:cNvPicPr/>
          <p:nvPr/>
        </p:nvPicPr>
        <p:blipFill>
          <a:blip r:embed="rId5"/>
          <a:stretch/>
        </p:blipFill>
        <p:spPr>
          <a:xfrm>
            <a:off x="8604360" y="6453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1:59:57Z</dcterms:created>
  <dc:creator>*</dc:creator>
  <dc:description/>
  <dc:language>en-US</dc:language>
  <cp:lastModifiedBy>ZooM</cp:lastModifiedBy>
  <dcterms:modified xsi:type="dcterms:W3CDTF">2013-11-15T18:23:14Z</dcterms:modified>
  <cp:revision>91</cp:revision>
  <dc:subject/>
  <dc:title>ЧОУ «Прогимназия                      «Идеал»</dc:title>
</cp:coreProperties>
</file>