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5.png" ContentType="image/png"/>
  <Override PartName="/ppt/media/image32.gif" ContentType="image/gif"/>
  <Override PartName="/ppt/media/image21.jpeg" ContentType="image/jpeg"/>
  <Override PartName="/ppt/media/image29.png" ContentType="image/png"/>
  <Override PartName="/ppt/media/image36.gif" ContentType="image/gif"/>
  <Override PartName="/ppt/media/image20.jpeg" ContentType="image/jpeg"/>
  <Override PartName="/ppt/media/image19.png" ContentType="image/png"/>
  <Override PartName="/ppt/media/image18.jpeg" ContentType="image/jpeg"/>
  <Override PartName="/ppt/media/image26.png" ContentType="image/png"/>
  <Override PartName="/ppt/media/image3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5.jpeg" ContentType="image/jpeg"/>
  <Override PartName="/ppt/media/image35.png" ContentType="image/png"/>
  <Override PartName="/ppt/media/image6.png" ContentType="image/png"/>
  <Override PartName="/ppt/media/image31.png" ContentType="image/png"/>
  <Override PartName="/ppt/media/image42.png" ContentType="image/png"/>
  <Override PartName="/ppt/media/image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43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1366-4D1F-46E3-B26C-61002308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787-0A0A-411F-A879-A65FE731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1B571-8255-46C7-B90C-90FD2E52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15354-7FF1-4E80-8D7F-A95E489D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02773-E7C1-4889-842B-B24DA55C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92F47-D27B-4E5E-A2DF-0DE37118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B74F9-0856-4EC4-8459-D94C7D22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AE437-3B4E-48AE-A004-AE127E1A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B0B2E-0E98-4753-9933-D0DCA720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B5A66-A00B-41B4-829D-4B011D17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0E08D-155A-4396-A499-31E48D07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5977A-32C2-4615-9ACC-959485A7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EF17-9DB9-4A95-8EE9-FB32FB4A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CC98B-B6DC-47E2-A8FB-1DBEAF2B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D177B-29C0-4376-BB28-B9B355C0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FCB17-2394-4B5F-AF72-EC28B5F3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60725-CB8A-4FF3-ACDD-B4E7F21E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5C633-6642-4F45-BF3E-3CC8AE83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C64DA-9505-4320-ABD2-5215331D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7A350-50ED-4DE8-852C-3E15FB27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9CA8B-2A20-424B-8DC0-3FE1383C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96B71-C141-4B63-9F6A-6F3D1663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67A07-B170-44CB-B902-77452E16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4D61-9A8F-4C75-AE85-8E1C3184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37E6D-11CF-47D1-857B-8601E2E0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EF330-B5E8-42DB-B44A-5FC2266A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32D6B-DBD5-42FE-BE29-34D146C0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D79F1-E5BB-4EDA-B0AE-53E96CAD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0F6AB-0F04-434F-A083-7415714B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0607A-CBE8-4BE1-A127-782EE81D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9C573-A62A-456E-AA06-FCC66025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67452-B7EC-4B75-BDE9-9292FA6D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5C10C-DB96-4C45-803A-8CA7D43B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1A27C-CE6D-4C71-8964-A19492DE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7BCC-65CB-4FF8-8B99-6DE8E5EB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B5BDA-C715-4208-B266-A3D7E574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745E5-6A7C-4D07-91F7-A3523E74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F1CB3-F663-4434-92E9-A4AEB469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26D7A-48A9-4753-8279-F43CF095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9B8E1-CF29-43DC-8E76-DE84EC2F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76026-CFE9-4A45-90BD-F3275A0C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92293-220D-4510-942B-56A40760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45E86-B459-44F4-A50B-E5039144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C34B2-8B26-4269-8F98-F548A2E0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72617-6566-4E87-9FF5-46273B53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E39A-BBA9-4CF4-A81A-AF0009BA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499F5-84DB-40BF-8D46-571171BA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6D1C6-8C03-406B-9C7C-B2D76274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93BD8-44B1-485E-A2BA-24734464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E0616-18C7-4BF5-9212-FA351578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75D2D-439D-4C25-9746-CEB3D1B8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8EFF50-3DC2-44D5-8EC0-DADECE58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692367-A28F-4DC0-A159-3523730B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C6700-04B0-49EC-AE7A-FFE51AFE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617BC-4B58-4FED-B9A3-A23E053D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2F1A1-A9F5-4E2D-A75A-C345C001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9A7C-2D8C-40C0-AFD4-0955D83C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EF058-B90F-48A3-AB71-6AED9F20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04A360-0E57-4B39-8D9A-6392A633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FC7204-29BC-4B2F-AAF1-42BD0D4C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4A3B97-EB9D-4710-80D1-2EFF4487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D3C3A-D80B-4E7E-A1E4-11DE20F7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17F00-7122-43B1-88CD-7C69CA7E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14BEF-DF69-4BCE-89BF-2C89D606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AFD0C9-4CEE-4146-906E-0DDAF740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4C82FF-83DF-4AAD-ADB3-ABA79BBD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43D01C-FCAA-417D-899F-CDEBFECE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1639-9AD4-475C-8893-D3917901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3FD41-5250-4892-B912-014E2B00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E9402-DA2C-4753-87F9-E86CFC1B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C019B4-3DDD-45ED-AF1F-61DFC93C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20F606-2EF3-46A4-B658-F1309184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414985-BD9A-4933-A372-1D401F04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8531F-CB99-4BD2-B3B4-3D566867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2B2D0C-EE03-44A2-9A0A-F8DE38D6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9D6EC7-1FF9-45CC-8FE1-18BFD9C0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4A144D-826E-4F94-94B8-48CDBC42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2D319B-72B7-438F-AAFF-A5B357DB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A18D-9978-4C1A-9E3D-A845F5BA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84659D-E174-44F4-999C-B111C8FC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C6E9D6-EF3C-4A2B-8FBA-C6E2D896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4CF4D-CA28-4DAF-BFF0-C69C2A4A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565541-65FD-47D8-B82D-80818765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EE93EC-787F-4AB6-B090-71DFC368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320289-88D5-4601-BFD2-E019A835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D775A-157E-4F2A-8957-6EE059AC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84B5DC-202A-4B60-A204-C09FA964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7C45B9-73AC-4F14-B1E3-E136A56D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F176DE-3312-4082-BDF6-BA89CD86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CB7F-FE35-48FA-97AD-F50AAC20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4DA333-6F3D-4F08-9633-C3F5C1EA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A2EE6C-7939-4711-864F-3EB127F8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9B3E64-6195-4218-8985-68A798C4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3C7095-AAD4-4B2E-920F-4F3A19DA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6D7133-22FC-4BAD-895B-89960C39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8989E0-63C4-477C-98EF-9580F84A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648AE5-76EA-4C27-BAE4-DA5E0725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63D0C2-1152-43BC-9CE4-540314B5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837268-D826-4BA3-9BDD-4000142D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94D5EA-AA44-455F-AEAB-332DC02B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0973-FFF8-44B9-8376-0F03604B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8399FF-5B30-4F1A-8306-E73362C8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43482E-013A-4E08-9EF6-C7686F1B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3A24A4-FF6A-4D25-AFFB-7AF84F59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C161-127A-4BC5-A5CC-96883681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DC8C-1053-438B-B7B4-08569D0B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B446-CDCC-4A2B-8FDB-3AB24F46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B7AB-303F-4963-88E4-59E254DC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6529-80C0-4FE0-8489-AADEF0FC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0E42-C961-4F86-9769-B87FDF7E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93F68-EB47-4572-B302-5C93C900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D0F91-1750-492B-AB6A-B3F979D2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3275F-6CDE-4A72-B3B0-11A0E08F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7FCDA-EDE8-4B99-922B-A9228C11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3E144-A88A-4CF6-83DA-591DDA0F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69A-A483-42DA-AA77-1C810F7B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E6E35-8E8F-456E-896F-9897C3E0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C0685-0F07-4344-A04F-CADA8B46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FCF47-3E71-41A1-9711-2162E0B8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4B416-7675-4A9E-AC20-00B55F85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12419-212A-4F2F-955C-2A50DCB1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23B4D-1841-4E16-9E00-17801267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1A30C-348E-4845-A383-0433EC46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B2DC2-2DED-4B6B-AB2A-7F26D07C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25AE1-CFD1-4C6B-BC66-3844CCCD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8939E-E808-4401-8BFF-4813D4F5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9FC-8248-4BB7-AE17-90D59732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00E6B-D7B8-4404-944D-061161D9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5EDC0-B824-4CE8-A97D-55894A16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CAD76-FABD-4224-94E5-318E7FCB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D1183-EEB6-4BE2-81DE-09394DDE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7868E-ADD8-43CA-95FD-D041830A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EA8E0-4B66-4B8F-A80C-0E50A7B2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7F135-1E8B-4721-B702-435D1C00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70809-2CF8-4B5F-AB06-1C37E0F4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5F247-1982-4D5A-82A9-B337FA89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1A213-B14E-4081-9EDC-16F798D4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F8A3-361A-4CFB-A52E-EDA7CB5A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3147C-DB49-4A79-93AD-A19E97DC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5A387-3206-4ED4-BC27-552149F1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F833C-D9E3-48A0-B203-8A047F6B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CB830-C61B-4494-98E5-87DFF83F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364CF-8205-496E-AF14-BCF20B3E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E0CF5-7FDD-48D9-8FB7-417F50D5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06098-1C67-4AAB-842E-B1372B64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CA3A8-5C69-467E-8C9D-EBCAC0B9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DB56A-E682-46DA-B69B-5FBF728C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91AA4-BFBA-4F73-873E-58656BC0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F69-F5EC-4353-9194-A870925A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A49FB-894A-4EFA-9F16-C63F9BF8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49BB9-8D76-44D9-919A-2B6B5C6A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671E9-BD86-4813-9346-C2E5CDB7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5459E-47B0-4EF5-8F6A-03382AD0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60F29-73D1-44FC-804A-411E4BBD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BDE9D-BAAE-48CF-8D78-7C8B9DD3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37C6A-9C85-40E3-A3D1-F40C5433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1991F-9966-491C-932C-7521177B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7C73C-AA7D-43F2-A033-2CEBFDC6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CD967-C02C-4F63-B0D1-D2DAAEEA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E18-98DF-4F01-86CB-B510B184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B5493-EB7F-4EA2-BAF0-D9AD981C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FCA44-1DBC-423F-B595-B42657A4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BE499-3C09-4C55-A089-8B53FBDA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A15B6-1674-4B62-A33C-C0E3E777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D8F9E-292B-421B-BE0F-5B024A3B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438FB-EF2D-45B3-AD47-786378BB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69EE3-DE12-43F6-984C-D2BC9F45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D7093-1F7C-4316-B09E-A7B9CDFD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92304-5FC9-4D2E-9D7D-C94D8A9E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76A42-3703-405B-AEE0-4CFD88AE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7647-D7BE-4B4D-8960-BEA41C7F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8D51D-3932-4FE3-A235-91080D68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DE1F5-BE95-406D-8151-39DA68C9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8A8E3-27B3-4765-88C6-15B57B7D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8358A-DA17-47CE-928E-90BEB8CC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731CB-6211-4696-A773-46C7A022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22E96-3FF9-4F32-B44C-7CBFAE14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D573A-D62D-4F7A-8D5A-A22A170A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CD7C3-E9FE-465E-BE77-F5856753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EAA5E-2FCE-4C0E-96E0-24C08F1E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55C84-55E5-4A1B-848E-B66B43D6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274-DA74-467A-AE17-50F9F227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51CD4-BD88-46CA-BCDE-C69059B8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D54BA-949F-41E7-88EE-373EF115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19F94-B56E-4203-A26C-1A5A20BE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5706E-4FF2-403C-ABD0-6EA1EA88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B9864-F820-40DB-A459-ABB3A0B8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AC8D5-C187-4BC9-ABC9-863AC6E5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EFADD-8D44-4CC4-9D43-0D491BB0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E3612-4683-45D8-AB2F-78B32F88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22AE0-035D-45CE-9FF2-9DF82A58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C8D5B-5847-4A22-A149-0EB30AB6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A5D7-0690-4759-B3C7-EDEC5ADAA4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630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1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2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3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4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5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6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7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8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9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0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1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2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3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4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5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6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7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8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9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0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1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2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3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4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5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6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7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8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28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29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30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4975-AEA8-48BE-B804-27A45F2909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0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0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9834-100F-402A-9719-8964377ADA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6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7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8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9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0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1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2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3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8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9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0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1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2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3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4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5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6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7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3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3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3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13B1-90FB-4A19-A881-964069C2BE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843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4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5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6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7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8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9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0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1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5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6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7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8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0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1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2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3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4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5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6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7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8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9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0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1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dt" idx="3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ftr" idx="3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 type="sldNum" idx="3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8DBF-3E60-464D-821C-DCA990B159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914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5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6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7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8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9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0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1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2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3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4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5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6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7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8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9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0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1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2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3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4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5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6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7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8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9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0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1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2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4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4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4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9D89-51F6-4084-A0C9-75415D4536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985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6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7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8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9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0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1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2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3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4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5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6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7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8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9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0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1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2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3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4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5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6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9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0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1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2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3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43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44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45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6992-C665-4C84-A59A-DFA201AF2B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2937-F67F-4544-B5F0-E8F904F92D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6618-98D8-41EE-875C-0C61152E36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13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5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6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0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2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5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6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7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0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1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9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0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1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42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43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44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45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46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47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56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F921-F136-4063-A2A3-BBC6351B02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204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5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6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9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0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1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2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3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4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5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0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1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2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3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4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5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6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7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0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1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2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DFCB-019F-49EC-83DE-1199FCDFF8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275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6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7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8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9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0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1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2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4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5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6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7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8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9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0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1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2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3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4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5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6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7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8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9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0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1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2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3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1147-5909-4DAB-B2FB-C377E5EC0C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346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7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8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49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1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2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3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4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5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6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7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8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59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0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1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2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3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4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5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6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7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8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69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0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1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2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3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4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6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17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18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307F-CAA1-435C-91F7-01E1926371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417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8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0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1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2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3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4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5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6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7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8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9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0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1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2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3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4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5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6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7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8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9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0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1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2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3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4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5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19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0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21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03CD-D580-42C6-8C78-AD99C3A661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488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89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0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1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2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3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4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5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6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7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8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99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0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1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2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3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4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5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6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7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8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9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0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1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2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3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4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5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6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2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3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24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7E1B-9125-45BE-9B0B-0B9C3C88C0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559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0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1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2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3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4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5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6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8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69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0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1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2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3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4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5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6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7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8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79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0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1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2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3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4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5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6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87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25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26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27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3221-5353-4975-8F4A-6636A8B892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.jpeg"/><Relationship Id="rId4" Type="http://schemas.openxmlformats.org/officeDocument/2006/relationships/image" Target="../media/image24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image" Target="../media/image2.jpeg"/><Relationship Id="rId4" Type="http://schemas.openxmlformats.org/officeDocument/2006/relationships/image" Target="../media/image3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2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зентаци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интегрированному уроку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окружающему миру и русскому языку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4 клас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0" y="2637000"/>
            <a:ext cx="914400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Мир древности: далёкий и близкий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торостепенный член предложения –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бстоятельство»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ила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ОУ «Прогимназия «Идеал» г.Саратов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льцева И.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098" name="Picture 11" descr="P137_2"/>
          <p:cNvPicPr/>
          <p:nvPr/>
        </p:nvPicPr>
        <p:blipFill>
          <a:blip r:embed="rId1"/>
          <a:stretch/>
        </p:blipFill>
        <p:spPr>
          <a:xfrm>
            <a:off x="6948360" y="4076640"/>
            <a:ext cx="193356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Picture 5" descr="рамка"/>
          <p:cNvPicPr/>
          <p:nvPr/>
        </p:nvPicPr>
        <p:blipFill>
          <a:blip r:embed="rId1"/>
          <a:stretch/>
        </p:blipFill>
        <p:spPr>
          <a:xfrm>
            <a:off x="1332000" y="692280"/>
            <a:ext cx="6480000" cy="460836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a-Храм-Луксор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908000" y="1197000"/>
            <a:ext cx="5329440" cy="3583080"/>
          </a:xfrm>
          <a:prstGeom prst="rect">
            <a:avLst/>
          </a:prstGeom>
          <a:ln w="0">
            <a:noFill/>
          </a:ln>
        </p:spPr>
      </p:pic>
      <p:sp>
        <p:nvSpPr>
          <p:cNvPr id="1137" name="WordArt 8"/>
          <p:cNvSpPr txBox="1"/>
          <p:nvPr/>
        </p:nvSpPr>
        <p:spPr>
          <a:xfrm>
            <a:off x="3635280" y="5805360"/>
            <a:ext cx="21909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Храм Луксора</a:t>
            </a:r>
            <a:endParaRPr b="1" i="1" lang="en-US" sz="2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pull dir="l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/>
          </p:nvPr>
        </p:nvSpPr>
        <p:spPr>
          <a:xfrm>
            <a:off x="0" y="4797360"/>
            <a:ext cx="9144000" cy="187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ирамида Хеопса – крупнейшая пирамида мир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Это чудо – пирамида является усыпальницей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фараона Хеопса, её высота   148 метров,     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ес около семи миллионов тонн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139" name="Picture 5" descr="рамка"/>
          <p:cNvPicPr/>
          <p:nvPr/>
        </p:nvPicPr>
        <p:blipFill>
          <a:blip r:embed="rId1"/>
          <a:stretch/>
        </p:blipFill>
        <p:spPr>
          <a:xfrm>
            <a:off x="1908000" y="1197000"/>
            <a:ext cx="5112000" cy="344952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9" descr="0_2c577_f2dfbb54_-1-L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2195640" y="141300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1141" name="WordArt 8"/>
          <p:cNvSpPr txBox="1"/>
          <p:nvPr/>
        </p:nvSpPr>
        <p:spPr>
          <a:xfrm>
            <a:off x="1692360" y="333360"/>
            <a:ext cx="54385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Пирамида Хеопса</a:t>
            </a:r>
            <a:endParaRPr b="1" i="1" lang="en-US" sz="5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5" descr="рамка"/>
          <p:cNvPicPr/>
          <p:nvPr/>
        </p:nvPicPr>
        <p:blipFill>
          <a:blip r:embed="rId1"/>
          <a:stretch/>
        </p:blipFill>
        <p:spPr>
          <a:xfrm>
            <a:off x="324000" y="260280"/>
            <a:ext cx="4535280" cy="344988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8" descr="akropol"/>
          <p:cNvPicPr/>
          <p:nvPr/>
        </p:nvPicPr>
        <p:blipFill>
          <a:blip r:embed="rId2"/>
          <a:stretch/>
        </p:blipFill>
        <p:spPr>
          <a:xfrm>
            <a:off x="611280" y="549360"/>
            <a:ext cx="3960720" cy="28796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1" descr="рамка"/>
          <p:cNvPicPr/>
          <p:nvPr/>
        </p:nvPicPr>
        <p:blipFill>
          <a:blip r:embed="rId3"/>
          <a:stretch/>
        </p:blipFill>
        <p:spPr>
          <a:xfrm>
            <a:off x="4284720" y="3213000"/>
            <a:ext cx="4535280" cy="34498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6" descr="0_1ac68_8269f35f_L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4572000" y="3500280"/>
            <a:ext cx="3957480" cy="2880000"/>
          </a:xfrm>
          <a:prstGeom prst="rect">
            <a:avLst/>
          </a:prstGeom>
          <a:ln w="0">
            <a:noFill/>
          </a:ln>
        </p:spPr>
      </p:pic>
      <p:sp>
        <p:nvSpPr>
          <p:cNvPr id="1146" name="WordArt 19"/>
          <p:cNvSpPr txBox="1"/>
          <p:nvPr/>
        </p:nvSpPr>
        <p:spPr>
          <a:xfrm>
            <a:off x="5724360" y="692280"/>
            <a:ext cx="250524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Древняя</a:t>
            </a:r>
            <a:endParaRPr b="1" i="1" lang="en-US" sz="5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Греция</a:t>
            </a:r>
            <a:endParaRPr b="1" i="1" lang="en-US" sz="5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7" name="WordArt 20"/>
          <p:cNvSpPr txBox="1"/>
          <p:nvPr/>
        </p:nvSpPr>
        <p:spPr>
          <a:xfrm>
            <a:off x="1476360" y="3860640"/>
            <a:ext cx="14479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Акрополь</a:t>
            </a:r>
            <a:endParaRPr b="1" i="1" lang="en-US" sz="2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8" name="WordArt 21"/>
          <p:cNvSpPr txBox="1"/>
          <p:nvPr/>
        </p:nvSpPr>
        <p:spPr>
          <a:xfrm>
            <a:off x="1116000" y="5950080"/>
            <a:ext cx="254304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Храм Парфенон</a:t>
            </a:r>
            <a:endParaRPr b="1" i="1" lang="en-US" sz="2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149" name="Греческая музыка.mp3" descr=""/>
          <p:cNvPicPr/>
          <p:nvPr/>
        </p:nvPicPr>
        <p:blipFill>
          <a:blip r:embed="rId5"/>
          <a:stretch/>
        </p:blipFill>
        <p:spPr>
          <a:xfrm>
            <a:off x="8604360" y="6453360"/>
            <a:ext cx="215640" cy="21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1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0" name="Picture 7" descr="0_1ac68_8269f35f_L"/>
          <p:cNvPicPr/>
          <p:nvPr/>
        </p:nvPicPr>
        <p:blipFill>
          <a:blip r:embed="rId1"/>
          <a:stretch/>
        </p:blipFill>
        <p:spPr>
          <a:xfrm>
            <a:off x="250920" y="115920"/>
            <a:ext cx="7777080" cy="589428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8" descr="Статуя богини Афины - Фидий - Парфенон"/>
          <p:cNvPicPr/>
          <p:nvPr/>
        </p:nvPicPr>
        <p:blipFill>
          <a:blip r:embed="rId2"/>
          <a:stretch/>
        </p:blipFill>
        <p:spPr>
          <a:xfrm>
            <a:off x="5364000" y="907920"/>
            <a:ext cx="3529080" cy="4923000"/>
          </a:xfrm>
          <a:prstGeom prst="rect">
            <a:avLst/>
          </a:prstGeom>
          <a:ln w="0">
            <a:noFill/>
          </a:ln>
        </p:spPr>
      </p:pic>
      <p:sp>
        <p:nvSpPr>
          <p:cNvPr id="1152" name="WordArt 10"/>
          <p:cNvSpPr txBox="1"/>
          <p:nvPr/>
        </p:nvSpPr>
        <p:spPr>
          <a:xfrm>
            <a:off x="179280" y="6237360"/>
            <a:ext cx="88567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Мраморная статуя богини Афины знаменитого скульптора Фидия</a:t>
            </a:r>
            <a:endParaRPr b="1" i="1" lang="en-US" sz="2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pull dir="l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Picture 4" descr="52451764_ariadne1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0920" y="193680"/>
            <a:ext cx="3097080" cy="30384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5" descr="139"/>
          <p:cNvPicPr/>
          <p:nvPr/>
        </p:nvPicPr>
        <p:blipFill>
          <a:blip r:embed="rId2"/>
          <a:stretch/>
        </p:blipFill>
        <p:spPr>
          <a:xfrm>
            <a:off x="6588000" y="189000"/>
            <a:ext cx="2346480" cy="273672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6" descr="tantalus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3492360" y="765000"/>
            <a:ext cx="2882880" cy="374364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8" descr="12227-152137-6a5bdf3249482fce6692b2b3bbb6db2e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324000" y="3789360"/>
            <a:ext cx="3095640" cy="256212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10" descr="ahilles_"/>
          <p:cNvPicPr/>
          <p:nvPr/>
        </p:nvPicPr>
        <p:blipFill>
          <a:blip r:embed="rId5"/>
          <a:stretch/>
        </p:blipFill>
        <p:spPr>
          <a:xfrm>
            <a:off x="6516720" y="3933720"/>
            <a:ext cx="2376360" cy="2170080"/>
          </a:xfrm>
          <a:prstGeom prst="rect">
            <a:avLst/>
          </a:prstGeom>
          <a:ln w="0">
            <a:noFill/>
          </a:ln>
        </p:spPr>
      </p:pic>
      <p:sp>
        <p:nvSpPr>
          <p:cNvPr id="1158" name="WordArt 18"/>
          <p:cNvSpPr txBox="1"/>
          <p:nvPr/>
        </p:nvSpPr>
        <p:spPr>
          <a:xfrm>
            <a:off x="684360" y="3357720"/>
            <a:ext cx="22860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Ариаднина нить</a:t>
            </a:r>
            <a:endParaRPr b="1" i="1" lang="en-US" sz="2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59" name="WordArt 19"/>
          <p:cNvSpPr txBox="1"/>
          <p:nvPr/>
        </p:nvSpPr>
        <p:spPr>
          <a:xfrm>
            <a:off x="3780000" y="4724280"/>
            <a:ext cx="2286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Танталовы муки</a:t>
            </a:r>
            <a:endParaRPr b="1" i="1" lang="en-US" sz="2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60" name="WordArt 20"/>
          <p:cNvSpPr txBox="1"/>
          <p:nvPr/>
        </p:nvSpPr>
        <p:spPr>
          <a:xfrm>
            <a:off x="971640" y="6381720"/>
            <a:ext cx="18954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Дамоклов меч</a:t>
            </a:r>
            <a:endParaRPr b="1" i="1" lang="en-US" sz="2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61" name="WordArt 22"/>
          <p:cNvSpPr txBox="1"/>
          <p:nvPr/>
        </p:nvSpPr>
        <p:spPr>
          <a:xfrm>
            <a:off x="6516720" y="3141720"/>
            <a:ext cx="2467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Авгиевы конюшни</a:t>
            </a:r>
            <a:endParaRPr b="1" i="1" lang="en-US" sz="2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62" name="WordArt 23"/>
          <p:cNvSpPr txBox="1"/>
          <p:nvPr/>
        </p:nvSpPr>
        <p:spPr>
          <a:xfrm>
            <a:off x="6516720" y="6237360"/>
            <a:ext cx="2305080" cy="2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Ахиллесова пята</a:t>
            </a:r>
            <a:endParaRPr b="1" i="1" lang="en-US" sz="2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74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осстановите последовательность предложений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запишите в тетрадь текст и озаглавьте его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 В современном Риме сохранилось немало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ревних построек, которые рассказывают нам 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шлом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Здесь красиво располагались храмы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орговы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авки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банковски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тор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 Он был центром общественной жизни город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 Очень интересен Римский форум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164" name="Муз®Nїт^ѕЇnЋ-_моя_любимая_музыка)).mp3" descr=""/>
          <p:cNvPicPr/>
          <p:nvPr/>
        </p:nvPicPr>
        <p:blipFill>
          <a:blip r:embed="rId1"/>
          <a:stretch/>
        </p:blipFill>
        <p:spPr>
          <a:xfrm>
            <a:off x="179280" y="276120"/>
            <a:ext cx="144720" cy="144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1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34080" cy="32400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a080d"/>
                </a:solidFill>
                <a:latin typeface="Times New Roman"/>
              </a:rPr>
              <a:t>Здоровьесберегающие технологии</a:t>
            </a:r>
            <a:br>
              <a:rPr sz="4000"/>
            </a:br>
            <a:r>
              <a:rPr b="1" lang="ru-RU" sz="4000" spc="-1" strike="noStrike">
                <a:solidFill>
                  <a:srgbClr val="da080d"/>
                </a:solidFill>
                <a:latin typeface="Times New Roman"/>
              </a:rPr>
              <a:t> в начальной школе</a:t>
            </a:r>
            <a:br>
              <a:rPr sz="4000"/>
            </a:b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Коррекция зрения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Физминутка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6" name="Picture 5" descr="Рисунок2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50920" y="2133720"/>
            <a:ext cx="2857320" cy="286704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6" descr="Рисунок1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6014880" y="3789360"/>
            <a:ext cx="2284560" cy="2208240"/>
          </a:xfrm>
          <a:prstGeom prst="rect">
            <a:avLst/>
          </a:prstGeom>
          <a:ln w="0">
            <a:noFill/>
          </a:ln>
        </p:spPr>
      </p:pic>
      <p:sp>
        <p:nvSpPr>
          <p:cNvPr id="1168" name="Oval 7"/>
          <p:cNvSpPr/>
          <p:nvPr/>
        </p:nvSpPr>
        <p:spPr>
          <a:xfrm rot="2149800">
            <a:off x="4225680" y="3670200"/>
            <a:ext cx="1143000" cy="1079640"/>
          </a:xfrm>
          <a:prstGeom prst="ellipse">
            <a:avLst/>
          </a:prstGeom>
          <a:gradFill rotWithShape="0">
            <a:gsLst>
              <a:gs pos="0">
                <a:srgbClr val="5adc66"/>
              </a:gs>
              <a:gs pos="50000">
                <a:srgbClr val="da080d"/>
              </a:gs>
              <a:gs pos="100000">
                <a:srgbClr val="5adc66"/>
              </a:gs>
            </a:gsLst>
            <a:lin ang="32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169" name="Игра.mp3" descr=""/>
          <p:cNvPicPr/>
          <p:nvPr/>
        </p:nvPicPr>
        <p:blipFill>
          <a:blip r:embed="rId3"/>
          <a:stretch/>
        </p:blipFill>
        <p:spPr>
          <a:xfrm>
            <a:off x="32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1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Oval 2"/>
          <p:cNvSpPr/>
          <p:nvPr/>
        </p:nvSpPr>
        <p:spPr>
          <a:xfrm>
            <a:off x="324000" y="404640"/>
            <a:ext cx="1150920" cy="1081440"/>
          </a:xfrm>
          <a:prstGeom prst="ellipse">
            <a:avLst/>
          </a:prstGeom>
          <a:gradFill rotWithShape="0">
            <a:gsLst>
              <a:gs pos="0">
                <a:srgbClr val="eb1d5d"/>
              </a:gs>
              <a:gs pos="100000">
                <a:srgbClr val="6d0d2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1" name="Rectangle 3"/>
          <p:cNvSpPr/>
          <p:nvPr/>
        </p:nvSpPr>
        <p:spPr>
          <a:xfrm>
            <a:off x="7308720" y="5229360"/>
            <a:ext cx="1008360" cy="100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2" name="AutoShape 5"/>
          <p:cNvSpPr/>
          <p:nvPr/>
        </p:nvSpPr>
        <p:spPr>
          <a:xfrm>
            <a:off x="7020000" y="333360"/>
            <a:ext cx="1584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298a"/>
              </a:gs>
              <a:gs pos="100000">
                <a:srgbClr val="5013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3" name="AutoShape 7"/>
          <p:cNvSpPr/>
          <p:nvPr/>
        </p:nvSpPr>
        <p:spPr>
          <a:xfrm>
            <a:off x="324000" y="4797360"/>
            <a:ext cx="1438200" cy="1584360"/>
          </a:xfrm>
          <a:prstGeom prst="diamond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174" name="Picture 8" descr="0_2985f_846079dd_L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768760" y="1685880"/>
            <a:ext cx="3295440" cy="3306960"/>
          </a:xfrm>
          <a:prstGeom prst="rect">
            <a:avLst/>
          </a:prstGeom>
          <a:ln w="0">
            <a:noFill/>
          </a:ln>
        </p:spPr>
      </p:pic>
    </p:spTree>
  </p:cSld>
  <p:transition advTm="1000"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031E-006 L 0.74827 -0.00532 E">
                                      <p:cBhvr>
                                        <p:cTn id="83" dur="2000" fill="hold"/>
                                        <p:tgtEl>
                                          <p:spTgt spid="1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32 L 0.00018 0.67137 E">
                                      <p:cBhvr>
                                        <p:cTn id="87" dur="2000" fill="hold"/>
                                        <p:tgtEl>
                                          <p:spTgt spid="1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2613 L -0.7165 -0.03654 E">
                                      <p:cBhvr>
                                        <p:cTn id="91" dur="2000" fill="hold"/>
                                        <p:tgtEl>
                                          <p:spTgt spid="1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648E-006 L -0.00799 -0.65565 E">
                                      <p:cBhvr>
                                        <p:cTn id="95" dur="2000" fill="hold"/>
                                        <p:tgtEl>
                                          <p:spTgt spid="1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Oval 2"/>
          <p:cNvSpPr/>
          <p:nvPr/>
        </p:nvSpPr>
        <p:spPr>
          <a:xfrm>
            <a:off x="482760" y="2766960"/>
            <a:ext cx="1008000" cy="9367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advTm="1000">
    <p:wheel spokes="3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1896 C -0.01961 -0.12902 0.07639 -0.25156 0.19271 -0.25156 C 0.33004 -0.25156 0.37969 -0.11561 0.40018 -0.03445 L 0.42171 0.07283 C 0.44306 0.15376 0.49619 0.28763 0.65087 0.28763 C 0.75 0.28763 0.86198 0.16671 0.86198 0.01896 C 0.86198 -0.12902 0.75 -0.25156 0.65087 -0.25156 C 0.49619 -0.25156 0.44306 -0.11561 0.42171 -0.03445 L 0.40018 0.07283 C 0.37969 0.15376 0.33004 0.28763 0.19271 0.28763 C 0.07639 0.28763 -0.01961 0.16671 -0.01961 0.01896 Z">
                                      <p:cBhvr>
                                        <p:cTn id="105" dur="3000" fill="hold"/>
                                        <p:tgtEl>
                                          <p:spTgt spid="1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Oval 2"/>
          <p:cNvSpPr/>
          <p:nvPr/>
        </p:nvSpPr>
        <p:spPr>
          <a:xfrm>
            <a:off x="423720" y="2948040"/>
            <a:ext cx="1008360" cy="936720"/>
          </a:xfrm>
          <a:prstGeom prst="ellipse">
            <a:avLst/>
          </a:prstGeom>
          <a:solidFill>
            <a:srgbClr val="e03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177" name="Picture 5" descr="0_2985f_846079dd_L"/>
          <p:cNvPicPr/>
          <p:nvPr/>
        </p:nvPicPr>
        <p:blipFill>
          <a:blip r:embed="rId1"/>
          <a:stretch/>
        </p:blipFill>
        <p:spPr>
          <a:xfrm>
            <a:off x="3489480" y="0"/>
            <a:ext cx="1798560" cy="180504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0.00833 C -0.0276 -0.1452 0.06841 -0.2726 0.18473 -0.2726 C 0.32205 -0.2726 0.37171 -0.13133 0.39219 -0.04717 L 0.41372 0.06428 C 0.43507 0.14821 0.4882 0.28786 0.64289 0.28786 C 0.74202 0.28786 0.854 0.16208 0.854 0.00833 C 0.85365 -0.1452 0.74202 -0.2726 0.64289 -0.2726 C 0.4882 -0.2726 0.43507 -0.13133 0.41372 -0.04717 L 0.39219 0.06428 C 0.37171 0.14844 0.32205 0.28786 0.18473 0.28786 C 0.06841 0.28786 -0.0276 0.16208 -0.02725 0.00833 Z">
                                      <p:cBhvr>
                                        <p:cTn id="115" dur="3000" fill="hold"/>
                                        <p:tgtEl>
                                          <p:spTgt spid="1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e5d58a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2" descr="рамка"/>
          <p:cNvPicPr/>
          <p:nvPr/>
        </p:nvPicPr>
        <p:blipFill>
          <a:blip r:embed="rId1"/>
          <a:stretch/>
        </p:blipFill>
        <p:spPr>
          <a:xfrm>
            <a:off x="3564000" y="2781360"/>
            <a:ext cx="5040360" cy="315288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3" descr="Прогимназия 2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851280" y="2997360"/>
            <a:ext cx="4465800" cy="270000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Рисунок1"/>
          <p:cNvPicPr/>
          <p:nvPr/>
        </p:nvPicPr>
        <p:blipFill>
          <a:blip r:embed="rId3"/>
          <a:stretch/>
        </p:blipFill>
        <p:spPr>
          <a:xfrm>
            <a:off x="2916360" y="2492280"/>
            <a:ext cx="5905440" cy="4029120"/>
          </a:xfrm>
          <a:prstGeom prst="rect">
            <a:avLst/>
          </a:prstGeom>
          <a:ln w="0">
            <a:noFill/>
          </a:ln>
        </p:spPr>
      </p:pic>
      <p:sp>
        <p:nvSpPr>
          <p:cNvPr id="1102" name="WordArt 5"/>
          <p:cNvSpPr txBox="1"/>
          <p:nvPr/>
        </p:nvSpPr>
        <p:spPr>
          <a:xfrm>
            <a:off x="2700360" y="476280"/>
            <a:ext cx="608652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666633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ЧОУ "Прогимназия</a:t>
            </a:r>
            <a:endParaRPr b="1" i="1" lang="en-US" sz="5400" spc="1" strike="noStrike">
              <a:ln w="19080">
                <a:solidFill>
                  <a:srgbClr val="666633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666633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i="1" lang="en-US" sz="5400" spc="1" strike="noStrike">
                <a:ln w="19080">
                  <a:solidFill>
                    <a:srgbClr val="666633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Идеал"</a:t>
            </a:r>
            <a:endParaRPr b="1" i="1" lang="en-US" sz="5400" spc="1" strike="noStrike">
              <a:ln w="19080">
                <a:solidFill>
                  <a:srgbClr val="666633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ubPieSlice"/>
          <p:cNvSpPr/>
          <p:nvPr/>
        </p:nvSpPr>
        <p:spPr>
          <a:xfrm>
            <a:off x="1619280" y="404640"/>
            <a:ext cx="6769080" cy="6193080"/>
          </a:xfrm>
          <a:custGeom>
            <a:avLst/>
            <a:gdLst>
              <a:gd name="textAreaLeft" fmla="*/ 991080 w 6769080"/>
              <a:gd name="textAreaRight" fmla="*/ 5778000 w 6769080"/>
              <a:gd name="textAreaTop" fmla="*/ 906840 h 6193080"/>
              <a:gd name="textAreaBottom" fmla="*/ 5286240 h 6193080"/>
            </a:gdLst>
            <a:ahLst/>
            <a:rect l="textAreaLeft" t="textAreaTop" r="textAreaRight" b="textAreaBottom"/>
            <a:pathLst>
              <a:path w="21600" h="21600">
                <a:moveTo>
                  <a:pt x="21599" y="10725"/>
                </a:moveTo>
                <a:cubicBezTo>
                  <a:pt x="21559" y="4790"/>
                  <a:pt x="1673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lnTo>
                  <a:pt x="10800" y="10800"/>
                </a:lnTo>
                <a:lnTo>
                  <a:pt x="21599" y="1072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9" name="Oval 3"/>
          <p:cNvSpPr/>
          <p:nvPr/>
        </p:nvSpPr>
        <p:spPr>
          <a:xfrm>
            <a:off x="4643280" y="3247920"/>
            <a:ext cx="72072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180" name="Picture 5" descr="li10_2"/>
          <p:cNvPicPr/>
          <p:nvPr/>
        </p:nvPicPr>
        <p:blipFill>
          <a:blip r:embed="rId2"/>
          <a:stretch/>
        </p:blipFill>
        <p:spPr>
          <a:xfrm>
            <a:off x="1619280" y="3429000"/>
            <a:ext cx="6734160" cy="936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67 -0.03191 C 0.346 -0.28931 0.17222 -0.48335 -0.02691 -0.45953 C -0.21771 -0.43871 -0.37639 -0.23473 -0.36042 0.01688 C -0.34809 0.25 -0.20104 0.43872 -0.02257 0.41952 C 0.14097 0.40079 0.27968 0.22711 0.2684 0.00971 C 0.25729 -0.18802 0.13298 -0.3506 -0.01927 -0.33603 C -0.15868 -0.31984 -0.275 -0.17599 -0.26424 0.00717 C -0.25608 0.17137 -0.15538 0.30921 -0.0316 0.29232 C 0.08246 0.28099 0.17934 0.17045 0.17274 0.02105 C 0.16389 -0.10985 0.08628 -0.22317 -0.01198 -0.21022 C -0.09757 -0.20282 -0.17587 -0.11702 -0.16962 -0.003 C -0.16459 0.09228 -0.10973 0.17507 -0.03785 0.16929 C 0.02135 0.16397 0.07916 0.10939 0.07343 0.0333 C 0.07205 -0.02937 0.03854 -0.09066 -0.00417 -0.0895 C -0.03941 -0.08256 -0.0724 -0.06036 -0.07448 -0.01572 C -0.07379 0.01342 -0.06372 0.0377 -0.04601 0.0444 C -0.03525 0.04764 -0.03125 0.04464 -0.02223 0.04117 E">
                                      <p:cBhvr>
                                        <p:cTn id="126" dur="5000" fill="hold"/>
                                        <p:tgtEl>
                                          <p:spTgt spid="1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Oval 4"/>
          <p:cNvSpPr/>
          <p:nvPr/>
        </p:nvSpPr>
        <p:spPr>
          <a:xfrm>
            <a:off x="3059280" y="4221000"/>
            <a:ext cx="2520720" cy="216072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advTm="1000">
    <p:wheel spokes="3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8419 L -0.00382 -0.61609 E">
                                      <p:cBhvr>
                                        <p:cTn id="132" dur="2000" fill="hold"/>
                                        <p:tgtEl>
                                          <p:spTgt spid="1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path" presetID="4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60823 L -0.00382 0.08418 E">
                                      <p:cBhvr>
                                        <p:cTn id="135" dur="1000" fill="hold"/>
                                        <p:tgtEl>
                                          <p:spTgt spid="1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Oval 2"/>
          <p:cNvSpPr/>
          <p:nvPr/>
        </p:nvSpPr>
        <p:spPr>
          <a:xfrm>
            <a:off x="395280" y="2492280"/>
            <a:ext cx="2376360" cy="208908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advTm="1000">
    <p:wheel spokes="3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03423E-006 L 0.66944 0.00532 E">
                                      <p:cBhvr>
                                        <p:cTn id="141" dur="2000" fill="hold"/>
                                        <p:tgtEl>
                                          <p:spTgt spid="1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pat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6945 0.00532 L -3.33333E-006 -0.00509 E">
                                      <p:cBhvr>
                                        <p:cTn id="144" dur="1000" fill="hold"/>
                                        <p:tgtEl>
                                          <p:spTgt spid="1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Oval 4"/>
          <p:cNvSpPr/>
          <p:nvPr/>
        </p:nvSpPr>
        <p:spPr>
          <a:xfrm>
            <a:off x="3780000" y="2708280"/>
            <a:ext cx="1655640" cy="1512720"/>
          </a:xfrm>
          <a:prstGeom prst="ellipse">
            <a:avLst/>
          </a:prstGeom>
          <a:gradFill rotWithShape="0">
            <a:gsLst>
              <a:gs pos="0">
                <a:srgbClr val="e03c82"/>
              </a:gs>
              <a:gs pos="100000">
                <a:srgbClr val="681c3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advTm="1000">
    <p:wheel spokes="3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Oval 2"/>
          <p:cNvSpPr/>
          <p:nvPr/>
        </p:nvSpPr>
        <p:spPr>
          <a:xfrm>
            <a:off x="7518240" y="5533920"/>
            <a:ext cx="1203480" cy="1022400"/>
          </a:xfrm>
          <a:prstGeom prst="ellipse">
            <a:avLst/>
          </a:prstGeom>
          <a:solidFill>
            <a:srgbClr val="e03c82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 flipV="1">
            <a:off x="297000" y="6264000"/>
            <a:ext cx="8596080" cy="903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6" name="Line 4"/>
          <p:cNvSpPr/>
          <p:nvPr/>
        </p:nvSpPr>
        <p:spPr>
          <a:xfrm>
            <a:off x="297000" y="5543640"/>
            <a:ext cx="8550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7" name="Line 5"/>
          <p:cNvSpPr/>
          <p:nvPr/>
        </p:nvSpPr>
        <p:spPr>
          <a:xfrm>
            <a:off x="297000" y="4824360"/>
            <a:ext cx="8550000" cy="44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8" name="Line 6"/>
          <p:cNvSpPr/>
          <p:nvPr/>
        </p:nvSpPr>
        <p:spPr>
          <a:xfrm>
            <a:off x="250920" y="4103640"/>
            <a:ext cx="8642160" cy="46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9" name="Line 7"/>
          <p:cNvSpPr/>
          <p:nvPr/>
        </p:nvSpPr>
        <p:spPr>
          <a:xfrm>
            <a:off x="297000" y="338472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0" name="Line 8"/>
          <p:cNvSpPr/>
          <p:nvPr/>
        </p:nvSpPr>
        <p:spPr>
          <a:xfrm>
            <a:off x="297000" y="266400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1" name="Line 9"/>
          <p:cNvSpPr/>
          <p:nvPr/>
        </p:nvSpPr>
        <p:spPr>
          <a:xfrm flipV="1">
            <a:off x="250920" y="1942920"/>
            <a:ext cx="8686800" cy="45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2" name="Line 10"/>
          <p:cNvSpPr/>
          <p:nvPr/>
        </p:nvSpPr>
        <p:spPr>
          <a:xfrm flipV="1">
            <a:off x="297000" y="122364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3" name="Line 11"/>
          <p:cNvSpPr/>
          <p:nvPr/>
        </p:nvSpPr>
        <p:spPr>
          <a:xfrm flipV="1">
            <a:off x="341280" y="549000"/>
            <a:ext cx="850572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4" name="Line 1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5" name="Line 13"/>
          <p:cNvSpPr/>
          <p:nvPr/>
        </p:nvSpPr>
        <p:spPr>
          <a:xfrm>
            <a:off x="905040" y="0"/>
            <a:ext cx="8856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6" name="Line 14"/>
          <p:cNvSpPr/>
          <p:nvPr/>
        </p:nvSpPr>
        <p:spPr>
          <a:xfrm>
            <a:off x="1685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7" name="Line 15"/>
          <p:cNvSpPr/>
          <p:nvPr/>
        </p:nvSpPr>
        <p:spPr>
          <a:xfrm>
            <a:off x="24066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8" name="Line 16"/>
          <p:cNvSpPr/>
          <p:nvPr/>
        </p:nvSpPr>
        <p:spPr>
          <a:xfrm>
            <a:off x="3129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9" name="Line 17"/>
          <p:cNvSpPr/>
          <p:nvPr/>
        </p:nvSpPr>
        <p:spPr>
          <a:xfrm>
            <a:off x="38498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0" name="Line 1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1" name="Line 19"/>
          <p:cNvSpPr/>
          <p:nvPr/>
        </p:nvSpPr>
        <p:spPr>
          <a:xfrm>
            <a:off x="5234040" y="0"/>
            <a:ext cx="6012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2" name="Line 20"/>
          <p:cNvSpPr/>
          <p:nvPr/>
        </p:nvSpPr>
        <p:spPr>
          <a:xfrm>
            <a:off x="6014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3" name="Line 21"/>
          <p:cNvSpPr/>
          <p:nvPr/>
        </p:nvSpPr>
        <p:spPr>
          <a:xfrm>
            <a:off x="67374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4" name="Line 22"/>
          <p:cNvSpPr/>
          <p:nvPr/>
        </p:nvSpPr>
        <p:spPr>
          <a:xfrm>
            <a:off x="7458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5" name="Line 23"/>
          <p:cNvSpPr/>
          <p:nvPr/>
        </p:nvSpPr>
        <p:spPr>
          <a:xfrm>
            <a:off x="8120160" y="0"/>
            <a:ext cx="11880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6" name="Line 24"/>
          <p:cNvSpPr/>
          <p:nvPr/>
        </p:nvSpPr>
        <p:spPr>
          <a:xfrm>
            <a:off x="8901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7" name="Line 25"/>
          <p:cNvSpPr/>
          <p:nvPr/>
        </p:nvSpPr>
        <p:spPr>
          <a:xfrm>
            <a:off x="603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8" name="Line 26"/>
          <p:cNvSpPr/>
          <p:nvPr/>
        </p:nvSpPr>
        <p:spPr>
          <a:xfrm>
            <a:off x="303120" y="5894280"/>
            <a:ext cx="85978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9" name="Line 27"/>
          <p:cNvSpPr/>
          <p:nvPr/>
        </p:nvSpPr>
        <p:spPr>
          <a:xfrm>
            <a:off x="1325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0" name="Line 28"/>
          <p:cNvSpPr/>
          <p:nvPr/>
        </p:nvSpPr>
        <p:spPr>
          <a:xfrm>
            <a:off x="7097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1" name="Line 29"/>
          <p:cNvSpPr/>
          <p:nvPr/>
        </p:nvSpPr>
        <p:spPr>
          <a:xfrm>
            <a:off x="20462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2" name="Line 30"/>
          <p:cNvSpPr/>
          <p:nvPr/>
        </p:nvSpPr>
        <p:spPr>
          <a:xfrm>
            <a:off x="2768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3" name="Line 31"/>
          <p:cNvSpPr/>
          <p:nvPr/>
        </p:nvSpPr>
        <p:spPr>
          <a:xfrm flipH="1">
            <a:off x="3429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4" name="Line 32"/>
          <p:cNvSpPr/>
          <p:nvPr/>
        </p:nvSpPr>
        <p:spPr>
          <a:xfrm>
            <a:off x="41511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5" name="Line 33"/>
          <p:cNvSpPr/>
          <p:nvPr/>
        </p:nvSpPr>
        <p:spPr>
          <a:xfrm>
            <a:off x="4871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6" name="Line 34"/>
          <p:cNvSpPr/>
          <p:nvPr/>
        </p:nvSpPr>
        <p:spPr>
          <a:xfrm flipV="1">
            <a:off x="243000" y="5232240"/>
            <a:ext cx="859788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7" name="Line 35"/>
          <p:cNvSpPr/>
          <p:nvPr/>
        </p:nvSpPr>
        <p:spPr>
          <a:xfrm>
            <a:off x="243000" y="445140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8" name="Line 36"/>
          <p:cNvSpPr/>
          <p:nvPr/>
        </p:nvSpPr>
        <p:spPr>
          <a:xfrm>
            <a:off x="250920" y="371628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9" name="Line 37"/>
          <p:cNvSpPr/>
          <p:nvPr/>
        </p:nvSpPr>
        <p:spPr>
          <a:xfrm>
            <a:off x="243000" y="300816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0" name="Line 38"/>
          <p:cNvSpPr/>
          <p:nvPr/>
        </p:nvSpPr>
        <p:spPr>
          <a:xfrm flipV="1">
            <a:off x="250920" y="227628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1" name="Line 39"/>
          <p:cNvSpPr/>
          <p:nvPr/>
        </p:nvSpPr>
        <p:spPr>
          <a:xfrm flipV="1">
            <a:off x="250920" y="1557360"/>
            <a:ext cx="8742240" cy="71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2" name="Line 40"/>
          <p:cNvSpPr/>
          <p:nvPr/>
        </p:nvSpPr>
        <p:spPr>
          <a:xfrm flipV="1">
            <a:off x="303120" y="842760"/>
            <a:ext cx="859788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3" name="Line 41"/>
          <p:cNvSpPr/>
          <p:nvPr/>
        </p:nvSpPr>
        <p:spPr>
          <a:xfrm flipV="1">
            <a:off x="243000" y="242640"/>
            <a:ext cx="8658000" cy="586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4" name="Line 42"/>
          <p:cNvSpPr/>
          <p:nvPr/>
        </p:nvSpPr>
        <p:spPr>
          <a:xfrm>
            <a:off x="5654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5" name="Line 43"/>
          <p:cNvSpPr/>
          <p:nvPr/>
        </p:nvSpPr>
        <p:spPr>
          <a:xfrm>
            <a:off x="63752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6" name="Line 44"/>
          <p:cNvSpPr/>
          <p:nvPr/>
        </p:nvSpPr>
        <p:spPr>
          <a:xfrm>
            <a:off x="7758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7" name="Line 45"/>
          <p:cNvSpPr/>
          <p:nvPr/>
        </p:nvSpPr>
        <p:spPr>
          <a:xfrm>
            <a:off x="85406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advTm="1000">
    <p:wheel spokes="3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10916E-006 L -0.78264 -0.784 E">
                                      <p:cBhvr>
                                        <p:cTn id="156" dur="2000" fill="hold"/>
                                        <p:tgtEl>
                                          <p:spTgt spid="1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-0.784 L -0.78264 0.0481 E">
                                      <p:cBhvr>
                                        <p:cTn id="160" dur="2000" fill="hold"/>
                                        <p:tgtEl>
                                          <p:spTgt spid="1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6563 -0.80157 E">
                                      <p:cBhvr>
                                        <p:cTn id="164" dur="2000" fill="hold"/>
                                        <p:tgtEl>
                                          <p:spTgt spid="1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81 -0.80157 L 0.03281 -0.01318 E">
                                      <p:cBhvr>
                                        <p:cTn id="168" dur="2000" fill="hold"/>
                                        <p:tgtEl>
                                          <p:spTgt spid="1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-0.0592 0.03931 E">
                                      <p:cBhvr>
                                        <p:cTn id="172" dur="2000" fill="hold"/>
                                        <p:tgtEl>
                                          <p:spTgt spid="1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3281 -0.80157 E">
                                      <p:cBhvr>
                                        <p:cTn id="176" dur="2000" fill="hold"/>
                                        <p:tgtEl>
                                          <p:spTgt spid="1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63 -0.80157 L -0.77604 -0.81036 E">
                                      <p:cBhvr>
                                        <p:cTn id="180" dur="2000" fill="hold"/>
                                        <p:tgtEl>
                                          <p:spTgt spid="1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Group 2"/>
          <p:cNvGrpSpPr/>
          <p:nvPr/>
        </p:nvGrpSpPr>
        <p:grpSpPr>
          <a:xfrm>
            <a:off x="1917720" y="955800"/>
            <a:ext cx="4967280" cy="4966920"/>
            <a:chOff x="1917720" y="955800"/>
            <a:chExt cx="4967280" cy="4966920"/>
          </a:xfrm>
        </p:grpSpPr>
        <p:sp>
          <p:nvSpPr>
            <p:cNvPr id="1229" name="Oval 3"/>
            <p:cNvSpPr/>
            <p:nvPr/>
          </p:nvSpPr>
          <p:spPr>
            <a:xfrm rot="16200000">
              <a:off x="5193720" y="228780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30" name="Oval 4"/>
            <p:cNvSpPr/>
            <p:nvPr/>
          </p:nvSpPr>
          <p:spPr>
            <a:xfrm rot="16200000">
              <a:off x="2601360" y="228780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31" name="Oval 5"/>
            <p:cNvSpPr/>
            <p:nvPr/>
          </p:nvSpPr>
          <p:spPr>
            <a:xfrm>
              <a:off x="3933720" y="354816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fb53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32" name="Oval 6"/>
            <p:cNvSpPr/>
            <p:nvPr/>
          </p:nvSpPr>
          <p:spPr>
            <a:xfrm>
              <a:off x="3933720" y="95580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33" name="Oval 7"/>
            <p:cNvSpPr/>
            <p:nvPr/>
          </p:nvSpPr>
          <p:spPr>
            <a:xfrm>
              <a:off x="4005360" y="3043080"/>
              <a:ext cx="865080" cy="8650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234" name="Oval 8"/>
          <p:cNvSpPr/>
          <p:nvPr/>
        </p:nvSpPr>
        <p:spPr>
          <a:xfrm>
            <a:off x="4282920" y="836640"/>
            <a:ext cx="287640" cy="287280"/>
          </a:xfrm>
          <a:prstGeom prst="ellipse">
            <a:avLst/>
          </a:prstGeom>
          <a:solidFill>
            <a:srgbClr val="ffff00"/>
          </a:soli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235" name="Picture 10" descr="0_2985f_846079dd_L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7526160" y="2225520"/>
            <a:ext cx="1617840" cy="162432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12" descr="0_2985f_846079dd_L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7164360" y="4869000"/>
            <a:ext cx="1677960" cy="1684080"/>
          </a:xfrm>
          <a:prstGeom prst="rect">
            <a:avLst/>
          </a:prstGeom>
          <a:ln w="0">
            <a:noFill/>
          </a:ln>
        </p:spPr>
      </p:pic>
      <p:pic>
        <p:nvPicPr>
          <p:cNvPr id="1237" name="Picture 14" descr="0_2985f_846079dd_L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243000" y="4992840"/>
            <a:ext cx="1536480" cy="1541160"/>
          </a:xfrm>
          <a:prstGeom prst="rect">
            <a:avLst/>
          </a:prstGeom>
          <a:ln w="0">
            <a:noFill/>
          </a:ln>
        </p:spPr>
      </p:pic>
      <p:pic>
        <p:nvPicPr>
          <p:cNvPr id="1238" name="Picture 15" descr="0_2985f_846079dd_L"/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0" y="2587680"/>
            <a:ext cx="1498680" cy="1503360"/>
          </a:xfrm>
          <a:prstGeom prst="rect">
            <a:avLst/>
          </a:prstGeom>
          <a:ln w="0">
            <a:noFill/>
          </a:ln>
        </p:spPr>
      </p:pic>
      <p:pic>
        <p:nvPicPr>
          <p:cNvPr id="1239" name="Picture 16" descr="0_2985f_846079dd_L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250920" y="765000"/>
            <a:ext cx="1500120" cy="150516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17" descr="0_17a29_bfc59d0a_XL"/>
          <p:cNvPicPr/>
          <p:nvPr/>
        </p:nvPicPr>
        <p:blipFill>
          <a:blip r:embed="rId6"/>
          <a:stretch/>
        </p:blipFill>
        <p:spPr>
          <a:xfrm>
            <a:off x="7308720" y="765000"/>
            <a:ext cx="1262160" cy="1221120"/>
          </a:xfrm>
          <a:prstGeom prst="rect">
            <a:avLst/>
          </a:prstGeom>
          <a:ln w="0">
            <a:noFill/>
          </a:ln>
        </p:spPr>
      </p:pic>
      <p:sp>
        <p:nvSpPr>
          <p:cNvPr id="1241" name="WordArt 16"/>
          <p:cNvSpPr txBox="1"/>
          <p:nvPr/>
        </p:nvSpPr>
        <p:spPr>
          <a:xfrm>
            <a:off x="900000" y="115920"/>
            <a:ext cx="734400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танцуйте вместе с нами!</a:t>
            </a:r>
            <a:endParaRPr b="1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1000">
    <p:wheel spokes="3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7" dur="3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189" dur="5000" fill="hold"/>
                                        <p:tgtEl>
                                          <p:spTgt spid="1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1" dur="5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1" dur="2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7" dur="2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2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2" name="Picture 3" descr="0_2985f_846079dd_L"/>
          <p:cNvPicPr/>
          <p:nvPr/>
        </p:nvPicPr>
        <p:blipFill>
          <a:blip r:embed="rId1"/>
          <a:stretch/>
        </p:blipFill>
        <p:spPr>
          <a:xfrm rot="20353800">
            <a:off x="610920" y="0"/>
            <a:ext cx="2727360" cy="273672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4" descr="0_17a29_bfc59d0a_XL"/>
          <p:cNvPicPr/>
          <p:nvPr/>
        </p:nvPicPr>
        <p:blipFill>
          <a:blip r:embed="rId2"/>
          <a:stretch/>
        </p:blipFill>
        <p:spPr>
          <a:xfrm>
            <a:off x="3492360" y="2349360"/>
            <a:ext cx="1729080" cy="167184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5" descr="0_2985f_846079dd_L"/>
          <p:cNvPicPr/>
          <p:nvPr/>
        </p:nvPicPr>
        <p:blipFill>
          <a:blip r:embed="rId3"/>
          <a:stretch/>
        </p:blipFill>
        <p:spPr>
          <a:xfrm rot="3219600">
            <a:off x="6046920" y="2096280"/>
            <a:ext cx="2952720" cy="2592360"/>
          </a:xfrm>
          <a:prstGeom prst="rect">
            <a:avLst/>
          </a:prstGeom>
          <a:ln w="0">
            <a:noFill/>
          </a:ln>
        </p:spPr>
      </p:pic>
      <p:pic>
        <p:nvPicPr>
          <p:cNvPr id="1245" name="Picture 6" descr="0_2985f_846079dd_L"/>
          <p:cNvPicPr/>
          <p:nvPr/>
        </p:nvPicPr>
        <p:blipFill>
          <a:blip r:embed="rId4"/>
          <a:stretch/>
        </p:blipFill>
        <p:spPr>
          <a:xfrm rot="20424000">
            <a:off x="179280" y="3212640"/>
            <a:ext cx="2799000" cy="280836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7" descr="0_2985f_846079dd_L"/>
          <p:cNvPicPr/>
          <p:nvPr/>
        </p:nvPicPr>
        <p:blipFill>
          <a:blip r:embed="rId5"/>
          <a:stretch/>
        </p:blipFill>
        <p:spPr>
          <a:xfrm>
            <a:off x="4140360" y="3976560"/>
            <a:ext cx="2871720" cy="288144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8" descr="0_2985f_846079dd_L"/>
          <p:cNvPicPr/>
          <p:nvPr/>
        </p:nvPicPr>
        <p:blipFill>
          <a:blip r:embed="rId6"/>
          <a:stretch/>
        </p:blipFill>
        <p:spPr>
          <a:xfrm rot="1380000">
            <a:off x="4642920" y="0"/>
            <a:ext cx="2629080" cy="2637000"/>
          </a:xfrm>
          <a:prstGeom prst="rect">
            <a:avLst/>
          </a:prstGeom>
          <a:ln w="0">
            <a:noFill/>
          </a:ln>
        </p:spPr>
      </p:pic>
      <p:sp>
        <p:nvSpPr>
          <p:cNvPr id="1248" name="WordArt 10"/>
          <p:cNvSpPr txBox="1"/>
          <p:nvPr/>
        </p:nvSpPr>
        <p:spPr>
          <a:xfrm>
            <a:off x="2556000" y="2708280"/>
            <a:ext cx="3528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дитесь.</a:t>
            </a:r>
            <a:endParaRPr b="1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heel spokes="3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820000" cy="685800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33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999933"/>
                </a:solidFill>
                <a:latin typeface="Times New Roman"/>
              </a:rPr>
              <a:t>Проверьте текст.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  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В современном Риме сохранилось немало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древних построек, которые рассказывают нам о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прошлом. Очень интересен Римский форум. Он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был центром общественной жизни города. Здесь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красиво располагались храмы,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торговые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лавки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и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банковские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контор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Times New Roman"/>
              </a:rPr>
              <a:t>            </a:t>
            </a:r>
            <a:r>
              <a:rPr b="1" i="1" lang="ru-RU" sz="2800" spc="-1" strike="noStrike">
                <a:solidFill>
                  <a:srgbClr val="999933"/>
                </a:solidFill>
                <a:latin typeface="Times New Roman"/>
              </a:rPr>
              <a:t>Поработаем на интерактивной доске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9933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999933"/>
                </a:solidFill>
                <a:latin typeface="Times New Roman"/>
              </a:rPr>
              <a:t>Сделайте синтаксический разбор предложения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Здесь красиво располагались храмы,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торговые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лавки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и банковские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контор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9933"/>
                </a:solidFill>
                <a:latin typeface="Times New Roman"/>
              </a:rPr>
              <a:t>Постойте схему этого  предложения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9933"/>
                </a:solidFill>
                <a:latin typeface="Times New Roman"/>
              </a:rPr>
              <a:t>Найдите и подчеркните обстоятельства в тексте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0" name="Picture 5" descr="рамка"/>
          <p:cNvPicPr/>
          <p:nvPr/>
        </p:nvPicPr>
        <p:blipFill>
          <a:blip r:embed="rId1"/>
          <a:stretch/>
        </p:blipFill>
        <p:spPr>
          <a:xfrm>
            <a:off x="468360" y="260280"/>
            <a:ext cx="4535280" cy="344988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7" descr="0_208c9_150145af_L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755640" y="549360"/>
            <a:ext cx="3959280" cy="2916000"/>
          </a:xfrm>
          <a:prstGeom prst="rect">
            <a:avLst/>
          </a:prstGeom>
          <a:ln w="0">
            <a:noFill/>
          </a:ln>
        </p:spPr>
      </p:pic>
      <p:pic>
        <p:nvPicPr>
          <p:cNvPr id="1252" name="Picture 8" descr="рамка"/>
          <p:cNvPicPr/>
          <p:nvPr/>
        </p:nvPicPr>
        <p:blipFill>
          <a:blip r:embed="rId3"/>
          <a:stretch/>
        </p:blipFill>
        <p:spPr>
          <a:xfrm>
            <a:off x="4427640" y="3141720"/>
            <a:ext cx="4535280" cy="344952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8" descr="vat7"/>
          <p:cNvPicPr/>
          <p:nvPr/>
        </p:nvPicPr>
        <p:blipFill>
          <a:blip r:embed="rId4"/>
          <a:stretch/>
        </p:blipFill>
        <p:spPr>
          <a:xfrm>
            <a:off x="4716360" y="342900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4" name="WordArt 14"/>
          <p:cNvSpPr txBox="1"/>
          <p:nvPr/>
        </p:nvSpPr>
        <p:spPr>
          <a:xfrm>
            <a:off x="5724360" y="692280"/>
            <a:ext cx="256248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Древний</a:t>
            </a:r>
            <a:endParaRPr b="1" i="1" lang="en-US" sz="5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Рим</a:t>
            </a:r>
            <a:endParaRPr b="1" i="1" lang="en-US" sz="5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5" name="WordArt 15"/>
          <p:cNvSpPr txBox="1"/>
          <p:nvPr/>
        </p:nvSpPr>
        <p:spPr>
          <a:xfrm>
            <a:off x="1403280" y="3860640"/>
            <a:ext cx="2476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Римский форум</a:t>
            </a:r>
            <a:endParaRPr b="1" i="1" lang="en-US" sz="2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6" name="WordArt 16"/>
          <p:cNvSpPr txBox="1"/>
          <p:nvPr/>
        </p:nvSpPr>
        <p:spPr>
          <a:xfrm>
            <a:off x="1547640" y="5877000"/>
            <a:ext cx="23911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Храм Пантеон</a:t>
            </a:r>
            <a:endParaRPr b="1" i="1" lang="en-US" sz="2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257" name="Музыка Древнего Рима.mp3" descr=""/>
          <p:cNvPicPr/>
          <p:nvPr/>
        </p:nvPicPr>
        <p:blipFill>
          <a:blip r:embed="rId5"/>
          <a:stretch/>
        </p:blipFill>
        <p:spPr>
          <a:xfrm>
            <a:off x="8675640" y="6324480"/>
            <a:ext cx="217440" cy="217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" fill="hold"/>
                                        <p:tgtEl>
                                          <p:spTgt spid="1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8" name="Picture 4" descr="рамка"/>
          <p:cNvPicPr/>
          <p:nvPr/>
        </p:nvPicPr>
        <p:blipFill>
          <a:blip r:embed="rId1"/>
          <a:stretch/>
        </p:blipFill>
        <p:spPr>
          <a:xfrm>
            <a:off x="179280" y="169920"/>
            <a:ext cx="4392720" cy="3343320"/>
          </a:xfrm>
          <a:prstGeom prst="rect">
            <a:avLst/>
          </a:prstGeom>
          <a:ln w="0">
            <a:noFill/>
          </a:ln>
        </p:spPr>
      </p:pic>
      <p:pic>
        <p:nvPicPr>
          <p:cNvPr id="1259" name="Picture 5" descr="рамка"/>
          <p:cNvPicPr/>
          <p:nvPr/>
        </p:nvPicPr>
        <p:blipFill>
          <a:blip r:embed="rId2"/>
          <a:stretch/>
        </p:blipFill>
        <p:spPr>
          <a:xfrm>
            <a:off x="4284720" y="3159000"/>
            <a:ext cx="4608360" cy="3503880"/>
          </a:xfrm>
          <a:prstGeom prst="rect">
            <a:avLst/>
          </a:prstGeom>
          <a:ln w="0">
            <a:noFill/>
          </a:ln>
        </p:spPr>
      </p:pic>
      <p:pic>
        <p:nvPicPr>
          <p:cNvPr id="1260" name="Picture 6" descr="kolizei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395280" y="404640"/>
            <a:ext cx="3889440" cy="2880000"/>
          </a:xfrm>
          <a:prstGeom prst="rect">
            <a:avLst/>
          </a:prstGeom>
          <a:ln w="0">
            <a:noFill/>
          </a:ln>
        </p:spPr>
      </p:pic>
      <p:pic>
        <p:nvPicPr>
          <p:cNvPr id="1261" name="Picture 7" descr="pompei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572000" y="3411360"/>
            <a:ext cx="4032360" cy="3017880"/>
          </a:xfrm>
          <a:prstGeom prst="rect">
            <a:avLst/>
          </a:prstGeom>
          <a:ln w="0">
            <a:noFill/>
          </a:ln>
        </p:spPr>
      </p:pic>
      <p:sp>
        <p:nvSpPr>
          <p:cNvPr id="1262" name="WordArt 11"/>
          <p:cNvSpPr txBox="1"/>
          <p:nvPr/>
        </p:nvSpPr>
        <p:spPr>
          <a:xfrm>
            <a:off x="1619280" y="3789360"/>
            <a:ext cx="12859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Колизей</a:t>
            </a:r>
            <a:endParaRPr b="1" i="1" lang="en-US" sz="2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3" name="WordArt 13"/>
          <p:cNvSpPr txBox="1"/>
          <p:nvPr/>
        </p:nvSpPr>
        <p:spPr>
          <a:xfrm>
            <a:off x="2771640" y="5877000"/>
            <a:ext cx="12477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Помпеи</a:t>
            </a:r>
            <a:endParaRPr b="1" i="1" lang="en-US" sz="2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pull dir="lu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e5d58a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WordArt 4"/>
          <p:cNvSpPr txBox="1"/>
          <p:nvPr/>
        </p:nvSpPr>
        <p:spPr>
          <a:xfrm>
            <a:off x="2700360" y="213372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6666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Волшебный альбом</a:t>
            </a:r>
            <a:endParaRPr b="1" i="1" lang="en-US" sz="4000" spc="1" strike="noStrike">
              <a:ln w="19080">
                <a:solidFill>
                  <a:srgbClr val="6666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6666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путешествий.</a:t>
            </a:r>
            <a:endParaRPr b="1" i="1" lang="en-US" sz="4000" spc="1" strike="noStrike">
              <a:ln w="19080">
                <a:solidFill>
                  <a:srgbClr val="6666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04" name="Picture 5" descr="imgB"/>
          <p:cNvPicPr/>
          <p:nvPr/>
        </p:nvPicPr>
        <p:blipFill>
          <a:blip r:embed="rId1">
            <a:lum contrast="30000"/>
          </a:blip>
          <a:stretch/>
        </p:blipFill>
        <p:spPr>
          <a:xfrm rot="21196200">
            <a:off x="1900080" y="4381200"/>
            <a:ext cx="2664000" cy="206856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6" descr="Forum_romanum"/>
          <p:cNvPicPr/>
          <p:nvPr/>
        </p:nvPicPr>
        <p:blipFill>
          <a:blip r:embed="rId2"/>
          <a:stretch/>
        </p:blipFill>
        <p:spPr>
          <a:xfrm>
            <a:off x="2843280" y="237960"/>
            <a:ext cx="2520720" cy="165420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7" descr="231_3138"/>
          <p:cNvPicPr/>
          <p:nvPr/>
        </p:nvPicPr>
        <p:blipFill>
          <a:blip r:embed="rId3">
            <a:lum contrast="12000"/>
          </a:blip>
          <a:stretch/>
        </p:blipFill>
        <p:spPr>
          <a:xfrm rot="295200">
            <a:off x="6300720" y="188640"/>
            <a:ext cx="2479680" cy="184788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8" descr="afinu_3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5724360" y="4292640"/>
            <a:ext cx="2886120" cy="212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00"/>
            </a:gs>
            <a:gs pos="50000">
              <a:srgbClr val="e5d58a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Picture 5" descr="рамка"/>
          <p:cNvPicPr/>
          <p:nvPr/>
        </p:nvPicPr>
        <p:blipFill>
          <a:blip r:embed="rId1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6" descr="158f9a2eda8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39640" y="528480"/>
            <a:ext cx="8064720" cy="5891400"/>
          </a:xfrm>
          <a:prstGeom prst="rect">
            <a:avLst/>
          </a:prstGeom>
          <a:ln w="0">
            <a:noFill/>
          </a:ln>
        </p:spPr>
      </p:pic>
      <p:sp>
        <p:nvSpPr>
          <p:cNvPr id="1266" name="WordArt 7"/>
          <p:cNvSpPr txBox="1"/>
          <p:nvPr/>
        </p:nvSpPr>
        <p:spPr>
          <a:xfrm>
            <a:off x="1332000" y="6524640"/>
            <a:ext cx="63356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К.П. Брюллов "Последний день Помпеи"</a:t>
            </a:r>
            <a:endParaRPr b="1" i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pull dir="l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6633"/>
            </a:gs>
            <a:gs pos="50000">
              <a:srgbClr val="e5d58a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Picture 4" descr="ж"/>
          <p:cNvPicPr/>
          <p:nvPr/>
        </p:nvPicPr>
        <p:blipFill>
          <a:blip r:embed="rId1"/>
          <a:stretch/>
        </p:blipFill>
        <p:spPr>
          <a:xfrm>
            <a:off x="1835280" y="1197000"/>
            <a:ext cx="5543280" cy="4435560"/>
          </a:xfrm>
          <a:prstGeom prst="rect">
            <a:avLst/>
          </a:prstGeom>
          <a:ln w="0">
            <a:noFill/>
          </a:ln>
        </p:spPr>
      </p:pic>
      <p:sp>
        <p:nvSpPr>
          <p:cNvPr id="1268" name="WordArt 6"/>
          <p:cNvSpPr txBox="1"/>
          <p:nvPr/>
        </p:nvSpPr>
        <p:spPr>
          <a:xfrm>
            <a:off x="324000" y="260280"/>
            <a:ext cx="36288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Редакторы</a:t>
            </a:r>
            <a:endParaRPr b="1" i="1" lang="en-US" sz="5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9" name="WordArt 7"/>
          <p:cNvSpPr txBox="1"/>
          <p:nvPr/>
        </p:nvSpPr>
        <p:spPr>
          <a:xfrm>
            <a:off x="4788000" y="5734080"/>
            <a:ext cx="384804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Корректоры</a:t>
            </a:r>
            <a:endParaRPr b="1" i="1" lang="en-US" sz="5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6633"/>
            </a:gs>
            <a:gs pos="50000">
              <a:srgbClr val="e5d58a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0_2985f_846079dd_L"/>
          <p:cNvPicPr/>
          <p:nvPr/>
        </p:nvPicPr>
        <p:blipFill>
          <a:blip r:embed="rId1"/>
          <a:stretch/>
        </p:blipFill>
        <p:spPr>
          <a:xfrm>
            <a:off x="-252360" y="-100080"/>
            <a:ext cx="4852800" cy="5040360"/>
          </a:xfrm>
          <a:prstGeom prst="rect">
            <a:avLst/>
          </a:prstGeom>
          <a:ln w="0">
            <a:noFill/>
          </a:ln>
        </p:spPr>
      </p:pic>
      <p:sp>
        <p:nvSpPr>
          <p:cNvPr id="1271" name="WordArt 6"/>
          <p:cNvSpPr txBox="1"/>
          <p:nvPr/>
        </p:nvSpPr>
        <p:spPr>
          <a:xfrm>
            <a:off x="4284720" y="1268280"/>
            <a:ext cx="4392720" cy="9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1680">
                  <a:solidFill>
                    <a:srgbClr val="800000"/>
                  </a:solidFill>
                  <a:miter/>
                </a:ln>
                <a:solidFill>
                  <a:srgbClr val="ffff00">
                    <a:alpha val="9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4400" spc="1" strike="noStrike">
              <a:ln w="31680">
                <a:solidFill>
                  <a:srgbClr val="800000"/>
                </a:solidFill>
                <a:miter/>
              </a:ln>
              <a:solidFill>
                <a:srgbClr val="ffff00">
                  <a:alpha val="9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2" name="Picture 8" descr="Scarabei - papyrus from  Egypt - amulet"/>
          <p:cNvPicPr/>
          <p:nvPr/>
        </p:nvPicPr>
        <p:blipFill>
          <a:blip r:embed="rId2">
            <a:alphaModFix amt="0"/>
          </a:blip>
          <a:stretch/>
        </p:blipFill>
        <p:spPr>
          <a:xfrm rot="7551000">
            <a:off x="4739760" y="2252160"/>
            <a:ext cx="2889360" cy="4089240"/>
          </a:xfrm>
          <a:prstGeom prst="rect">
            <a:avLst/>
          </a:prstGeom>
          <a:ln w="0">
            <a:noFill/>
          </a:ln>
        </p:spPr>
      </p:pic>
      <p:pic>
        <p:nvPicPr>
          <p:cNvPr id="1273" name="Игра.mp3" descr=""/>
          <p:cNvPicPr/>
          <p:nvPr/>
        </p:nvPicPr>
        <p:blipFill>
          <a:blip r:embed="rId3"/>
          <a:stretch/>
        </p:blipFill>
        <p:spPr>
          <a:xfrm>
            <a:off x="468360" y="645336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47121" fill="hold"/>
                                        <p:tgtEl>
                                          <p:spTgt spid="1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5" dur="2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animClr clrSpc="rgb">
                                      <p:cBhvr>
                                        <p:cTn id="308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set>
                                      <p:cBhvr>
                                        <p:cTn id="309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2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3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9" name="Picture 4" descr="egyptian-hieroglyphics-louvre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258920" y="0"/>
            <a:ext cx="7885080" cy="685800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5" descr="12475868_1"/>
          <p:cNvPicPr/>
          <p:nvPr/>
        </p:nvPicPr>
        <p:blipFill>
          <a:blip r:embed="rId2"/>
          <a:stretch/>
        </p:blipFill>
        <p:spPr>
          <a:xfrm>
            <a:off x="1979640" y="692280"/>
            <a:ext cx="6372360" cy="5518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2" name="Picture 4" descr="egyptian-hieroglyphics-louvre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187280" y="0"/>
            <a:ext cx="7956720" cy="69231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5" descr="жуки"/>
          <p:cNvPicPr/>
          <p:nvPr/>
        </p:nvPicPr>
        <p:blipFill>
          <a:blip r:embed="rId2"/>
          <a:stretch/>
        </p:blipFill>
        <p:spPr>
          <a:xfrm>
            <a:off x="1619280" y="1197000"/>
            <a:ext cx="7056360" cy="4608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116" name="Picture 4" descr="egyptian-hieroglyphics-louvre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58920" y="0"/>
            <a:ext cx="7885080" cy="68580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6" descr="brasle20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763640" y="3645000"/>
            <a:ext cx="3168720" cy="28796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8" descr="ph03724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724360" y="260280"/>
            <a:ext cx="3062520" cy="25369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9" descr="SKarabey_66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1476360" y="189000"/>
            <a:ext cx="3240000" cy="30826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1" descr="b6ff1bf8fa9c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5651640" y="3284640"/>
            <a:ext cx="3012840" cy="3119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123" name="Picture 6" descr="egyptian-hieroglyphics-louvre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150920" y="0"/>
            <a:ext cx="7993080" cy="685800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9" descr="Рисунок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700360" y="765000"/>
            <a:ext cx="5216400" cy="5220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94920" y="2282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036800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33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«Мир древности: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далёкий и близкий.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торостепенный член     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редложения – обстоятельство».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Picture 5" descr="рамка"/>
          <p:cNvPicPr/>
          <p:nvPr/>
        </p:nvPicPr>
        <p:blipFill>
          <a:blip r:embed="rId1"/>
          <a:stretch/>
        </p:blipFill>
        <p:spPr>
          <a:xfrm>
            <a:off x="324000" y="260280"/>
            <a:ext cx="4535280" cy="34498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7" descr="0_192fd_14493741_L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611280" y="476280"/>
            <a:ext cx="3962160" cy="297036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7" descr="рамка"/>
          <p:cNvPicPr/>
          <p:nvPr/>
        </p:nvPicPr>
        <p:blipFill>
          <a:blip r:embed="rId3"/>
          <a:stretch/>
        </p:blipFill>
        <p:spPr>
          <a:xfrm>
            <a:off x="4356000" y="3284640"/>
            <a:ext cx="4462560" cy="339408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1" descr="сф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4572000" y="3500280"/>
            <a:ext cx="3968640" cy="2889360"/>
          </a:xfrm>
          <a:prstGeom prst="rect">
            <a:avLst/>
          </a:prstGeom>
          <a:ln w="0">
            <a:noFill/>
          </a:ln>
        </p:spPr>
      </p:pic>
      <p:sp>
        <p:nvSpPr>
          <p:cNvPr id="1131" name="WordArt 17"/>
          <p:cNvSpPr txBox="1"/>
          <p:nvPr/>
        </p:nvSpPr>
        <p:spPr>
          <a:xfrm>
            <a:off x="5796000" y="907920"/>
            <a:ext cx="2562120" cy="15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Древний</a:t>
            </a:r>
            <a:endParaRPr b="1" i="1" lang="en-US" sz="5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Египет</a:t>
            </a:r>
            <a:endParaRPr b="1" i="1" lang="en-US" sz="54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2" name="WordArt 18"/>
          <p:cNvSpPr txBox="1"/>
          <p:nvPr/>
        </p:nvSpPr>
        <p:spPr>
          <a:xfrm>
            <a:off x="1258920" y="3933720"/>
            <a:ext cx="211464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Храм Карнака</a:t>
            </a:r>
            <a:endParaRPr b="1" i="1" lang="en-US" sz="2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3" name="WordArt 19"/>
          <p:cNvSpPr txBox="1"/>
          <p:nvPr/>
        </p:nvSpPr>
        <p:spPr>
          <a:xfrm>
            <a:off x="1403280" y="5950080"/>
            <a:ext cx="26481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solidFill>
                    <a:srgbClr val="ffffff"/>
                  </a:solidFill>
                </a:ln>
                <a:solidFill>
                  <a:srgbClr val="ffffff"/>
                </a:solidFill>
                <a:latin typeface="Times New Roman"/>
              </a:rPr>
              <a:t>Большой сфинкс</a:t>
            </a:r>
            <a:endParaRPr b="1" i="1" lang="en-US" sz="2800" spc="1" strike="noStrike">
              <a:ln w="0">
                <a:solidFill>
                  <a:srgbClr val="ffffff"/>
                </a:solidFill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134" name="Арабская музыка.mp3" descr=""/>
          <p:cNvPicPr/>
          <p:nvPr/>
        </p:nvPicPr>
        <p:blipFill>
          <a:blip r:embed="rId5"/>
          <a:stretch/>
        </p:blipFill>
        <p:spPr>
          <a:xfrm>
            <a:off x="8604360" y="6453360"/>
            <a:ext cx="215640" cy="21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21:59:57Z</dcterms:created>
  <dc:creator>*</dc:creator>
  <dc:description/>
  <dc:language>en-US</dc:language>
  <cp:lastModifiedBy>ZooM</cp:lastModifiedBy>
  <dcterms:modified xsi:type="dcterms:W3CDTF">2013-11-15T18:23:14Z</dcterms:modified>
  <cp:revision>91</cp:revision>
  <dc:subject/>
  <dc:title>ЧОУ «Прогимназия                      «Идеал»</dc:title>
</cp:coreProperties>
</file>