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237-9345-4D72-895B-260BF986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B79-8943-4C04-9135-19F8B1AA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524-6AA0-45C5-861C-1AD20A30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930-5DA0-49A6-ACF2-95CD6BAE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4926-3030-4588-97D9-5C00AFFE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CF05-A4ED-4E8D-AD1C-EA9A2EA1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A337-531F-4AF1-9661-0B976F5D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735-23DE-4ABB-BCD8-36FDBAFB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AC75-1DD4-4644-BEA3-8E703A3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44E0-7A6D-40D9-A2D3-0C520D3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072-D934-486B-9EAD-0005A1A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667-D3E0-4CEB-ABDD-F89B870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54E-5689-4C10-9487-3A94258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17C-23CB-4CD3-9C09-3AEA48F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950A-F340-4D1D-82F4-9D841CC8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A0F6-3E0B-40E9-B4CB-C9CD614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CAF-017A-4A13-8A75-46A71DC6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3FC-85B0-413D-8157-F27CE6C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EA1-21E3-49CF-B745-1CA1A0CD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CDA-FEFB-495B-8AEA-5BA2E1EE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543-6EE0-4F9C-BB66-7E421214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CC9-F9AA-4D34-9EC6-65659F7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C82-9A91-4036-946C-5C74148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5A0-A05C-4072-BA93-CC694E0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78D-93B9-44F8-9823-359863C0BC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94E4-413E-4351-B6E6-19BEE0FD60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ZooM</cp:lastModifiedBy>
  <dcterms:modified xsi:type="dcterms:W3CDTF">2013-10-28T11:43:29Z</dcterms:modified>
  <cp:revision>8</cp:revision>
  <dc:subject/>
  <dc:title>Пагубность вредных привычек</dc:title>
</cp:coreProperties>
</file>