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BDF-72E7-429A-960B-B4A7E009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A84-CDEF-460E-BDCC-48BDA5D5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4C1-9198-4766-8724-2D76BC26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4128-0B6A-4C90-9A11-066AB1AD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A974-E65B-471C-9CCC-C143ADFB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9046-489A-466F-AB12-55A7DBFF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ACD6-9CFF-46B3-9D89-C01A35C7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3AD0-86DF-4909-91EE-3CB8AE45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88A5-CCC3-4728-9D21-AB6BA57A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60C9-57C2-4421-9406-A6D94285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94D3-A1FE-4487-8542-70C25621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12D-54B5-47C6-968A-EE6C7911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09C4-F3A6-485D-AC24-AD3862BA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732E-8201-4EEC-AFCF-77F54C6F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0F88-02BB-4C3D-A7DB-41B3922D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656C-E598-4D4C-ABA6-9DB5A221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EC0F-F195-4368-982F-8EAF863A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5BA-9398-46B4-84AB-82182C5F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2FF8-3486-40F4-AE49-55C959B0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EB77-9207-4EE0-84F5-E0DA0833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C59-7901-41B6-845C-0037E8CF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AFFC-ED85-42EE-BCD1-4D97627C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E12A-15DF-4A60-96DB-A2B84711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964-6DAE-41CB-9247-F44E1CD5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B851-11AA-4516-8E45-62BCF8807D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8525-5CE5-410D-A5F8-045E2D1065F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395280"/>
            <a:ext cx="7773840" cy="2038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агубность вредных привычек и их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4" descr="20051201_carlson_wallpapers_ru_bred_1024x768_A(94365)"/>
          <p:cNvPicPr/>
          <p:nvPr/>
        </p:nvPicPr>
        <p:blipFill>
          <a:blip r:embed="rId1"/>
          <a:stretch/>
        </p:blipFill>
        <p:spPr>
          <a:xfrm>
            <a:off x="1258920" y="2716200"/>
            <a:ext cx="68896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На сердечно-сосудистую систем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ается пульс до 100 ударов в мину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ижается сила и скорость сокращения сердечной мышцы(миокар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тельно повышается в крови содержание адреналина и норадреналина, что приводит к стрессовым ситуациям, психическим переживан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следствие алкоголизм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моральные поступ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ушение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ьное и духовное обкрадывание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излечимые боле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яжелые трав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ступ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ред ку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омент затяжки дымом сигареты температура на ее конце достигает 60 градусов и выше. Происходит возгонка табака и папиросной бумаги, при этом образуется около 200 вред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J0304405"/>
          <p:cNvPicPr/>
          <p:nvPr/>
        </p:nvPicPr>
        <p:blipFill>
          <a:blip r:embed="rId1"/>
          <a:stretch/>
        </p:blipFill>
        <p:spPr>
          <a:xfrm>
            <a:off x="5724360" y="1844640"/>
            <a:ext cx="2735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 табачного ды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ись угле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нзопир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равьиная ,синиль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шья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ми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оводор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цетил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5" descr="20051218_arcuen_wallpapers_ru_mikrokosmos_1024x768_A(95150)"/>
          <p:cNvPicPr/>
          <p:nvPr/>
        </p:nvPicPr>
        <p:blipFill>
          <a:blip r:embed="rId1"/>
          <a:stretch/>
        </p:blipFill>
        <p:spPr>
          <a:xfrm>
            <a:off x="4648320" y="1700280"/>
            <a:ext cx="4038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лияние курения на организм челове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ходя через дыхательные пути , табачный дым вызывает раздражение, воспаление слизистых оболочек зевав, носоглотки, трахеи, бронхов, а также легочных альвео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дце курящего человека делает за сутки на 12-15 тысяч сокращений больше, чем сердце некурящего, что приводит к преждевременному изнашиванию сердечной мыш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олезни развивающие у курильщик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онхиальная аст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онический бронх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к губы, языка, гортани, трахе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шемическая болезнь серд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стр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звенная болез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21" descr="HM00005_"/>
          <p:cNvPicPr/>
          <p:nvPr/>
        </p:nvPicPr>
        <p:blipFill>
          <a:blip r:embed="rId1"/>
          <a:stretch/>
        </p:blipFill>
        <p:spPr>
          <a:xfrm>
            <a:off x="5435640" y="1916280"/>
            <a:ext cx="2952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ссивное курение может способствовать развитию атеросклероз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6" descr="wallpaper (69)"/>
          <p:cNvPicPr/>
          <p:nvPr/>
        </p:nvPicPr>
        <p:blipFill>
          <a:blip r:embed="rId1"/>
          <a:stretch/>
        </p:blipFill>
        <p:spPr>
          <a:xfrm>
            <a:off x="1554120" y="2708280"/>
            <a:ext cx="60339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филактика вредных привыче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кции о вреде курения, алког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дос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енды с предупредительными плака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чи школьного телевидения и радио о пагубности вредных привы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ение законов России о запрещение курения и алкоголя в общественных мес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лияние алкоголя на челове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дают структуры коры больших полушар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ность центров мозга, управляющих поведением, подавляется: утрачивается разумный контроль над поступками, снижается критическое отношение к се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ляется одышка, при спокойной ходьбе, в состоянии поко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fun_pic_32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Влияние алкоголя на пече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У людей злоупотребляющих спиртными напитками, возникновение цирроза печени наблюдается в семь раз чаще, чем у непьющ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6" descr="20051201_carlson_wallpapers_ru_bred_1024x768_A(94365)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8:34:47Z</dcterms:created>
  <dc:creator>я</dc:creator>
  <dc:description/>
  <dc:language>en-US</dc:language>
  <cp:lastModifiedBy>ZooM</cp:lastModifiedBy>
  <dcterms:modified xsi:type="dcterms:W3CDTF">2013-10-28T11:43:29Z</dcterms:modified>
  <cp:revision>8</cp:revision>
  <dc:subject/>
  <dc:title>Пагубность вредных привычек</dc:title>
</cp:coreProperties>
</file>