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5B3-3400-4878-9E2B-F4B6FAF2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C29-3DA2-4D61-98D8-F7BB3D6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5AA-0437-4FC1-B33F-82FC2437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16F-EC30-4022-8E2A-A557D22A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3646F-5E60-4769-AD89-B7B6A69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DEF9-B2B8-44FB-AAA4-F50BA71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38B44-25E1-4F1E-81F4-9AF5F8B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3AD2A-C414-4ACE-8921-F5CAE79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6C5DD-57A1-48AC-AD52-D70885F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A4F18-B785-4FA0-A19D-00A33E3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C4E13-1911-4787-99A8-605F61C9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BA4-4770-45D3-817D-5EFB4A4C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76D3-E3D6-4425-9D9E-88A5CEB7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F343B-3F78-468B-8F6D-0D59804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EF7E-18CF-443B-9DA7-EEAE2C3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5D5A2-E45F-460C-B636-AD65665C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7CB8F-2AE3-431E-9639-9D058D91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D7F7-1F6E-43BA-982D-9D349298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04C9-B356-4A4C-BB23-632931E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CF64-256C-4163-8900-27C6134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AEC0-8D10-4B68-B5AF-5F41668C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ED9B-26A1-41F1-9962-7F45CB9A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84B-166D-4612-B419-64145872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0F71-990E-4795-B515-F5CF3BC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CDB6-76B9-4560-82B3-7F21FEC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9763-D2D2-4A48-B65C-3C085EA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7B45-C17F-4511-A4CB-7E29F95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3D8B-8D96-4082-882E-10CF7CC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C529-F8B2-4894-B95B-031EC719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9C80-1105-4523-B66C-3C41EE51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4CDCD8-09FF-44B5-A7FB-2DC750E7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0544A-BC0A-40A2-BF1C-66AF869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F15B8-850F-493D-A101-BE1B53F4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226-FFF9-4D8D-96CF-1A8B12C9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CDC3C-608F-4779-B37F-561ADD8C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FDF49-414F-4E10-8C08-18557AE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FCC68-D889-43D6-A7B0-9C852ABE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A48ED-99A6-4142-B41B-C0B0A30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AF217-4018-4845-98DF-E8D6798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9D6F0-4093-4E10-9431-8BE33A4E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A736E-76B4-49CC-94F1-21C41A2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D68B0-63BD-4B16-B3CF-D41941A6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510B4-8626-464E-9649-228A1E7B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DE0-4621-4948-83BB-69B6CC83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AA2-4CF5-4883-9E2D-7E6B040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B3F-CD93-4EA4-BF50-A0DFA14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E79-22F3-40E0-845F-A943631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1FB-0BB6-42BD-8091-B58BCF4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3BE-BDC7-40D1-8B98-1D4465953667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cb084"/>
          </a:solidFill>
          <a:ln w="38160">
            <a:solidFill>
              <a:srgbClr val="9cb084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3479-57E7-46A8-BA2D-5D1B119DCE3F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240A-815E-4251-81B8-93E3AFD0B299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4ABF-2C62-4605-ACDC-B35FBD63D458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d52"/>
                </a:solidFill>
                <a:latin typeface="Constantia"/>
              </a:rPr>
              <a:t>Выполнила: учитель черчения первой категории МБОУ СОШ № 106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d52"/>
                </a:solidFill>
                <a:latin typeface="Constantia"/>
              </a:rPr>
              <a:t>Глазунова Людмила Евгеньев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2"/>
          <a:stretch/>
        </p:blipFill>
        <p:spPr>
          <a:xfrm>
            <a:off x="457200" y="1432080"/>
            <a:ext cx="830880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57200" y="185760"/>
            <a:ext cx="82296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247" name="Прямая со стрелкой 8"/>
          <p:cNvCxnSpPr/>
          <p:nvPr/>
        </p:nvCxnSpPr>
        <p:spPr>
          <a:xfrm flipV="1">
            <a:off x="3809520" y="2971080"/>
            <a:ext cx="108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10"/>
          <p:cNvCxnSpPr/>
          <p:nvPr/>
        </p:nvCxnSpPr>
        <p:spPr>
          <a:xfrm>
            <a:off x="3809520" y="5486040"/>
            <a:ext cx="3506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2"/>
          <p:cNvCxnSpPr/>
          <p:nvPr/>
        </p:nvCxnSpPr>
        <p:spPr>
          <a:xfrm flipH="1" flipV="1">
            <a:off x="1752120" y="3657240"/>
            <a:ext cx="205776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Прямая соединительная линия 14"/>
          <p:cNvSpPr/>
          <p:nvPr/>
        </p:nvSpPr>
        <p:spPr>
          <a:xfrm>
            <a:off x="3809880" y="5486400"/>
            <a:ext cx="28195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Прямая соединительная линия 16"/>
          <p:cNvSpPr/>
          <p:nvPr/>
        </p:nvSpPr>
        <p:spPr>
          <a:xfrm flipV="1">
            <a:off x="6629400" y="4952880"/>
            <a:ext cx="0" cy="5335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8"/>
          <p:cNvSpPr/>
          <p:nvPr/>
        </p:nvSpPr>
        <p:spPr>
          <a:xfrm flipH="1">
            <a:off x="6095880" y="4952880"/>
            <a:ext cx="5335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Прямая соединительная линия 20"/>
          <p:cNvSpPr/>
          <p:nvPr/>
        </p:nvSpPr>
        <p:spPr>
          <a:xfrm flipV="1">
            <a:off x="6095880" y="4495680"/>
            <a:ext cx="0" cy="45720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ая соединительная линия 22"/>
          <p:cNvSpPr/>
          <p:nvPr/>
        </p:nvSpPr>
        <p:spPr>
          <a:xfrm flipH="1">
            <a:off x="5028840" y="4495680"/>
            <a:ext cx="106668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ая соединительная линия 24"/>
          <p:cNvSpPr/>
          <p:nvPr/>
        </p:nvSpPr>
        <p:spPr>
          <a:xfrm>
            <a:off x="5029200" y="4495680"/>
            <a:ext cx="0" cy="45720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 flipH="1">
            <a:off x="3809520" y="4952880"/>
            <a:ext cx="121932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3962520" y="2666880"/>
            <a:ext cx="32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Box 28"/>
          <p:cNvSpPr/>
          <p:nvPr/>
        </p:nvSpPr>
        <p:spPr>
          <a:xfrm>
            <a:off x="7468920" y="51814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Box 29"/>
          <p:cNvSpPr/>
          <p:nvPr/>
        </p:nvSpPr>
        <p:spPr>
          <a:xfrm>
            <a:off x="1755720" y="3276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31"/>
          <p:cNvSpPr/>
          <p:nvPr/>
        </p:nvSpPr>
        <p:spPr>
          <a:xfrm flipH="1" flipV="1">
            <a:off x="2285640" y="4114800"/>
            <a:ext cx="1523880" cy="1371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ая соединительная линия 33"/>
          <p:cNvSpPr/>
          <p:nvPr/>
        </p:nvSpPr>
        <p:spPr>
          <a:xfrm flipH="1" flipV="1">
            <a:off x="3276720" y="3504960"/>
            <a:ext cx="1752480" cy="14475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Прямая соединительная линия 35"/>
          <p:cNvSpPr/>
          <p:nvPr/>
        </p:nvSpPr>
        <p:spPr>
          <a:xfrm flipH="1" flipV="1">
            <a:off x="3657600" y="3352320"/>
            <a:ext cx="1371600" cy="11430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Прямая соединительная линия 38"/>
          <p:cNvSpPr/>
          <p:nvPr/>
        </p:nvSpPr>
        <p:spPr>
          <a:xfrm flipH="1" flipV="1">
            <a:off x="4571640" y="3200400"/>
            <a:ext cx="1523880" cy="12952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Прямая соединительная линия 41"/>
          <p:cNvSpPr/>
          <p:nvPr/>
        </p:nvSpPr>
        <p:spPr>
          <a:xfrm flipH="1" flipV="1">
            <a:off x="6019560" y="4419360"/>
            <a:ext cx="609480" cy="5331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Прямая соединительная линия 50"/>
          <p:cNvSpPr/>
          <p:nvPr/>
        </p:nvSpPr>
        <p:spPr>
          <a:xfrm flipV="1">
            <a:off x="3429000" y="4572000"/>
            <a:ext cx="114300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Прямая соединительная линия 52"/>
          <p:cNvSpPr/>
          <p:nvPr/>
        </p:nvSpPr>
        <p:spPr>
          <a:xfrm flipV="1">
            <a:off x="4572000" y="4114800"/>
            <a:ext cx="0" cy="457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Прямая соединительная линия 54"/>
          <p:cNvSpPr/>
          <p:nvPr/>
        </p:nvSpPr>
        <p:spPr>
          <a:xfrm>
            <a:off x="4572000" y="4114800"/>
            <a:ext cx="106668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Овал 64"/>
          <p:cNvSpPr/>
          <p:nvPr/>
        </p:nvSpPr>
        <p:spPr>
          <a:xfrm>
            <a:off x="3352680" y="510552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Овал 66"/>
          <p:cNvSpPr/>
          <p:nvPr/>
        </p:nvSpPr>
        <p:spPr>
          <a:xfrm flipH="1">
            <a:off x="5638680" y="411480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Овал 67"/>
          <p:cNvSpPr/>
          <p:nvPr/>
        </p:nvSpPr>
        <p:spPr>
          <a:xfrm>
            <a:off x="4572000" y="411480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Овал 69"/>
          <p:cNvSpPr/>
          <p:nvPr/>
        </p:nvSpPr>
        <p:spPr>
          <a:xfrm>
            <a:off x="4572000" y="457200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Прямая соединительная линия 71"/>
          <p:cNvSpPr/>
          <p:nvPr/>
        </p:nvSpPr>
        <p:spPr>
          <a:xfrm>
            <a:off x="3809880" y="54864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Прямая соединительная линия 77"/>
          <p:cNvSpPr/>
          <p:nvPr/>
        </p:nvSpPr>
        <p:spPr>
          <a:xfrm flipV="1">
            <a:off x="662940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Прямая соединительная линия 79"/>
          <p:cNvSpPr/>
          <p:nvPr/>
        </p:nvSpPr>
        <p:spPr>
          <a:xfrm flipH="1">
            <a:off x="6095880" y="4952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Прямая соединительная линия 83"/>
          <p:cNvSpPr/>
          <p:nvPr/>
        </p:nvSpPr>
        <p:spPr>
          <a:xfrm flipV="1">
            <a:off x="60958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ая соединительная линия 85"/>
          <p:cNvSpPr/>
          <p:nvPr/>
        </p:nvSpPr>
        <p:spPr>
          <a:xfrm flipH="1">
            <a:off x="5028840" y="44956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87"/>
          <p:cNvSpPr/>
          <p:nvPr/>
        </p:nvSpPr>
        <p:spPr>
          <a:xfrm>
            <a:off x="502920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Прямая соединительная линия 89"/>
          <p:cNvSpPr/>
          <p:nvPr/>
        </p:nvSpPr>
        <p:spPr>
          <a:xfrm flipH="1">
            <a:off x="3809520" y="49528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Прямая соединительная линия 91"/>
          <p:cNvSpPr/>
          <p:nvPr/>
        </p:nvSpPr>
        <p:spPr>
          <a:xfrm flipH="1" flipV="1">
            <a:off x="3392280" y="5111280"/>
            <a:ext cx="417240" cy="37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ая соединительная линия 94"/>
          <p:cNvSpPr/>
          <p:nvPr/>
        </p:nvSpPr>
        <p:spPr>
          <a:xfrm flipH="1" flipV="1">
            <a:off x="4578480" y="4578480"/>
            <a:ext cx="450720" cy="37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ая соединительная линия 96"/>
          <p:cNvSpPr/>
          <p:nvPr/>
        </p:nvSpPr>
        <p:spPr>
          <a:xfrm flipH="1" flipV="1">
            <a:off x="4578480" y="4121280"/>
            <a:ext cx="450720" cy="37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ая соединительная линия 98"/>
          <p:cNvSpPr/>
          <p:nvPr/>
        </p:nvSpPr>
        <p:spPr>
          <a:xfrm flipH="1" flipV="1">
            <a:off x="5661000" y="4114800"/>
            <a:ext cx="4348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Прямая соединительная линия 100"/>
          <p:cNvSpPr/>
          <p:nvPr/>
        </p:nvSpPr>
        <p:spPr>
          <a:xfrm flipH="1" flipV="1">
            <a:off x="6095880" y="449568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Прямая соединительная линия 102"/>
          <p:cNvSpPr/>
          <p:nvPr/>
        </p:nvSpPr>
        <p:spPr>
          <a:xfrm flipV="1">
            <a:off x="3392640" y="4578120"/>
            <a:ext cx="118584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ая соединительная линия 104"/>
          <p:cNvSpPr/>
          <p:nvPr/>
        </p:nvSpPr>
        <p:spPr>
          <a:xfrm flipV="1">
            <a:off x="4578480" y="41212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Прямая соединительная линия 106"/>
          <p:cNvSpPr/>
          <p:nvPr/>
        </p:nvSpPr>
        <p:spPr>
          <a:xfrm>
            <a:off x="4578480" y="4121280"/>
            <a:ext cx="1100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500"/>
                            </p:stCondLst>
                            <p:childTnLst>
                              <p:par>
                                <p:cTn id="57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57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3500"/>
                            </p:stCondLst>
                            <p:childTnLst>
                              <p:par>
                                <p:cTn id="58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2"/>
          <a:stretch/>
        </p:blipFill>
        <p:spPr>
          <a:xfrm>
            <a:off x="1073160" y="152280"/>
            <a:ext cx="6997680" cy="12193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2" descr=""/>
          <p:cNvPicPr/>
          <p:nvPr/>
        </p:nvPicPr>
        <p:blipFill>
          <a:blip r:embed="rId3"/>
          <a:stretch/>
        </p:blipFill>
        <p:spPr>
          <a:xfrm>
            <a:off x="460440" y="1527120"/>
            <a:ext cx="4052880" cy="456588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3692520" cy="41148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51.jpg"/>
          <p:cNvPicPr/>
          <p:nvPr/>
        </p:nvPicPr>
        <p:blipFill>
          <a:blip r:embed="rId5"/>
          <a:stretch/>
        </p:blipFill>
        <p:spPr>
          <a:xfrm>
            <a:off x="1428840" y="4286160"/>
            <a:ext cx="246672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52.jpg"/>
          <p:cNvPicPr/>
          <p:nvPr/>
        </p:nvPicPr>
        <p:blipFill>
          <a:blip r:embed="rId6"/>
          <a:stretch/>
        </p:blipFill>
        <p:spPr>
          <a:xfrm>
            <a:off x="5572080" y="4000680"/>
            <a:ext cx="22957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2" descr=""/>
          <p:cNvPicPr/>
          <p:nvPr/>
        </p:nvPicPr>
        <p:blipFill>
          <a:blip r:embed="rId2"/>
          <a:stretch/>
        </p:blipFill>
        <p:spPr>
          <a:xfrm>
            <a:off x="639720" y="1523880"/>
            <a:ext cx="786456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3"/>
          <a:stretch/>
        </p:blipFill>
        <p:spPr>
          <a:xfrm>
            <a:off x="1235160" y="152280"/>
            <a:ext cx="66736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3" descr="009.gif"/>
          <p:cNvPicPr/>
          <p:nvPr/>
        </p:nvPicPr>
        <p:blipFill>
          <a:blip r:embed="rId4"/>
          <a:stretch/>
        </p:blipFill>
        <p:spPr>
          <a:xfrm>
            <a:off x="5929200" y="3857760"/>
            <a:ext cx="25527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1093680" y="152280"/>
            <a:ext cx="695664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038840" cy="790560"/>
          </a:xfrm>
          <a:prstGeom prst="rect">
            <a:avLst/>
          </a:prstGeom>
          <a:ln w="0">
            <a:noFill/>
          </a:ln>
        </p:spPr>
      </p:pic>
      <p:pic>
        <p:nvPicPr>
          <p:cNvPr id="182" name="Текст 3" descr=""/>
          <p:cNvPicPr/>
          <p:nvPr/>
        </p:nvPicPr>
        <p:blipFill>
          <a:blip r:embed="rId4"/>
          <a:stretch/>
        </p:blipFill>
        <p:spPr>
          <a:xfrm>
            <a:off x="4495680" y="1981080"/>
            <a:ext cx="4038840" cy="79056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6" descr="007.gif"/>
          <p:cNvPicPr/>
          <p:nvPr/>
        </p:nvPicPr>
        <p:blipFill>
          <a:blip r:embed="rId5"/>
          <a:stretch/>
        </p:blipFill>
        <p:spPr>
          <a:xfrm>
            <a:off x="1058760" y="2833560"/>
            <a:ext cx="2838600" cy="28195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7" descr="001.gif"/>
          <p:cNvPicPr/>
          <p:nvPr/>
        </p:nvPicPr>
        <p:blipFill>
          <a:blip r:embed="rId6"/>
          <a:stretch/>
        </p:blipFill>
        <p:spPr>
          <a:xfrm>
            <a:off x="5194440" y="2814480"/>
            <a:ext cx="2943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2"/>
          <a:stretch/>
        </p:blipFill>
        <p:spPr>
          <a:xfrm>
            <a:off x="790560" y="152280"/>
            <a:ext cx="7562880" cy="1219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араллельно ей откладывают натуральный размер длины предмета, вдол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сокращенный в два раза размер ширины, а вдол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натуральный размер ее выс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о всем аксонометрическим осям и параллельно им в изометрической проекции откладывают натуральные разме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8" descr="7"/>
          <p:cNvPicPr/>
          <p:nvPr/>
        </p:nvPicPr>
        <p:blipFill>
          <a:blip r:embed="rId3"/>
          <a:stretch/>
        </p:blipFill>
        <p:spPr>
          <a:xfrm>
            <a:off x="1071720" y="3643200"/>
            <a:ext cx="2908080" cy="2500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9"/>
          <p:cNvPicPr/>
          <p:nvPr/>
        </p:nvPicPr>
        <p:blipFill>
          <a:blip r:embed="rId4"/>
          <a:stretch/>
        </p:blipFill>
        <p:spPr>
          <a:xfrm>
            <a:off x="5143680" y="3643200"/>
            <a:ext cx="2863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47704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533520" y="10663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авный стороне квадрата, 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отрезок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/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оводят отрезки, параллельные отложенн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авный стороне квадрата, 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отрезок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оводят отрезки, параллельные отложенн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11" descr="i?id=366726801-47-72"/>
          <p:cNvPicPr/>
          <p:nvPr/>
        </p:nvPicPr>
        <p:blipFill>
          <a:blip r:embed="rId3"/>
          <a:stretch/>
        </p:blipFill>
        <p:spPr>
          <a:xfrm>
            <a:off x="5029200" y="34290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i?id=367499471-13-72"/>
          <p:cNvPicPr/>
          <p:nvPr/>
        </p:nvPicPr>
        <p:blipFill>
          <a:blip r:embed="rId4"/>
          <a:stretch/>
        </p:blipFill>
        <p:spPr>
          <a:xfrm>
            <a:off x="762120" y="35053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1157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мметрично точк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резки, равные половине стороны треугольника, а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ловину высоты. Полученные точки соединяют отрезками прямы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мметрично точк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резки, равные половине стороны треугольника, а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его высоту. Полученные точки соединяют отрезками прямы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6" descr="lessonsYou30_clip_image006_0000.jpg"/>
          <p:cNvPicPr/>
          <p:nvPr/>
        </p:nvPicPr>
        <p:blipFill>
          <a:blip r:embed="rId3"/>
          <a:stretch/>
        </p:blipFill>
        <p:spPr>
          <a:xfrm>
            <a:off x="1071720" y="378612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lessonsYou30_clip_image008_0000.jpg"/>
          <p:cNvPicPr/>
          <p:nvPr/>
        </p:nvPicPr>
        <p:blipFill>
          <a:blip r:embed="rId4"/>
          <a:stretch/>
        </p:blipFill>
        <p:spPr>
          <a:xfrm>
            <a:off x="5143680" y="3643200"/>
            <a:ext cx="30715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1157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4475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право и влево от точк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стороне шестиугольника. 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имметрично точке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четверти расстояния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жду  противоположными сторонами. От точек, полученных на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проводят вправо и влево параллельн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резки, равные половине стороны шестиугольника. Полученные точки соединяют отрезками прямы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7239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право и влево от точк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стороне шестиугольника. 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имметрично точке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половине расстояния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S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жду  противоположными сторонами. От точек, полученных на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проводят вправо и влево параллельн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резки, равные половине стороны шестиугольника. Полученные точки соединяют отрезками прямы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6" descr="000141.jpg"/>
          <p:cNvPicPr/>
          <p:nvPr/>
        </p:nvPicPr>
        <p:blipFill>
          <a:blip r:embed="rId3"/>
          <a:stretch/>
        </p:blipFill>
        <p:spPr>
          <a:xfrm>
            <a:off x="1285920" y="4500720"/>
            <a:ext cx="2590920" cy="19144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000140.jpg"/>
          <p:cNvPicPr/>
          <p:nvPr/>
        </p:nvPicPr>
        <p:blipFill>
          <a:blip r:embed="rId4"/>
          <a:stretch/>
        </p:blipFill>
        <p:spPr>
          <a:xfrm>
            <a:off x="5410080" y="4419720"/>
            <a:ext cx="27720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2"/>
          <a:stretch/>
        </p:blipFill>
        <p:spPr>
          <a:xfrm>
            <a:off x="457200" y="157320"/>
            <a:ext cx="8229600" cy="1209600"/>
          </a:xfrm>
          <a:prstGeom prst="rect">
            <a:avLst/>
          </a:prstGeom>
          <a:ln w="0">
            <a:noFill/>
          </a:ln>
        </p:spPr>
      </p:pic>
      <p:sp>
        <p:nvSpPr>
          <p:cNvPr id="206" name="Line 6"/>
          <p:cNvSpPr/>
          <p:nvPr/>
        </p:nvSpPr>
        <p:spPr>
          <a:xfrm flipV="1">
            <a:off x="3657600" y="388584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3657600" y="3885840"/>
            <a:ext cx="380988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8"/>
          <p:cNvSpPr/>
          <p:nvPr/>
        </p:nvSpPr>
        <p:spPr>
          <a:xfrm flipH="1" flipV="1">
            <a:off x="990720" y="4419360"/>
            <a:ext cx="26668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724920" y="3765600"/>
            <a:ext cx="3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608240" y="3613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905400" y="39178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657600" y="4114800"/>
            <a:ext cx="3200400" cy="1371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6858000" y="3352320"/>
            <a:ext cx="0" cy="7621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6248160" y="3352680"/>
            <a:ext cx="609480" cy="228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6248520" y="2819520"/>
            <a:ext cx="0" cy="7617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4952520" y="2819520"/>
            <a:ext cx="1295640" cy="5331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4952880" y="3352680"/>
            <a:ext cx="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657600" y="3886200"/>
            <a:ext cx="1295280" cy="1600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23"/>
          <p:cNvSpPr/>
          <p:nvPr/>
        </p:nvSpPr>
        <p:spPr>
          <a:xfrm flipH="1" flipV="1">
            <a:off x="1371600" y="4572000"/>
            <a:ext cx="2286000" cy="9144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5"/>
          <p:cNvSpPr/>
          <p:nvPr/>
        </p:nvSpPr>
        <p:spPr>
          <a:xfrm flipH="1" flipV="1">
            <a:off x="2895120" y="3048120"/>
            <a:ext cx="2057400" cy="838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7"/>
          <p:cNvSpPr/>
          <p:nvPr/>
        </p:nvSpPr>
        <p:spPr>
          <a:xfrm flipH="1" flipV="1">
            <a:off x="2819520" y="2514600"/>
            <a:ext cx="2133360" cy="838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9"/>
          <p:cNvSpPr/>
          <p:nvPr/>
        </p:nvSpPr>
        <p:spPr>
          <a:xfrm flipH="1" flipV="1">
            <a:off x="4114440" y="1980720"/>
            <a:ext cx="2133720" cy="838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30"/>
          <p:cNvSpPr/>
          <p:nvPr/>
        </p:nvSpPr>
        <p:spPr>
          <a:xfrm flipH="1" flipV="1">
            <a:off x="6248160" y="3123720"/>
            <a:ext cx="609480" cy="228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31"/>
          <p:cNvSpPr/>
          <p:nvPr/>
        </p:nvSpPr>
        <p:spPr>
          <a:xfrm>
            <a:off x="1828800" y="472428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32"/>
          <p:cNvSpPr/>
          <p:nvPr/>
        </p:nvSpPr>
        <p:spPr>
          <a:xfrm>
            <a:off x="3200400" y="312408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33"/>
          <p:cNvSpPr/>
          <p:nvPr/>
        </p:nvSpPr>
        <p:spPr>
          <a:xfrm>
            <a:off x="3200400" y="266688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34"/>
          <p:cNvSpPr/>
          <p:nvPr/>
        </p:nvSpPr>
        <p:spPr>
          <a:xfrm>
            <a:off x="4267080" y="205740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37"/>
          <p:cNvSpPr/>
          <p:nvPr/>
        </p:nvSpPr>
        <p:spPr>
          <a:xfrm flipV="1">
            <a:off x="1828800" y="3200040"/>
            <a:ext cx="1371600" cy="1600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38"/>
          <p:cNvSpPr/>
          <p:nvPr/>
        </p:nvSpPr>
        <p:spPr>
          <a:xfrm flipV="1">
            <a:off x="3200400" y="2666880"/>
            <a:ext cx="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39"/>
          <p:cNvSpPr/>
          <p:nvPr/>
        </p:nvSpPr>
        <p:spPr>
          <a:xfrm flipV="1">
            <a:off x="3200400" y="2057040"/>
            <a:ext cx="1143000" cy="6094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3657600" y="4114800"/>
            <a:ext cx="32004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43"/>
          <p:cNvSpPr/>
          <p:nvPr/>
        </p:nvSpPr>
        <p:spPr>
          <a:xfrm flipV="1">
            <a:off x="6858000" y="33523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44"/>
          <p:cNvSpPr/>
          <p:nvPr/>
        </p:nvSpPr>
        <p:spPr>
          <a:xfrm flipH="1">
            <a:off x="6248160" y="335268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45"/>
          <p:cNvSpPr/>
          <p:nvPr/>
        </p:nvSpPr>
        <p:spPr>
          <a:xfrm flipV="1">
            <a:off x="6248520" y="28195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46"/>
          <p:cNvSpPr/>
          <p:nvPr/>
        </p:nvSpPr>
        <p:spPr>
          <a:xfrm flipH="1">
            <a:off x="4952520" y="2819520"/>
            <a:ext cx="129564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47"/>
          <p:cNvSpPr/>
          <p:nvPr/>
        </p:nvSpPr>
        <p:spPr>
          <a:xfrm>
            <a:off x="4952880" y="3352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8"/>
          <p:cNvSpPr/>
          <p:nvPr/>
        </p:nvSpPr>
        <p:spPr>
          <a:xfrm flipH="1">
            <a:off x="3657600" y="3886200"/>
            <a:ext cx="129528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9"/>
          <p:cNvSpPr/>
          <p:nvPr/>
        </p:nvSpPr>
        <p:spPr>
          <a:xfrm flipH="1" flipV="1">
            <a:off x="1828800" y="472392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51"/>
          <p:cNvSpPr/>
          <p:nvPr/>
        </p:nvSpPr>
        <p:spPr>
          <a:xfrm flipH="1" flipV="1">
            <a:off x="3200400" y="3200040"/>
            <a:ext cx="17524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52"/>
          <p:cNvSpPr/>
          <p:nvPr/>
        </p:nvSpPr>
        <p:spPr>
          <a:xfrm flipH="1" flipV="1">
            <a:off x="3200400" y="2666520"/>
            <a:ext cx="17524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53"/>
          <p:cNvSpPr/>
          <p:nvPr/>
        </p:nvSpPr>
        <p:spPr>
          <a:xfrm flipH="1" flipV="1">
            <a:off x="4267080" y="2057040"/>
            <a:ext cx="19814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54"/>
          <p:cNvSpPr/>
          <p:nvPr/>
        </p:nvSpPr>
        <p:spPr>
          <a:xfrm flipV="1">
            <a:off x="1828800" y="3200040"/>
            <a:ext cx="13716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55"/>
          <p:cNvSpPr/>
          <p:nvPr/>
        </p:nvSpPr>
        <p:spPr>
          <a:xfrm flipV="1">
            <a:off x="3200400" y="2666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56"/>
          <p:cNvSpPr/>
          <p:nvPr/>
        </p:nvSpPr>
        <p:spPr>
          <a:xfrm flipV="1">
            <a:off x="3200400" y="2057040"/>
            <a:ext cx="11430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58"/>
          <p:cNvSpPr/>
          <p:nvPr/>
        </p:nvSpPr>
        <p:spPr>
          <a:xfrm flipH="1" flipV="1">
            <a:off x="6248160" y="31237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8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5T11:29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