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5.png" ContentType="image/png"/>
  <Override PartName="/ppt/media/image38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3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261-5A04-4C10-BB0C-6BD389CB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99C-F989-4622-B7C3-0565B42B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BF0-C427-4FCC-B756-05AA1E47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E87-FAB9-45A0-A8A4-747A5AB5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7607-5991-40A5-A4F6-67AC26DB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3E6-994D-4164-8437-198C1612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A59-F4C6-4B39-B1FF-7CF20B3D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402-8ABF-46AC-973E-2D45805A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7F3-1CC7-4DBF-A16C-AF80BBB5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0D7-F765-4453-B1BF-0154EF13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764E-5571-4BA0-970A-5B95264A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2A7-D787-44A0-90FE-6B7FF0E5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EFF3-5B15-4CD4-8035-49D4D2DCF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rum.forum.forum.detsad-kitty.ru/page/96/" TargetMode="External"/><Relationship Id="rId3" Type="http://schemas.openxmlformats.org/officeDocument/2006/relationships/hyperlink" Target="http://www.ipk-integral.ru/news.htm?id=52" TargetMode="External"/><Relationship Id="rId4" Type="http://schemas.openxmlformats.org/officeDocument/2006/relationships/hyperlink" Target="http://www.kalugin.org/ru/images/pejzaz3/rodnik_na_opushke_lesa.htm" TargetMode="External"/><Relationship Id="rId5" Type="http://schemas.openxmlformats.org/officeDocument/2006/relationships/hyperlink" Target="http://www.personalguide.ru/tours/1328/1444/" TargetMode="External"/><Relationship Id="rId6" Type="http://schemas.openxmlformats.org/officeDocument/2006/relationships/hyperlink" Target="http://www.personalguide.ru/tours/1328/1444/" TargetMode="External"/><Relationship Id="rId7" Type="http://schemas.openxmlformats.org/officeDocument/2006/relationships/hyperlink" Target="http://www.personalguide.ru/tours/1328/1444/" TargetMode="External"/><Relationship Id="rId8" Type="http://schemas.openxmlformats.org/officeDocument/2006/relationships/hyperlink" Target="http://www.personalguide.ru/tours/1328/1444/" TargetMode="External"/><Relationship Id="rId9" Type="http://schemas.openxmlformats.org/officeDocument/2006/relationships/hyperlink" Target="http://www.personalguide.ru/tours/1328/1444/" TargetMode="External"/><Relationship Id="rId10" Type="http://schemas.openxmlformats.org/officeDocument/2006/relationships/hyperlink" Target="http://www.personalguide.ru/tours/1328/1444/" TargetMode="External"/><Relationship Id="rId11" Type="http://schemas.openxmlformats.org/officeDocument/2006/relationships/hyperlink" Target="http://boris.tylevich.ru/ribbon.php?journalid=45958&amp;action=readers&amp;page=3&amp;r_jour=1&amp;r_comm=1&amp;r_rss=1&amp;cat0=1&amp;cat1=1&amp;cat2=1&amp;cat3=1" TargetMode="External"/><Relationship Id="rId12" Type="http://schemas.openxmlformats.org/officeDocument/2006/relationships/hyperlink" Target="http://boris.tylevich.ru/ribbon.php?journalid=45958&amp;action=readers&amp;page=3&amp;r_jour=1&amp;r_comm=1&amp;r_rss=1&amp;cat0=1&amp;cat1=1&amp;cat2=1&amp;cat3=1" TargetMode="External"/><Relationship Id="rId13" Type="http://schemas.openxmlformats.org/officeDocument/2006/relationships/hyperlink" Target="http://boris.tylevich.ru/ribbon.php?journalid=45958&amp;action=readers&amp;page=3&amp;r_jour=1&amp;r_comm=1&amp;r_rss=1&amp;cat0=1&amp;cat1=1&amp;cat2=1&amp;cat3=1" TargetMode="External"/><Relationship Id="rId14" Type="http://schemas.openxmlformats.org/officeDocument/2006/relationships/hyperlink" Target="http://boris.tylevich.ru/ribbon.php?journalid=45958&amp;action=readers&amp;page=3&amp;r_jour=1&amp;r_comm=1&amp;r_rss=1&amp;cat0=1&amp;cat1=1&amp;cat2=1&amp;cat3=1" TargetMode="External"/><Relationship Id="rId15" Type="http://schemas.openxmlformats.org/officeDocument/2006/relationships/hyperlink" Target="http://boris.tylevich.ru/ribbon.php?journalid=45958&amp;action=readers&amp;page=3&amp;r_jour=1&amp;r_comm=1&amp;r_rss=1&amp;cat0=1&amp;cat1=1&amp;cat2=1&amp;cat3=1" TargetMode="External"/><Relationship Id="rId16" Type="http://schemas.openxmlformats.org/officeDocument/2006/relationships/hyperlink" Target="http://eco-vida.ru/2010/08" TargetMode="External"/><Relationship Id="rId17" Type="http://schemas.openxmlformats.org/officeDocument/2006/relationships/hyperlink" Target="http://www.clipartov.net/show-365.html" TargetMode="External"/><Relationship Id="rId18" Type="http://schemas.openxmlformats.org/officeDocument/2006/relationships/hyperlink" Target="http://www.clipartov.net/show-365.html" TargetMode="External"/><Relationship Id="rId19" Type="http://schemas.openxmlformats.org/officeDocument/2006/relationships/hyperlink" Target="http://www.clipartov.net/show-365.html" TargetMode="External"/><Relationship Id="rId20" Type="http://schemas.openxmlformats.org/officeDocument/2006/relationships/hyperlink" Target="http://www.clipartov.net/show-365.html" TargetMode="External"/><Relationship Id="rId21" Type="http://schemas.openxmlformats.org/officeDocument/2006/relationships/hyperlink" Target="http://www.clipartov.net/show-365-2.html" TargetMode="External"/><Relationship Id="rId22" Type="http://schemas.openxmlformats.org/officeDocument/2006/relationships/hyperlink" Target="http://www.clipartov.net/show-365-2.html" TargetMode="External"/><Relationship Id="rId23" Type="http://schemas.openxmlformats.org/officeDocument/2006/relationships/hyperlink" Target="http://www.clipartov.net/show-365-2.html" TargetMode="External"/><Relationship Id="rId24" Type="http://schemas.openxmlformats.org/officeDocument/2006/relationships/hyperlink" Target="http://www.clipartov.net/show-365-2.html" TargetMode="External"/><Relationship Id="rId25" Type="http://schemas.openxmlformats.org/officeDocument/2006/relationships/hyperlink" Target="http://www.clipartov.net/show-268-30.html" TargetMode="External"/><Relationship Id="rId26" Type="http://schemas.openxmlformats.org/officeDocument/2006/relationships/hyperlink" Target="http://www.clipartov.net/show-268-30.html" TargetMode="External"/><Relationship Id="rId27" Type="http://schemas.openxmlformats.org/officeDocument/2006/relationships/hyperlink" Target="http://www.clipartov.net/show-268-30.html" TargetMode="External"/><Relationship Id="rId28" Type="http://schemas.openxmlformats.org/officeDocument/2006/relationships/hyperlink" Target="http://www.clipartov.net/show-268-30.html" TargetMode="External"/><Relationship Id="rId29" Type="http://schemas.openxmlformats.org/officeDocument/2006/relationships/hyperlink" Target="http://win-web.ru/clip/view/ohota.html" TargetMode="External"/><Relationship Id="rId30" Type="http://schemas.openxmlformats.org/officeDocument/2006/relationships/hyperlink" Target="http://win-web.ru/clip/view/ohota.html" TargetMode="External"/><Relationship Id="rId31" Type="http://schemas.openxmlformats.org/officeDocument/2006/relationships/hyperlink" Target="http://win-web.ru/clip/view/ohota.html" TargetMode="External"/><Relationship Id="rId32" Type="http://schemas.openxmlformats.org/officeDocument/2006/relationships/hyperlink" Target="http://win-web.ru/clip/view/ohota.html" TargetMode="External"/><Relationship Id="rId33" Type="http://schemas.openxmlformats.org/officeDocument/2006/relationships/hyperlink" Target="http://win-web.ru/clip/view/ohota.html" TargetMode="External"/><Relationship Id="rId34" Type="http://schemas.openxmlformats.org/officeDocument/2006/relationships/hyperlink" Target="http://win-web.ru/clip/view/ohota.html" TargetMode="External"/><Relationship Id="rId35" Type="http://schemas.openxmlformats.org/officeDocument/2006/relationships/hyperlink" Target="http://win-web.ru/clip/view/ohota.html" TargetMode="External"/><Relationship Id="rId36" Type="http://schemas.openxmlformats.org/officeDocument/2006/relationships/hyperlink" Target="http://win-web.ru/clip/view/ohota.html" TargetMode="External"/><Relationship Id="rId37" Type="http://schemas.openxmlformats.org/officeDocument/2006/relationships/hyperlink" Target="http://win-web.ru/clip/view/ohota.html" TargetMode="External"/><Relationship Id="rId38" Type="http://schemas.openxmlformats.org/officeDocument/2006/relationships/hyperlink" Target="http://win-web.ru/clip/view/ohota.html" TargetMode="External"/><Relationship Id="rId39" Type="http://schemas.openxmlformats.org/officeDocument/2006/relationships/hyperlink" Target="http://win-web.ru/clip/view/ohota.html" TargetMode="External"/><Relationship Id="rId40" Type="http://schemas.openxmlformats.org/officeDocument/2006/relationships/hyperlink" Target="http://win-web.ru/clip/view/ohota.html" TargetMode="External"/><Relationship Id="rId41" Type="http://schemas.openxmlformats.org/officeDocument/2006/relationships/hyperlink" Target="http://win-web.ru/clip/view/ohota.html" TargetMode="External"/><Relationship Id="rId42" Type="http://schemas.openxmlformats.org/officeDocument/2006/relationships/hyperlink" Target="http://win-web.ru/clip/view/ohota.html" TargetMode="External"/><Relationship Id="rId43" Type="http://schemas.openxmlformats.org/officeDocument/2006/relationships/hyperlink" Target="http://win-web.ru/clip/view/ohota.html" TargetMode="External"/><Relationship Id="rId44" Type="http://schemas.openxmlformats.org/officeDocument/2006/relationships/hyperlink" Target="http://win-web.ru/clip/view/ohota.html" TargetMode="External"/><Relationship Id="rId45" Type="http://schemas.openxmlformats.org/officeDocument/2006/relationships/hyperlink" Target="http://win-web.ru/clip/view/ohota.html" TargetMode="External"/><Relationship Id="rId46" Type="http://schemas.openxmlformats.org/officeDocument/2006/relationships/hyperlink" Target="http://win-web.ru/clip/view/ohota.html" TargetMode="External"/><Relationship Id="rId47" Type="http://schemas.openxmlformats.org/officeDocument/2006/relationships/hyperlink" Target="http://photoshopy.net/8151-okhota-na-babochek.html" TargetMode="External"/><Relationship Id="rId48" Type="http://schemas.openxmlformats.org/officeDocument/2006/relationships/hyperlink" Target="http://photoshopy.net/8151-okhota-na-babochek.html" TargetMode="External"/><Relationship Id="rId49" Type="http://schemas.openxmlformats.org/officeDocument/2006/relationships/hyperlink" Target="http://photoshopy.net/8151-okhota-na-babochek.html" TargetMode="External"/><Relationship Id="rId50" Type="http://schemas.openxmlformats.org/officeDocument/2006/relationships/hyperlink" Target="http://photoshopy.net/8151-okhota-na-babochek.html" TargetMode="External"/><Relationship Id="rId5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lday.ru/index.php?newsid=41858" TargetMode="External"/><Relationship Id="rId3" Type="http://schemas.openxmlformats.org/officeDocument/2006/relationships/hyperlink" Target="http://allday.ru/index.php?newsid=41858" TargetMode="External"/><Relationship Id="rId4" Type="http://schemas.openxmlformats.org/officeDocument/2006/relationships/hyperlink" Target="http://allday.ru/index.php?newsid=41858" TargetMode="External"/><Relationship Id="rId5" Type="http://schemas.openxmlformats.org/officeDocument/2006/relationships/hyperlink" Target="http://allday.ru/index.php?newsid=41858" TargetMode="External"/><Relationship Id="rId6" Type="http://schemas.openxmlformats.org/officeDocument/2006/relationships/hyperlink" Target="http://festival.1september.ru:8080/articles/504524/" TargetMode="External"/><Relationship Id="rId7" Type="http://schemas.openxmlformats.org/officeDocument/2006/relationships/hyperlink" Target="http://festival.1september.ru:8080/articles/504524/" TargetMode="External"/><Relationship Id="rId8" Type="http://schemas.openxmlformats.org/officeDocument/2006/relationships/hyperlink" Target="http://festival.1september.ru:8080/articles/504524/" TargetMode="External"/><Relationship Id="rId9" Type="http://schemas.openxmlformats.org/officeDocument/2006/relationships/hyperlink" Target="http://festival.1september.ru:8080/articles/504524/" TargetMode="External"/><Relationship Id="rId10" Type="http://schemas.openxmlformats.org/officeDocument/2006/relationships/hyperlink" Target="http://festival.1september.ru:8080/articles/504524/" TargetMode="External"/><Relationship Id="rId11" Type="http://schemas.openxmlformats.org/officeDocument/2006/relationships/hyperlink" Target="http://festival.1september.ru:8080/articles/504524/" TargetMode="External"/><Relationship Id="rId12" Type="http://schemas.openxmlformats.org/officeDocument/2006/relationships/hyperlink" Target="http://festival.1september.ru:8080/articles/504524/" TargetMode="External"/><Relationship Id="rId13" Type="http://schemas.openxmlformats.org/officeDocument/2006/relationships/hyperlink" Target="http://festival.1september.ru:8080/articles/504524/" TargetMode="External"/><Relationship Id="rId14" Type="http://schemas.openxmlformats.org/officeDocument/2006/relationships/hyperlink" Target="http://festival.1september.ru:8080/articles/504524/" TargetMode="External"/><Relationship Id="rId15" Type="http://schemas.openxmlformats.org/officeDocument/2006/relationships/hyperlink" Target="http://festival.1september.ru:8080/articles/504524/" TargetMode="External"/><Relationship Id="rId16" Type="http://schemas.openxmlformats.org/officeDocument/2006/relationships/hyperlink" Target="http://www.clipartov.net/show-364-2.html" TargetMode="External"/><Relationship Id="rId17" Type="http://schemas.openxmlformats.org/officeDocument/2006/relationships/hyperlink" Target="http://www.clipartov.net/show-364-2.html" TargetMode="External"/><Relationship Id="rId18" Type="http://schemas.openxmlformats.org/officeDocument/2006/relationships/hyperlink" Target="http://www.clipartov.net/show-364-2.html" TargetMode="External"/><Relationship Id="rId19" Type="http://schemas.openxmlformats.org/officeDocument/2006/relationships/hyperlink" Target="http://www.clipartov.net/show-364-2.html" TargetMode="External"/><Relationship Id="rId20" Type="http://schemas.openxmlformats.org/officeDocument/2006/relationships/hyperlink" Target="http://www.domashnie-posidelki.ru/forum/74-2355-1" TargetMode="External"/><Relationship Id="rId21" Type="http://schemas.openxmlformats.org/officeDocument/2006/relationships/hyperlink" Target="http://www.clipartov.net/show-366-2.html" TargetMode="External"/><Relationship Id="rId22" Type="http://schemas.openxmlformats.org/officeDocument/2006/relationships/hyperlink" Target="http://vdec1.narod.ru/detskaya_listovki.html" TargetMode="External"/><Relationship Id="rId23" Type="http://schemas.openxmlformats.org/officeDocument/2006/relationships/hyperlink" Target="http://www.clipartov.net/show-364-6.html" TargetMode="External"/><Relationship Id="rId24" Type="http://schemas.openxmlformats.org/officeDocument/2006/relationships/hyperlink" Target="http://forum.anastasia.ru/post_434347.html" TargetMode="External"/><Relationship Id="rId25" Type="http://schemas.openxmlformats.org/officeDocument/2006/relationships/hyperlink" Target="http://eco-vida.ru/2010/08" TargetMode="External"/><Relationship Id="rId2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28.jpeg"/><Relationship Id="rId4" Type="http://schemas.openxmlformats.org/officeDocument/2006/relationships/image" Target="../media/image32.jpeg"/><Relationship Id="rId5" Type="http://schemas.openxmlformats.org/officeDocument/2006/relationships/image" Target="../media/image36.jpeg"/><Relationship Id="rId6" Type="http://schemas.openxmlformats.org/officeDocument/2006/relationships/image" Target="../media/image29.jpeg"/><Relationship Id="rId7" Type="http://schemas.openxmlformats.org/officeDocument/2006/relationships/image" Target="../media/image2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8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Monotype Corsiva"/>
              </a:rPr>
              <a:t>Будь природе другом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37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ружающий ми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84360" y="476280"/>
            <a:ext cx="4308480" cy="34686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3851280" y="476280"/>
            <a:ext cx="3456000" cy="576360"/>
            <a:chOff x="3851280" y="476280"/>
            <a:chExt cx="3456000" cy="576360"/>
          </a:xfrm>
        </p:grpSpPr>
        <p:sp>
          <p:nvSpPr>
            <p:cNvPr id="130" name=""/>
            <p:cNvSpPr/>
            <p:nvPr/>
          </p:nvSpPr>
          <p:spPr>
            <a:xfrm>
              <a:off x="3851280" y="476280"/>
              <a:ext cx="57636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27640" y="47628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03640" y="476280"/>
              <a:ext cx="57636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78560" y="476280"/>
              <a:ext cx="57636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54920" y="47628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30920" y="476280"/>
              <a:ext cx="57636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971640" y="1052640"/>
            <a:ext cx="4610160" cy="576000"/>
            <a:chOff x="971640" y="1052640"/>
            <a:chExt cx="4610160" cy="576000"/>
          </a:xfrm>
        </p:grpSpPr>
        <p:sp>
          <p:nvSpPr>
            <p:cNvPr id="137" name=""/>
            <p:cNvSpPr/>
            <p:nvPr/>
          </p:nvSpPr>
          <p:spPr>
            <a:xfrm>
              <a:off x="971640" y="1052640"/>
              <a:ext cx="57636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05440" y="1052640"/>
              <a:ext cx="57636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29440" y="1052640"/>
              <a:ext cx="57600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48000" y="1052640"/>
              <a:ext cx="57636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00360" y="1052640"/>
              <a:ext cx="57636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24360" y="1052640"/>
              <a:ext cx="57600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76720" y="1052640"/>
              <a:ext cx="57636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53080" y="1052640"/>
              <a:ext cx="57636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276720" y="1628640"/>
            <a:ext cx="4033800" cy="576360"/>
            <a:chOff x="3276720" y="1628640"/>
            <a:chExt cx="4033800" cy="576360"/>
          </a:xfrm>
        </p:grpSpPr>
        <p:sp>
          <p:nvSpPr>
            <p:cNvPr id="146" name=""/>
            <p:cNvSpPr/>
            <p:nvPr/>
          </p:nvSpPr>
          <p:spPr>
            <a:xfrm>
              <a:off x="3276720" y="1628640"/>
              <a:ext cx="57636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53080" y="1628640"/>
              <a:ext cx="57636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29440" y="162864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34520" y="162864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05440" y="1628640"/>
              <a:ext cx="57636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81800" y="1628640"/>
              <a:ext cx="57636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58160" y="1628640"/>
              <a:ext cx="57636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971640" y="2205000"/>
            <a:ext cx="4031640" cy="576360"/>
            <a:chOff x="971640" y="2205000"/>
            <a:chExt cx="4031640" cy="576360"/>
          </a:xfrm>
        </p:grpSpPr>
        <p:sp>
          <p:nvSpPr>
            <p:cNvPr id="154" name=""/>
            <p:cNvSpPr/>
            <p:nvPr/>
          </p:nvSpPr>
          <p:spPr>
            <a:xfrm>
              <a:off x="4427280" y="220500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51280" y="2205000"/>
              <a:ext cx="57564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74920" y="220500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00360" y="2205000"/>
              <a:ext cx="57564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71640" y="220500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47640" y="220500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24000" y="220500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971640" y="2781360"/>
            <a:ext cx="4608000" cy="576360"/>
            <a:chOff x="971640" y="2781360"/>
            <a:chExt cx="4608000" cy="576360"/>
          </a:xfrm>
        </p:grpSpPr>
        <p:sp>
          <p:nvSpPr>
            <p:cNvPr id="162" name=""/>
            <p:cNvSpPr/>
            <p:nvPr/>
          </p:nvSpPr>
          <p:spPr>
            <a:xfrm>
              <a:off x="5003640" y="278136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28720" y="278136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52720" y="2781360"/>
              <a:ext cx="57564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76360" y="278136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00000" y="278136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24000" y="2781360"/>
              <a:ext cx="57564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71640" y="278136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47640" y="2781360"/>
              <a:ext cx="576000" cy="576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00360" y="3357720"/>
            <a:ext cx="4033800" cy="576000"/>
            <a:chOff x="2700360" y="3357720"/>
            <a:chExt cx="4033800" cy="576000"/>
          </a:xfrm>
        </p:grpSpPr>
        <p:sp>
          <p:nvSpPr>
            <p:cNvPr id="171" name=""/>
            <p:cNvSpPr/>
            <p:nvPr/>
          </p:nvSpPr>
          <p:spPr>
            <a:xfrm>
              <a:off x="2700360" y="3357720"/>
              <a:ext cx="57636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76720" y="3357720"/>
              <a:ext cx="57636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53080" y="3357720"/>
              <a:ext cx="57600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29080" y="3357720"/>
              <a:ext cx="57636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05440" y="3357720"/>
              <a:ext cx="57636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81800" y="3357720"/>
              <a:ext cx="57600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57800" y="3357720"/>
              <a:ext cx="576360" cy="57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5280" y="1125360"/>
            <a:ext cx="431640" cy="432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95640" y="3500280"/>
            <a:ext cx="431640" cy="432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2852640"/>
            <a:ext cx="431640" cy="432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2276640"/>
            <a:ext cx="431640" cy="431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71640" y="1700280"/>
            <a:ext cx="432000" cy="431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549360"/>
            <a:ext cx="431640" cy="431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80360" y="1052640"/>
            <a:ext cx="136836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4149720"/>
            <a:ext cx="4103640" cy="2303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5480" y="4724280"/>
            <a:ext cx="341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Дерево – симв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нашей Род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926160" y="476280"/>
            <a:ext cx="3285720" cy="581400"/>
            <a:chOff x="3926160" y="476280"/>
            <a:chExt cx="3285720" cy="581400"/>
          </a:xfrm>
        </p:grpSpPr>
        <p:sp>
          <p:nvSpPr>
            <p:cNvPr id="188" name=""/>
            <p:cNvSpPr/>
            <p:nvPr/>
          </p:nvSpPr>
          <p:spPr>
            <a:xfrm>
              <a:off x="3926160" y="4762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02160" y="476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78160" y="476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51640" y="476280"/>
              <a:ext cx="41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29440" y="4762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05440" y="476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044000" y="1052640"/>
            <a:ext cx="4426560" cy="581400"/>
            <a:chOff x="1044000" y="1052640"/>
            <a:chExt cx="4426560" cy="581400"/>
          </a:xfrm>
        </p:grpSpPr>
        <p:sp>
          <p:nvSpPr>
            <p:cNvPr id="195" name=""/>
            <p:cNvSpPr/>
            <p:nvPr/>
          </p:nvSpPr>
          <p:spPr>
            <a:xfrm>
              <a:off x="1044000" y="105264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63480" y="1052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97080" y="105264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73080" y="105264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49440" y="1052640"/>
              <a:ext cx="50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25800" y="1052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02160" y="105264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78160" y="105264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9440" y="1628640"/>
            <a:ext cx="3857760" cy="581400"/>
            <a:chOff x="3349440" y="1628640"/>
            <a:chExt cx="3857760" cy="581400"/>
          </a:xfrm>
        </p:grpSpPr>
        <p:sp>
          <p:nvSpPr>
            <p:cNvPr id="204" name=""/>
            <p:cNvSpPr/>
            <p:nvPr/>
          </p:nvSpPr>
          <p:spPr>
            <a:xfrm>
              <a:off x="3349440" y="162864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25800" y="1628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02160" y="1628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77800" y="1628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53080" y="162864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29080" y="1628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05440" y="162864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044360" y="2205000"/>
            <a:ext cx="3816720" cy="581400"/>
            <a:chOff x="1044360" y="2205000"/>
            <a:chExt cx="3816720" cy="581400"/>
          </a:xfrm>
        </p:grpSpPr>
        <p:sp>
          <p:nvSpPr>
            <p:cNvPr id="212" name=""/>
            <p:cNvSpPr/>
            <p:nvPr/>
          </p:nvSpPr>
          <p:spPr>
            <a:xfrm>
              <a:off x="1044360" y="220500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35120" y="2205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96720" y="220500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73080" y="2205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49440" y="220500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25800" y="2205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02160" y="220500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44720" y="2781360"/>
            <a:ext cx="4435200" cy="581400"/>
            <a:chOff x="1044720" y="2781360"/>
            <a:chExt cx="4435200" cy="581400"/>
          </a:xfrm>
        </p:grpSpPr>
        <p:sp>
          <p:nvSpPr>
            <p:cNvPr id="220" name=""/>
            <p:cNvSpPr/>
            <p:nvPr/>
          </p:nvSpPr>
          <p:spPr>
            <a:xfrm>
              <a:off x="1044720" y="2781360"/>
              <a:ext cx="38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20720" y="278136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97080" y="2781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72720" y="27813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49440" y="2781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25800" y="2781360"/>
              <a:ext cx="32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02160" y="278136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78160" y="278136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773080" y="3357720"/>
            <a:ext cx="3862440" cy="581400"/>
            <a:chOff x="2773080" y="3357720"/>
            <a:chExt cx="3862440" cy="581400"/>
          </a:xfrm>
        </p:grpSpPr>
        <p:sp>
          <p:nvSpPr>
            <p:cNvPr id="229" name=""/>
            <p:cNvSpPr/>
            <p:nvPr/>
          </p:nvSpPr>
          <p:spPr>
            <a:xfrm>
              <a:off x="2773080" y="335772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49440" y="3357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25800" y="335772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02160" y="3357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78160" y="3357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52720" y="335772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29080" y="3357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580000" y="2708280"/>
            <a:ext cx="3035520" cy="37432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237" name=""/>
          <p:cNvSpPr/>
          <p:nvPr/>
        </p:nvSpPr>
        <p:spPr>
          <a:xfrm>
            <a:off x="543960" y="4365720"/>
            <a:ext cx="400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Ценное лекарств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растение, в пере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с китайского язы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«Человек-корен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6012000" y="2421000"/>
            <a:ext cx="2381040" cy="403848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sp>
        <p:nvSpPr>
          <p:cNvPr id="239" name=""/>
          <p:cNvSpPr/>
          <p:nvPr/>
        </p:nvSpPr>
        <p:spPr>
          <a:xfrm>
            <a:off x="614880" y="4437000"/>
            <a:ext cx="393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Как называется книг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в которую занес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редкие и исчез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растения и живот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5796000" y="3645000"/>
            <a:ext cx="2741400" cy="2687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41" name=""/>
          <p:cNvSpPr/>
          <p:nvPr/>
        </p:nvSpPr>
        <p:spPr>
          <a:xfrm>
            <a:off x="682920" y="4508640"/>
            <a:ext cx="380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Кто наносит сам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большой вре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5364000" y="4076640"/>
            <a:ext cx="3038760" cy="2239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sp>
        <p:nvSpPr>
          <p:cNvPr id="243" name=""/>
          <p:cNvSpPr/>
          <p:nvPr/>
        </p:nvSpPr>
        <p:spPr>
          <a:xfrm>
            <a:off x="613440" y="4653000"/>
            <a:ext cx="397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Наука о связях меж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живыми су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и окружающей сре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5580000" y="4005360"/>
            <a:ext cx="2556000" cy="2433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245" name=""/>
          <p:cNvSpPr/>
          <p:nvPr/>
        </p:nvSpPr>
        <p:spPr>
          <a:xfrm>
            <a:off x="686880" y="4653000"/>
            <a:ext cx="384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Солнце, воздух, во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растения, животн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человек – всё эт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5796000" y="4148280"/>
            <a:ext cx="2335320" cy="23349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79480" y="107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12720" y="4103640"/>
            <a:ext cx="464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отрю на глобус- шар зем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й прекрасный и родн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шепчут губы на вет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Я сберегу вас, сберегу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3573720" cy="47530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5292720" y="981000"/>
            <a:ext cx="2166840" cy="2349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orum.forum.forum.detsad-kitty.ru/page/96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ipk-integral.ru/news.htm?id=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kalugin.org/ru/images/pejzaz3/rodnik_na_opushke_lesa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personalguide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tour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1328/1444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boris.tylevich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ribbon.php?journalid=45958&amp;action=readers&amp;page=3&amp;r_jour=1&amp;r_comm=1&amp;r_rss=1&amp;cat0=1&amp;cat1=1&amp;cat2=1&amp;cat3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eco-vida.ru/2010/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clipartov.ne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/show-365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ww.clipartov.ne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show-365-2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www.clipartov.ne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/show-268-3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win-web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cli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vie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ohot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win-web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cli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vie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ohot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photoshopy.ne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/8151-okhota-na-babochek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8758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llday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index.php?newsid=4185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festival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.1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eptember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8080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article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504524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clipartov.ne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show-364-2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www.domashnie-posidelki.ru/forum/74-235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www.clipartov.net/show-366-2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vdec1.narod.ru/detskaya_listovki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www.clipartov.net/show-364-6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forum.anastasia.ru/post_434347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eco-vida.ru/2010/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pavlovo-turist.ucoz.ru/photo/1-3-0-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all-pages.com/news/1/page2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dvinainform.ru/news/2009/06/02/76666.shtml?p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diapazon.kz/2009/06/page/7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bolero.ru/books/9785946231176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roshkolu.ru/tag/1106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Monotype Corsiva"/>
              </a:rPr>
              <a:t>Панова Оксана Владими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Monotype Corsiva"/>
              </a:rPr>
              <a:t>учитель начальных класс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Monotype Corsiva"/>
              </a:rPr>
              <a:t>МАОУ «Гимназия №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Monotype Corsiva"/>
              </a:rPr>
              <a:t>г. Великого Новг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640" y="907920"/>
            <a:ext cx="488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отрю на глобус – шар зем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вдруг вздохнул он, как жив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шепчут мне матер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ы береги нас, берег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0000" y="4581360"/>
            <a:ext cx="41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ревоге рощи и лес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а на травах, как  слез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ихо  просят род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ы береги нас, береги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724360" y="765000"/>
            <a:ext cx="2659320" cy="2664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11280" y="3284640"/>
            <a:ext cx="3673440" cy="290196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34760" y="1000080"/>
            <a:ext cx="343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устит глубокая ре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и теряя бере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слышу голос я ре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ы береги нас, берег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07120" y="4024440"/>
            <a:ext cx="414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новил олень свой бе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дь человеком, челове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ебя мы верим – не сол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ы береги нас, бере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620640"/>
            <a:ext cx="3720960" cy="2790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4360" y="3552840"/>
            <a:ext cx="3527280" cy="2575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17680" y="404280"/>
            <a:ext cx="4917960" cy="61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де бы не жил челове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городе или загородной местности, он всегда окружён растениями, животными, птицами, насекомыми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ловек никогда не бывает изолирован от природы, но люди не всегда понимают как отражаются на природе их поступ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511440" cy="439272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Рассмотри схему на следующем кадре. Объясни, почему многие растения и животные встречаются всё ре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372360" y="1125360"/>
            <a:ext cx="2303280" cy="2303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59400" y="3860640"/>
            <a:ext cx="2316240" cy="23162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1280" y="3860640"/>
            <a:ext cx="2160360" cy="2160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132000" y="333360"/>
            <a:ext cx="3029040" cy="19922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611280" y="1052640"/>
            <a:ext cx="2200320" cy="2376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3635280" y="4437000"/>
            <a:ext cx="2049480" cy="20494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1979640" y="2060640"/>
            <a:ext cx="5329080" cy="41306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4067280" y="2708280"/>
            <a:ext cx="1261800" cy="1368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4643280" y="2349360"/>
            <a:ext cx="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63640" y="2276640"/>
            <a:ext cx="100836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364000" y="3644640"/>
            <a:ext cx="93672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716360" y="4076280"/>
            <a:ext cx="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2349360"/>
            <a:ext cx="122400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771640" y="3573360"/>
            <a:ext cx="1295640" cy="1224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16000" y="2133720"/>
            <a:ext cx="5265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чита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авила друзей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тр.87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 Рассмотр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экологические зна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2171880" cy="28670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620640"/>
            <a:ext cx="1073160" cy="2016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2985480" y="2565360"/>
            <a:ext cx="5208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ой правила лист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маги и проверь сво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еда по парте э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а по экологичес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5640" y="1197000"/>
            <a:ext cx="1633680" cy="51116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Работа в па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1944720" cy="1865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276720" y="1628640"/>
            <a:ext cx="1849320" cy="1871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940360" y="1628640"/>
            <a:ext cx="1944720" cy="1839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826920" y="4292640"/>
            <a:ext cx="1873440" cy="1687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3348000" y="4005360"/>
            <a:ext cx="1860480" cy="1944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6012000" y="4076640"/>
            <a:ext cx="1873080" cy="1800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2050920" y="1557360"/>
            <a:ext cx="4608720" cy="28242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1183320" y="4869000"/>
            <a:ext cx="710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ьте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авила друзей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каждому экологическому зна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4365720"/>
            <a:ext cx="1727280" cy="1584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1700280"/>
            <a:ext cx="1729080" cy="1657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1700280"/>
            <a:ext cx="1800000" cy="1728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4148280"/>
            <a:ext cx="1728720" cy="1657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1773360"/>
            <a:ext cx="1728720" cy="1657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4149720"/>
            <a:ext cx="1729080" cy="1657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258920" y="1844640"/>
            <a:ext cx="100944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634920" y="1916280"/>
            <a:ext cx="108108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372360" y="1916280"/>
            <a:ext cx="93816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258920" y="4508640"/>
            <a:ext cx="1009440" cy="129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780000" y="4292640"/>
            <a:ext cx="100944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443280" y="4292640"/>
            <a:ext cx="100980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77080" y="3068640"/>
            <a:ext cx="1596960" cy="159696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Что наносит вред природ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700360" y="1341360"/>
            <a:ext cx="1557360" cy="144000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39640" y="1341360"/>
            <a:ext cx="1617840" cy="145728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804000" y="1341360"/>
            <a:ext cx="1655640" cy="1487520"/>
          </a:xfrm>
          <a:prstGeom prst="rect">
            <a:avLst/>
          </a:prstGeom>
          <a:ln w="28440">
            <a:solidFill>
              <a:srgbClr val="6600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2627280" y="3068640"/>
            <a:ext cx="1628640" cy="14875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2771640" y="4869000"/>
            <a:ext cx="1444680" cy="1444320"/>
          </a:xfrm>
          <a:prstGeom prst="rect">
            <a:avLst/>
          </a:prstGeom>
          <a:ln w="28440">
            <a:solidFill>
              <a:srgbClr val="ff6699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611280" y="3068640"/>
            <a:ext cx="1657080" cy="13730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4788000" y="3068640"/>
            <a:ext cx="1643040" cy="15778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4788000" y="1341360"/>
            <a:ext cx="1511280" cy="144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4788000" y="4941720"/>
            <a:ext cx="1728720" cy="13878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12"/>
          <a:stretch/>
        </p:blipFill>
        <p:spPr>
          <a:xfrm>
            <a:off x="468360" y="4869000"/>
            <a:ext cx="1942920" cy="1368360"/>
          </a:xfrm>
          <a:prstGeom prst="rect">
            <a:avLst/>
          </a:prstGeom>
          <a:ln w="28440">
            <a:solidFill>
              <a:srgbClr val="00cc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13"/>
          <a:stretch/>
        </p:blipFill>
        <p:spPr>
          <a:xfrm>
            <a:off x="6948360" y="4941720"/>
            <a:ext cx="1511280" cy="1440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109" name=""/>
          <p:cNvSpPr/>
          <p:nvPr/>
        </p:nvSpPr>
        <p:spPr>
          <a:xfrm flipH="1">
            <a:off x="7740720" y="3357720"/>
            <a:ext cx="21600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3573360"/>
            <a:ext cx="217440" cy="1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8101080" y="3645000"/>
            <a:ext cx="28728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Будь природе друго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564000" y="2637000"/>
            <a:ext cx="2060640" cy="20872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116000" y="1268280"/>
            <a:ext cx="1760400" cy="158616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11280" y="3089160"/>
            <a:ext cx="1800000" cy="14922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187280" y="4869000"/>
            <a:ext cx="1800360" cy="1512720"/>
          </a:xfrm>
          <a:prstGeom prst="rect">
            <a:avLst/>
          </a:prstGeom>
          <a:ln w="28440">
            <a:solidFill>
              <a:srgbClr val="00cc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6084720" y="1268280"/>
            <a:ext cx="1656000" cy="1487520"/>
          </a:xfrm>
          <a:prstGeom prst="rect">
            <a:avLst/>
          </a:prstGeom>
          <a:ln w="28440">
            <a:solidFill>
              <a:srgbClr val="6600ff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6877080" y="3068640"/>
            <a:ext cx="1596960" cy="159696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6300720" y="4869000"/>
            <a:ext cx="1800360" cy="1512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6948360" y="3573360"/>
            <a:ext cx="217440" cy="1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740720" y="3357720"/>
            <a:ext cx="21600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8101080" y="3645000"/>
            <a:ext cx="28728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87280" y="4724280"/>
            <a:ext cx="863640" cy="1009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0" y="4724280"/>
            <a:ext cx="936720" cy="93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411280" y="3716280"/>
            <a:ext cx="1152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3716280"/>
            <a:ext cx="12254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842920" y="1989000"/>
            <a:ext cx="1152360" cy="64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076720" y="1989000"/>
            <a:ext cx="1008000" cy="64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3:21:47Z</dcterms:created>
  <dc:creator>мама</dc:creator>
  <dc:description/>
  <dc:language>en-US</dc:language>
  <cp:lastModifiedBy>мама</cp:lastModifiedBy>
  <dcterms:modified xsi:type="dcterms:W3CDTF">2010-11-09T16:11:24Z</dcterms:modified>
  <cp:revision>8</cp:revision>
  <dc:subject/>
  <dc:title>Будь природе другом!</dc:title>
</cp:coreProperties>
</file>