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AA1-092E-46DD-A5D7-B8A58C1C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BC7-29B1-4441-B3BC-21BA854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3A1-2FFB-46EA-9FB6-78FEFBC6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44C-0E71-49C9-B178-38F2B7BE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A79F-4AFA-4DDD-A0A9-7C456173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162-8BA4-4E90-B411-5A7FE05C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587-B7D0-42B7-83CF-036736FF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1FC9-E45D-4901-939B-8AFC47A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1D4A-A989-430E-92AA-E1D9157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FA7E-4AC8-4B81-ACDE-DC8DAAD0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1FC-8C1F-4440-8535-AF0BAE43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4E1-3481-46E8-9627-387944A3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F3A6-12A1-4A9F-8633-D54D3D1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C0C7-EBB1-41F6-A01C-E642B9D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9C39-4E29-4011-98EF-ED7562C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B8E-B634-4670-9A55-433984B9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ED46-048B-4295-AAFE-250FBFF5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EE11-D3DB-4AB0-9751-A987BB6F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A5C6-6D51-452B-9280-82F7ACB1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5FF4-44F0-49E6-996A-F874EE3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4296-FDC9-4168-A3D0-94A363D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5113-410D-4B0C-8510-3898F5D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31E-7580-4B0F-9A2D-BD7C593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1070-97D0-42AC-8B49-7B06491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0B7C-D7D0-4527-92DF-243BC07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FDE9-888B-489A-BB12-DCB892E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98F6-A449-4087-A0EF-6B2ADE7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4AFC-6E89-420A-8FDC-0397FCB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9F2B-40EB-4B67-BD6F-F0CA4FE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FEE7-B527-48B5-A67C-B5DF64D5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7159-4F57-4FE5-8223-BB316658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90F7-3AE6-402F-9568-1432713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6EDE-7E2D-430E-8BDE-D7FF426E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99A-ED1D-4862-9820-C4A6CC7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7C54-EB43-40E6-BB3C-4E20D571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537A-AC2C-4C4E-87E6-F277EFE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DD82-3A31-4CE5-ABE4-F878F8F3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5165-88CE-423D-9EFB-12D5C92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9E68-4E67-41BE-950A-FFFE7FD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E183-F319-4D84-BBDD-29FA0B9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5A83-4E4C-49FD-8A9C-AA96089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DD27-8EA8-456A-85A8-AF610F31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F9B6-7212-4F51-B5F8-7C8871F6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3A7B-B46D-42E4-B1F2-C1754B9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AF8-3E6C-45F8-8F4A-5E0F5C0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A77C-F526-49DC-9A7E-90E8A46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03B6F-5D03-48EA-8711-888651A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E2B7-76D3-4526-B39E-B1204051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76DE-654E-41E6-87CA-7AFDF5F2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70B2-687E-46D9-AB2B-F057A75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4EC4-E7F3-40B8-B35D-DB26FBE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827D-9DEA-4117-B34D-71A4A03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41FD-31E9-40D2-9605-8E64FF8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65FB3-71FE-4704-8258-8EFD519B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87CB-185E-4CAB-8171-388F9A98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F59-6168-41DA-8B2E-F1F0ED3D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D8E1-445D-4FFD-8A9F-51F52EBA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14A6-D00F-4D20-B344-29340688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3009-DD27-4E09-B3EE-EB9200B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522C-F4F1-44C0-8FB0-7A13FD6D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CB48-B89E-48E4-AD40-24FC70DF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3A5F-DE50-49B8-B12F-BE26E1B3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36EA-EC79-44A8-B1C5-7CF0008E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21F3-36E8-4EEE-8D25-FB28009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D4CA-5CE6-4058-9228-F7E0E1C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DE72B-5BA5-47FD-8597-8B1E855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2D8-3D93-44C8-B197-FC4F485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532C-8321-4459-8665-23BEDAD7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8929-4EC2-4259-B423-73103B0E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C349-7516-4FB8-A28A-9C89249B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1785C-6C09-44C4-A8CA-E13021C8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2890-C012-424F-8FE1-4979763C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00E4-0745-45DC-9892-576D313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02F1C-E7BE-42BF-82C0-678BBC85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8800-C458-4979-AA86-10433D72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A6F7-C4C1-4392-8A7D-2B05C9EB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FA6C-8898-4AEF-B971-3ACDABB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414-4E14-4DF2-A34E-AEEEFE6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0ABF-CE4E-4FC2-9106-7CA9695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CD33E-93D6-4A2A-A01F-601A201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300A1-DA21-4853-8B62-DC668AB7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4F114-1E3E-44D9-B100-A08B84FD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620B-5E07-479A-97E7-AE4818E2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C65-8619-497A-A15B-2621230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CC27-5B8D-4D78-B2D4-C21222BBB5D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C164-E804-43AD-A630-94F90C924C7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807C-67AD-45F3-8267-BD199EF7C56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EFEB-845B-4D4B-874B-EFA2A6F6E32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3150-3C34-47C3-8478-C5E6C1F1B3C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C9F-0A05-4DA7-8FE5-0F6153F3674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C9F-3DE5-439B-A659-BB15DEAC03C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z49qt8nm5ozestwa1catsgtd9khwan5r_2.jpg"/>
          <p:cNvPicPr/>
          <p:nvPr/>
        </p:nvPicPr>
        <p:blipFill>
          <a:blip r:embed="rId1"/>
          <a:stretch/>
        </p:blipFill>
        <p:spPr>
          <a:xfrm>
            <a:off x="0" y="0"/>
            <a:ext cx="9578880" cy="7184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857760" y="2142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5786280" y="51436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Елена Серг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928800" y="157176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7" descr=""/>
          <p:cNvPicPr/>
          <p:nvPr/>
        </p:nvPicPr>
        <p:blipFill>
          <a:blip r:embed="rId2"/>
          <a:stretch/>
        </p:blipFill>
        <p:spPr>
          <a:xfrm>
            <a:off x="1249200" y="2603520"/>
            <a:ext cx="7407360" cy="194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2000160" y="928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ллектуальный марафон по гео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4" descr="geometry_w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s030304.jpg"/>
          <p:cNvPicPr/>
          <p:nvPr/>
        </p:nvPicPr>
        <p:blipFill>
          <a:blip r:embed="rId2"/>
          <a:stretch/>
        </p:blipFill>
        <p:spPr>
          <a:xfrm>
            <a:off x="928800" y="1214280"/>
            <a:ext cx="7364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85128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s030303.jpg"/>
          <p:cNvPicPr/>
          <p:nvPr/>
        </p:nvPicPr>
        <p:blipFill>
          <a:blip r:embed="rId2"/>
          <a:stretch/>
        </p:blipFill>
        <p:spPr>
          <a:xfrm>
            <a:off x="714240" y="1214280"/>
            <a:ext cx="784728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4" descr="Природная геометрия фрактал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Содержимое 3" descr="s030302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9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428760" y="500040"/>
            <a:ext cx="821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Две прямые в пространстве называю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перпендикулярными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(взаимно перпендикулярными), если угол между ними равен 90</a:t>
            </a:r>
            <a:r>
              <a:rPr b="0" i="1" lang="ru-RU" sz="25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данные 8"/>
          <p:cNvSpPr/>
          <p:nvPr/>
        </p:nvSpPr>
        <p:spPr>
          <a:xfrm>
            <a:off x="1714680" y="2786040"/>
            <a:ext cx="5286240" cy="2357640"/>
          </a:xfrm>
          <a:prstGeom prst="flowChartInputOutput">
            <a:avLst/>
          </a:prstGeom>
          <a:solidFill>
            <a:srgbClr val="ff33cc">
              <a:alpha val="35000"/>
            </a:srgbClr>
          </a:solidFill>
          <a:ln w="25560">
            <a:solidFill>
              <a:srgbClr val="ff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0"/>
          <p:cNvSpPr/>
          <p:nvPr/>
        </p:nvSpPr>
        <p:spPr>
          <a:xfrm flipV="1">
            <a:off x="2714760" y="3071520"/>
            <a:ext cx="7855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2714760" y="3286080"/>
            <a:ext cx="32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5"/>
          <p:cNvSpPr/>
          <p:nvPr/>
        </p:nvSpPr>
        <p:spPr>
          <a:xfrm>
            <a:off x="3286080" y="35002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 flipV="1">
            <a:off x="3571920" y="3285720"/>
            <a:ext cx="712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2500200" y="2428920"/>
            <a:ext cx="43578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228600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0"/>
          <p:cNvSpPr/>
          <p:nvPr/>
        </p:nvSpPr>
        <p:spPr>
          <a:xfrm>
            <a:off x="5286240" y="2714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1"/>
          <p:cNvSpPr/>
          <p:nvPr/>
        </p:nvSpPr>
        <p:spPr>
          <a:xfrm>
            <a:off x="6286680" y="1785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214200" y="54291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крещ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7" descr="geometry.jpg"/>
          <p:cNvPicPr/>
          <p:nvPr/>
        </p:nvPicPr>
        <p:blipFill>
          <a:blip r:embed="rId1">
            <a:lum bright="64000"/>
          </a:blip>
          <a:stretch/>
        </p:blipFill>
        <p:spPr>
          <a:xfrm>
            <a:off x="285840" y="214200"/>
            <a:ext cx="8286840" cy="6350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1143000" y="32860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ямая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пендикулярной к плоскос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-212760"/>
            <a:ext cx="8345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данные 3"/>
          <p:cNvSpPr/>
          <p:nvPr/>
        </p:nvSpPr>
        <p:spPr>
          <a:xfrm>
            <a:off x="928800" y="2500200"/>
            <a:ext cx="7215120" cy="2857680"/>
          </a:xfrm>
          <a:prstGeom prst="flowChartInputOutput">
            <a:avLst/>
          </a:prstGeom>
          <a:solidFill>
            <a:srgbClr val="3891a7">
              <a:alpha val="3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7"/>
          <p:cNvSpPr/>
          <p:nvPr/>
        </p:nvSpPr>
        <p:spPr>
          <a:xfrm>
            <a:off x="4500720" y="3714840"/>
            <a:ext cx="0" cy="157140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9"/>
          <p:cNvSpPr/>
          <p:nvPr/>
        </p:nvSpPr>
        <p:spPr>
          <a:xfrm>
            <a:off x="4500720" y="5357880"/>
            <a:ext cx="0" cy="8571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>
            <a:off x="5500080" y="2714760"/>
            <a:ext cx="57132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3"/>
          <p:cNvSpPr/>
          <p:nvPr/>
        </p:nvSpPr>
        <p:spPr>
          <a:xfrm>
            <a:off x="3714840" y="478620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5"/>
          <p:cNvSpPr/>
          <p:nvPr/>
        </p:nvSpPr>
        <p:spPr>
          <a:xfrm flipH="1">
            <a:off x="6571800" y="2786040"/>
            <a:ext cx="7858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2214720" y="342900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1"/>
          <p:cNvSpPr/>
          <p:nvPr/>
        </p:nvSpPr>
        <p:spPr>
          <a:xfrm>
            <a:off x="4500720" y="7858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2"/>
          <p:cNvSpPr/>
          <p:nvPr/>
        </p:nvSpPr>
        <p:spPr>
          <a:xfrm>
            <a:off x="2500200" y="2571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1"/>
          <p:cNvSpPr/>
          <p:nvPr/>
        </p:nvSpPr>
        <p:spPr>
          <a:xfrm>
            <a:off x="3214800" y="3143160"/>
            <a:ext cx="32860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2428920" y="2714760"/>
            <a:ext cx="378612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6"/>
          <p:cNvSpPr/>
          <p:nvPr/>
        </p:nvSpPr>
        <p:spPr>
          <a:xfrm flipH="1">
            <a:off x="2999880" y="3714840"/>
            <a:ext cx="32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5"/>
          <p:cNvSpPr/>
          <p:nvPr/>
        </p:nvSpPr>
        <p:spPr>
          <a:xfrm flipH="1" flipV="1">
            <a:off x="4428720" y="857160"/>
            <a:ext cx="71640" cy="2857680"/>
          </a:xfrm>
          <a:prstGeom prst="line">
            <a:avLst/>
          </a:prstGeom>
          <a:ln w="50760">
            <a:solidFill>
              <a:srgbClr val="00206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428760" y="35712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одна из двух параллельных прямых перпендикулярна  плоскости, то и другая прямая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Блок-схема: данные 4"/>
          <p:cNvSpPr/>
          <p:nvPr/>
        </p:nvSpPr>
        <p:spPr>
          <a:xfrm>
            <a:off x="2071800" y="4071960"/>
            <a:ext cx="4857480" cy="1928880"/>
          </a:xfrm>
          <a:prstGeom prst="flowChartInputOutput">
            <a:avLst/>
          </a:prstGeom>
          <a:solidFill>
            <a:srgbClr val="ffff00">
              <a:alpha val="7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400068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>
            <a:off x="521496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V="1">
            <a:off x="2786040" y="5214600"/>
            <a:ext cx="1714680" cy="5000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071960" y="2500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5357880" y="2500200"/>
            <a:ext cx="78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786040" y="5000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5143680" y="5286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16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-4680"/>
            <a:ext cx="9139320" cy="707688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689040"/>
            <a:ext cx="755964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10155-1.jpg"/>
          <p:cNvPicPr/>
          <p:nvPr/>
        </p:nvPicPr>
        <p:blipFill>
          <a:blip r:embed="rId1"/>
          <a:srcRect l="0" t="0" r="0" b="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1859040"/>
            <a:ext cx="8242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345499707_690e9067f3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ая соединительная линия 5"/>
          <p:cNvSpPr/>
          <p:nvPr/>
        </p:nvSpPr>
        <p:spPr>
          <a:xfrm>
            <a:off x="5286240" y="1000080"/>
            <a:ext cx="192240" cy="5072040"/>
          </a:xfrm>
          <a:prstGeom prst="line">
            <a:avLst/>
          </a:prstGeom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14"/>
          <p:cNvSpPr/>
          <p:nvPr/>
        </p:nvSpPr>
        <p:spPr>
          <a:xfrm>
            <a:off x="1643040" y="6072120"/>
            <a:ext cx="7500960" cy="785880"/>
          </a:xfrm>
          <a:prstGeom prst="triangle">
            <a:avLst>
              <a:gd name="adj" fmla="val 51125"/>
            </a:avLst>
          </a:prstGeom>
          <a:solidFill>
            <a:srgbClr val="7030a0">
              <a:alpha val="70000"/>
            </a:srgbClr>
          </a:solidFill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3" descr="квадратные капли.jpg"/>
          <p:cNvPicPr/>
          <p:nvPr/>
        </p:nvPicPr>
        <p:blipFill>
          <a:blip r:embed="rId1"/>
          <a:srcRect l="0" t="0" r="1417" b="2520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" descr=""/>
          <p:cNvPicPr/>
          <p:nvPr/>
        </p:nvPicPr>
        <p:blipFill>
          <a:blip r:embed="rId2"/>
          <a:stretch/>
        </p:blipFill>
        <p:spPr>
          <a:xfrm>
            <a:off x="933480" y="2352600"/>
            <a:ext cx="7467480" cy="283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714240" y="214200"/>
            <a:ext cx="8072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сли прямая перпендикулярна к двум пересекающимся прямым, лежавшим в плоскости, то она перпендикулярна к этой плоск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57120" y="15001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им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ая перпендикулярна к прямы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жавши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пересекающимся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араллелограмм 6"/>
          <p:cNvSpPr/>
          <p:nvPr/>
        </p:nvSpPr>
        <p:spPr>
          <a:xfrm>
            <a:off x="2714760" y="3143160"/>
            <a:ext cx="3714480" cy="1928880"/>
          </a:xfrm>
          <a:prstGeom prst="parallelogram">
            <a:avLst>
              <a:gd name="adj" fmla="val 24999"/>
            </a:avLst>
          </a:prstGeom>
          <a:solidFill>
            <a:srgbClr val="ffff00">
              <a:alpha val="5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8"/>
          <p:cNvSpPr/>
          <p:nvPr/>
        </p:nvSpPr>
        <p:spPr>
          <a:xfrm flipV="1">
            <a:off x="5357880" y="2762280"/>
            <a:ext cx="0" cy="1309680"/>
          </a:xfrm>
          <a:prstGeom prst="line">
            <a:avLst/>
          </a:prstGeom>
          <a:ln w="255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0"/>
          <p:cNvSpPr/>
          <p:nvPr/>
        </p:nvSpPr>
        <p:spPr>
          <a:xfrm>
            <a:off x="5357880" y="4000680"/>
            <a:ext cx="0" cy="107136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2"/>
          <p:cNvSpPr/>
          <p:nvPr/>
        </p:nvSpPr>
        <p:spPr>
          <a:xfrm>
            <a:off x="5357880" y="5072040"/>
            <a:ext cx="0" cy="285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4"/>
          <p:cNvSpPr/>
          <p:nvPr/>
        </p:nvSpPr>
        <p:spPr>
          <a:xfrm flipV="1">
            <a:off x="3143160" y="3499920"/>
            <a:ext cx="1857600" cy="1071720"/>
          </a:xfrm>
          <a:prstGeom prst="line">
            <a:avLst/>
          </a:prstGeom>
          <a:ln w="2556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7"/>
          <p:cNvSpPr/>
          <p:nvPr/>
        </p:nvSpPr>
        <p:spPr>
          <a:xfrm>
            <a:off x="3571920" y="3786120"/>
            <a:ext cx="13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9"/>
          <p:cNvSpPr/>
          <p:nvPr/>
        </p:nvSpPr>
        <p:spPr>
          <a:xfrm>
            <a:off x="3500280" y="4143240"/>
            <a:ext cx="50040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5"/>
          <p:cNvSpPr/>
          <p:nvPr/>
        </p:nvSpPr>
        <p:spPr>
          <a:xfrm>
            <a:off x="53578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4286160" y="307188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8"/>
          <p:cNvSpPr/>
          <p:nvPr/>
        </p:nvSpPr>
        <p:spPr>
          <a:xfrm>
            <a:off x="3429000" y="3286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9"/>
          <p:cNvSpPr/>
          <p:nvPr/>
        </p:nvSpPr>
        <p:spPr>
          <a:xfrm>
            <a:off x="421488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0"/>
          <p:cNvSpPr/>
          <p:nvPr/>
        </p:nvSpPr>
        <p:spPr>
          <a:xfrm>
            <a:off x="4572000" y="4429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3857760" y="4214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4143240" y="3786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395280" y="5589720"/>
            <a:ext cx="83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ажем, ч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пендикуляр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Для этого нужно доказать, что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пендикулярна к произвольн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357120" y="64296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м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араллельную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в качеств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ем саму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357120" y="3143160"/>
            <a:ext cx="392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м на прям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, чтобы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серединой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 проведе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, пересекающую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в точка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считать, для определенности, что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ит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44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51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79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86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142920" y="214200"/>
            <a:ext cx="44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единные перпендикуляры к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= В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 = B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Q = ∆BPQ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ем сторонам. Поэтом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Q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142920" y="19288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равны по двум сторонам и углу между ни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торон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= B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о это означает, что треугольни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 его медиа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ысотой, т. е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║ 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емме о перпендикулярности двух параллельных прямых к третей). Итак,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люб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516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523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0"/>
          <p:cNvSpPr/>
          <p:nvPr/>
        </p:nvSpPr>
        <p:spPr>
          <a:xfrm>
            <a:off x="500040" y="1285920"/>
            <a:ext cx="35006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теперь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ую прямой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упомянутой лемм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по доказанному в перво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9" name="Рисунок 3" descr="9694791-very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ая соединительная линия 5"/>
          <p:cNvSpPr/>
          <p:nvPr/>
        </p:nvSpPr>
        <p:spPr>
          <a:xfrm>
            <a:off x="2857680" y="2428920"/>
            <a:ext cx="0" cy="350028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 flipV="1">
            <a:off x="285840" y="5357520"/>
            <a:ext cx="2571840" cy="57132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 flipV="1">
            <a:off x="2928960" y="5286240"/>
            <a:ext cx="5929200" cy="64296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11512189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ая соединительная линия 5"/>
          <p:cNvSpPr/>
          <p:nvPr/>
        </p:nvSpPr>
        <p:spPr>
          <a:xfrm>
            <a:off x="3286080" y="2286000"/>
            <a:ext cx="0" cy="414324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535788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4"/>
          <p:cNvSpPr/>
          <p:nvPr/>
        </p:nvSpPr>
        <p:spPr>
          <a:xfrm>
            <a:off x="714384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6"/>
          <p:cNvSpPr/>
          <p:nvPr/>
        </p:nvSpPr>
        <p:spPr>
          <a:xfrm>
            <a:off x="285840" y="6357960"/>
            <a:ext cx="8858160" cy="14292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eskiz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ая соединительная линия 5"/>
          <p:cNvSpPr/>
          <p:nvPr/>
        </p:nvSpPr>
        <p:spPr>
          <a:xfrm>
            <a:off x="5500800" y="1643040"/>
            <a:ext cx="71280" cy="4714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7"/>
          <p:cNvSpPr/>
          <p:nvPr/>
        </p:nvSpPr>
        <p:spPr>
          <a:xfrm flipV="1">
            <a:off x="5572080" y="5928840"/>
            <a:ext cx="2714760" cy="42876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9"/>
          <p:cNvSpPr/>
          <p:nvPr/>
        </p:nvSpPr>
        <p:spPr>
          <a:xfrm flipH="1" flipV="1">
            <a:off x="4357440" y="6214680"/>
            <a:ext cx="1214280" cy="142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6-____________________________________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707220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ая соединительная линия 5"/>
          <p:cNvSpPr/>
          <p:nvPr/>
        </p:nvSpPr>
        <p:spPr>
          <a:xfrm>
            <a:off x="4000680" y="1143000"/>
            <a:ext cx="0" cy="49291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"/>
          <p:cNvSpPr/>
          <p:nvPr/>
        </p:nvSpPr>
        <p:spPr>
          <a:xfrm flipV="1">
            <a:off x="4000680" y="5357880"/>
            <a:ext cx="3071520" cy="71424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 flipV="1">
            <a:off x="2928600" y="5928840"/>
            <a:ext cx="1071720" cy="1429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Содержимое 3" descr="5c5df997753137333f9d05584b6603a1_big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8"/>
          <p:cNvSpPr/>
          <p:nvPr/>
        </p:nvSpPr>
        <p:spPr>
          <a:xfrm flipH="1">
            <a:off x="428760" y="785880"/>
            <a:ext cx="71280" cy="507204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72680" y="857160"/>
            <a:ext cx="0" cy="500076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2"/>
          <p:cNvSpPr/>
          <p:nvPr/>
        </p:nvSpPr>
        <p:spPr>
          <a:xfrm>
            <a:off x="428760" y="5857920"/>
            <a:ext cx="8215200" cy="7128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6" descr="39ba73f2df448040b38fdc962dcf2dd6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700092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566640" y="2712960"/>
            <a:ext cx="79614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7" descr="geometry-on-chalkboard-seamless-vector-wallpaper--thumb389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s030301.jpg"/>
          <p:cNvPicPr/>
          <p:nvPr/>
        </p:nvPicPr>
        <p:blipFill>
          <a:blip r:embed="rId2"/>
          <a:stretch/>
        </p:blipFill>
        <p:spPr>
          <a:xfrm>
            <a:off x="428760" y="642960"/>
            <a:ext cx="8429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5:06Z</dcterms:created>
  <dc:creator>Юлия</dc:creator>
  <dc:description/>
  <dc:language>en-US</dc:language>
  <cp:lastModifiedBy>Юлия</cp:lastModifiedBy>
  <dcterms:modified xsi:type="dcterms:W3CDTF">2010-04-16T03:37:13Z</dcterms:modified>
  <cp:revision>48</cp:revision>
  <dc:subject/>
  <dc:title>Слайд 1</dc:title>
</cp:coreProperties>
</file>