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0.gif" ContentType="image/gi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jpeg" ContentType="image/jpeg"/>
  <Override PartName="/ppt/media/image21.jpeg" ContentType="image/jpeg"/>
  <Override PartName="/ppt/media/image18.png" ContentType="image/png"/>
  <Override PartName="/ppt/media/image15.jpeg" ContentType="image/jpeg"/>
  <Override PartName="/ppt/media/image16.gif" ContentType="image/gif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1.png" ContentType="image/png"/>
  <Override PartName="/ppt/media/image19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FBBC-FEC1-49DE-9456-0C05F6006C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ED93-7900-4E0F-8ACC-A63CB29488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7324-E22C-41A3-9B43-0E660F994E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01D9-E873-44E2-9F92-1E3394B46E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FEB2-7058-40E0-A79F-203A07B0D2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E203-3630-4EBA-8EE5-569026433E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E560-E646-41A9-94D0-8658078728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4A7A-DC3E-4A94-A80A-CF19157B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DFA6-5BDA-4675-84A3-30C52460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C9B3-DFB8-4E21-82D3-3F6F03A2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2575-BD7F-48D4-95AD-D5B63EB2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89FE-E596-4C06-8B23-8554DE71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D7AC-BDA6-433C-9D76-E70ACC6D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DB68-9E10-445F-AEE6-2B9FA4C0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77F5-6030-4453-9315-8D7828C7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C16E-51A7-477C-B4F7-AA6F82E1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21EC-3E25-4BEF-9283-609D4C82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51F6-21AC-4682-90A4-1CCD56BE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B6AA-2EA8-4B1D-B798-8D70C392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6A43-4EE2-49D5-84BC-79EEC0EF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F538-BCC9-4D67-B09B-D0DE97C2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5071-8BA0-4873-932A-9A203525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52AA-7BAD-4768-8375-39E93AF2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AA22-4468-431D-AB41-DBA5AA6E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558F-A006-4D1B-AB93-C61560E6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9924-22BE-46A4-BDFE-C9284E70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EA0B-E4DF-4138-9CC8-F199A874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0700-E452-4342-B9EC-13AC9AA4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B531-5750-43C0-AE25-E3AC8906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1464-62D8-4C34-AC05-D0BC4D71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0787-CD1A-4C3A-BE66-44AFF048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4681-7D86-40BB-8DCB-3A63F400CD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008B-9074-4994-84AE-0F82C47B30F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итель: учитель начальных клас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У  ГИМНАЗИИ № 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валёва А.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Режим дня в жизни школьника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324000" y="260280"/>
            <a:ext cx="8820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ля того, чтобы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человеческий мозг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, этот сложнейший механизм, функционировал нормально, его клеткам, которых насчитывается свыше ста миллиардов!) необходимо получать большое количество энергии.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Мозг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, как известно, забирает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20% всей энергии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, получаемой с пищ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На ужин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, за 2 часа до сна, рекомендуются молочные, фруктово-овощные, крупяные и другие блюда, не перегружающие работу органов пищеварения.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Исключаются острые приправы, кофе, какао, чай, шоколад и другие продукты, возбуждающие нервную систему. Переедание и голод ухудшают сон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ду лучше начинать с закусок (салат, винегрет, сыр, копченые колбасы и др.), возбуждающих аппетит. Пищу нужно хорошо пережевывать. Плохо пережеванная пища усиливает образование слизи в желудке, снижает кислотность и переваривающие свойства желудочного сока.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Неприятные разговоры, чтение газет и другие отвлекающие моменты также тормозят секрецию органов пищеварения и ухудшают аппетит.</a:t>
            </a:r>
            <a:br>
              <a:rPr sz="2000"/>
            </a:br>
            <a:r>
              <a:rPr b="1" lang="ru-RU" sz="2000" spc="-1" strike="noStrike" u="sng">
                <a:solidFill>
                  <a:srgbClr val="660033"/>
                </a:solidFill>
                <a:uFillTx/>
                <a:latin typeface="Times New Roman"/>
              </a:rPr>
              <a:t>Ешьте в одно и то же врем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 Нерегулярный и беспорядочный прием пищи нарушает работу желез органов пищеварения, ухудшает усвоение пищи и способствует развитию различных заболеваний. </a:t>
            </a:r>
            <a:br>
              <a:rPr sz="20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ереедание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зывает чувство тяжести, сонливость, снижение трудоспособности. Длительное переедание приводит к ожирению и ранней стар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75564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99"/>
                </a:solidFill>
                <a:latin typeface="Arial"/>
              </a:rPr>
              <a:t>Ужин не нужен, был бы обед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68360" y="1600200"/>
            <a:ext cx="83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Здоровье  зависит не только от того, </a:t>
            </a:r>
            <a:r>
              <a:rPr b="1" lang="ru-RU" sz="2000" spc="-1" strike="noStrike">
                <a:solidFill>
                  <a:srgbClr val="ee1227"/>
                </a:solidFill>
                <a:latin typeface="Arial"/>
              </a:rPr>
              <a:t>что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мы едим, но и от того </a:t>
            </a:r>
            <a:r>
              <a:rPr b="1" lang="ru-RU" sz="2000" spc="-1" strike="noStrike">
                <a:solidFill>
                  <a:srgbClr val="ee1227"/>
                </a:solidFill>
                <a:latin typeface="Arial"/>
              </a:rPr>
              <a:t>как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ee1227"/>
                </a:solidFill>
                <a:latin typeface="Arial"/>
              </a:rPr>
              <a:t>когда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мы ед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290520" y="2565360"/>
            <a:ext cx="111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796000" y="4292640"/>
            <a:ext cx="201600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324000" y="4724280"/>
            <a:ext cx="241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1227"/>
                </a:solidFill>
                <a:latin typeface="Times New Roman"/>
              </a:rPr>
              <a:t>Когда над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1227"/>
                </a:solidFill>
                <a:latin typeface="Times New Roman"/>
              </a:rPr>
              <a:t>ес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0" y="2565360"/>
            <a:ext cx="20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1227"/>
                </a:solidFill>
                <a:latin typeface="Times New Roman"/>
              </a:rPr>
              <a:t>Как надо есть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635280" y="285264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Часто, но помал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2556000" y="22766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Редко, но помно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5796000" y="4292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плот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700360" y="57340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c8470"/>
                </a:solidFill>
                <a:latin typeface="Arial"/>
              </a:rPr>
              <a:t>уж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2700360" y="49417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c8470"/>
                </a:solidFill>
                <a:latin typeface="Arial"/>
              </a:rPr>
              <a:t>обе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627280" y="4292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c8470"/>
                </a:solidFill>
                <a:latin typeface="Arial"/>
              </a:rPr>
              <a:t>завтр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2484360" y="3429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Перекусывая всухомят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5"/>
          <p:cNvSpPr/>
          <p:nvPr/>
        </p:nvSpPr>
        <p:spPr>
          <a:xfrm>
            <a:off x="5796000" y="501336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горяч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6"/>
          <p:cNvSpPr/>
          <p:nvPr/>
        </p:nvSpPr>
        <p:spPr>
          <a:xfrm>
            <a:off x="5796000" y="58053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лег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17"/>
          <p:cNvSpPr/>
          <p:nvPr/>
        </p:nvSpPr>
        <p:spPr>
          <a:xfrm>
            <a:off x="5651640" y="4653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отсутству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5651640" y="5445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оби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9"/>
          <p:cNvSpPr/>
          <p:nvPr/>
        </p:nvSpPr>
        <p:spPr>
          <a:xfrm>
            <a:off x="2124000" y="2924280"/>
            <a:ext cx="976320" cy="217440"/>
          </a:xfrm>
          <a:prstGeom prst="rightArrow">
            <a:avLst>
              <a:gd name="adj1" fmla="val 50000"/>
              <a:gd name="adj2" fmla="val 112252"/>
            </a:avLst>
          </a:prstGeom>
          <a:solidFill>
            <a:srgbClr val="4c84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20"/>
          <p:cNvSpPr/>
          <p:nvPr/>
        </p:nvSpPr>
        <p:spPr>
          <a:xfrm>
            <a:off x="4067280" y="4365720"/>
            <a:ext cx="976320" cy="217440"/>
          </a:xfrm>
          <a:prstGeom prst="rightArrow">
            <a:avLst>
              <a:gd name="adj1" fmla="val 50000"/>
              <a:gd name="adj2" fmla="val 112252"/>
            </a:avLst>
          </a:prstGeom>
          <a:solidFill>
            <a:srgbClr val="4c84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21"/>
          <p:cNvSpPr/>
          <p:nvPr/>
        </p:nvSpPr>
        <p:spPr>
          <a:xfrm>
            <a:off x="4067280" y="5084640"/>
            <a:ext cx="976320" cy="217440"/>
          </a:xfrm>
          <a:prstGeom prst="rightArrow">
            <a:avLst>
              <a:gd name="adj1" fmla="val 50000"/>
              <a:gd name="adj2" fmla="val 112252"/>
            </a:avLst>
          </a:prstGeom>
          <a:solidFill>
            <a:srgbClr val="4c84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22"/>
          <p:cNvSpPr/>
          <p:nvPr/>
        </p:nvSpPr>
        <p:spPr>
          <a:xfrm>
            <a:off x="3995640" y="5877000"/>
            <a:ext cx="976320" cy="217440"/>
          </a:xfrm>
          <a:prstGeom prst="rightArrow">
            <a:avLst>
              <a:gd name="adj1" fmla="val 50000"/>
              <a:gd name="adj2" fmla="val 112252"/>
            </a:avLst>
          </a:prstGeom>
          <a:solidFill>
            <a:srgbClr val="4c84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23" descr="19-01"/>
          <p:cNvPicPr/>
          <p:nvPr/>
        </p:nvPicPr>
        <p:blipFill>
          <a:blip r:embed="rId1"/>
          <a:stretch/>
        </p:blipFill>
        <p:spPr>
          <a:xfrm>
            <a:off x="7162920" y="1981080"/>
            <a:ext cx="198108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4" nodeType="afterEffect" fill="hold" presetClass="exit" presetID="3" presetSubtype="10">
                                  <p:stCondLst>
                                    <p:cond delay="3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3" presetSubtype="10">
                                  <p:stCondLst>
                                    <p:cond delay="3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300"/>
                            </p:stCondLst>
                            <p:childTnLst>
                              <p:par>
                                <p:cTn id="123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1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1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1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2300"/>
                            </p:stCondLst>
                            <p:childTnLst>
                              <p:par>
                                <p:cTn id="1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78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176" nodeType="afterEffect" fill="hold" presetClass="exit" presetID="3" presetSubtype="10">
                                  <p:stCondLst>
                                    <p:cond delay="3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1800"/>
                            </p:stCondLst>
                            <p:childTnLst>
                              <p:par>
                                <p:cTn id="18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18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85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598d"/>
                                      </p:to>
                                    </p:animClr>
                                    <p:animClr clrSpc="rgb">
                                      <p:cBhvr>
                                        <p:cTn id="186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598d"/>
                                      </p:to>
                                    </p:animClr>
                                    <p:set>
                                      <p:cBhvr>
                                        <p:cTn id="187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89" dur="250" autoRev="1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598d"/>
                                      </p:to>
                                    </p:animClr>
                                    <p:animClr clrSpc="rgb">
                                      <p:cBhvr>
                                        <p:cTn id="190" dur="250" autoRev="1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598d"/>
                                      </p:to>
                                    </p:animClr>
                                    <p:set>
                                      <p:cBhvr>
                                        <p:cTn id="191" dur="250" autoRev="1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19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4" dur="25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598d"/>
                                      </p:to>
                                    </p:animClr>
                                    <p:animClr clrSpc="rgb">
                                      <p:cBhvr>
                                        <p:cTn id="195" dur="25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598d"/>
                                      </p:to>
                                    </p:animClr>
                                    <p:set>
                                      <p:cBhvr>
                                        <p:cTn id="196" dur="25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19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5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598d"/>
                                      </p:to>
                                    </p:animClr>
                                    <p:animClr clrSpc="rgb">
                                      <p:cBhvr>
                                        <p:cTn id="200" dur="25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598d"/>
                                      </p:to>
                                    </p:animClr>
                                    <p:set>
                                      <p:cBhvr>
                                        <p:cTn id="201" dur="25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3800"/>
                            </p:stCondLst>
                            <p:childTnLst>
                              <p:par>
                                <p:cTn id="20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04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598d"/>
                                      </p:to>
                                    </p:animClr>
                                    <p:animClr clrSpc="rgb">
                                      <p:cBhvr>
                                        <p:cTn id="205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598d"/>
                                      </p:to>
                                    </p:animClr>
                                    <p:set>
                                      <p:cBhvr>
                                        <p:cTn id="206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4300"/>
                            </p:stCondLst>
                            <p:childTnLst>
                              <p:par>
                                <p:cTn id="20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250" autoRev="1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598d"/>
                                      </p:to>
                                    </p:animClr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598d"/>
                                      </p:to>
                                    </p:animClr>
                                    <p:set>
                                      <p:cBhvr>
                                        <p:cTn id="211" dur="250" autoRev="1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дить ребёнка в последний момент перед уходом в школу, объясняя это себе и другим большой любовью к не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мить ребёнка перед школой и после неё сухой пищей, бутербродами, объясняя это себе и другим, что ребёнку такая еда нравит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ебовать от ребёнка только отличных и хороших результатов в школе, если он к ним не го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AG00109_"/>
          <p:cNvPicPr/>
          <p:nvPr/>
        </p:nvPicPr>
        <p:blipFill>
          <a:blip r:embed="rId1"/>
          <a:stretch/>
        </p:blipFill>
        <p:spPr>
          <a:xfrm>
            <a:off x="457200" y="0"/>
            <a:ext cx="496800" cy="9525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Родительские «нельзя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азу после школьных уроков выполнять домашние зад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шать детей игр на свежем воздухе из – за плохих отметок в школ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ставлять ребёнка спать днём после уроков и лишать его этого пра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чать на ребёнка вообще и во время выполнения домашних заданий в част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ставлять многократно переписывать в тетрадь из чернов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Родительские «нельзя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 делать оздоровительных пауз во время выполнения домашних задани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Ждать папу и маму, чтобы выполнять урок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идеть у телевизора и за компьютером более 40 – 45 минут в день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мотреть перед сном страшные фильмы и играть в шумные игр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угать ребёнка перед сно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 проявлять двигательную активность в свободное от уроков врем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зговаривать с ребёнком о его школьных проблемах зло и назидательно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 прощать ошибки и неудачи ребёнк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Родительские «нельзя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Ребёнок, соблюдающий режим дня гораздо легче справляется со школьными нагрузками, успевает отдохнуть, не переутомляетс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4" descr="Рисунок1"/>
          <p:cNvPicPr/>
          <p:nvPr/>
        </p:nvPicPr>
        <p:blipFill>
          <a:blip r:embed="rId1"/>
          <a:stretch/>
        </p:blipFill>
        <p:spPr>
          <a:xfrm>
            <a:off x="2133720" y="3276720"/>
            <a:ext cx="5257800" cy="3402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Памятка 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Как проводить оздоровительные минутки при выполнении домашних заданий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здоровительная минутка проводится через каждые 10 – 15 минут выполнения домашних зада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щая продолжительность оздоровительной минутки не более 3 мин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ребёнок выполнял письменное задание, необходимо выполнить упражнения для рук: сжимание и разжимание пальцев, потряхивание кистями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 длительного сидения ребёнку необходимо делать потягивания, приседания, повороты туловища в разные стор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ребёнок  малоактивен, не оставляйте это без внимания. Таким детям необходим ваш личный прим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заботьтесь о том, чтобы в вашем доме был элементарный спортивный инвентарь: мяч, скакалка, обруч, гантели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вы сами в этот момент дома, делайте все упражнения вместе с ребёнком. Только тогда он поймёт их важность и необходим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ьте вместе распорядок дня, а затем следите за выполнен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427280" y="981000"/>
            <a:ext cx="4537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пропускайте трудности. При необходимости обращайтесь за помощью к специалистам: психологу, логопеду, окулис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Похвала способна повысить интеллектуальные дости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0" y="0"/>
            <a:ext cx="4140360" cy="170028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2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strips dir="l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Я хочу быть здоровы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Я могу быть здоровы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Я буду здоровы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Рисунок 3" descr="i9.jpg"/>
          <p:cNvPicPr/>
          <p:nvPr/>
        </p:nvPicPr>
        <p:blipFill>
          <a:blip r:embed="rId1"/>
          <a:stretch/>
        </p:blipFill>
        <p:spPr>
          <a:xfrm>
            <a:off x="5857920" y="4071960"/>
            <a:ext cx="2392200" cy="178596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6" descr="i5.jpg"/>
          <p:cNvPicPr/>
          <p:nvPr/>
        </p:nvPicPr>
        <p:blipFill>
          <a:blip r:embed="rId2"/>
          <a:stretch/>
        </p:blipFill>
        <p:spPr>
          <a:xfrm>
            <a:off x="1428840" y="4071960"/>
            <a:ext cx="2381040" cy="178596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7" descr="i23.jpg"/>
          <p:cNvPicPr/>
          <p:nvPr/>
        </p:nvPicPr>
        <p:blipFill>
          <a:blip r:embed="rId3"/>
          <a:stretch/>
        </p:blipFill>
        <p:spPr>
          <a:xfrm>
            <a:off x="3929040" y="5626080"/>
            <a:ext cx="1854360" cy="1231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306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307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09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1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4360"/>
                            </p:stCondLst>
                            <p:childTnLst>
                              <p:par>
                                <p:cTn id="320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321" dur="2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360"/>
                            </p:stCondLst>
                            <p:childTnLst>
                              <p:par>
                                <p:cTn id="323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4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26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3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334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335" dur="2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337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3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40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560"/>
                            </p:stCondLst>
                            <p:childTnLst>
                              <p:par>
                                <p:cTn id="3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2560"/>
                            </p:stCondLst>
                            <p:childTnLst>
                              <p:par>
                                <p:cTn id="3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4560"/>
                            </p:stCondLst>
                            <p:childTnLst>
                              <p:par>
                                <p:cTn id="3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Хорошими людьми становятс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больше от упражнений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чем от природы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емокри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Статистика актуальности тем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шь 20-25 % первоклассников, преступающих ежегодно школьный порог, остаются здоровыми после первого года обучения в шко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концу первой четверти худеют 30 % учащих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 %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чеников жалуются на головные боли, усталость, сонливость, отсутствие желания уч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 учащихся имеют различные нарушения осан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0 % детей имеют нарушения зрения различной тяже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 % детей входят в группу риска в связи со склонностью к близорук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шь 24 % учеников выдерживают ночной норматив с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жедневно дети недосыпают от 1,5 часов до получа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TYPEWRIT_thumb"/>
          <p:cNvPicPr/>
          <p:nvPr/>
        </p:nvPicPr>
        <p:blipFill>
          <a:blip r:embed="rId1"/>
          <a:stretch/>
        </p:blipFill>
        <p:spPr>
          <a:xfrm>
            <a:off x="5791320" y="5181480"/>
            <a:ext cx="251460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ение режима дня позволяет ребёнку сохранять физическое и психологическое равновесие, что даёт возможность соблюдения эмоционального равновесия. Этот возраст характеризуется эмоциональной неустойчивостью, которая ведёт к хронической усталости и утомляемости. Эти постоянные симптомы приводят к снижению работоспособности ребё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зкая работоспособность характеризуе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нижением количества правильных ответов на уроке и дома после того, как ребёнок выучил материал уро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ением количества ошибок наряду с хорошо выученным правил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еянностью и невнимательностью ребёнка, быстрой утомляемость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м почерка ребёнка в связи с ухудшением регуляции физических функц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Режим -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чередование различных видов деятельности и отдыха в течении суток, установление оптимальных норм продолжительности деятельности и отдыха для школьников разного возраста, средство выработки у ребёнка привычки распоряжаться своим временем, умения избирать для себя наиболее приемлемый ритм жизни и труда, потребности заполнять своё время полезной деятельн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5" descr="SCHOOLMA"/>
          <p:cNvPicPr/>
          <p:nvPr/>
        </p:nvPicPr>
        <p:blipFill>
          <a:blip r:embed="rId1"/>
          <a:stretch/>
        </p:blipFill>
        <p:spPr>
          <a:xfrm>
            <a:off x="7391520" y="5181480"/>
            <a:ext cx="1523880" cy="1295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BOYWVIDE"/>
          <p:cNvPicPr/>
          <p:nvPr/>
        </p:nvPicPr>
        <p:blipFill>
          <a:blip r:embed="rId2"/>
          <a:stretch/>
        </p:blipFill>
        <p:spPr>
          <a:xfrm>
            <a:off x="4038480" y="5105520"/>
            <a:ext cx="1671840" cy="1431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GIRLBRD"/>
          <p:cNvPicPr/>
          <p:nvPr/>
        </p:nvPicPr>
        <p:blipFill>
          <a:blip r:embed="rId3"/>
          <a:stretch/>
        </p:blipFill>
        <p:spPr>
          <a:xfrm>
            <a:off x="304920" y="5029200"/>
            <a:ext cx="1536480" cy="1519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CASWOMAN"/>
          <p:cNvPicPr/>
          <p:nvPr/>
        </p:nvPicPr>
        <p:blipFill>
          <a:blip r:embed="rId4"/>
          <a:stretch/>
        </p:blipFill>
        <p:spPr>
          <a:xfrm>
            <a:off x="2286000" y="510552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WMBSKTBL"/>
          <p:cNvPicPr/>
          <p:nvPr/>
        </p:nvPicPr>
        <p:blipFill>
          <a:blip r:embed="rId5"/>
          <a:stretch/>
        </p:blipFill>
        <p:spPr>
          <a:xfrm>
            <a:off x="5943600" y="4876920"/>
            <a:ext cx="1295280" cy="1676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0" y="-304920"/>
          <a:ext cx="9144000" cy="8460000"/>
        </p:xfrm>
        <a:graphic>
          <a:graphicData uri="http://schemas.openxmlformats.org/drawingml/2006/table">
            <a:tbl>
              <a:tblPr/>
              <a:tblGrid>
                <a:gridCol w="5756400"/>
                <a:gridCol w="3387600"/>
              </a:tblGrid>
              <a:tr h="581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жимные моменты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    </a:t>
                      </a: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ля ученика второй смен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-10 ле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4-й клас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буждение Утренняя гимнастик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мывание, уборка постел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30-8.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ренний завтрак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00-8.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готовление уроко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30- 10.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ободные занятия и прогулк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00-12.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е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.00-12.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рога в школу (прогулка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.30-13.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бные занятия в школе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.00-17.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рога домой (прогулка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.00-17.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жин и свободные занят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.30-20.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готовление ко сн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.30-21.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.00-7.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7" name="Picture 94" descr="photo29"/>
          <p:cNvPicPr/>
          <p:nvPr/>
        </p:nvPicPr>
        <p:blipFill>
          <a:blip r:embed="rId1"/>
          <a:stretch/>
        </p:blipFill>
        <p:spPr>
          <a:xfrm flipH="1">
            <a:off x="0" y="0"/>
            <a:ext cx="1835280" cy="1655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574560" y="620640"/>
            <a:ext cx="8569440" cy="59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ежим питания школьников зависит от особенностей обучения в школе, нагрузки школьника, занятий спортом, общественной работой и другие моменты. Рекомендуемые типовые режимы питания для школьников схематично может представить так: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ля учащихся II смены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8:00–8:30 – завтрак;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2:30–13:00 – обед дома (перед уходом в школу);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6:00-16:30 - горячее питание в школе;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9:30-20:00 - ужин дома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иповые режимы питания могут меняться в зависимости от времени посещения дополнительных занятий, спортивных секций, кружков по интересам. Может быть использован дифференцированный по возрасту, примерный суточный набор продуктов, разработанный институтом питания АМН РФ.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187280" y="2602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Режим дня содержит в себе и режим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sk"/>
          <p:cNvPicPr/>
          <p:nvPr/>
        </p:nvPicPr>
        <p:blipFill>
          <a:blip r:embed="rId1"/>
          <a:stretch/>
        </p:blipFill>
        <p:spPr>
          <a:xfrm>
            <a:off x="3924360" y="5445000"/>
            <a:ext cx="1512720" cy="1413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349014263"/>
          <p:cNvPicPr/>
          <p:nvPr/>
        </p:nvPicPr>
        <p:blipFill>
          <a:blip r:embed="rId2"/>
          <a:stretch/>
        </p:blipFill>
        <p:spPr>
          <a:xfrm>
            <a:off x="6516720" y="1484280"/>
            <a:ext cx="2344680" cy="3019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1042920" y="-16920"/>
            <a:ext cx="69516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ное 3-дневное меню для детей школьного возрас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6320" y="685800"/>
          <a:ext cx="9067680" cy="7788240"/>
        </p:xfrm>
        <a:graphic>
          <a:graphicData uri="http://schemas.openxmlformats.org/drawingml/2006/table">
            <a:tbl>
              <a:tblPr/>
              <a:tblGrid>
                <a:gridCol w="2970000"/>
                <a:gridCol w="2784600"/>
                <a:gridCol w="331308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й ден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й ден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й ден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тра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ичниц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лат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леб с маслом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ежие фрукт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лочная каш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ртая морков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леб с маслом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рукт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062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нивые вареник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62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ла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62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й с молоком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62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леб с маслом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62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ежие фрукт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ой завтрак (в школе)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ша пшенна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лат морковно-яблоч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тлета с картофельным пюр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ежий огурец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ка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r" pos="4299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ыбная котлета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 тушеными овоща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r" pos="4299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вежий помидор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r" pos="4299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й с лимоном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Rectangle 29"/>
          <p:cNvSpPr/>
          <p:nvPr/>
        </p:nvSpPr>
        <p:spPr>
          <a:xfrm>
            <a:off x="179280" y="5856120"/>
            <a:ext cx="82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мне мама тихо говорила.mp3" descr=""/>
          <p:cNvPicPr/>
          <p:nvPr/>
        </p:nvPicPr>
        <p:blipFill>
          <a:blip r:embed="rId1"/>
          <a:stretch/>
        </p:blipFill>
        <p:spPr>
          <a:xfrm>
            <a:off x="7380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324000" y="0"/>
          <a:ext cx="8424720" cy="2819520"/>
        </p:xfrm>
        <a:graphic>
          <a:graphicData uri="http://schemas.openxmlformats.org/drawingml/2006/table">
            <a:tbl>
              <a:tblPr/>
              <a:tblGrid>
                <a:gridCol w="2874960"/>
                <a:gridCol w="2874960"/>
                <a:gridCol w="2674800"/>
              </a:tblGrid>
              <a:tr h="28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17600"/>
                          <a:tab algn="l" pos="3662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 u="sng">
                          <a:solidFill>
                            <a:srgbClr val="660033"/>
                          </a:solidFill>
                          <a:uFillTx/>
                          <a:latin typeface="Arial"/>
                          <a:ea typeface="Times New Roman"/>
                        </a:rPr>
                        <a:t>Вторая смен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17600"/>
                          <a:tab algn="l" pos="3662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00 — 8.3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317600"/>
                          <a:tab algn="l" pos="3662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00 — 12.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317600"/>
                          <a:tab algn="l" pos="3662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00 – 15.2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317600"/>
                          <a:tab algn="l" pos="3662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317600"/>
                          <a:tab algn="l" pos="3662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317600"/>
                          <a:tab algn="l" pos="3662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30 – 18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17600"/>
                          <a:tab algn="l" pos="3662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трак дом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317600"/>
                          <a:tab algn="l" pos="3662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ед дом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317600"/>
                          <a:tab algn="l" pos="3662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ячее питание в школе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317600"/>
                          <a:tab algn="l" pos="3662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жин дом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Text Box 12"/>
          <p:cNvSpPr/>
          <p:nvPr/>
        </p:nvSpPr>
        <p:spPr>
          <a:xfrm>
            <a:off x="380880" y="2971800"/>
            <a:ext cx="82296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пособ приготовления пищи также оказывает влияние на здоровье. В питании детей необходимо использовать те способы приготовления пищи, при которых не требуется большого количества масла, жира, соли, сахара (это отваривание, запекание, тушение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временный школьник, по мнению диетологов, должен есть не менее четырех раз в день, причем на завтрак, обед и ужин непременно должно быть горячее блюдо. За день школьники должны выпивать не менее одного-полутора литров жидкости, но не газированной воды, а фруктовых или овощных со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4551480" y="3162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14" descr="919299358"/>
          <p:cNvPicPr/>
          <p:nvPr/>
        </p:nvPicPr>
        <p:blipFill>
          <a:blip r:embed="rId1"/>
          <a:stretch/>
        </p:blipFill>
        <p:spPr>
          <a:xfrm>
            <a:off x="3059280" y="4844880"/>
            <a:ext cx="2089080" cy="2013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03-21T04:39:45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