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0.gif" ContentType="image/gi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21.jpeg" ContentType="image/jpeg"/>
  <Override PartName="/ppt/media/image18.png" ContentType="image/png"/>
  <Override PartName="/ppt/media/image15.jpeg" ContentType="image/jpeg"/>
  <Override PartName="/ppt/media/image16.gif" ContentType="image/gif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1.png" ContentType="image/png"/>
  <Override PartName="/ppt/media/image19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5E52-03AD-4BD6-8358-355685E100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C8C0-36C3-49CA-BDD7-D92113A707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CADC-3C34-4230-84B8-222619C340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FA23-7930-4623-BB7F-E17AF06B62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0FB2-E9D4-41C1-9EB8-084CDB0C1B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93D8-F4FC-466C-91E9-AB2377FC62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BDA5-3308-44FA-9FDC-CB2F0A9F90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6A5-BA3C-4576-9DC1-F6B46400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2B9-D277-49FE-9D52-85C67755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8EC-F353-4989-9BAB-27E9704E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7C7-84CE-44DA-8E56-D5E36CBA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68FE-E45E-41E4-81AF-E3408C2E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5729-5958-4A6F-8DC6-579CA580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3F08-5C0D-45A4-9ED5-80843059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5D2A-692A-4FF1-8025-F587A3A1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433D-2038-4F00-B0DB-9B28605D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1E61-825B-4868-994B-613C12D5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795E-D96C-499A-8552-0A99D233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1612-87D5-424B-91DB-6D2B2380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B282-CBD2-4B46-AC24-59485EBF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DE24-8E5C-4752-A137-01D45709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A3A5-6CEB-4B67-9E42-C820A604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FFC0-8A85-4407-8C06-AF67639A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C56D-353B-459B-AADC-3A4B9666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38C-C0DA-4FEC-8E17-8CDE706A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559-E0C4-4510-96BD-7AC36C10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786-3532-4A34-AD95-E5F153E3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270-40FF-405C-BF4C-08A8A1FA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830-7430-4004-9278-5389C6CF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8C3-FE4D-411E-8993-5C030A60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347-3B9A-4002-B547-AA16C69B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7DE0-A198-4AD9-A2BA-44E6205AAA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7E13-34F0-4BB9-AC96-E63D7A54B5C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итель: 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 ГИМНАЗИИ №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валёва А.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Режим дня в жизни школьник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24000" y="260280"/>
            <a:ext cx="8820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того, чтобы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человеческий моз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этот сложнейший механизм, функционировал нормально, его клеткам, которых насчитывается свыше ста миллиардов!) необходимо получать большое количество энергии.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Моз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как известно, забирает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0% всей энерги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получаемой с пищ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 ужин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за 2 часа до сна, рекомендуются молочные, фруктово-овощные, крупяные и другие блюда, не перегружающие работу органов пищеварения.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сключаются острые приправы, кофе, какао, чай, шоколад и другие продукты, возбуждающие нервную систему. Переедание и голод ухудшают сон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ду лучше начинать с закусок (салат, винегрет, сыр, копченые колбасы и др.), возбуждающих аппетит. Пищу нужно хорошо пережевывать. Плохо пережеванная пища усиливает образование слизи в желудке, снижает кислотность и переваривающие свойства желудочного сока.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еприятные разговоры, чтение газет и другие отвлекающие моменты также тормозят секрецию органов пищеварения и ухудшают аппетит.</a:t>
            </a:r>
            <a:br>
              <a:rPr sz="2000"/>
            </a:br>
            <a:r>
              <a:rPr b="1" lang="ru-RU" sz="2000" spc="-1" strike="noStrike" u="sng">
                <a:solidFill>
                  <a:srgbClr val="660033"/>
                </a:solidFill>
                <a:uFillTx/>
                <a:latin typeface="Times New Roman"/>
              </a:rPr>
              <a:t>Ешьте в одно и то же врем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Нерегулярный и беспорядочный прием пищи нарушает работу желез органов пищеварения, ухудшает усвоение пищи и способствует развитию различных заболеваний. 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ереедание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зывает чувство тяжести, сонливость, снижение трудоспособности. Длительное переедание приводит к ожирению и ранней стар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75564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99"/>
                </a:solidFill>
                <a:latin typeface="Arial"/>
              </a:rPr>
              <a:t>Ужин не нужен, был бы обе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68360" y="1600200"/>
            <a:ext cx="83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Здоровье  зависит не только от того, </a:t>
            </a:r>
            <a:r>
              <a:rPr b="1" lang="ru-RU" sz="2000" spc="-1" strike="noStrike">
                <a:solidFill>
                  <a:srgbClr val="ee1227"/>
                </a:solidFill>
                <a:latin typeface="Arial"/>
              </a:rPr>
              <a:t>что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мы едим, но и от того </a:t>
            </a:r>
            <a:r>
              <a:rPr b="1" lang="ru-RU" sz="2000" spc="-1" strike="noStrike">
                <a:solidFill>
                  <a:srgbClr val="ee1227"/>
                </a:solidFill>
                <a:latin typeface="Arial"/>
              </a:rPr>
              <a:t>как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ee1227"/>
                </a:solidFill>
                <a:latin typeface="Arial"/>
              </a:rPr>
              <a:t>когда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мы ед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90520" y="2565360"/>
            <a:ext cx="111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796000" y="4292640"/>
            <a:ext cx="201600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24000" y="4724280"/>
            <a:ext cx="24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1227"/>
                </a:solidFill>
                <a:latin typeface="Times New Roman"/>
              </a:rPr>
              <a:t>Когда над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1227"/>
                </a:solidFill>
                <a:latin typeface="Times New Roman"/>
              </a:rPr>
              <a:t>ес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0" y="256536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1227"/>
                </a:solidFill>
                <a:latin typeface="Times New Roman"/>
              </a:rPr>
              <a:t>Как надо есть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635280" y="285264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Часто, но помал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2556000" y="2276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едко, но помно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5796000" y="4292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плот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700360" y="5734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8470"/>
                </a:solidFill>
                <a:latin typeface="Arial"/>
              </a:rPr>
              <a:t>уж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2700360" y="4941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8470"/>
                </a:solidFill>
                <a:latin typeface="Arial"/>
              </a:rPr>
              <a:t>обе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627280" y="4292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8470"/>
                </a:solidFill>
                <a:latin typeface="Arial"/>
              </a:rPr>
              <a:t>завтр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2484360" y="3429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Перекусывая всухомят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5796000" y="501336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горяч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5796000" y="5805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лег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5651640" y="4653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отсутству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5651640" y="5445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оби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9"/>
          <p:cNvSpPr/>
          <p:nvPr/>
        </p:nvSpPr>
        <p:spPr>
          <a:xfrm>
            <a:off x="2124000" y="2924280"/>
            <a:ext cx="976320" cy="217440"/>
          </a:xfrm>
          <a:prstGeom prst="rightArrow">
            <a:avLst>
              <a:gd name="adj1" fmla="val 50000"/>
              <a:gd name="adj2" fmla="val 112252"/>
            </a:avLst>
          </a:prstGeom>
          <a:solidFill>
            <a:srgbClr val="4c84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20"/>
          <p:cNvSpPr/>
          <p:nvPr/>
        </p:nvSpPr>
        <p:spPr>
          <a:xfrm>
            <a:off x="4067280" y="4365720"/>
            <a:ext cx="976320" cy="217440"/>
          </a:xfrm>
          <a:prstGeom prst="rightArrow">
            <a:avLst>
              <a:gd name="adj1" fmla="val 50000"/>
              <a:gd name="adj2" fmla="val 112252"/>
            </a:avLst>
          </a:prstGeom>
          <a:solidFill>
            <a:srgbClr val="4c84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21"/>
          <p:cNvSpPr/>
          <p:nvPr/>
        </p:nvSpPr>
        <p:spPr>
          <a:xfrm>
            <a:off x="4067280" y="5084640"/>
            <a:ext cx="976320" cy="217440"/>
          </a:xfrm>
          <a:prstGeom prst="rightArrow">
            <a:avLst>
              <a:gd name="adj1" fmla="val 50000"/>
              <a:gd name="adj2" fmla="val 112252"/>
            </a:avLst>
          </a:prstGeom>
          <a:solidFill>
            <a:srgbClr val="4c84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3995640" y="5877000"/>
            <a:ext cx="976320" cy="217440"/>
          </a:xfrm>
          <a:prstGeom prst="rightArrow">
            <a:avLst>
              <a:gd name="adj1" fmla="val 50000"/>
              <a:gd name="adj2" fmla="val 112252"/>
            </a:avLst>
          </a:prstGeom>
          <a:solidFill>
            <a:srgbClr val="4c84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23" descr="19-01"/>
          <p:cNvPicPr/>
          <p:nvPr/>
        </p:nvPicPr>
        <p:blipFill>
          <a:blip r:embed="rId1"/>
          <a:stretch/>
        </p:blipFill>
        <p:spPr>
          <a:xfrm>
            <a:off x="7162920" y="1981080"/>
            <a:ext cx="19810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xit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12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1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1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176" nodeType="afterEffect" fill="hold" presetClass="exit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1800"/>
                            </p:stCondLst>
                            <p:childTnLst>
                              <p:par>
                                <p:cTn id="18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18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5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set>
                                      <p:cBhvr>
                                        <p:cTn id="187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9" dur="250" autoRev="1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animClr clrSpc="rgb">
                                      <p:cBhvr>
                                        <p:cTn id="190" dur="250" autoRev="1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set>
                                      <p:cBhvr>
                                        <p:cTn id="191" dur="250" autoRev="1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19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4" dur="25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animClr clrSpc="rgb">
                                      <p:cBhvr>
                                        <p:cTn id="195" dur="25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set>
                                      <p:cBhvr>
                                        <p:cTn id="196" dur="25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1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5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set>
                                      <p:cBhvr>
                                        <p:cTn id="201" dur="25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20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4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set>
                                      <p:cBhvr>
                                        <p:cTn id="206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20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598d"/>
                                      </p:to>
                                    </p:animClr>
                                    <p:set>
                                      <p:cBhvr>
                                        <p:cTn id="211" dur="25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ить ребёнка в последний момент перед уходом в школу, объясняя это себе и другим большой любовью к не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мить ребёнка перед школой и после неё сухой пищей, бутербродами, объясняя это себе и другим, что ребёнку такая еда нрави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бовать от ребёнка только отличных и хороших результатов в школе, если он к ним не го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AG00109_"/>
          <p:cNvPicPr/>
          <p:nvPr/>
        </p:nvPicPr>
        <p:blipFill>
          <a:blip r:embed="rId1"/>
          <a:stretch/>
        </p:blipFill>
        <p:spPr>
          <a:xfrm>
            <a:off x="457200" y="0"/>
            <a:ext cx="496800" cy="9525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одительские «нельз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зу после школьных уроков выполнять домашние зад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шать детей игр на свежем воздухе из – за плохих отметок в шко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ставлять ребёнка спать днём после уроков и лишать его этого пра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чать на ребёнка вообще и во время выполнения домашних заданий в ча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ставлять многократно переписывать в тетрадь из чернов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одительские «нельз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делать оздоровительных пауз во время выполнения домашних задан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Ждать папу и маму, чтобы выполнять уро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идеть у телевизора и за компьютером более 40 – 45 минут в ден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мотреть перед сном страшные фильмы и играть в шумные игр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угать ребёнка перед сн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проявлять двигательную активность в свободное от уроков врем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говаривать с ребёнком о его школьных проблемах зло и назидательно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прощать ошибки и неудачи ребён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одительские «нельз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ебёнок, соблюдающий режим дня гораздо легче справляется со школьными нагрузками, успевает отдохнуть, не переутомляет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4" descr="Рисунок1"/>
          <p:cNvPicPr/>
          <p:nvPr/>
        </p:nvPicPr>
        <p:blipFill>
          <a:blip r:embed="rId1"/>
          <a:stretch/>
        </p:blipFill>
        <p:spPr>
          <a:xfrm>
            <a:off x="2133720" y="3276720"/>
            <a:ext cx="5257800" cy="3402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Памятка 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Как проводить оздоровительные минутки при выполнении домашних заданий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доровительная минутка проводится через каждые 10 – 15 минут выполнения домашних зада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щая продолжительность оздоровительной минутки не более 3 мин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ребёнок выполнял письменное задание, необходимо выполнить упражнения для рук: сжимание и разжимание пальцев, потряхивание кистями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длительного сидения ребёнку необходимо делать потягивания, приседания, повороты туловища в разные стор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ребёнок  малоактивен, не оставляйте это без внимания. Таким детям необходим ваш личный прим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аботьтесь о том, чтобы в вашем доме был элементарный спортивный инвентарь: мяч, скакалка, обруч, гантели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вы сами в этот момент дома, делайте все упражнения вместе с ребёнком. Только тогда он поймёт их важность и необходим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427280" y="981000"/>
            <a:ext cx="4537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пропускайте трудности. При необходимости обращайтесь за помощью к специалистам: психологу, логопеду, окулис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Похвала способна повысить интеллектуальные дости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0" y="0"/>
            <a:ext cx="4140360" cy="170028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2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strips dir="l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 хочу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 могу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 буду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Рисунок 3" descr="i9.jpg"/>
          <p:cNvPicPr/>
          <p:nvPr/>
        </p:nvPicPr>
        <p:blipFill>
          <a:blip r:embed="rId1"/>
          <a:stretch/>
        </p:blipFill>
        <p:spPr>
          <a:xfrm>
            <a:off x="5857920" y="4071960"/>
            <a:ext cx="2392200" cy="178596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6" descr="i5.jpg"/>
          <p:cNvPicPr/>
          <p:nvPr/>
        </p:nvPicPr>
        <p:blipFill>
          <a:blip r:embed="rId2"/>
          <a:stretch/>
        </p:blipFill>
        <p:spPr>
          <a:xfrm>
            <a:off x="1428840" y="407196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7" descr="i23.jpg"/>
          <p:cNvPicPr/>
          <p:nvPr/>
        </p:nvPicPr>
        <p:blipFill>
          <a:blip r:embed="rId3"/>
          <a:stretch/>
        </p:blipFill>
        <p:spPr>
          <a:xfrm>
            <a:off x="3929040" y="5626080"/>
            <a:ext cx="18543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306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07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0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360"/>
                            </p:stCondLst>
                            <p:childTnLst>
                              <p:par>
                                <p:cTn id="320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21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32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3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35" dur="2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3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560"/>
                            </p:stCondLst>
                            <p:childTnLst>
                              <p:par>
                                <p:cTn id="3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2560"/>
                            </p:stCondLst>
                            <p:childTnLst>
                              <p:par>
                                <p:cTn id="3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4560"/>
                            </p:stCondLst>
                            <p:childTnLst>
                              <p:par>
                                <p:cTn id="3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Хорошими людьми становятс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ольше от упражнений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ем от природы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мокр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Статистика актуальности т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шь 20-25 % первоклассников, преступающих ежегодно школьный порог, остаются здоровыми после первого года обучения в шко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онцу первой четверти худеют 30 %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%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еников жалуются на головные боли, усталость, сонливость, отсутствие желания уч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учащихся имеют различные нарушения оса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 % детей имеют нарушения зрения различной тяже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 % детей входят в группу риска в связи со склонностью к близорук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шь 24 % учеников выдерживают ночной норматив с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жедневно дети недосыпают от 1,5 часов до получа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TYPEWRIT_thumb"/>
          <p:cNvPicPr/>
          <p:nvPr/>
        </p:nvPicPr>
        <p:blipFill>
          <a:blip r:embed="rId1"/>
          <a:stretch/>
        </p:blipFill>
        <p:spPr>
          <a:xfrm>
            <a:off x="5791320" y="5181480"/>
            <a:ext cx="251460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ение режима дня позволяет ребёнку сохранять физическое и психологическое равновесие, что даёт возможность соблюдения эмоционального равновесия. Этот возраст характеризуется эмоциональной неустойчивостью, которая ведёт к хронической усталости и утомляемости. Эти постоянные симптомы приводят к снижению работоспособности ребё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зкая работоспособность характеризу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ижением количества правильных ответов на уроке и дома после того, как ребёнок выучил материал уро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м количества ошибок наряду с хорошо выученным правил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еянностью и невнимательностью ребёнка, быстрой утомляемост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м почерка ребёнка в связи с ухудшением регуляции физических функ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Режим -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чередование различных видов деятельности и отдыха в течении суток, установление оптимальных норм продолжительности деятельности и отдыха для школьников разного возраста, средство выработки у ребёнка привычки распоряжаться своим временем, умения избирать для себя наиболее приемлемый ритм жизни и труда, потребности заполнять своё время полезной деятель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SCHOOLMA"/>
          <p:cNvPicPr/>
          <p:nvPr/>
        </p:nvPicPr>
        <p:blipFill>
          <a:blip r:embed="rId1"/>
          <a:stretch/>
        </p:blipFill>
        <p:spPr>
          <a:xfrm>
            <a:off x="7391520" y="5181480"/>
            <a:ext cx="1523880" cy="1295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BOYWVIDE"/>
          <p:cNvPicPr/>
          <p:nvPr/>
        </p:nvPicPr>
        <p:blipFill>
          <a:blip r:embed="rId2"/>
          <a:stretch/>
        </p:blipFill>
        <p:spPr>
          <a:xfrm>
            <a:off x="4038480" y="5105520"/>
            <a:ext cx="1671840" cy="1431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GIRLBRD"/>
          <p:cNvPicPr/>
          <p:nvPr/>
        </p:nvPicPr>
        <p:blipFill>
          <a:blip r:embed="rId3"/>
          <a:stretch/>
        </p:blipFill>
        <p:spPr>
          <a:xfrm>
            <a:off x="304920" y="5029200"/>
            <a:ext cx="1536480" cy="1519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CASWOMAN"/>
          <p:cNvPicPr/>
          <p:nvPr/>
        </p:nvPicPr>
        <p:blipFill>
          <a:blip r:embed="rId4"/>
          <a:stretch/>
        </p:blipFill>
        <p:spPr>
          <a:xfrm>
            <a:off x="2286000" y="51055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WMBSKTBL"/>
          <p:cNvPicPr/>
          <p:nvPr/>
        </p:nvPicPr>
        <p:blipFill>
          <a:blip r:embed="rId5"/>
          <a:stretch/>
        </p:blipFill>
        <p:spPr>
          <a:xfrm>
            <a:off x="5943600" y="4876920"/>
            <a:ext cx="1295280" cy="1676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-304920"/>
          <a:ext cx="9144000" cy="8460000"/>
        </p:xfrm>
        <a:graphic>
          <a:graphicData uri="http://schemas.openxmlformats.org/drawingml/2006/table">
            <a:tbl>
              <a:tblPr/>
              <a:tblGrid>
                <a:gridCol w="5756400"/>
                <a:gridCol w="3387600"/>
              </a:tblGrid>
              <a:tr h="58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ные моменты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я ученика второй смен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-10 ле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4-й клас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буждение Утренняя гимнасти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ывание, уборка постел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30-8.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ренний завтрак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00-8.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готовление уроко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30- 10.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ободные занятия и прогул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00-12.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е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00-12.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рога в школу (прогулка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30-13.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е занятия в школе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00-17.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рога домой (прогулка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00-17.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жин и свободные занят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30-20.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готовление ко сн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.30-21.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.00-7.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Picture 94" descr="photo29"/>
          <p:cNvPicPr/>
          <p:nvPr/>
        </p:nvPicPr>
        <p:blipFill>
          <a:blip r:embed="rId1"/>
          <a:stretch/>
        </p:blipFill>
        <p:spPr>
          <a:xfrm flipH="1">
            <a:off x="0" y="0"/>
            <a:ext cx="183528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574560" y="620640"/>
            <a:ext cx="856944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жим питания школьников зависит от особенностей обучения в школе, нагрузки школьника, занятий спортом, общественной работой и другие моменты. Рекомендуемые типовые режимы питания для школьников схематично может представить так: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ля учащихся II смены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8:00–8:30 – завтрак;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2:30–13:00 – обед дома (перед уходом в школу);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6:00-16:30 - горячее питание в школе;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9:30-20:00 - ужин дома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иповые режимы питания могут меняться в зависимости от времени посещения дополнительных занятий, спортивных секций, кружков по интересам. Может быть использован дифференцированный по возрасту, примерный суточный набор продуктов, разработанный институтом питания АМН РФ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187280" y="260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Режим дня содержит в себе и режим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sk"/>
          <p:cNvPicPr/>
          <p:nvPr/>
        </p:nvPicPr>
        <p:blipFill>
          <a:blip r:embed="rId1"/>
          <a:stretch/>
        </p:blipFill>
        <p:spPr>
          <a:xfrm>
            <a:off x="3924360" y="5445000"/>
            <a:ext cx="1512720" cy="1413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349014263"/>
          <p:cNvPicPr/>
          <p:nvPr/>
        </p:nvPicPr>
        <p:blipFill>
          <a:blip r:embed="rId2"/>
          <a:stretch/>
        </p:blipFill>
        <p:spPr>
          <a:xfrm>
            <a:off x="6516720" y="1484280"/>
            <a:ext cx="2344680" cy="3019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042920" y="-16920"/>
            <a:ext cx="6951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ное 3-дневное меню для детей школьного возрас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6320" y="685800"/>
          <a:ext cx="9067680" cy="7788240"/>
        </p:xfrm>
        <a:graphic>
          <a:graphicData uri="http://schemas.openxmlformats.org/drawingml/2006/table">
            <a:tbl>
              <a:tblPr/>
              <a:tblGrid>
                <a:gridCol w="2970000"/>
                <a:gridCol w="2784600"/>
                <a:gridCol w="331308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й ден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й ден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й ден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тра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ичниц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лат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с маслом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ежие фрукт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очная каш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ртая морков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с маслом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рукт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нивые вареник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ла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 с молоком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с маслом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ежие фрукт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завтрак (в школе)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ша пшенн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лат морковно-яблоч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тлета с картофельным пюр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ежий огурец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а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299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ыбная котлета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тушеными овоща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4299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жий помидор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4299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 с лимоном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29"/>
          <p:cNvSpPr/>
          <p:nvPr/>
        </p:nvSpPr>
        <p:spPr>
          <a:xfrm>
            <a:off x="179280" y="585612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мне мама тихо говорила.mp3" descr=""/>
          <p:cNvPicPr/>
          <p:nvPr/>
        </p:nvPicPr>
        <p:blipFill>
          <a:blip r:embed="rId1"/>
          <a:stretch/>
        </p:blipFill>
        <p:spPr>
          <a:xfrm>
            <a:off x="7380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324000" y="0"/>
          <a:ext cx="8424720" cy="2819520"/>
        </p:xfrm>
        <a:graphic>
          <a:graphicData uri="http://schemas.openxmlformats.org/drawingml/2006/table">
            <a:tbl>
              <a:tblPr/>
              <a:tblGrid>
                <a:gridCol w="2874960"/>
                <a:gridCol w="2874960"/>
                <a:gridCol w="2674800"/>
              </a:tblGrid>
              <a:tr h="28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660033"/>
                          </a:solidFill>
                          <a:uFillTx/>
                          <a:latin typeface="Arial"/>
                          <a:ea typeface="Times New Roman"/>
                        </a:rPr>
                        <a:t>Вторая сме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0 — 8.3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0 — 12.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00 – 15.2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30 – 18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трак дом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ед дом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ячее питание в школе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0"/>
                          <a:tab algn="l" pos="3662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жин дом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 Box 12"/>
          <p:cNvSpPr/>
          <p:nvPr/>
        </p:nvSpPr>
        <p:spPr>
          <a:xfrm>
            <a:off x="380880" y="2971800"/>
            <a:ext cx="82296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особ приготовления пищи также оказывает влияние на здоровье. В питании детей необходимо использовать те способы приготовления пищи, при которых не требуется большого количества масла, жира, соли, сахара (это отваривание, запекание, тушение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временный школьник, по мнению диетологов, должен есть не менее четырех раз в день, причем на завтрак, обед и ужин непременно должно быть горячее блюдо. За день школьники должны выпивать не менее одного-полутора литров жидкости, но не газированной воды, а фруктовых или овощных со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4551480" y="316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4" descr="919299358"/>
          <p:cNvPicPr/>
          <p:nvPr/>
        </p:nvPicPr>
        <p:blipFill>
          <a:blip r:embed="rId1"/>
          <a:stretch/>
        </p:blipFill>
        <p:spPr>
          <a:xfrm>
            <a:off x="3059280" y="4844880"/>
            <a:ext cx="2089080" cy="2013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03-21T04:39:45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