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132-1550-417C-B846-048D8758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801-CAE1-443E-911A-22AE514A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E8A-3ED2-4849-9DB3-9D4C958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556-6F04-4A9F-9717-16D5BA7E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8DE-C4BA-4C95-AAED-94AAD4C9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5919-C391-48EE-9494-ED37FFFF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7393-2FE1-451C-98EF-606E58C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5FB5-6C57-4CBB-BE82-490EAC9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9407-7B54-49F2-BD32-40594FD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5E93-68CA-4B38-9606-AA80ADD6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AEFE-F101-4798-9E9C-F98573B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474-91CF-4099-AB28-71857AE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890-5B4F-4783-A16A-6E1B5FC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B68B-F7A6-45FA-84B4-AAD2209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2951-7442-4AB5-9360-94E1D8D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5F0D-D5D8-4F05-86DF-F98E5FCA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453-01ED-4375-AC5E-8CF55F47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BEC-432A-4A8D-9616-87DDA472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14E-52E7-4F65-A00B-6D7D40E1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C60-A6E4-4CCB-8880-1F2E0B0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08E-D712-4E5E-8671-D7DDDC8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684-84F2-4A7D-AB5B-B76A8BF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DDD-D0B1-45FC-BF55-02DFC94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0A4-5554-48AE-A751-481B0DF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5498-2CAC-44E1-A210-78C37A46D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4073-9346-4A97-98B1-8F5D8862ED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win.museum.ru/dino/dino/r_1.asp?1" TargetMode="External"/><Relationship Id="rId2" Type="http://schemas.openxmlformats.org/officeDocument/2006/relationships/hyperlink" Target="http://www.darwin.museum.ru/dino/dino/r_1.asp?2" TargetMode="External"/><Relationship Id="rId3" Type="http://schemas.openxmlformats.org/officeDocument/2006/relationships/hyperlink" Target="http://www.darwin.museum.ru/dino/dino/r_1.asp?3" TargetMode="External"/><Relationship Id="rId4" Type="http://schemas.openxmlformats.org/officeDocument/2006/relationships/hyperlink" Target="http://www.darwin.museum.ru/dino/dino/r_1.asp?4" TargetMode="External"/><Relationship Id="rId5" Type="http://schemas.openxmlformats.org/officeDocument/2006/relationships/hyperlink" Target="http://www.darwin.museum.ru/dino/dino/r_1.asp?5" TargetMode="External"/><Relationship Id="rId6" Type="http://schemas.openxmlformats.org/officeDocument/2006/relationships/hyperlink" Target="http://www.darwin.museum.ru/dino/dino/r_1.asp?6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rwin.museum.ru/dino/dino/r_2.asp?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ff33"/>
                </a:solidFill>
                <a:latin typeface="Arial Black"/>
              </a:rPr>
              <a:t>КОГДА ЖИЛИ ДИНОЗАВРЫ?</a:t>
            </a:r>
            <a:endParaRPr b="1" lang="en-US" sz="7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877c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877c"/>
                </a:solidFill>
                <a:latin typeface="Arial"/>
              </a:rPr>
              <a:t>Иванова И.А.ГБОУ СОШ № 12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41148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БРАХИ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360" y="2276280"/>
            <a:ext cx="93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6360" y="3357720"/>
            <a:ext cx="41292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Брахиозавр питался растениями. У него были мощные ноги, длинная шея, и он мог доставать пищу с высоких дерев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брахиозавр"/>
          <p:cNvPicPr/>
          <p:nvPr/>
        </p:nvPicPr>
        <p:blipFill>
          <a:blip r:embed="rId1"/>
          <a:srcRect l="10326" t="0" r="0" b="0"/>
          <a:stretch/>
        </p:blipFill>
        <p:spPr>
          <a:xfrm>
            <a:off x="250920" y="1844640"/>
            <a:ext cx="4357440" cy="364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брахиозавр 2"/>
          <p:cNvPicPr/>
          <p:nvPr/>
        </p:nvPicPr>
        <p:blipFill>
          <a:blip r:embed="rId2"/>
          <a:stretch/>
        </p:blipFill>
        <p:spPr>
          <a:xfrm>
            <a:off x="4716360" y="476280"/>
            <a:ext cx="42022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399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СТЕГ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4508640"/>
            <a:ext cx="8007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У </a:t>
            </a:r>
            <a:r>
              <a:rPr b="0" lang="ru-RU" sz="2400" spc="-1" strike="noStrike">
                <a:solidFill>
                  <a:srgbClr val="142215"/>
                </a:solidFill>
                <a:latin typeface="Arial"/>
              </a:rPr>
              <a:t>стегозавра по всей спине росли большие пластины, а на хвосте было 4 острых шипа. У него была маленькая голова, вмещавшая мозг размером с грецкий орех. Питался этот динозавр раст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стегозавр 1"/>
          <p:cNvPicPr/>
          <p:nvPr/>
        </p:nvPicPr>
        <p:blipFill>
          <a:blip r:embed="rId1"/>
          <a:stretch/>
        </p:blipFill>
        <p:spPr>
          <a:xfrm>
            <a:off x="250920" y="189000"/>
            <a:ext cx="4464000" cy="414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Стегозавр 2"/>
          <p:cNvPicPr/>
          <p:nvPr/>
        </p:nvPicPr>
        <p:blipFill>
          <a:blip r:embed="rId2"/>
          <a:stretch/>
        </p:blipFill>
        <p:spPr>
          <a:xfrm>
            <a:off x="5292720" y="1484280"/>
            <a:ext cx="30812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ТРИЦЕРАТОП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89320" y="3063600"/>
            <a:ext cx="6969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3280" y="836280"/>
            <a:ext cx="3816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Трицератопс</a:t>
            </a:r>
            <a:br>
              <a:rPr sz="2000"/>
            </a:br>
            <a:r>
              <a:rPr b="1" i="1" lang="ru-RU" sz="2000" spc="-1" strike="noStrike">
                <a:solidFill>
                  <a:srgbClr val="142215"/>
                </a:solidFill>
                <a:latin typeface="Arial"/>
              </a:rPr>
              <a:t>Triceratops horridus (Ужасная трехрогая морда)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Систематическое положение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Птицетазовые динозавры, рогатые динозавры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Возраст находок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Поздний мел (72-65 млн. лет назад)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Место находок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Северная Америка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Длина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До 9 м </a:t>
            </a: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Высота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2,5-3 м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Вес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6-12 т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Растительнояд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трицератопс 1"/>
          <p:cNvPicPr/>
          <p:nvPr/>
        </p:nvPicPr>
        <p:blipFill>
          <a:blip r:embed="rId1"/>
          <a:stretch/>
        </p:blipFill>
        <p:spPr>
          <a:xfrm>
            <a:off x="324000" y="1844640"/>
            <a:ext cx="45338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16360" y="691920"/>
            <a:ext cx="41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КОМПСОГНАТ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8498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Они были размером с небольшую собаку.     Очень быстро бегали, ловили ящериц и насеко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компсогнат"/>
          <p:cNvPicPr/>
          <p:nvPr/>
        </p:nvPicPr>
        <p:blipFill>
          <a:blip r:embed="rId1">
            <a:lum contrast="24000"/>
          </a:blip>
          <a:srcRect l="0" t="0" r="9114" b="0"/>
          <a:stretch/>
        </p:blipFill>
        <p:spPr>
          <a:xfrm>
            <a:off x="179280" y="476280"/>
            <a:ext cx="4464000" cy="383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компсогнат2"/>
          <p:cNvPicPr/>
          <p:nvPr/>
        </p:nvPicPr>
        <p:blipFill>
          <a:blip r:embed="rId2"/>
          <a:stretch/>
        </p:blipFill>
        <p:spPr>
          <a:xfrm>
            <a:off x="4859280" y="2133720"/>
            <a:ext cx="38829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8660e"/>
                </a:solidFill>
                <a:latin typeface="Arial Black"/>
              </a:rPr>
              <a:t>КОНЕЦ</a:t>
            </a:r>
            <a:endParaRPr b="1" lang="en-US" sz="8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динозавры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449280"/>
            <a:ext cx="856908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660e"/>
                </a:solidFill>
                <a:latin typeface="Arial"/>
              </a:rPr>
              <a:t>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 ("ужасные ящеры")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относятся к классу рептилии, подклассу архозавры. Выделяют четыре отряда архозавров: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ящеротазовые 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2"/>
              </a:rPr>
              <a:t>птицетазовые 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3"/>
              </a:rPr>
              <a:t>птер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 (летающие ящеры) и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4"/>
              </a:rPr>
              <a:t>крокодил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Самым явным отличием динозавров от других рептилий является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5"/>
              </a:rPr>
              <a:t>расположение их конечностей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Они находятся прямо под туловищем динозавра, примерно так же, как у млекопитающих. Важно помнить и о том, что динозавры - это сухопутные животные.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Слово </a:t>
            </a:r>
            <a:r>
              <a:rPr b="0" i="1" lang="ru-RU" sz="2800" spc="-1" strike="noStrike">
                <a:solidFill>
                  <a:srgbClr val="142215"/>
                </a:solidFill>
                <a:latin typeface="Arial"/>
              </a:rPr>
              <a:t>"динозавр"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, означающее "ужасный ящер" было введено английским зоологом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6"/>
              </a:rPr>
              <a:t>Ричардом Оуэном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в 1842 году. 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660e"/>
                </a:solidFill>
                <a:latin typeface="Arial Black"/>
              </a:rPr>
              <a:t>Как мы узнали о том, что на Земле существовали динозавры?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450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Люди издавна находили кости каких-то гигантских животных. Возможно, именно такие находки породили легенды и сказки о драконах. В древних храмах Китая, Японии, Индокитая и Индии до сих пор встречаются изображения </a:t>
            </a:r>
            <a:r>
              <a:rPr b="0" lang="ru-RU" sz="32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драконов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, внешне весьма сходных с динозаврами.</a:t>
            </a:r>
            <a:br>
              <a:rPr sz="3200"/>
            </a:b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Каковы были размеры динозавров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50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Название "динозавры" - "ужасные ящеры" обманчиво, так как предполагает, что все эти рептилии были огромными и свирепыми хищни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На самом же деле среди них были и гиганты величиной с четырехэтажный дом (до 30 метров в длину и весом в 50 тонн), и стройные грациозные животные размером не больше петух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660e"/>
                </a:solidFill>
                <a:latin typeface="Arial Black"/>
              </a:rPr>
              <a:t>Как передвигались динозавры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Одни динозавры передвигались на двух ногах, другие - на четырех, одни бегали не хуже страусов, другие шествовали медленно и чинно.</a:t>
            </a:r>
            <a:br>
              <a:rPr sz="2400"/>
            </a:b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Установить, с какой скоростью передвигались динозавры, можно исследуя их строение, а также изучая сохранившиеся следы древних ящеров.</a:t>
            </a:r>
            <a:br>
              <a:rPr sz="2400"/>
            </a:b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Вероятно, самыми быстрыми динозаврами, когда-либо жившими на Земле, были "страусоподобные" </a:t>
            </a: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орнитомимиды. Анализ</a:t>
            </a: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 их строения позволяет предположить, что при беге они могли развивать скорость до 80 километров в час. Трицератопс мог бегать со скоростью 50 километров в час, а 70-тонный брахиозавр, скорее всего, передвигался медленным размеренным шагом со скоростью равной скорости ходьбы человека, около пяти километров в ча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660e"/>
                </a:solidFill>
                <a:latin typeface="Arial Black"/>
              </a:rPr>
              <a:t>Как размножались динозавры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Ученые полагают, что динозавры, подобно большинству ныне живущих рептилий, откладывали яйца. Впервые 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окаменевшие яйца динозавров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 были найдены на юге Европы, позже подобные находки были сделаны в Восточной Африке, Центральной Азии и на севере Южной Америки. Интересно, что размеры их были совсем не велики, длина яиц не превышала 20 сантимет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Почему вымерли динозавры?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Общеизвестно, что последние динозавры вымерли к концу мелового периода. Выдвинуто множество гипотез, но все они весьма спорные. Все эти гипотезы можно разделить на три группы: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космические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(повышение уровня космической радиации, падение на Землю астероида),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экологические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(резкое изменение климата, кислородный голод, изменение пищевых ресурсов, конкуренция с млекопитающими),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физиологические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("генетическое старение", эпидемические заболевания и други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ТИРАНН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360" y="2923920"/>
            <a:ext cx="79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3280" y="1915920"/>
            <a:ext cx="3929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Тираннозавр был свирепым хищником, но его передние лапы были удивительно маленькими и слаб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тираннозавр"/>
          <p:cNvPicPr/>
          <p:nvPr/>
        </p:nvPicPr>
        <p:blipFill>
          <a:blip r:embed="rId1"/>
          <a:stretch/>
        </p:blipFill>
        <p:spPr>
          <a:xfrm>
            <a:off x="468360" y="1484280"/>
            <a:ext cx="4359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01:44Z</dcterms:created>
  <dc:creator>Ирина</dc:creator>
  <dc:description/>
  <dc:language>en-US</dc:language>
  <cp:lastModifiedBy>Ирина</cp:lastModifiedBy>
  <dcterms:modified xsi:type="dcterms:W3CDTF">2012-08-31T20:24:00Z</dcterms:modified>
  <cp:revision>4</cp:revision>
  <dc:subject/>
  <dc:title>ДИНОЗАВРЫ</dc:title>
</cp:coreProperties>
</file>