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5DF-89DC-495A-ACF6-22B8E488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DC8-0E18-4964-94B8-4B6A426E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F84-76A7-40C3-8918-8A1A4FD9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789-98B5-4537-BC00-652425C5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D770-946C-4EA5-BDAD-752AA992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1357-D178-4AA8-BDF1-30DAD97A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9ED3-7ECA-40D7-B863-3E025240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8DE7-324B-4B17-9E2E-68B255B6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7FB3-8E75-4CD5-B619-79778B7E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11A5-A38D-4DD7-8510-B9AB81C4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526E-332A-4812-8F45-0E9BA4B2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F5A-EF90-43C2-9D35-67DF743B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D2C0-E71B-4122-B398-5E8274B5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CFF7-A173-4A07-B369-3CCEC9BF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1BE8-FCAF-43FC-8401-F6CB7160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C371-206A-4A17-8989-1833459C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D46C-BCB6-45CA-844A-456072A3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D26-9615-4164-AF0B-1AF108C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556-E93A-4901-AA9E-24D4D978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93B-442B-4D50-8504-5EAA493F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216-9DD2-4B5E-AC62-06CD9124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041-B467-45A2-91DD-4741BCC0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BC6-F309-4D65-94C9-E02D3BE0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F5A-94E5-4DAF-811C-93EA6266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BB72-08B0-44F5-BC01-23CE36F811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AAF6-8818-4D45-8F11-07D4AC4F4BB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spa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66ff"/>
                </a:solidFill>
                <a:latin typeface="Arial"/>
              </a:rPr>
              <a:t>АНТИЧАСТИЦ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916360" y="378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НТИМИ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187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АНТИВЕЩЕСТВ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571400" y="285840"/>
            <a:ext cx="7000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авнение Дира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 \left(mc^2\alpha_0 + c \sum_{j = 1}^3 \alpha_j p_j\right) \psi (\mathbf{x},t) = i \hbar \frac{\partial\psi}{\partial t} (\mathbf{x},t) "/>
          <p:cNvPicPr/>
          <p:nvPr/>
        </p:nvPicPr>
        <p:blipFill>
          <a:blip r:embed="rId1"/>
          <a:stretch/>
        </p:blipFill>
        <p:spPr>
          <a:xfrm>
            <a:off x="857160" y="2357280"/>
            <a:ext cx="7500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Если мы встанем на ту точку зрения, что полная асимметрия между положительными и отрицательными электрическими зарядами является фундаментальным законом природы, то мы должны рассматривать его как своего рода случайность, вся Солнечная система содержит избыток обычных отрицательных электронов и положительных протонов. Некоторые звезды построены иным путем: из позитронов и отрицательных протонов. В мире должно быть одинаковое число звезд каждого сорта,» - Поль Дира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провержение теории Дирака или опровержение абсолютной симметричности вещества и антивеществ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чему Природе создавать дублирующие системы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пление антивещества в нашей Вселенной не найде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изменной однонаправленности времени отношение вещества и антивещества к пространству времени различ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упрощение» Прир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ткрытие Андерсо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озит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4" descr="unigal00106_4-1"/>
          <p:cNvPicPr/>
          <p:nvPr/>
        </p:nvPicPr>
        <p:blipFill>
          <a:blip r:embed="rId1"/>
          <a:stretch/>
        </p:blipFill>
        <p:spPr>
          <a:xfrm>
            <a:off x="2268360" y="1700280"/>
            <a:ext cx="4299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итрон был открыт в 1932 году при помощи камеры Вильсона. Андерсон сфотографировал следы частиц, которые очень напоминали следы электронов, но имели изгиб противоположный следам электронам, что свидетельствовало о положительном электрическом заряде обнаружен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нигиляция — реакция превращения частицы и античастицы при их столкновении в какие-либо иные частицы, отличные от исходны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2" descr="D:\2401.jpg"/>
          <p:cNvPicPr/>
          <p:nvPr/>
        </p:nvPicPr>
        <p:blipFill>
          <a:blip r:embed="rId1"/>
          <a:stretch/>
        </p:blipFill>
        <p:spPr>
          <a:xfrm>
            <a:off x="-642960" y="0"/>
            <a:ext cx="10099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2" descr="D:\f9-7.gif"/>
          <p:cNvPicPr/>
          <p:nvPr/>
        </p:nvPicPr>
        <p:blipFill>
          <a:blip r:embed="rId1"/>
          <a:stretch/>
        </p:blipFill>
        <p:spPr>
          <a:xfrm>
            <a:off x="-571680" y="0"/>
            <a:ext cx="1053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898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я – античастица, антивещество, антими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откры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овержение тео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ие  позит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аннигиля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 большого взры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ждение анти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дние открытия и разрабо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Picture 2" descr="D:\007.jpg"/>
          <p:cNvPicPr/>
          <p:nvPr/>
        </p:nvPicPr>
        <p:blipFill>
          <a:blip r:embed="rId1"/>
          <a:stretch/>
        </p:blipFill>
        <p:spPr>
          <a:xfrm>
            <a:off x="2571840" y="0"/>
            <a:ext cx="44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Теория Большого Взры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714680" y="1643040"/>
            <a:ext cx="56433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Большой взрыв – столкновение вещества и антивеществ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5" descr="722_mist_1"/>
          <p:cNvPicPr/>
          <p:nvPr/>
        </p:nvPicPr>
        <p:blipFill>
          <a:blip r:embed="rId1"/>
          <a:stretch/>
        </p:blipFill>
        <p:spPr>
          <a:xfrm>
            <a:off x="1692360" y="1557360"/>
            <a:ext cx="58338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Образование античастиц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9680" y="107136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ождение античастиц происходит в столкновениях частиц вещества, разогнанных до энергий, превосходящих порог рождения пары частица-античастица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 лабораторных условиях античастицы рождаются во взаимодействиях частиц на ускорителях; хранение образующихся античастиц осуществляют в накопительных кольцах при высоком вакууме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 естественных условиях античастицы рождаются при взаимодействии первичных космических лучей с веществом, например, атмосферы Земли, а также должны рождаться в окрестностях пульсаров и активных ядер галактик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Рождение Античастиц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2" descr="D:\black_hole1.jpg"/>
          <p:cNvPicPr/>
          <p:nvPr/>
        </p:nvPicPr>
        <p:blipFill>
          <a:blip r:embed="rId1"/>
          <a:stretch/>
        </p:blipFill>
        <p:spPr>
          <a:xfrm>
            <a:off x="571680" y="1785960"/>
            <a:ext cx="78422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428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Рождение частиц и античастиц вблизи черных дыр—процесс Хокинга.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Picture 2" descr="D:\1_html_m19baf31e.jpg"/>
          <p:cNvPicPr/>
          <p:nvPr/>
        </p:nvPicPr>
        <p:blipFill>
          <a:blip r:embed="rId1"/>
          <a:stretch/>
        </p:blipFill>
        <p:spPr>
          <a:xfrm>
            <a:off x="127080" y="1643040"/>
            <a:ext cx="8802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нение антивещест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5" descr="image15"/>
          <p:cNvPicPr/>
          <p:nvPr/>
        </p:nvPicPr>
        <p:blipFill>
          <a:blip r:embed="rId1"/>
          <a:stretch/>
        </p:blipFill>
        <p:spPr>
          <a:xfrm>
            <a:off x="3203640" y="1197000"/>
            <a:ext cx="2992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Антивещества, как источник энерг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4" name="Picture 5" descr="518418"/>
          <p:cNvPicPr/>
          <p:nvPr/>
        </p:nvPicPr>
        <p:blipFill>
          <a:blip r:embed="rId1"/>
          <a:stretch/>
        </p:blipFill>
        <p:spPr>
          <a:xfrm>
            <a:off x="1619280" y="1628640"/>
            <a:ext cx="58323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0" y="34920"/>
          <a:ext cx="9144000" cy="680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920"/>
                    <a:ext cx="91440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ичастица – частица двойник некоторой другой элементарной частицы, обладающая той же массой и тем же спином, но отличающиеся от нее знаками некоторых характеристик взаимо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античастиц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ивещество – это как бы зеркальное отражение вещества, то есть вещество и антивещество симметричны друг дру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E:\ANTImatter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имир – гипотетический космический объект (типа звезды или галактики) состоящий из анти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E:\интимир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История открытия антивещест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Поль Адриен Морис Дира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590920" y="2238480"/>
            <a:ext cx="36957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8:57:32Z</dcterms:created>
  <dc:creator>user</dc:creator>
  <dc:description/>
  <dc:language>en-US</dc:language>
  <cp:lastModifiedBy>ZooM</cp:lastModifiedBy>
  <dcterms:modified xsi:type="dcterms:W3CDTF">2013-11-27T21:43:49Z</dcterms:modified>
  <cp:revision>13</cp:revision>
  <dc:subject/>
  <dc:title>АНТИЧАСТИЦА</dc:title>
</cp:coreProperties>
</file>