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2.png" ContentType="image/png"/>
  <Override PartName="/ppt/media/image18.png" ContentType="image/png"/>
  <Override PartName="/ppt/media/image15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1.jpeg" ContentType="image/jpeg"/>
  <Override PartName="/ppt/media/image7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7FE87-951D-482E-BCE0-EAD8592D4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EF008-4DE4-440E-ABF0-FFDE56190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25632-184A-49AE-9556-B0F21BC9B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DF8BF-23E2-4DD4-A3E5-93B35B951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65D9D-25C8-4E4B-B61E-42A53FD87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31657-95DD-4A99-803F-AA0C821DA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ABBF1-0FFA-4510-8EB0-C36FBA880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47274-D17B-4A63-9965-732AB884D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3AC6C-BD1F-4A14-B860-259506E06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50DE8-1782-4201-B7DE-4098EBC6B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BE29E-ABF3-409C-A4F8-0989A18F3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A2776-977A-46C5-93BD-79DBFC4DB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0D434-AE4D-4E07-9CFF-37C7E5D71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0E027-AF9D-438C-9555-529A269E3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13D90-692B-4723-BC4A-1644233C9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78D92-C54E-4CF4-9A63-3D5B573D4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5CDC6-7BF7-4261-B182-5EF05AA64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D642C-2D2E-4430-9FE7-52870AF7E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35D24-5336-4613-8A88-C086C2039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7377E-85D0-4D3E-8048-13CECB507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32F81-E4A2-4721-AAD5-831D8E691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16CCD-4685-4367-BA14-977777936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A57F9-5522-47CC-8E43-9152F5723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1039E-3503-44CA-A6F7-CCACF69B8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94C91-5C45-40F8-BE6A-62B3EAA5A8C4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C9F71-D08A-4809-8CCF-96C86483B5A3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4" descr="spac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5092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9966ff"/>
                </a:solidFill>
                <a:latin typeface="Arial"/>
              </a:rPr>
              <a:t>АНТИЧАСТИЦА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2916360" y="378936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АНТИМИР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Rectangle 6"/>
          <p:cNvSpPr/>
          <p:nvPr/>
        </p:nvSpPr>
        <p:spPr>
          <a:xfrm>
            <a:off x="1187280" y="213372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cccff"/>
                </a:solidFill>
                <a:latin typeface="Arial"/>
              </a:rPr>
              <a:t>АНТИВЕЩЕСТВО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1571400" y="285840"/>
            <a:ext cx="70009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равнение Дирака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Рисунок 3" descr=" \left(mc^2\alpha_0 + c \sum_{j = 1}^3 \alpha_j p_j\right) \psi (\mathbf{x},t) = i \hbar \frac{\partial\psi}{\partial t} (\mathbf{x},t) "/>
          <p:cNvPicPr/>
          <p:nvPr/>
        </p:nvPicPr>
        <p:blipFill>
          <a:blip r:embed="rId1"/>
          <a:stretch/>
        </p:blipFill>
        <p:spPr>
          <a:xfrm>
            <a:off x="857160" y="2357280"/>
            <a:ext cx="7500960" cy="23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5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«Если мы встанем на ту точку зрения, что полная асимметрия между положительными и отрицательными электрическими зарядами является фундаментальным законом природы, то мы должны рассматривать его как своего рода случайность, вся Солнечная система содержит избыток обычных отрицательных электронов и положительных протонов. Некоторые звезды построены иным путем: из позитронов и отрицательных протонов. В мире должно быть одинаковое число звезд каждого сорта,» - Поль Дирак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9640" y="2708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2b2b2"/>
                </a:solidFill>
                <a:latin typeface="Arial"/>
              </a:rPr>
              <a:t>Опровержение теории Дирака или опровержение абсолютной симметричности вещества и антивещества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5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 чему Природе создавать дублирующие системы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копление антивещества в нашей Вселенной не найдено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и неизменной однонаправленности времени отношение вещества и антивещества к пространству времени различн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«упрощение» Природ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Открытие Андерсона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128" name="Object 3"/>
          <p:cNvGraphicFramePr/>
          <p:nvPr/>
        </p:nvGraphicFramePr>
        <p:xfrm>
          <a:off x="0" y="1700280"/>
          <a:ext cx="9144000" cy="5157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00280"/>
                    <a:ext cx="9144000" cy="515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Позитрон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31" name="Picture 4" descr="unigal00106_4-1"/>
          <p:cNvPicPr/>
          <p:nvPr/>
        </p:nvPicPr>
        <p:blipFill>
          <a:blip r:embed="rId1"/>
          <a:stretch/>
        </p:blipFill>
        <p:spPr>
          <a:xfrm>
            <a:off x="2268360" y="1700280"/>
            <a:ext cx="429912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539640" y="1052640"/>
            <a:ext cx="8229600" cy="467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зитрон был открыт в 1932 году при помощи камеры Вильсона. Андерсон сфотографировал следы частиц, которые очень напоминали следы электронов, но имели изгиб противоположный следам электронам, что свидетельствовало о положительном электрическом заряде обнаруженных частиц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ннигиляция — реакция превращения частицы и античастицы при их столкновении в какие-либо иные частицы, отличные от исходных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36" name="Picture 2" descr="D:\2401.jpg"/>
          <p:cNvPicPr/>
          <p:nvPr/>
        </p:nvPicPr>
        <p:blipFill>
          <a:blip r:embed="rId1"/>
          <a:stretch/>
        </p:blipFill>
        <p:spPr>
          <a:xfrm>
            <a:off x="-642960" y="0"/>
            <a:ext cx="10099800" cy="714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38" name="Picture 2" descr="D:\f9-7.gif"/>
          <p:cNvPicPr/>
          <p:nvPr/>
        </p:nvPicPr>
        <p:blipFill>
          <a:blip r:embed="rId1"/>
          <a:stretch/>
        </p:blipFill>
        <p:spPr>
          <a:xfrm>
            <a:off x="-571680" y="0"/>
            <a:ext cx="10534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Содержание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8982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401040" indent="-401040">
              <a:spcBef>
                <a:spcPts val="799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пределения – античастица, антивещество, антимир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01040" indent="-401040">
              <a:spcBef>
                <a:spcPts val="799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стория открыти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01040" indent="-401040">
              <a:spcBef>
                <a:spcPts val="799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провержение теори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01040" indent="-401040">
              <a:spcBef>
                <a:spcPts val="799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ткрытие  позитрон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01040" indent="-401040">
              <a:spcBef>
                <a:spcPts val="799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оцесс аннигиляци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01040" indent="-401040">
              <a:spcBef>
                <a:spcPts val="799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еория большого взрыв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01040" indent="-401040">
              <a:spcBef>
                <a:spcPts val="799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арождение античастиц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01040" indent="-401040">
              <a:spcBef>
                <a:spcPts val="799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следние открытия и разработк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01040" indent="-401040">
              <a:spcBef>
                <a:spcPts val="799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именени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01040" indent="-401040">
              <a:spcBef>
                <a:spcPts val="799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01040" indent="-401040">
              <a:spcBef>
                <a:spcPts val="799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01040" indent="-401040">
              <a:spcBef>
                <a:spcPts val="799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01040" indent="-401040">
              <a:spcBef>
                <a:spcPts val="799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01040" indent="-401040">
              <a:spcBef>
                <a:spcPts val="799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01040" indent="-401040">
              <a:spcBef>
                <a:spcPts val="799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40" name="Picture 2" descr="D:\007.jpg"/>
          <p:cNvPicPr/>
          <p:nvPr/>
        </p:nvPicPr>
        <p:blipFill>
          <a:blip r:embed="rId1"/>
          <a:stretch/>
        </p:blipFill>
        <p:spPr>
          <a:xfrm>
            <a:off x="2571840" y="0"/>
            <a:ext cx="446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57160" y="14256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Теория Большого Взрыва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42" name="Picture 2" descr=""/>
          <p:cNvPicPr/>
          <p:nvPr/>
        </p:nvPicPr>
        <p:blipFill>
          <a:blip r:embed="rId1"/>
          <a:stretch/>
        </p:blipFill>
        <p:spPr>
          <a:xfrm>
            <a:off x="1714680" y="1643040"/>
            <a:ext cx="5643360" cy="48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2b2b2"/>
                </a:solidFill>
                <a:latin typeface="Arial"/>
              </a:rPr>
              <a:t>Большой взрыв – столкновение вещества и антивещества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44" name="Picture 5" descr="722_mist_1"/>
          <p:cNvPicPr/>
          <p:nvPr/>
        </p:nvPicPr>
        <p:blipFill>
          <a:blip r:embed="rId1"/>
          <a:stretch/>
        </p:blipFill>
        <p:spPr>
          <a:xfrm>
            <a:off x="1692360" y="1557360"/>
            <a:ext cx="5833800" cy="501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85520" y="0"/>
            <a:ext cx="7467480" cy="774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2b2b2"/>
                </a:solidFill>
                <a:latin typeface="Times New Roman"/>
                <a:ea typeface="Times New Roman"/>
              </a:rPr>
              <a:t>Образование античастиц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99680" y="1071360"/>
            <a:ext cx="7467480" cy="487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Рождение античастиц происходит в столкновениях частиц вещества, разогнанных до энергий, превосходящих порог рождения пары частица-античастица.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В лабораторных условиях античастицы рождаются во взаимодействиях частиц на ускорителях; хранение образующихся античастиц осуществляют в накопительных кольцах при высоком вакууме.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В естественных условиях античастицы рождаются при взаимодействии первичных космических лучей с веществом, например, атмосферы Земли, а также должны рождаться в окрестностях пульсаров и активных ядер галактик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71320" y="213840"/>
            <a:ext cx="7467480" cy="5605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Рождение Античастиц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48" name="Picture 2" descr="D:\black_hole1.jpg"/>
          <p:cNvPicPr/>
          <p:nvPr/>
        </p:nvPicPr>
        <p:blipFill>
          <a:blip r:embed="rId1"/>
          <a:stretch/>
        </p:blipFill>
        <p:spPr>
          <a:xfrm>
            <a:off x="571680" y="1785960"/>
            <a:ext cx="7842240" cy="33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3160" y="42840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2b2b2"/>
                </a:solidFill>
                <a:latin typeface="Arial"/>
              </a:rPr>
              <a:t>Рождение частиц и античастиц вблизи черных дыр—процесс Хокинга. 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50" name="Picture 2" descr="D:\1_html_m19baf31e.jpg"/>
          <p:cNvPicPr/>
          <p:nvPr/>
        </p:nvPicPr>
        <p:blipFill>
          <a:blip r:embed="rId1"/>
          <a:stretch/>
        </p:blipFill>
        <p:spPr>
          <a:xfrm>
            <a:off x="127080" y="1643040"/>
            <a:ext cx="8802720" cy="45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Применение антивещества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52" name="Picture 5" descr="image15"/>
          <p:cNvPicPr/>
          <p:nvPr/>
        </p:nvPicPr>
        <p:blipFill>
          <a:blip r:embed="rId1"/>
          <a:stretch/>
        </p:blipFill>
        <p:spPr>
          <a:xfrm>
            <a:off x="3203640" y="1197000"/>
            <a:ext cx="2992320" cy="546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2b2b2"/>
                </a:solidFill>
                <a:latin typeface="Arial"/>
              </a:rPr>
              <a:t>Антивещества, как источник энергии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54" name="Picture 5" descr="518418"/>
          <p:cNvPicPr/>
          <p:nvPr/>
        </p:nvPicPr>
        <p:blipFill>
          <a:blip r:embed="rId1"/>
          <a:stretch/>
        </p:blipFill>
        <p:spPr>
          <a:xfrm>
            <a:off x="1619280" y="1628640"/>
            <a:ext cx="5832360" cy="461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156" name="Object 3"/>
          <p:cNvGraphicFramePr/>
          <p:nvPr/>
        </p:nvGraphicFramePr>
        <p:xfrm>
          <a:off x="0" y="34920"/>
          <a:ext cx="9144000" cy="6802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4920"/>
                    <a:ext cx="9144000" cy="680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нтичастица – частица двойник некоторой другой элементарной частицы, обладающая той же массой и тем же спином, но отличающиеся от нее знаками некоторых характеристик взаимодействия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Picture 4" descr="античастиц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нтивещество – это как бы зеркальное отражение вещества, то есть вещество и антивещество симметричны друг другу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4" descr="E:\ANTImatter.jpg"/>
          <p:cNvPicPr/>
          <p:nvPr/>
        </p:nvPicPr>
        <p:blipFill>
          <a:blip r:embed="rId1"/>
          <a:stretch/>
        </p:blipFill>
        <p:spPr>
          <a:xfrm>
            <a:off x="0" y="1908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нтимир – гипотетический космический объект (типа звезды или галактики) состоящий из антивеществ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Picture 4" descr="E:\интимиры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История открытия антивещества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599840"/>
            <a:ext cx="8229600" cy="61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200" spc="-1" strike="noStrike">
                <a:solidFill>
                  <a:srgbClr val="ffffff"/>
                </a:solidFill>
                <a:latin typeface="Arial"/>
              </a:rPr>
              <a:t>Поль Адриен Морис Дира́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Picture 3" descr=""/>
          <p:cNvPicPr/>
          <p:nvPr/>
        </p:nvPicPr>
        <p:blipFill>
          <a:blip r:embed="rId1"/>
          <a:stretch/>
        </p:blipFill>
        <p:spPr>
          <a:xfrm>
            <a:off x="2590920" y="2238480"/>
            <a:ext cx="3695760" cy="46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4T08:57:32Z</dcterms:created>
  <dc:creator>user</dc:creator>
  <dc:description/>
  <dc:language>en-US</dc:language>
  <cp:lastModifiedBy>ZooM</cp:lastModifiedBy>
  <dcterms:modified xsi:type="dcterms:W3CDTF">2013-11-27T21:43:49Z</dcterms:modified>
  <cp:revision>13</cp:revision>
  <dc:subject/>
  <dc:title>АНТИЧАСТИЦА</dc:title>
</cp:coreProperties>
</file>