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14.jpeg" ContentType="image/jpeg"/>
  <Override PartName="/ppt/media/image1.png" ContentType="image/png"/>
  <Override PartName="/ppt/media/image12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0.jpeg" ContentType="image/jpeg"/>
  <Override PartName="/ppt/media/image13.png" ContentType="image/png"/>
  <Override PartName="/ppt/media/image32.jpeg" ContentType="image/jpeg"/>
  <Override PartName="/ppt/media/image35.png" ContentType="image/png"/>
  <Override PartName="/ppt/media/image33.jpeg" ContentType="image/jpeg"/>
  <Override PartName="/ppt/media/image5.wmf" ContentType="image/x-wmf"/>
  <Override PartName="/ppt/media/image27.jpeg" ContentType="image/jpeg"/>
  <Override PartName="/ppt/media/image31.jpeg" ContentType="image/jpeg"/>
  <Override PartName="/ppt/media/image2.png" ContentType="image/png"/>
  <Override PartName="/ppt/media/image38.gif" ContentType="image/gif"/>
  <Override PartName="/ppt/media/image39.png" ContentType="image/png"/>
  <Override PartName="/ppt/media/image4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210-9D92-4A16-B649-0D7AFEBB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85B-AA08-4811-8872-E5822577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798-55ED-4378-A149-F96AD67A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853-AEFF-401C-8B70-CEAF289A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85A1-77AC-4ED9-BE3E-47F83757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1C1F-DF34-4F8B-921C-EE34CC1A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8735-D61F-44AF-B048-90771EA1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E02E-E26A-47A8-A9DD-576C6844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EED3-93B9-47B0-BCB7-EB7890F6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C1C4-DFC3-4E2A-9EBE-A29FCDAB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709F-DBC9-4793-98FA-6585EFF7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6C7-FD80-4BAE-9B21-BF587ED3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0211-EE12-49BB-B616-978D9C6E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985A-431E-4333-BF9C-9320BBC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BAC5-8FA0-4D13-A3B5-12977B01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B982-C3E8-4103-AAF7-F3FC8BA8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C413-781E-452E-A3D1-60E3C98C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DDF-C1F4-4C89-BC88-A323C5BA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307-CB1B-42D6-934E-E395AB97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EAA-00D0-4C5F-9F7D-B4E7C28E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C5E-D9AB-4D24-9400-E6447C43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384-5C5E-428F-A8DC-2C0E1542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0D8-947A-4E16-AE5C-90EAE7DC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862-AD56-4481-B831-174B008F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98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595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50000">
                    <a:srgbClr val="ada897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50000">
                    <a:srgbClr val="ada897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595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4200" cy="177840"/>
                        <a:chOff x="2070720" y="636480"/>
                        <a:chExt cx="66420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30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8320" y="636480"/>
                          <a:ext cx="3366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595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4200" cy="177840"/>
                        <a:chOff x="2054880" y="634680"/>
                        <a:chExt cx="66420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30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2480" y="634680"/>
                          <a:ext cx="3366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595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595447"/>
                </a:gs>
                <a:gs pos="100000">
                  <a:srgbClr val="9e98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3851-F73A-4CBF-855F-22D03477C449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98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9e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9e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9e9884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50000">
                    <a:srgbClr val="ada897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50000">
                    <a:srgbClr val="ada897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595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1840" cy="177840"/>
                      <a:chOff x="742680" y="3811680"/>
                      <a:chExt cx="46418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2040" cy="177840"/>
                        <a:chOff x="742680" y="3811680"/>
                        <a:chExt cx="66204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5440" y="3811680"/>
                        <a:ext cx="662040" cy="177840"/>
                        <a:chOff x="1405440" y="3811680"/>
                        <a:chExt cx="66204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544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840" cy="177840"/>
                        <a:chOff x="2069640" y="3811680"/>
                        <a:chExt cx="66384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832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2760" y="3811680"/>
                        <a:ext cx="662040" cy="177840"/>
                        <a:chOff x="2732760" y="3811680"/>
                        <a:chExt cx="66204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276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44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160" y="3811680"/>
                        <a:ext cx="662040" cy="177840"/>
                        <a:chOff x="3395160" y="3811680"/>
                        <a:chExt cx="66204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16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84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6480" y="3811680"/>
                        <a:ext cx="663840" cy="177840"/>
                        <a:chOff x="4056480" y="3811680"/>
                        <a:chExt cx="66384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64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516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480" y="3811680"/>
                        <a:ext cx="662040" cy="177840"/>
                        <a:chOff x="4722480" y="3811680"/>
                        <a:chExt cx="66204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48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116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595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1840" cy="177840"/>
                      <a:chOff x="726840" y="3809880"/>
                      <a:chExt cx="46418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2040" cy="177840"/>
                        <a:chOff x="726840" y="3809880"/>
                        <a:chExt cx="66204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89600" y="3809880"/>
                        <a:ext cx="662040" cy="177840"/>
                        <a:chOff x="1389600" y="3809880"/>
                        <a:chExt cx="66204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8960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840" cy="177840"/>
                        <a:chOff x="2053800" y="3809880"/>
                        <a:chExt cx="66384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248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6920" y="3809880"/>
                        <a:ext cx="662040" cy="177840"/>
                        <a:chOff x="2716920" y="3809880"/>
                        <a:chExt cx="66204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692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60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320" y="3809880"/>
                        <a:ext cx="662040" cy="177840"/>
                        <a:chOff x="3379320" y="3809880"/>
                        <a:chExt cx="66204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32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800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0640" y="3809880"/>
                        <a:ext cx="663840" cy="177840"/>
                        <a:chOff x="4040640" y="3809880"/>
                        <a:chExt cx="66384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06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6932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6640" y="3809880"/>
                        <a:ext cx="662040" cy="177840"/>
                        <a:chOff x="4706640" y="3809880"/>
                        <a:chExt cx="66204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664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532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595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78B3-CAA6-4339-A1D8-40C6552168A8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hyperlink" Target="http://images.yandex.ru/yandpage?q=773770192&amp;p=2&amp;ag=ih&amp;rpt2=simage&amp;qs=rpt%3Dimage%26text%3D%25E3%25C9%25C3%25C5%25D2%25CF%25CE" TargetMode="External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rds.yahoo.com/S=96062857/K=&#1040;.&#1060;.&#1052;&#1077;&#1088;&#1079;&#1083;&#1103;&#1082;&#1086;&#1074;/v=2/SID=w/l=II/R=1/SS=i/OID=d66829f7ce2d003e/SIG=1i4cbtqsk/EXP=1111319836/*-http%3A//images.search.yahoo.com/search/images/view?back=http%3A%2F%2Fimages.search.yahoo.com%2Fsearch%2Fimages%3Fp%3D%25D0%2590%252E%25D0%25A4%252E%25D0%259C%25D0%25B5%25D1%2580%25D0%25B7%25D0%25BB%25D1%258F%25D0%25BA%25D0%25BE%25D0%25B2%26ei%3DUTF-8&amp;h=400&amp;w=300&amp;imgcurl=www.rulex.ru%2Fportret%2F30-099.jpg&amp;imgurl=www.rulex.ru%2Fportret%2F30-099.jpg&amp;size=19.4kB&amp;name=30-099.jpg&amp;rcurl=http%3A%2F%2Fwww.rulex.ru%2F01274011.htm&amp;rurl=http%3A%2F%2Fwww.rulex.ru%2F01274011.htm&amp;p=&#1040;.&#1060;.&#1052;&#1077;&#1088;&#1079;&#1083;&#1103;&#1082;&#1086;&#1074;&amp;type=jpeg&amp;no=1&amp;tt=1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page?q=547614528&amp;p=2&amp;ag=ih&amp;rpt2=simage&amp;qs=text%3D%25ED.%25ED.%25F3%25D0%25C5%25D2%25C1%25CE%25D3%25CB%25C9%25CA%26isize%3D%26ogo%3D5%26rpt%3Dimage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os-mobile.ru/images/img1.jpg&amp;imgrefurl=http://www.pos-mobile.ru/chaos/&amp;h=179&amp;w=194&amp;sz=13&amp;tbnid=nl20BC-5ousJ:&amp;tbnh=90&amp;tbnw=98&amp;start=5&amp;prev=/images%3Fq%3D%25D0%2594%25D0%25B5%25D0%25B9%25D0%25BB%2B%25D0%259A%25D0%25B0%25D1%2580%25D0%25BD%25D0%25B5%25D0%25B3%25D0%25B8%26hl%3Dru%26lr%3D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google.ru/imgres?imgurl=http://book.medicinform.net/shop/pic/psycho/psycho7.jpg&amp;imgrefurl=http://book.medicinform.net/shop/cool/&amp;h=330&amp;w=200&amp;sz=22&amp;tbnid=1Dd4rkTJG6gJ:&amp;tbnh=114&amp;tbnw=69&amp;start=2&amp;prev=/images%3Fq%3D%25D0%2594%25D0%25B5%25D0%25B9%25D0%25BB%2B%25D0%259A%25D0%25B0%25D1%2580%25D0%25BD%25D0%25B5%25D0%25B3%25D0%25B8%26hl%3Dru%26lr%3D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google.ru/imgres?imgurl=http://www.colibri.ru/photos/P1/M_17210.jpg&amp;imgrefurl=http://family.tias.ru/cat/TU3I3_CZ2006G400CZ1RI001Y25N.7.html&amp;h=227&amp;w=150&amp;sz=10&amp;tbnid=betB2dv2AYIJ:&amp;tbnh=103&amp;tbnw=68&amp;start=6&amp;prev=/images%3Fq%3D%25D0%2594%25D0%25B5%25D0%25B9%25D0%25BB%2B%25D0%259A%25D0%25B0%25D1%2580%25D0%25BD%25D0%25B5%25D0%25B3%25D0%25B8%26hl%3Dru%26lr%3D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yandpage?q=1492836624&amp;p=0&amp;ag=ih&amp;rpt2=simage&amp;qs=rpt%3Dimage%26text%3D%25E4%25C5%25CA%25CC%2520%25EB%25C1%25D2%25CE%25C5%25C7%25C9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yandpage?q=1492836624&amp;p=3&amp;ag=ih&amp;rpt2=simage&amp;qs=rpt%3Dimage%26text%3D%25E4%25C5%25CA%25CC%2520%25EB%25C1%25D2%25CE%25C5%25C7%25C9" TargetMode="External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gi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timeline.nm.ru/images/antic/protagoras0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2003739488&amp;p=13&amp;ag=ih&amp;rpt2=simage&amp;qs=rpt%3Dimage%26text%3D%25C1%25D2%25C9%25D3%25D4%25CF%25D4%25C5%25CC%25D8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ru/imgres?imgurl=http://www.psychology.ru/whoswho/photos/_Plato.gif&amp;imgrefurl=http://www.psychology.ru/whoswho/_Plato.stm&amp;h=250&amp;w=180&amp;sz=23&amp;tbnid=Fq77afgJq4wJ:&amp;tbnh=106&amp;tbnw=76&amp;start=6&amp;prev=/images%3Fq%3D%25D0%259F%25D0%25BB%25D0%25B0%25D1%2582%25D0%25BE%25D0%25BD%26hl%3Dru%26lr%3D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1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4"/>
          <p:cNvGrpSpPr/>
          <p:nvPr/>
        </p:nvGrpSpPr>
        <p:grpSpPr>
          <a:xfrm>
            <a:off x="1174680" y="2709720"/>
            <a:ext cx="6496200" cy="1035360"/>
            <a:chOff x="1174680" y="2709720"/>
            <a:chExt cx="6496200" cy="1035360"/>
          </a:xfrm>
        </p:grpSpPr>
        <p:sp>
          <p:nvSpPr>
            <p:cNvPr id="283" name="Rectangle 4"/>
            <p:cNvSpPr/>
            <p:nvPr/>
          </p:nvSpPr>
          <p:spPr>
            <a:xfrm>
              <a:off x="1174680" y="2709720"/>
              <a:ext cx="66528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1839960" y="2709720"/>
              <a:ext cx="207000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                   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>
              <a:off x="3909960" y="2709720"/>
              <a:ext cx="102564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Rectangle 10"/>
            <p:cNvSpPr/>
            <p:nvPr/>
          </p:nvSpPr>
          <p:spPr>
            <a:xfrm>
              <a:off x="4935600" y="2709720"/>
              <a:ext cx="207000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                   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7005600" y="2709720"/>
              <a:ext cx="66528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88" name="Picture 42" descr="http://tambov.fio.ru/vjpusk/vjp035/rabot/09/ritor.gif"/>
          <p:cNvPicPr/>
          <p:nvPr/>
        </p:nvPicPr>
        <p:blipFill>
          <a:blip r:embed="rId1"/>
          <a:stretch/>
        </p:blipFill>
        <p:spPr>
          <a:xfrm>
            <a:off x="1219320" y="817560"/>
            <a:ext cx="6669000" cy="5637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Кричащий Демосфен"/>
          <p:cNvPicPr/>
          <p:nvPr/>
        </p:nvPicPr>
        <p:blipFill>
          <a:blip r:embed="rId1"/>
          <a:stretch/>
        </p:blipFill>
        <p:spPr>
          <a:xfrm>
            <a:off x="4724280" y="990720"/>
            <a:ext cx="3657600" cy="300168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6"/>
          <p:cNvGrpSpPr/>
          <p:nvPr/>
        </p:nvGrpSpPr>
        <p:grpSpPr>
          <a:xfrm>
            <a:off x="990720" y="1371600"/>
            <a:ext cx="3429000" cy="2654280"/>
            <a:chOff x="990720" y="1371600"/>
            <a:chExt cx="3429000" cy="2654280"/>
          </a:xfrm>
        </p:grpSpPr>
        <p:sp>
          <p:nvSpPr>
            <p:cNvPr id="343" name="Rectangle 2"/>
            <p:cNvSpPr/>
            <p:nvPr/>
          </p:nvSpPr>
          <p:spPr>
            <a:xfrm>
              <a:off x="990720" y="1371600"/>
              <a:ext cx="3429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dd39f"/>
                  </a:solidFill>
                  <a:latin typeface="Tahoma"/>
                  <a:ea typeface="Tahoma"/>
                </a:rPr>
                <a:t>Развивая силу голоса, Демосфен пытался перекричать шум прибоя</a:t>
              </a:r>
              <a:r>
                <a:rPr b="0" lang="ru-RU" sz="2000" spc="-1" strike="noStrike">
                  <a:solidFill>
                    <a:srgbClr val="edd39f"/>
                  </a:solidFill>
                  <a:latin typeface="Tahoma"/>
                  <a:ea typeface="Tahoma"/>
                </a:rPr>
                <a:t>.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990720" y="2100600"/>
              <a:ext cx="342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345" name="Picture 5" descr="http://poteha.irk.ru/files/sib_reports/4.jpg"/>
          <p:cNvPicPr/>
          <p:nvPr/>
        </p:nvPicPr>
        <p:blipFill>
          <a:blip r:embed="rId2"/>
          <a:stretch/>
        </p:blipFill>
        <p:spPr>
          <a:xfrm>
            <a:off x="762120" y="3505320"/>
            <a:ext cx="3962160" cy="31716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0"/>
          <p:cNvSpPr/>
          <p:nvPr/>
        </p:nvSpPr>
        <p:spPr>
          <a:xfrm>
            <a:off x="4724280" y="41911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dd39f"/>
                </a:solidFill>
                <a:latin typeface="Tahoma"/>
                <a:ea typeface="Tahoma"/>
              </a:rPr>
              <a:t>Дабы избавиться от подергивания плечом и принять величественную позу, Демосфен подвешивал к потолку меч, чтобы тот остриём упирался в непослушное плечо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8" name="Picture 3" descr="http://www.masterovoi.ru/gallery/albums/userpics/10001/normal_12%7E0.jpg"/>
          <p:cNvPicPr/>
          <p:nvPr/>
        </p:nvPicPr>
        <p:blipFill>
          <a:blip r:embed="rId1"/>
          <a:stretch/>
        </p:blipFill>
        <p:spPr>
          <a:xfrm>
            <a:off x="228600" y="838080"/>
            <a:ext cx="533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4"/>
          <p:cNvGrpSpPr/>
          <p:nvPr/>
        </p:nvGrpSpPr>
        <p:grpSpPr>
          <a:xfrm>
            <a:off x="228600" y="228600"/>
            <a:ext cx="8686440" cy="609480"/>
            <a:chOff x="228600" y="228600"/>
            <a:chExt cx="8686440" cy="609480"/>
          </a:xfrm>
        </p:grpSpPr>
        <p:pic>
          <p:nvPicPr>
            <p:cNvPr id="350" name="Object 5" descr=""/>
            <p:cNvPicPr/>
            <p:nvPr/>
          </p:nvPicPr>
          <p:blipFill>
            <a:blip r:embed="rId2"/>
            <a:stretch/>
          </p:blipFill>
          <p:spPr>
            <a:xfrm>
              <a:off x="3788280" y="228600"/>
              <a:ext cx="5126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Object 6" descr=""/>
            <p:cNvPicPr/>
            <p:nvPr/>
          </p:nvPicPr>
          <p:blipFill>
            <a:blip r:embed="rId3"/>
            <a:srcRect l="29646" t="0" r="0" b="0"/>
            <a:stretch/>
          </p:blipFill>
          <p:spPr>
            <a:xfrm>
              <a:off x="228600" y="228600"/>
              <a:ext cx="382392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Rectangle 8"/>
          <p:cNvSpPr/>
          <p:nvPr/>
        </p:nvSpPr>
        <p:spPr>
          <a:xfrm>
            <a:off x="1959480" y="990720"/>
            <a:ext cx="54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c0036"/>
                </a:solidFill>
                <a:latin typeface="Comic Sans MS"/>
              </a:rPr>
              <a:t>Древний   Рим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3" name="Picture 15" descr="http://www.latour.ru/countries2/images/italy/collizei.jpg"/>
          <p:cNvPicPr/>
          <p:nvPr/>
        </p:nvPicPr>
        <p:blipFill>
          <a:blip r:embed="rId4"/>
          <a:stretch/>
        </p:blipFill>
        <p:spPr>
          <a:xfrm>
            <a:off x="1447920" y="2209680"/>
            <a:ext cx="6629400" cy="4421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643200" y="2571840"/>
            <a:ext cx="46483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36"/>
                </a:solidFill>
                <a:latin typeface="Comic Sans MS"/>
              </a:rPr>
              <a:t>Марк Фабий Квинтилиа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5" name="Picture 3" descr="http://www.masterovoi.ru/gallery/albums/userpics/10001/normal_12%7E0.jpg"/>
          <p:cNvPicPr/>
          <p:nvPr/>
        </p:nvPicPr>
        <p:blipFill>
          <a:blip r:embed="rId1"/>
          <a:stretch/>
        </p:blipFill>
        <p:spPr>
          <a:xfrm>
            <a:off x="0" y="838080"/>
            <a:ext cx="685800" cy="60199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4"/>
          <p:cNvGrpSpPr/>
          <p:nvPr/>
        </p:nvGrpSpPr>
        <p:grpSpPr>
          <a:xfrm>
            <a:off x="0" y="152280"/>
            <a:ext cx="9143640" cy="685800"/>
            <a:chOff x="0" y="152280"/>
            <a:chExt cx="9143640" cy="685800"/>
          </a:xfrm>
        </p:grpSpPr>
        <p:pic>
          <p:nvPicPr>
            <p:cNvPr id="357" name="Object 5" descr=""/>
            <p:cNvPicPr/>
            <p:nvPr/>
          </p:nvPicPr>
          <p:blipFill>
            <a:blip r:embed="rId2"/>
            <a:stretch/>
          </p:blipFill>
          <p:spPr>
            <a:xfrm>
              <a:off x="3746880" y="152280"/>
              <a:ext cx="53967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Object 6" descr=""/>
            <p:cNvPicPr/>
            <p:nvPr/>
          </p:nvPicPr>
          <p:blipFill>
            <a:blip r:embed="rId3"/>
            <a:srcRect l="29646" t="0" r="0" b="0"/>
            <a:stretch/>
          </p:blipFill>
          <p:spPr>
            <a:xfrm>
              <a:off x="0" y="152280"/>
              <a:ext cx="40251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Rectangle 7"/>
          <p:cNvSpPr/>
          <p:nvPr/>
        </p:nvSpPr>
        <p:spPr>
          <a:xfrm>
            <a:off x="713520" y="1019160"/>
            <a:ext cx="8023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c0036"/>
                </a:solidFill>
                <a:latin typeface="Comic Sans MS"/>
              </a:rPr>
              <a:t>Крупнейшие древнеримски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c003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6c0036"/>
                </a:solidFill>
                <a:latin typeface="Comic Sans MS"/>
              </a:rPr>
              <a:t>оратор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60" name="Group 19"/>
          <p:cNvGrpSpPr/>
          <p:nvPr/>
        </p:nvGrpSpPr>
        <p:grpSpPr>
          <a:xfrm>
            <a:off x="1143000" y="2428920"/>
            <a:ext cx="2209680" cy="3048120"/>
            <a:chOff x="1143000" y="2428920"/>
            <a:chExt cx="2209680" cy="3048120"/>
          </a:xfrm>
        </p:grpSpPr>
        <p:sp>
          <p:nvSpPr>
            <p:cNvPr id="361" name="Rectangle 13"/>
            <p:cNvSpPr/>
            <p:nvPr/>
          </p:nvSpPr>
          <p:spPr>
            <a:xfrm>
              <a:off x="1143000" y="2428920"/>
              <a:ext cx="2209680" cy="3048120"/>
            </a:xfrm>
            <a:prstGeom prst="rect">
              <a:avLst/>
            </a:prstGeom>
            <a:solidFill>
              <a:srgbClr val="6c0036"/>
            </a:solidFill>
            <a:ln w="12600">
              <a:solidFill>
                <a:srgbClr val="6c00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62" name="Picture 10" descr="http://im-tub.yandex.ru/i?id=13733884&amp;tov=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218960" y="2503440"/>
              <a:ext cx="2022120" cy="28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15"/>
          <p:cNvSpPr/>
          <p:nvPr/>
        </p:nvSpPr>
        <p:spPr>
          <a:xfrm>
            <a:off x="878760" y="5638680"/>
            <a:ext cx="2644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36"/>
                </a:solidFill>
                <a:latin typeface="Comic Sans MS"/>
              </a:rPr>
              <a:t>Марк Тулл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36"/>
                </a:solidFill>
                <a:latin typeface="Comic Sans MS"/>
              </a:rPr>
              <a:t>Цицеро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64" name="Group 25"/>
          <p:cNvGrpSpPr/>
          <p:nvPr/>
        </p:nvGrpSpPr>
        <p:grpSpPr>
          <a:xfrm>
            <a:off x="0" y="2894040"/>
            <a:ext cx="9144360" cy="1071360"/>
            <a:chOff x="0" y="2894040"/>
            <a:chExt cx="9144360" cy="1071360"/>
          </a:xfrm>
        </p:grpSpPr>
        <p:sp>
          <p:nvSpPr>
            <p:cNvPr id="365" name="Rectangle 21"/>
            <p:cNvSpPr/>
            <p:nvPr/>
          </p:nvSpPr>
          <p:spPr>
            <a:xfrm>
              <a:off x="0" y="2894040"/>
              <a:ext cx="91440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6" name="Group 24"/>
            <p:cNvGrpSpPr/>
            <p:nvPr/>
          </p:nvGrpSpPr>
          <p:grpSpPr>
            <a:xfrm>
              <a:off x="0" y="2894040"/>
              <a:ext cx="9144360" cy="360"/>
              <a:chOff x="0" y="2894040"/>
              <a:chExt cx="9144360" cy="360"/>
            </a:xfrm>
          </p:grpSpPr>
          <p:sp>
            <p:nvSpPr>
              <p:cNvPr id="367" name="Rectangle 22"/>
              <p:cNvSpPr/>
              <p:nvPr/>
            </p:nvSpPr>
            <p:spPr>
              <a:xfrm>
                <a:off x="0" y="28940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Rectangle 23"/>
              <p:cNvSpPr/>
              <p:nvPr/>
            </p:nvSpPr>
            <p:spPr>
              <a:xfrm>
                <a:off x="9144000" y="28940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Group 30"/>
          <p:cNvGrpSpPr/>
          <p:nvPr/>
        </p:nvGrpSpPr>
        <p:grpSpPr>
          <a:xfrm>
            <a:off x="0" y="2894040"/>
            <a:ext cx="9144360" cy="1071360"/>
            <a:chOff x="0" y="2894040"/>
            <a:chExt cx="9144360" cy="1071360"/>
          </a:xfrm>
        </p:grpSpPr>
        <p:sp>
          <p:nvSpPr>
            <p:cNvPr id="370" name="Rectangle 26"/>
            <p:cNvSpPr/>
            <p:nvPr/>
          </p:nvSpPr>
          <p:spPr>
            <a:xfrm>
              <a:off x="0" y="2894040"/>
              <a:ext cx="91440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1" name="Group 29"/>
            <p:cNvGrpSpPr/>
            <p:nvPr/>
          </p:nvGrpSpPr>
          <p:grpSpPr>
            <a:xfrm>
              <a:off x="0" y="2894040"/>
              <a:ext cx="9144360" cy="360"/>
              <a:chOff x="0" y="2894040"/>
              <a:chExt cx="9144360" cy="360"/>
            </a:xfrm>
          </p:grpSpPr>
          <p:sp>
            <p:nvSpPr>
              <p:cNvPr id="372" name="Rectangle 27"/>
              <p:cNvSpPr/>
              <p:nvPr/>
            </p:nvSpPr>
            <p:spPr>
              <a:xfrm>
                <a:off x="0" y="28940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Rectangle 28"/>
              <p:cNvSpPr/>
              <p:nvPr/>
            </p:nvSpPr>
            <p:spPr>
              <a:xfrm>
                <a:off x="9144000" y="28940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74" name="Picture 25" descr="C:\Documents and Settings\Admin\Рабочий стол\Новая папка\i.jpeg"/>
          <p:cNvPicPr/>
          <p:nvPr/>
        </p:nvPicPr>
        <p:blipFill>
          <a:blip r:embed="rId6"/>
          <a:stretch/>
        </p:blipFill>
        <p:spPr>
          <a:xfrm>
            <a:off x="5357880" y="3571920"/>
            <a:ext cx="221436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6" name="Picture 24" descr="Рамка 31"/>
          <p:cNvPicPr/>
          <p:nvPr/>
        </p:nvPicPr>
        <p:blipFill>
          <a:blip r:embed="rId1"/>
          <a:stretch/>
        </p:blipFill>
        <p:spPr>
          <a:xfrm>
            <a:off x="4800600" y="838080"/>
            <a:ext cx="3557520" cy="5715000"/>
          </a:xfrm>
          <a:prstGeom prst="rect">
            <a:avLst/>
          </a:prstGeom>
          <a:ln w="0">
            <a:noFill/>
          </a:ln>
        </p:spPr>
      </p:pic>
      <p:pic>
        <p:nvPicPr>
          <p:cNvPr id="377" name="Object 25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913120" cy="50292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6"/>
          <p:cNvSpPr/>
          <p:nvPr/>
        </p:nvSpPr>
        <p:spPr>
          <a:xfrm>
            <a:off x="1295280" y="14479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Times New Roman"/>
              </a:rPr>
              <a:t>Греческие корни дали свои ростки и на наш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Rectangle 27"/>
          <p:cNvSpPr/>
          <p:nvPr/>
        </p:nvSpPr>
        <p:spPr>
          <a:xfrm>
            <a:off x="1527840" y="388620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МИХАИЛ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ВАСИЛЬЕВИЧ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ЛОМОНОСОВ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0" name="Group 31"/>
          <p:cNvGrpSpPr/>
          <p:nvPr/>
        </p:nvGrpSpPr>
        <p:grpSpPr>
          <a:xfrm>
            <a:off x="4419720" y="2743200"/>
            <a:ext cx="3200400" cy="3809880"/>
            <a:chOff x="4419720" y="2743200"/>
            <a:chExt cx="3200400" cy="3809880"/>
          </a:xfrm>
        </p:grpSpPr>
        <p:sp>
          <p:nvSpPr>
            <p:cNvPr id="381" name="Rectangle 30"/>
            <p:cNvSpPr/>
            <p:nvPr/>
          </p:nvSpPr>
          <p:spPr>
            <a:xfrm>
              <a:off x="4419720" y="2743200"/>
              <a:ext cx="3200400" cy="3809880"/>
            </a:xfrm>
            <a:prstGeom prst="rect">
              <a:avLst/>
            </a:prstGeom>
            <a:solidFill>
              <a:srgbClr val="007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82" name="Picture 28" descr="http://gov.spb.ru/Pictures/1001506831.jpg"/>
            <p:cNvPicPr/>
            <p:nvPr/>
          </p:nvPicPr>
          <p:blipFill>
            <a:blip r:embed="rId3"/>
            <a:stretch/>
          </p:blipFill>
          <p:spPr>
            <a:xfrm>
              <a:off x="4495680" y="2819520"/>
              <a:ext cx="304812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Rectangle 29"/>
          <p:cNvSpPr/>
          <p:nvPr/>
        </p:nvSpPr>
        <p:spPr>
          <a:xfrm>
            <a:off x="1295280" y="25146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Times New Roman"/>
              </a:rPr>
              <a:t>российской земле благодаря труда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Object 4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913120" cy="50292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2597040" y="38862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7" name="Group 24"/>
          <p:cNvGrpSpPr/>
          <p:nvPr/>
        </p:nvGrpSpPr>
        <p:grpSpPr>
          <a:xfrm>
            <a:off x="1447920" y="1981080"/>
            <a:ext cx="1523880" cy="1981440"/>
            <a:chOff x="1447920" y="1981080"/>
            <a:chExt cx="1523880" cy="1981440"/>
          </a:xfrm>
        </p:grpSpPr>
        <p:sp>
          <p:nvSpPr>
            <p:cNvPr id="388" name="Rectangle 21"/>
            <p:cNvSpPr/>
            <p:nvPr/>
          </p:nvSpPr>
          <p:spPr>
            <a:xfrm>
              <a:off x="1447920" y="1981080"/>
              <a:ext cx="1523880" cy="1981440"/>
            </a:xfrm>
            <a:prstGeom prst="rect">
              <a:avLst/>
            </a:prstGeom>
            <a:solidFill>
              <a:srgbClr val="007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89" name="Picture 12" descr="Go to fullsize image">
              <a:hlinkClick r:id="rId2"/>
            </p:cNvPr>
            <p:cNvPicPr/>
            <p:nvPr/>
          </p:nvPicPr>
          <p:blipFill>
            <a:blip r:embed="rId3">
              <a:lum contrast="24000"/>
            </a:blip>
            <a:stretch/>
          </p:blipFill>
          <p:spPr>
            <a:xfrm>
              <a:off x="1523880" y="2057400"/>
              <a:ext cx="13716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26"/>
          <p:cNvGrpSpPr/>
          <p:nvPr/>
        </p:nvGrpSpPr>
        <p:grpSpPr>
          <a:xfrm>
            <a:off x="3352680" y="3429000"/>
            <a:ext cx="1752840" cy="2209680"/>
            <a:chOff x="3352680" y="3429000"/>
            <a:chExt cx="1752840" cy="2209680"/>
          </a:xfrm>
        </p:grpSpPr>
        <p:sp>
          <p:nvSpPr>
            <p:cNvPr id="391" name="Rectangle 23"/>
            <p:cNvSpPr/>
            <p:nvPr/>
          </p:nvSpPr>
          <p:spPr>
            <a:xfrm>
              <a:off x="3352680" y="3429000"/>
              <a:ext cx="1752840" cy="2209680"/>
            </a:xfrm>
            <a:prstGeom prst="rect">
              <a:avLst/>
            </a:prstGeom>
            <a:solidFill>
              <a:srgbClr val="007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92" name="Picture 16" descr="http://rds.yahoo.com/S=96062883/K=ÃÂ.ÃÂ.ÃÂÃÂ°ÃÂ»ÃÂ¸ÃÂ/v=2/SID=w/l=IVI/SIG=11qhrpudk/EXP=1111320627/*-http%3A//www.rulex.ru/portret/40-010.jpg"/>
            <p:cNvPicPr/>
            <p:nvPr/>
          </p:nvPicPr>
          <p:blipFill>
            <a:blip r:embed="rId4">
              <a:lum contrast="18000"/>
            </a:blip>
            <a:stretch/>
          </p:blipFill>
          <p:spPr>
            <a:xfrm>
              <a:off x="3429000" y="3504960"/>
              <a:ext cx="16002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Group 25"/>
          <p:cNvGrpSpPr/>
          <p:nvPr/>
        </p:nvGrpSpPr>
        <p:grpSpPr>
          <a:xfrm>
            <a:off x="5500800" y="4357800"/>
            <a:ext cx="1676160" cy="2286000"/>
            <a:chOff x="5500800" y="4357800"/>
            <a:chExt cx="1676160" cy="2286000"/>
          </a:xfrm>
        </p:grpSpPr>
        <p:sp>
          <p:nvSpPr>
            <p:cNvPr id="394" name="Rectangle 22"/>
            <p:cNvSpPr/>
            <p:nvPr/>
          </p:nvSpPr>
          <p:spPr>
            <a:xfrm>
              <a:off x="5500800" y="4357800"/>
              <a:ext cx="1676160" cy="2286000"/>
            </a:xfrm>
            <a:prstGeom prst="rect">
              <a:avLst/>
            </a:prstGeom>
            <a:solidFill>
              <a:srgbClr val="007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95" name="Picture 18" descr="http://im-tub.yandex.ru/i?id=21496195&amp;tov=0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576760" y="4510080"/>
              <a:ext cx="152352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Rectangle 27"/>
          <p:cNvSpPr/>
          <p:nvPr/>
        </p:nvSpPr>
        <p:spPr>
          <a:xfrm>
            <a:off x="3071880" y="198108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А.Ф.Мерзляк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6369120" y="388620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М.М.Сперански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Rectangle 29"/>
          <p:cNvSpPr/>
          <p:nvPr/>
        </p:nvSpPr>
        <p:spPr>
          <a:xfrm>
            <a:off x="4745880" y="29718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А.И.Галич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Rectangle 30"/>
          <p:cNvSpPr/>
          <p:nvPr/>
        </p:nvSpPr>
        <p:spPr>
          <a:xfrm>
            <a:off x="2515680" y="968400"/>
            <a:ext cx="54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00"/>
                </a:solidFill>
                <a:latin typeface="Times New Roman"/>
              </a:rPr>
              <a:t>Авторы русских ритори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31"/>
          <p:cNvSpPr/>
          <p:nvPr/>
        </p:nvSpPr>
        <p:spPr>
          <a:xfrm>
            <a:off x="5868720" y="1752480"/>
            <a:ext cx="21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00"/>
                </a:solidFill>
                <a:latin typeface="Times New Roman"/>
              </a:rPr>
              <a:t>XIX</a:t>
            </a:r>
            <a:r>
              <a:rPr b="1" lang="ru-RU" sz="3600" spc="-1" strike="noStrike">
                <a:solidFill>
                  <a:srgbClr val="004c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4c00"/>
                </a:solidFill>
                <a:latin typeface="Times New Roman"/>
              </a:rPr>
              <a:t>ВЕ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1" descr="http://images.google.ru/images?q=tbn:nl20BC-5ousJ:www.pos-mobile.ru/images/im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666880" y="228600"/>
            <a:ext cx="1120680" cy="102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3" descr="http://images.google.ru/images?q=tbn:1Dd4rkTJG6gJ:book.medicinform.net/shop/pic/psycho/psycho7.jpg">
            <a:hlinkClick r:id="rId3"/>
          </p:cNvPr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447920" y="3886200"/>
            <a:ext cx="922320" cy="1523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http://images.google.ru/images?q=tbn:betB2dv2AYIJ:www.colibri.ru/photos/P1/M_17210.jpg">
            <a:hlinkClick r:id="rId5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5638680" y="472428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1" descr="http://im-tub.yandex.ru/i?id=4652732&amp;tov=0">
            <a:hlinkClick r:id="rId7"/>
          </p:cNvPr>
          <p:cNvPicPr/>
          <p:nvPr/>
        </p:nvPicPr>
        <p:blipFill>
          <a:blip r:embed="rId8">
            <a:lum contrast="12000"/>
          </a:blip>
          <a:stretch/>
        </p:blipFill>
        <p:spPr>
          <a:xfrm>
            <a:off x="7010280" y="4114800"/>
            <a:ext cx="85752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5" descr="http://im-tub.yandex.ru/i?id=999322&amp;tov=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572000"/>
            <a:ext cx="9698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45"/>
          <p:cNvGrpSpPr/>
          <p:nvPr/>
        </p:nvGrpSpPr>
        <p:grpSpPr>
          <a:xfrm>
            <a:off x="6400800" y="1447920"/>
            <a:ext cx="1752480" cy="2209680"/>
            <a:chOff x="6400800" y="1447920"/>
            <a:chExt cx="1752480" cy="2209680"/>
          </a:xfrm>
        </p:grpSpPr>
        <p:sp>
          <p:nvSpPr>
            <p:cNvPr id="407" name="Rectangle 44"/>
            <p:cNvSpPr/>
            <p:nvPr/>
          </p:nvSpPr>
          <p:spPr>
            <a:xfrm>
              <a:off x="6400800" y="1447920"/>
              <a:ext cx="1752480" cy="2209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08" name="Picture 39" descr="http://im-tub.yandex.ru/i?id=4518828&amp;tov=2"/>
            <p:cNvPicPr/>
            <p:nvPr/>
          </p:nvPicPr>
          <p:blipFill>
            <a:blip r:embed="rId11"/>
            <a:stretch/>
          </p:blipFill>
          <p:spPr>
            <a:xfrm>
              <a:off x="6476760" y="1524240"/>
              <a:ext cx="160020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9" name="Picture 43" descr="Go to fullsize image"/>
          <p:cNvPicPr/>
          <p:nvPr/>
        </p:nvPicPr>
        <p:blipFill>
          <a:blip r:embed="rId12"/>
          <a:stretch/>
        </p:blipFill>
        <p:spPr>
          <a:xfrm>
            <a:off x="4267080" y="487692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6"/>
          <p:cNvSpPr/>
          <p:nvPr/>
        </p:nvSpPr>
        <p:spPr>
          <a:xfrm>
            <a:off x="1069200" y="1066680"/>
            <a:ext cx="52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иторика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 век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2974320" y="2438280"/>
            <a:ext cx="30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Дейл Карнег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2" name="Picture 50" descr="http://superroot.narod.ru/gif/quake/quake4.gif"/>
          <p:cNvPicPr/>
          <p:nvPr/>
        </p:nvPicPr>
        <p:blipFill>
          <a:blip r:embed="rId13"/>
          <a:stretch/>
        </p:blipFill>
        <p:spPr>
          <a:xfrm>
            <a:off x="0" y="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E:\Фото\Madrid Dos\P1000967.JPG"/>
          <p:cNvPicPr/>
          <p:nvPr/>
        </p:nvPicPr>
        <p:blipFill>
          <a:blip r:embed="rId1"/>
          <a:stretch/>
        </p:blipFill>
        <p:spPr>
          <a:xfrm>
            <a:off x="701640" y="1127160"/>
            <a:ext cx="3851280" cy="31273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2" descr="умp3_img_5851.jpg"/>
          <p:cNvPicPr/>
          <p:nvPr/>
        </p:nvPicPr>
        <p:blipFill>
          <a:blip r:embed="rId2"/>
          <a:stretch/>
        </p:blipFill>
        <p:spPr>
          <a:xfrm>
            <a:off x="5486400" y="3986280"/>
            <a:ext cx="3402000" cy="26272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680" y="4357440"/>
            <a:ext cx="47145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В работе над проектом мне помогала учитель русского языка и литературы Деревянкина Людмила Ивановна.</a:t>
            </a:r>
            <a:endParaRPr b="0" lang="en-US" sz="2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42920" y="1142640"/>
            <a:ext cx="47149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Меня зовут Коцур Екатерина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мне 11 лет. Я учусь в пятом классе школы при Посольстве  России в  Марокко. Мне очень хотелось бы научиться ораторскому искусств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И я решила рассказать вам о риторик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"/>
          <p:cNvSpPr/>
          <p:nvPr/>
        </p:nvSpPr>
        <p:spPr>
          <a:xfrm>
            <a:off x="762120" y="9907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dd39f"/>
                </a:solidFill>
                <a:latin typeface="Times New Roman"/>
              </a:rPr>
              <a:t>Что такое риторика?</a:t>
            </a:r>
            <a:br>
              <a:rPr sz="4000"/>
            </a:br>
            <a:r>
              <a:rPr b="0" lang="ru-RU" sz="4000" spc="-1" strike="noStrike">
                <a:solidFill>
                  <a:srgbClr val="edd39f"/>
                </a:solidFill>
                <a:latin typeface="Times New Roman"/>
              </a:rPr>
              <a:t>Как она возникла?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dd39f"/>
                </a:solidFill>
                <a:latin typeface="Times New Roman"/>
              </a:rPr>
              <a:t>Куда уходят её корни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Picture 11" descr="BONSAI"/>
          <p:cNvPicPr/>
          <p:nvPr/>
        </p:nvPicPr>
        <p:blipFill>
          <a:blip r:embed="rId1"/>
          <a:stretch/>
        </p:blipFill>
        <p:spPr>
          <a:xfrm>
            <a:off x="2286000" y="2987640"/>
            <a:ext cx="480060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0"/>
          <p:cNvSpPr/>
          <p:nvPr/>
        </p:nvSpPr>
        <p:spPr>
          <a:xfrm>
            <a:off x="7591320" y="240660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icture 22" descr="http://www.kolesa.ru/wpics/n40/avt1.jpg"/>
          <p:cNvPicPr/>
          <p:nvPr/>
        </p:nvPicPr>
        <p:blipFill>
          <a:blip r:embed="rId1"/>
          <a:stretch/>
        </p:blipFill>
        <p:spPr>
          <a:xfrm>
            <a:off x="990720" y="1676520"/>
            <a:ext cx="7010280" cy="47210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3"/>
          <p:cNvSpPr/>
          <p:nvPr/>
        </p:nvSpPr>
        <p:spPr>
          <a:xfrm>
            <a:off x="-823320" y="838080"/>
            <a:ext cx="105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dd39f"/>
                </a:solidFill>
                <a:latin typeface="Haettenschweiler"/>
              </a:rPr>
              <a:t>Родиной риторики считается Древняя Грец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Риторика 1"/>
          <p:cNvPicPr/>
          <p:nvPr/>
        </p:nvPicPr>
        <p:blipFill>
          <a:blip r:embed="rId1"/>
          <a:stretch/>
        </p:blipFill>
        <p:spPr>
          <a:xfrm>
            <a:off x="1981080" y="4343400"/>
            <a:ext cx="5181840" cy="23623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1447920" y="7621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dd39f"/>
                </a:solidFill>
                <a:latin typeface="Times New Roman"/>
              </a:rPr>
              <a:t>Отцами риторики были софисты-учителя красноречия и составители публичных рече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6" name="Group 12"/>
          <p:cNvGrpSpPr/>
          <p:nvPr/>
        </p:nvGrpSpPr>
        <p:grpSpPr>
          <a:xfrm>
            <a:off x="838080" y="2362320"/>
            <a:ext cx="1524240" cy="1752480"/>
            <a:chOff x="838080" y="2362320"/>
            <a:chExt cx="1524240" cy="1752480"/>
          </a:xfrm>
        </p:grpSpPr>
        <p:sp>
          <p:nvSpPr>
            <p:cNvPr id="297" name="Rectangle 10"/>
            <p:cNvSpPr/>
            <p:nvPr/>
          </p:nvSpPr>
          <p:spPr>
            <a:xfrm>
              <a:off x="838080" y="2362320"/>
              <a:ext cx="1524240" cy="1752480"/>
            </a:xfrm>
            <a:prstGeom prst="rect">
              <a:avLst/>
            </a:prstGeom>
            <a:solidFill>
              <a:srgbClr val="936231"/>
            </a:soli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98" name="Picture 4" descr="http://images.google.ru/images?q=tbn:xYqA-RGA5P8J:http://timeline.nm.ru/images/antic/protagoras01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914400" y="2438280"/>
              <a:ext cx="13572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5"/>
          <p:cNvSpPr/>
          <p:nvPr/>
        </p:nvSpPr>
        <p:spPr>
          <a:xfrm>
            <a:off x="2592360" y="2644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6477120" y="2362320"/>
            <a:ext cx="1295280" cy="1752480"/>
            <a:chOff x="6477120" y="2362320"/>
            <a:chExt cx="1295280" cy="1752480"/>
          </a:xfrm>
        </p:grpSpPr>
        <p:sp>
          <p:nvSpPr>
            <p:cNvPr id="301" name="Rectangle 8"/>
            <p:cNvSpPr/>
            <p:nvPr/>
          </p:nvSpPr>
          <p:spPr>
            <a:xfrm>
              <a:off x="6477120" y="2362320"/>
              <a:ext cx="1295280" cy="1752480"/>
            </a:xfrm>
            <a:prstGeom prst="rect">
              <a:avLst/>
            </a:prstGeom>
            <a:solidFill>
              <a:srgbClr val="c9c6b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02" name="Picture 7" descr="http://aviacosmofond.ru/demo/h/Iskusstvo/Nauka/Nauch_Znan.files/image032.jpg"/>
            <p:cNvPicPr/>
            <p:nvPr/>
          </p:nvPicPr>
          <p:blipFill>
            <a:blip r:embed="rId4"/>
            <a:stretch/>
          </p:blipFill>
          <p:spPr>
            <a:xfrm>
              <a:off x="6545160" y="2429640"/>
              <a:ext cx="1158480" cy="16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tangle 11"/>
          <p:cNvSpPr/>
          <p:nvPr/>
        </p:nvSpPr>
        <p:spPr>
          <a:xfrm>
            <a:off x="4724280" y="3276720"/>
            <a:ext cx="157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3200"/>
                </a:solidFill>
                <a:latin typeface="Comic Sans MS"/>
              </a:rPr>
              <a:t>ГОРГ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2615760" y="259092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3200"/>
                </a:solidFill>
                <a:latin typeface="Comic Sans MS"/>
              </a:rPr>
              <a:t>ПРОТАГО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7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75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7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1143000"/>
            <a:ext cx="674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Против софистов выступил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914400" y="2133720"/>
            <a:ext cx="2286000" cy="2743200"/>
            <a:chOff x="914400" y="2133720"/>
            <a:chExt cx="2286000" cy="2743200"/>
          </a:xfrm>
        </p:grpSpPr>
        <p:sp>
          <p:nvSpPr>
            <p:cNvPr id="307" name="Rectangle 4"/>
            <p:cNvSpPr/>
            <p:nvPr/>
          </p:nvSpPr>
          <p:spPr>
            <a:xfrm>
              <a:off x="914400" y="2133720"/>
              <a:ext cx="2286000" cy="2743200"/>
            </a:xfrm>
            <a:prstGeom prst="rect">
              <a:avLst/>
            </a:prstGeom>
            <a:solidFill>
              <a:srgbClr val="c9c6b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Rectangle 5"/>
            <p:cNvSpPr/>
            <p:nvPr/>
          </p:nvSpPr>
          <p:spPr>
            <a:xfrm>
              <a:off x="2141640" y="2396160"/>
              <a:ext cx="18360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09" name="Picture 6" descr="http://enciklopedija.info/ru/media/c/c2/socrates.jpg"/>
            <p:cNvPicPr/>
            <p:nvPr/>
          </p:nvPicPr>
          <p:blipFill>
            <a:blip r:embed="rId1"/>
            <a:stretch/>
          </p:blipFill>
          <p:spPr>
            <a:xfrm>
              <a:off x="979560" y="2198880"/>
              <a:ext cx="2148480" cy="261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Rectangle 7"/>
          <p:cNvSpPr/>
          <p:nvPr/>
        </p:nvSpPr>
        <p:spPr>
          <a:xfrm>
            <a:off x="3505320" y="3505320"/>
            <a:ext cx="4952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dd39f"/>
                </a:solidFill>
                <a:latin typeface="Times New Roman"/>
              </a:rPr>
              <a:t>Этот древнегреческий философ хотел помочь людям познать самих себя, для него абсолютная истина была божественна, выше человеческих суждени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760200" y="228600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3200"/>
                </a:solidFill>
                <a:latin typeface="Comic Sans MS"/>
              </a:rPr>
              <a:t>СОКРА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2" name="Picture 9" descr="BD21322_"/>
          <p:cNvPicPr/>
          <p:nvPr/>
        </p:nvPicPr>
        <p:blipFill>
          <a:blip r:embed="rId2"/>
          <a:stretch/>
        </p:blipFill>
        <p:spPr>
          <a:xfrm>
            <a:off x="228600" y="6248520"/>
            <a:ext cx="868680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7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75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7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914400" y="9907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dd39f"/>
                </a:solidFill>
                <a:latin typeface="Times New Roman"/>
              </a:rPr>
              <a:t>Сократа обвинили в том, что он якобы подрывает веру в «богов»,учит молодёжь «испытывать» людей, обнаруживая их невеже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295280" y="2438280"/>
            <a:ext cx="243864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dd39f"/>
                </a:solidFill>
                <a:latin typeface="Times New Roman"/>
              </a:rPr>
              <a:t>Состав судей включал в себя 501 человек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dd39f"/>
                </a:solidFill>
                <a:latin typeface="Times New Roman"/>
              </a:rPr>
              <a:t>Сократу была предоставлена возможность бежать из тюрьмы и уйти в изгнани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dd39f"/>
                </a:solidFill>
                <a:latin typeface="Times New Roman"/>
              </a:rPr>
              <a:t>Друзья готовы были заплатить за него штраф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Picture 11" descr="http://www.tatsud.ru/images/femida.gif"/>
          <p:cNvPicPr/>
          <p:nvPr/>
        </p:nvPicPr>
        <p:blipFill>
          <a:blip r:embed="rId4"/>
          <a:stretch/>
        </p:blipFill>
        <p:spPr>
          <a:xfrm>
            <a:off x="4800600" y="1981080"/>
            <a:ext cx="289548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http://sai.msu.su/cjackson/jdavid/jdavid30.jpg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46483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914400" y="9144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dd39f"/>
                </a:solidFill>
                <a:latin typeface="Times New Roman"/>
              </a:rPr>
              <a:t>Сократ до конца был верен своим принципам и предпочёл смерть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3"/>
          <p:cNvSpPr/>
          <p:nvPr/>
        </p:nvSpPr>
        <p:spPr>
          <a:xfrm>
            <a:off x="3263760" y="2035080"/>
            <a:ext cx="21495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3263760" y="2035080"/>
            <a:ext cx="21495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AutoShape 13"/>
          <p:cNvSpPr/>
          <p:nvPr/>
        </p:nvSpPr>
        <p:spPr>
          <a:xfrm>
            <a:off x="3263760" y="2035080"/>
            <a:ext cx="21495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AutoShape 18"/>
          <p:cNvSpPr/>
          <p:nvPr/>
        </p:nvSpPr>
        <p:spPr>
          <a:xfrm>
            <a:off x="3263760" y="2035080"/>
            <a:ext cx="21495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22" name="Group 56"/>
          <p:cNvGrpSpPr/>
          <p:nvPr/>
        </p:nvGrpSpPr>
        <p:grpSpPr>
          <a:xfrm>
            <a:off x="4267080" y="3733920"/>
            <a:ext cx="1676160" cy="2209680"/>
            <a:chOff x="4267080" y="3733920"/>
            <a:chExt cx="1676160" cy="2209680"/>
          </a:xfrm>
        </p:grpSpPr>
        <p:sp>
          <p:nvSpPr>
            <p:cNvPr id="323" name="Rectangle 55"/>
            <p:cNvSpPr/>
            <p:nvPr/>
          </p:nvSpPr>
          <p:spPr>
            <a:xfrm>
              <a:off x="4267080" y="3733920"/>
              <a:ext cx="1676160" cy="2209680"/>
            </a:xfrm>
            <a:prstGeom prst="rect">
              <a:avLst/>
            </a:prstGeom>
            <a:solidFill>
              <a:srgbClr val="6432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24" name="Picture 22" descr="http://im-tub.yandex.ru/i?id=16704332&amp;tov=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43040" y="3886200"/>
              <a:ext cx="152424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Group 54"/>
          <p:cNvGrpSpPr/>
          <p:nvPr/>
        </p:nvGrpSpPr>
        <p:grpSpPr>
          <a:xfrm>
            <a:off x="1295280" y="2362320"/>
            <a:ext cx="1600200" cy="2133360"/>
            <a:chOff x="1295280" y="2362320"/>
            <a:chExt cx="1600200" cy="2133360"/>
          </a:xfrm>
        </p:grpSpPr>
        <p:sp>
          <p:nvSpPr>
            <p:cNvPr id="326" name="Rectangle 53"/>
            <p:cNvSpPr/>
            <p:nvPr/>
          </p:nvSpPr>
          <p:spPr>
            <a:xfrm>
              <a:off x="1295280" y="2362320"/>
              <a:ext cx="1600200" cy="2133360"/>
            </a:xfrm>
            <a:prstGeom prst="rect">
              <a:avLst/>
            </a:prstGeom>
            <a:solidFill>
              <a:srgbClr val="6432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27" name="Picture 26" descr="http://images.google.ru/images?q=tbn:Fq77afgJq4wJ:www.psychology.ru/whoswho/photos/_Plato.gif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371600" y="2514240"/>
              <a:ext cx="144144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AutoShape 34"/>
          <p:cNvSpPr/>
          <p:nvPr/>
        </p:nvSpPr>
        <p:spPr>
          <a:xfrm>
            <a:off x="2819520" y="2362320"/>
            <a:ext cx="2149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Rectangle 50"/>
          <p:cNvSpPr/>
          <p:nvPr/>
        </p:nvSpPr>
        <p:spPr>
          <a:xfrm>
            <a:off x="838080" y="914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dd39f"/>
                </a:solidFill>
                <a:latin typeface="Times New Roman"/>
              </a:rPr>
              <a:t>Сократ не оставил после себя ни строчки своих текстов. Его беседы записывались его ученикам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Rectangle 51"/>
          <p:cNvSpPr/>
          <p:nvPr/>
        </p:nvSpPr>
        <p:spPr>
          <a:xfrm>
            <a:off x="3298320" y="259092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3200"/>
                </a:solidFill>
                <a:latin typeface="Comic Sans MS"/>
              </a:rPr>
              <a:t>Плато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Rectangle 57"/>
          <p:cNvSpPr/>
          <p:nvPr/>
        </p:nvSpPr>
        <p:spPr>
          <a:xfrm>
            <a:off x="6013440" y="396252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3200"/>
                </a:solidFill>
                <a:latin typeface="Comic Sans MS"/>
              </a:rPr>
              <a:t>Аристотел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2" name="Picture 58" descr="BD21322_"/>
          <p:cNvPicPr/>
          <p:nvPr/>
        </p:nvPicPr>
        <p:blipFill>
          <a:blip r:embed="rId5"/>
          <a:stretch/>
        </p:blipFill>
        <p:spPr>
          <a:xfrm>
            <a:off x="228600" y="6248520"/>
            <a:ext cx="8686800" cy="404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9" descr="http://superroot.narod.ru/gif/office/office9.gif"/>
          <p:cNvPicPr/>
          <p:nvPr/>
        </p:nvPicPr>
        <p:blipFill>
          <a:blip r:embed="rId6"/>
          <a:stretch/>
        </p:blipFill>
        <p:spPr>
          <a:xfrm>
            <a:off x="6553080" y="20574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10"/>
          <p:cNvGrpSpPr/>
          <p:nvPr/>
        </p:nvGrpSpPr>
        <p:grpSpPr>
          <a:xfrm>
            <a:off x="1066680" y="1752480"/>
            <a:ext cx="2362320" cy="3810240"/>
            <a:chOff x="1066680" y="1752480"/>
            <a:chExt cx="2362320" cy="3810240"/>
          </a:xfrm>
        </p:grpSpPr>
        <p:sp>
          <p:nvSpPr>
            <p:cNvPr id="335" name="Rectangle 9"/>
            <p:cNvSpPr/>
            <p:nvPr/>
          </p:nvSpPr>
          <p:spPr>
            <a:xfrm>
              <a:off x="1066680" y="1752480"/>
              <a:ext cx="2362320" cy="3810240"/>
            </a:xfrm>
            <a:prstGeom prst="rect">
              <a:avLst/>
            </a:prstGeom>
            <a:solidFill>
              <a:srgbClr val="643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36" name="Picture 4" descr="http://www.lkidemosfen.ru/img/demosfen.gif"/>
            <p:cNvPicPr/>
            <p:nvPr/>
          </p:nvPicPr>
          <p:blipFill>
            <a:blip r:embed="rId1"/>
            <a:stretch/>
          </p:blipFill>
          <p:spPr>
            <a:xfrm>
              <a:off x="1134000" y="1818000"/>
              <a:ext cx="2226960" cy="367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Rectangle 7"/>
          <p:cNvSpPr/>
          <p:nvPr/>
        </p:nvSpPr>
        <p:spPr>
          <a:xfrm>
            <a:off x="762120" y="9144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dd39f"/>
                </a:solidFill>
                <a:latin typeface="Times New Roman"/>
              </a:rPr>
              <a:t>Замечательным оратором Древней Греции бы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749040" y="175248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43200"/>
                </a:solidFill>
                <a:latin typeface="Comic Sans MS"/>
              </a:rPr>
              <a:t>Демосфе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886200" y="251460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dd39f"/>
                </a:solidFill>
                <a:latin typeface="Times New Roman"/>
              </a:rPr>
              <a:t>Он долго шёл к славе оратора. Упорным трудом он преодолел свои врождённые недостатки и стал блестящим ораторо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0" name="Picture 12" descr="BD21322_"/>
          <p:cNvPicPr/>
          <p:nvPr/>
        </p:nvPicPr>
        <p:blipFill>
          <a:blip r:embed="rId2"/>
          <a:stretch/>
        </p:blipFill>
        <p:spPr>
          <a:xfrm>
            <a:off x="228600" y="6248520"/>
            <a:ext cx="868680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0:38:12Z</dcterms:created>
  <dc:creator>User</dc:creator>
  <dc:description/>
  <dc:language>en-US</dc:language>
  <cp:lastModifiedBy>ZooM</cp:lastModifiedBy>
  <dcterms:modified xsi:type="dcterms:W3CDTF">2013-11-15T19:56:47Z</dcterms:modified>
  <cp:revision>49</cp:revision>
  <dc:subject/>
  <dc:title>Слайд 1</dc:title>
</cp:coreProperties>
</file>