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8.jpeg" ContentType="image/jpeg"/>
  <Override PartName="/ppt/media/image13.jpeg" ContentType="image/jpeg"/>
  <Override PartName="/ppt/media/image2.png" ContentType="image/png"/>
  <Override PartName="/ppt/media/image4.jpeg" ContentType="image/jpe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CC1-0100-4520-A5F2-D48BD5B2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F588-77B3-44CB-9744-32B1033D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DA2-9027-438D-860F-DD44F328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1E97-89E2-46F0-8FA1-77ED89D0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52FE-C90A-433A-8282-E82EC804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AA2D-80E2-457B-A279-DE627C32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348-5D69-4A4B-9CAD-CF3063D0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AE9-DB39-4EAF-A440-9CAF0383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138D-D8F6-4129-B9BE-279841C5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A0B7-A5AB-4549-915E-15164F4E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FAE-A18F-4C7C-8233-AE086A37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83F4-C2EC-4B2A-893E-F6C01898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3de"/>
            </a:gs>
            <a:gs pos="100000">
              <a:srgbClr val="cdcef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5C4E-9750-4C9E-BDBD-0ADA90221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3de"/>
            </a:gs>
            <a:gs pos="100000">
              <a:srgbClr val="cdcef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9280" y="765000"/>
            <a:ext cx="51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00200" y="285768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ктрический ток в вакуум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1989000"/>
            <a:ext cx="49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Презентация по физике на те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56360" y="5373720"/>
            <a:ext cx="26636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Выполнили ученицы 10В клас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рх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ипова 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Асиновская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Рычкова 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3de"/>
            </a:gs>
            <a:gs pos="100000">
              <a:srgbClr val="cdcef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240360" cy="2462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27640" y="3789360"/>
            <a:ext cx="4524120" cy="2809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2781360"/>
            <a:ext cx="302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Вакууммет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1557360"/>
            <a:ext cx="2879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474920"/>
            <a:ext cx="331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При изучении электрических явлений, нам придется уточнить определение 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вакуум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365720"/>
            <a:ext cx="24480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Вакуум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это такое состояние газа в сосуде, при котором молекулы пролетают от одной стенки сосуда к другой, ни разу не испытав соударений друг с друг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3de"/>
            </a:gs>
            <a:gs pos="100000">
              <a:srgbClr val="cdcef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уть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1986120" cy="2303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56360" y="2349360"/>
            <a:ext cx="2482920" cy="3168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12000" y="5589720"/>
            <a:ext cx="29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ПЕРВАЯ ЛАМПА НАКАЛИВАНИЯ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– копия лампы, изобретенной Т. Эдисоном в 1879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4292640"/>
            <a:ext cx="4176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Если два электрода поместить в герметичный сосуд и удалить из сосуда воздух, то электрический ток в вакууме не возникает - нет носителей электрического тока. Американский ученый Т. А. Эдисон (1847-1931) в 1879 г. обнаружил, что в вакуумной стеклянной колбе может возникнуть электрический ток, если один из находящихся в ней электродов нагреть до высокой температуры. Явление испускания свободных электронов с поверхности нагретых тел называется </a:t>
            </a:r>
            <a:r>
              <a:rPr b="0" i="1" lang="en-US" sz="1200" spc="-1" strike="noStrike">
                <a:solidFill>
                  <a:srgbClr val="333399"/>
                </a:solidFill>
                <a:latin typeface="Arial"/>
              </a:rPr>
              <a:t>термоэлектронной эмиссией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3de"/>
            </a:gs>
            <a:gs pos="100000">
              <a:srgbClr val="cdcef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549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Термоэлектронная эми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005360"/>
            <a:ext cx="38894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На рисунке вы видите, что диод похож на обычную лампу накаливания, но, кроме вольфрамовой спирали “К” (катода), он в верхней части содержит еще и дополнительный электрод “А” (анод). Из стеклянной колбы диода воздух откачан до состояния глубокого вакуума. Диод включен последовательно в цепь, состоящую из амперметра и источника тока (на рисунке показаны лишь его клеммы “+” и “–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173400" cy="1575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292720" y="3897360"/>
            <a:ext cx="3397320" cy="2547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03640" y="1700280"/>
            <a:ext cx="3313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Термоэлектронная эмиссия. Ею называют явление испускания электронов нагретыми телами. Для знакомства с этим явлением рассмотрим опыт с особой электронной лампой – вакуумным ди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3de"/>
            </a:gs>
            <a:gs pos="100000">
              <a:srgbClr val="cdcef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112536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156360" y="1125360"/>
          <a:ext cx="274320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12536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79280" y="3213000"/>
            <a:ext cx="23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Графическое обозначение вакуумного д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1557360"/>
            <a:ext cx="1655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3213000"/>
            <a:ext cx="23767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Трехэлектродные ламп – триоды. Триод отличается от диода наличием третьего электрода – управляющей сетки, которая выполнена в виде проволочной спирали, размещенной в пространстве между катодом и анодом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5661000"/>
            <a:ext cx="25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Для уменьшения проходной емкости были созданы четырехэлектродные лампы – тетро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771640" y="3573360"/>
          <a:ext cx="274320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357336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42920" y="260280"/>
            <a:ext cx="72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Диоды, Триоды, Тет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3de"/>
            </a:gs>
            <a:gs pos="100000">
              <a:srgbClr val="cdcef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63640" y="333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риме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052640"/>
            <a:ext cx="842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Электрические токи в вакууме имеют широчайшую область применения. Это все без исключения радиолампы, ускорители заряженных частиц, масс-спектрометры, вакуумные генераторы СВЧ, такие как магнетроны, лампы бегущей волны и т.п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168720" cy="1413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3573360"/>
            <a:ext cx="374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Лампа бегущей вол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940360" y="1844640"/>
            <a:ext cx="2514600" cy="2043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12000" y="4076640"/>
            <a:ext cx="273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Радиоламп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3240000" cy="2125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427640" y="4653000"/>
            <a:ext cx="31687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33399"/>
                </a:solidFill>
                <a:latin typeface="Arial"/>
              </a:rPr>
              <a:t>1 — нить подогревателя катода; 2 — катод; 3 — управляющий электрод; 4 — ускоряющий электрод; 5 — первый анод; 6 — второй анод; 7 — проводящее покрытие (акводаг); 8 — катушки вертикального отклонения луча; 9 — катушки горизонтального отклонения луча; 10 — электронный луч; 11 — экран; 12 — вывод второго анода.</a:t>
            </a: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6308640"/>
            <a:ext cx="3529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Кинеско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3de"/>
            </a:gs>
            <a:gs pos="100000">
              <a:srgbClr val="cdcef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76360" y="3068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8:44:46Z</dcterms:created>
  <dc:creator>Vilka</dc:creator>
  <dc:description/>
  <dc:language>en-US</dc:language>
  <cp:lastModifiedBy>Vilka</cp:lastModifiedBy>
  <dcterms:modified xsi:type="dcterms:W3CDTF">2007-05-28T04:22:58Z</dcterms:modified>
  <cp:revision>4</cp:revision>
  <dc:subject/>
  <dc:title>Слайд 1</dc:title>
</cp:coreProperties>
</file>