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575-7739-4AD4-A2A9-3D002297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93E-CE72-4507-911A-C0D8DCDC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18EDE-4D24-4087-840F-9014D869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533D4-CFDC-4E0C-9CF3-675CE68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B24E4-A578-4A03-B22D-69854FF9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716A5-C5E5-41F1-A8EF-62631B85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AB3B-2B03-4143-A535-B4B8CF73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55BF8-329F-4D2B-8675-7463CB7D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0FCBD-6846-419E-B4CA-6D37D98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006C8-8A0C-4F42-AC67-0544F19A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0D01A-7841-4E79-A558-6C02E785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A72-C725-472F-BD85-C6FC4E12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C2C-A142-45E2-92C3-73F1BB33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B08A-CCE3-4ADB-9CA8-1E3CB9F7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5165-D614-438B-BC47-E5A2E840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5741-097F-4BFB-BDBD-BEF84E93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286C-D697-47A5-8B06-225A59A6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D037-CE48-4DAE-AC73-21C1F254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564F-B442-47D8-A1E4-252B2EDC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0B94-32B2-433F-9666-70E0A07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9B7-C074-49BF-BA13-0AAB4E34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7B1B-CAFE-463A-B118-AA7EBA6A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7407-13AA-4B88-A95E-D85F7A7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D7C-D8D8-4893-85A1-E980ECB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8F8E-BD1E-435F-875B-4284F052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96DF-66A4-41EC-9ECC-B689E7D2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99B9-F8E2-45A9-886C-B4DB8D72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A144-675F-4E2E-A633-CF3C7D85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866A-1EFF-42A6-9874-611F1C0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921A-92C0-46DD-9069-47DE0487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8A3D-34E0-4DCF-9679-69DF9D4F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E3F-FF23-48C4-8F5C-D21D8A62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4D19-1EDD-453C-BD82-29E4FB36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AF9C-85B1-44C4-A1C4-2589D30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4579-F9B3-49D9-8794-FB3864E1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EF3C-3F78-4433-B952-1FA3ECA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AA86-D6FB-4F01-A87A-54233201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0D28-427B-4AA7-9233-CA06C7BE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D5D0-8AA3-4E53-B51C-02C78AA6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1FBB-B9B9-45D8-8A6E-0B92FCF3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F196-D5C4-4AB6-8355-2D132D4E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876E-12FB-4AFC-AC5E-4EAA99A8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453-F78F-4188-8764-2318D693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5346-D17D-4956-B4FE-D69BECB5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8269-02B8-41B7-B07A-0B32C5C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67FE-266A-4F9D-9E11-3ACB1C65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4E9E-52A0-4B1F-905B-0D59DE09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E78E-EE89-4494-B77F-3A63CCB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93F0-E7EE-40F2-8758-7DC41AD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CE6B-505C-4041-9B8D-47A36302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ADEC-0C52-4101-BD99-BF2DB668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24D34-DBAE-4A0B-A7B1-1CEE9CA2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57DC-DA7A-4422-97D9-3A8D753C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EA8-2781-4563-AF76-8CEC156F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11EA-00ED-4065-B0BA-44225588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63A0-E29A-4B1E-B117-01EF9BF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53255-D363-46BC-B442-B569AC54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C101-5BA3-4773-BBDC-9C71974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C89C-902F-4805-A96F-080A6DFB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52D4-DC2A-4E2C-8243-D3089F2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4AE3-F18D-4670-AF67-63277A82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96CD-2EB2-44B4-AA32-A50A65A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E410E-F891-4D7B-B914-605B826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6E148-3D64-4D28-A39E-FEB71905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FBB-8C8A-48DE-B85D-A2C698BF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28FD4-1E6B-4553-8BC2-4A24F849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E684F-CA39-40B7-B35F-77A5C2C8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3A632-443E-4CFC-B1A2-F1E34049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C5C3E-FF3D-4404-9994-6C4822F7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8098-FFE0-4722-AD98-902B3927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9CC5-8FFB-427D-A53D-9D0103BF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F42A-67F5-4EEA-A772-42308521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4D579-2276-4086-81E5-B1E094A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1D63A-1CDD-454A-BF00-8BE1519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DB329-888C-487A-9AE9-123FF4A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9DF-2CF7-449B-AC87-DE02AB50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AA9C0-FE3E-47AA-A70C-F814A58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4F42D-F766-4A9B-9D1E-6A9F8A8E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125C-2F80-4053-ABE8-69E82136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A617-6B82-4C9E-9124-26A637A8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E341E-866A-4F5A-8A2C-0521D48E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B216-5535-4A2D-9317-9943B709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2BCD-7AE2-4407-AF02-FBF4E2B8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64CD0-73F5-4F5C-AA84-10836A51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99D4C-34C1-43BF-B7F8-6FB7465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214FA-3B7B-464C-8DE0-D42F13C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B0B-2DBE-4182-8882-393320E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2614E-4A30-4F12-AE02-A934B76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D448D-39AC-4710-9441-64ED834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56364-89AE-469A-86DD-C787143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9E8B-C5DD-4436-957F-F641F5C7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0DC2-E2EB-4C33-9C0A-429E977C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65088-12EB-449A-B44E-32A68715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6E6B0-3CD5-4B48-B8FE-8D647D9C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51454-4CDF-4F66-9EFB-1B06FD82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96FBB-6737-4C64-9EC7-C379184E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17DA9-9517-4839-8906-01161749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5AD-DF2D-47D0-A7C0-F14FDCC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1CAE4-A44C-4CBF-BEF8-2454FB2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56B9-F171-45A7-BC89-BE351DD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CC45B-4607-4DE1-80F9-F02C6A2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D89DA-EC77-49D2-990F-5D5DF37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4D351-7E8B-4F3B-95F6-3E4BF674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D5A92-E356-431F-8D77-A392AD32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4EF3-3B69-4E6E-887C-15AD9A7C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ABDBE-82C8-4AAD-9CB3-91473DFD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E1BD1-1BC0-4898-890A-5482C954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3F5D0-01EC-4D98-A779-5978652E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5998-AA62-4EF0-B28A-A4CE9754D3A6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DD09-B98A-498D-82B2-E4EED51D10B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03C1-9448-4B0B-A0E5-2C7E41316DE7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F28-FE7D-4D45-8239-5F238BECF29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635-DA53-4FEB-9DA7-56636993103D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B7AD-8E58-4E20-B0CC-4943BBF7683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05F1-950B-4157-919E-77D46A2EA1DE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30C1-E3ED-41DD-AE22-AF534659929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A4E-F477-4AB4-93B0-5D05E0918479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EAC-8E4A-4719-8CE8-7AD098FC281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A3E-BA4E-4FEE-A28B-0CE5B9DF45A5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64C-3771-4A3A-9C54-2F5B68B532C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CEC4-29B4-4B91-97A1-A4D74DDFA41F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823D-0CA9-46F2-9F32-E92F59BF822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3179-5DC9-4F38-BEEC-994E30AE6597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21E2-691A-4827-AE93-00F5F62DB78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A3B0-831D-4327-B420-512C1B5CB65A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FC21-AD6C-4F86-907D-B9A00AA44BF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165240" y="384120"/>
            <a:ext cx="8845560" cy="2766960"/>
          </a:xfrm>
          <a:prstGeom prst="rect">
            <a:avLst/>
          </a:prstGeom>
          <a:ln w="0">
            <a:noFill/>
          </a:ln>
        </p:spPr>
      </p:pic>
      <p:sp>
        <p:nvSpPr>
          <p:cNvPr id="400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9143-634A-4AA3-8B5B-69437F8D8CB1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A8D4-4045-470C-855C-57954673E9F5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04920" y="35676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Прежде чем ругать за неумение, попытайтесь понять причину его затруднений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е сравнивайте ребенка с другими, хвалите его за успехи и достижения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Учитесь вместе с ребенком, объединяйтесь против объективных трудностей, станьте его союзником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2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73D-478E-454D-84EA-4B7A79363D42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BCEC-9399-43B3-913E-790E4F77AB8A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04920" y="500040"/>
            <a:ext cx="8686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Если у Вас трудности в общении с ребенком, если вы не понимаете друг друга, не спешите обвинять его в этом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Мы часто любим в ребенке результаты своих трудов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Помните, что для ребенка что-то не уметь или не знать – это нормальное положение вещей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6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9A6C-9409-4B7D-B34C-7A1086F45A1C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8A37-9167-47CF-875C-C63D3CA482F6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04920" y="642600"/>
            <a:ext cx="8686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Ребенок не должен панически бояться неудач и ошибок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Старайтесь не преподносить детям истину, а научите находить ее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икогда не забывайте, что мы ещё очень мало знаем о том, как ребенок превращается во взрослого человека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0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A83-F375-455B-86E9-5A4CC023C744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6099-D1B2-4D95-A4EA-4F0A65ADD48A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b13f9a"/>
                </a:solidFill>
                <a:latin typeface="Arial"/>
              </a:rPr>
              <a:t>Успехов Вам в воспитании детей!</a:t>
            </a:r>
            <a:endParaRPr b="0" lang="en-US" sz="8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4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487-F166-4253-A50C-CE72745CA028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36DC-633A-489D-B9EB-963C269E53B8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3" descr=""/>
          <p:cNvPicPr/>
          <p:nvPr/>
        </p:nvPicPr>
        <p:blipFill>
          <a:blip r:embed="rId1"/>
          <a:stretch/>
        </p:blipFill>
        <p:spPr>
          <a:xfrm>
            <a:off x="42840" y="450720"/>
            <a:ext cx="9339120" cy="2298960"/>
          </a:xfrm>
          <a:prstGeom prst="rect">
            <a:avLst/>
          </a:prstGeom>
          <a:ln w="0">
            <a:noFill/>
          </a:ln>
        </p:spPr>
      </p:pic>
      <p:sp>
        <p:nvSpPr>
          <p:cNvPr id="404" name="Загнутый угол 2"/>
          <p:cNvSpPr/>
          <p:nvPr/>
        </p:nvSpPr>
        <p:spPr>
          <a:xfrm>
            <a:off x="500040" y="2286000"/>
            <a:ext cx="3571920" cy="192888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ндром дефицита вним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Загнутый угол 4"/>
          <p:cNvSpPr/>
          <p:nvPr/>
        </p:nvSpPr>
        <p:spPr>
          <a:xfrm>
            <a:off x="4429080" y="2286000"/>
            <a:ext cx="4000680" cy="192888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диктивные формы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Загнутый угол 5"/>
          <p:cNvSpPr/>
          <p:nvPr/>
        </p:nvSpPr>
        <p:spPr>
          <a:xfrm>
            <a:off x="500040" y="4500720"/>
            <a:ext cx="3571920" cy="192852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нутый угол 6"/>
          <p:cNvSpPr/>
          <p:nvPr/>
        </p:nvSpPr>
        <p:spPr>
          <a:xfrm>
            <a:off x="4429080" y="4500720"/>
            <a:ext cx="4000680" cy="192852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ременная некомпетент-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Дата 7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DC50-F860-4EB4-8813-ABBFE873390A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8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0ADE-D556-47F8-AF60-6F638134140C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08080" y="176040"/>
            <a:ext cx="8697960" cy="2268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6840" y="2331720"/>
            <a:ext cx="825804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Способность к концентрации внимания отстает от психического развития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Выражена импульсивность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Гиперактивен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3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05CB-2E9B-4A47-893B-06A66954A791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69E8-5587-43B1-93AC-84EB9C64460D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81160" y="115920"/>
            <a:ext cx="8697600" cy="2077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Сниженная переносимость трудностей в повседневной жизн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Скрытый комплекс неполноценности в сочетании с внешне проявляемым превосходством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Уход от ответственности в принятии решения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Агрессия, самоизоляция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9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CF27-671C-43B0-8C38-4E2B1709B079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09E9-321A-489D-BD57-56A206222B96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33200" y="549360"/>
            <a:ext cx="8699760" cy="1876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21420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Активно стремятся изменить не удовлетворяющее им психическое состояние.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внимательность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Отсутствие увлечения, радост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5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A5D0-CC2E-4921-8392-6FB86DD30BEC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8947-793A-4567-A327-30332368AE94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699760" cy="18777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285840" y="1785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способны четко распределить время при выполнении контрольной работы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умение планировать внешкольное время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умение расчитывать силы во время подготовки к экзаменам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адекватная самооценка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Повышенный уровень тревожност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1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E61-CD8F-4874-9DF2-7EEE35C900DD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AF3-FDFD-4E62-8588-1F0EC66AC5B7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-171360" y="450720"/>
            <a:ext cx="9169200" cy="3962520"/>
          </a:xfrm>
          <a:prstGeom prst="rect">
            <a:avLst/>
          </a:prstGeom>
          <a:ln w="0">
            <a:noFill/>
          </a:ln>
        </p:spPr>
      </p:pic>
      <p:sp>
        <p:nvSpPr>
          <p:cNvPr id="436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D65-9D6D-44CD-9F7F-C52258A4BD18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AE86-23B8-4B4C-A2AA-1A5BC52B3F17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408320"/>
          </a:xfrm>
          <a:prstGeom prst="rect">
            <a:avLst/>
          </a:prstGeom>
          <a:ln w="0">
            <a:noFill/>
          </a:ln>
        </p:spPr>
      </p:pic>
      <p:sp>
        <p:nvSpPr>
          <p:cNvPr id="440" name="Рамка 2"/>
          <p:cNvSpPr/>
          <p:nvPr/>
        </p:nvSpPr>
        <p:spPr>
          <a:xfrm>
            <a:off x="285840" y="1428840"/>
            <a:ext cx="3143160" cy="235728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трево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Рамка 3"/>
          <p:cNvSpPr/>
          <p:nvPr/>
        </p:nvSpPr>
        <p:spPr>
          <a:xfrm>
            <a:off x="3786120" y="1428840"/>
            <a:ext cx="5143680" cy="235728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сопротив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мка 4"/>
          <p:cNvSpPr/>
          <p:nvPr/>
        </p:nvSpPr>
        <p:spPr>
          <a:xfrm>
            <a:off x="1857240" y="4000680"/>
            <a:ext cx="4071960" cy="235728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истощ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Дата 5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A3A-F23A-4C47-8A36-D3BEB0807B3F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3D6A-6ED8-4D80-82DD-5A0EC5C31511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ижний колонтитул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-19080" y="487440"/>
            <a:ext cx="9504360" cy="28051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214200" y="2786040"/>
            <a:ext cx="8777520" cy="36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икогда не ругайте ребенка обидными словами за неспособность что-то понять или сделать, глядя на него с высоты своего авторитета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8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D0AE-05B1-40E6-B57D-76C02F482199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28A6-D85B-42ED-9302-95EB38F885CB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6:06:20Z</dcterms:created>
  <dc:creator>УЧЕНИК</dc:creator>
  <dc:description/>
  <dc:language>en-US</dc:language>
  <cp:lastModifiedBy>Братякова</cp:lastModifiedBy>
  <dcterms:modified xsi:type="dcterms:W3CDTF">2011-08-23T19:49:10Z</dcterms:modified>
  <cp:revision>9</cp:revision>
  <dc:subject/>
  <dc:title>Нарушения психического здоровья школьников</dc:title>
</cp:coreProperties>
</file>