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49C-9039-4535-82A3-CA30FC46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920-14CF-4727-AFF6-8986A9D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72EF0-45C9-43E4-B1A6-6218918F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6B268-E02D-477E-8425-65E1100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BE7BF-E360-4EA1-B41B-6B157AA3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A1117-4589-4929-85FA-DAE2D56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54F6A-3790-4347-B2DC-888A221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A4A26-CD96-4F81-8A7B-2F92BBB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23B54-A9E7-43E9-813C-32BA73D1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69957-EEC2-4D4C-A243-FD121E82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C7863-B5DB-4A6B-97BA-405220BB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4B6-9B99-464E-80B7-0CEF384C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B66-57A6-46D6-B256-A463DB98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852A-9F5F-4A6D-900D-1E4B36B1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FE94-F2D6-487A-9CF7-FA4AAE07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1C74-7A44-4757-8210-E72D12AD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647A-5642-4ACD-BA12-F74FB304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207F-12D3-448F-82C2-5E02EDF6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17ED-3570-47F4-A9F8-B6C7726B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282E-A540-4507-95AB-F8B91D9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7E6-E897-4CC0-9A4A-7A9F34BF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E2FA-6E85-4B7E-9A97-2F9DDF72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C2A-B3DA-4A94-9546-AE2963FE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7479-9E9A-4027-BB82-6FA5E59F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D039-6CF9-492D-84BF-FF795F8A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0949-6AD0-4786-A15A-A52F57F7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9110-8B47-4BD0-A8AD-780E606E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6140-F207-4508-A19C-22460F54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C7D4-97D4-4F2E-8147-4E27CF89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CBD1-24AE-4DC3-864F-F03141C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8370-880C-4E5E-8AFD-AD79845F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CC-6F2A-469F-9C99-73BB9503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CEFB-ED87-4FBD-A9F1-9BED5A7F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2B03-F581-4303-80CF-3B02D67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1BD4-0DA8-4DCA-89B6-96F93E1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7114-BF93-4BF4-978E-48E8B88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2EE7-E2FC-41EA-BC4C-BE9538F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DAE0-67B5-4E08-BC1B-6D5DB31E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2B7D-4AF5-482E-9831-62F8B7D2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908C-B7F4-4210-8D6F-5475DBC2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50FA9-654B-49BC-90F3-5967826B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6DD46-203B-4EB1-AFC5-EB158660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FFE-E8CD-457F-968B-C8DED360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75D7-18AB-481C-86A9-246B0A7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31D0-0C08-49B2-AA2C-D8DB2353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6F23-3A9B-414D-877B-F797979E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7E61-61FD-443A-B2FA-EA2FADF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FD40-D4E4-4C7F-B227-AFD4C3C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7BF2-0569-4CB6-A8F7-72F3489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56EB6-38E3-4214-87D3-5D93F9A1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DE39-843F-416E-B3CE-B15CF7BC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291A-4AB6-470C-934B-752FDB7F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06B0-61C5-445F-BA65-CF394A7D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C14-AA42-47F1-AF74-6AE81543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D4353-F91E-4012-827C-AD3676DB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48406-505E-426C-A050-533F2FEE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76D10-8042-4C7F-850F-C853C1D6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EE89-8E3C-4D31-B79F-5CE25E0C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60252-FFB0-496B-B7F5-F4C23239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59B5-7E65-4F48-962C-AEF96DB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AFBFD-6A2C-407D-BC3E-978ED64E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BEA7-FE69-46FB-A8FB-EC59D11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5F6AD-03C7-493B-B1D8-8791D901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4ABB-BA19-4543-B4BB-BBE403E2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ECB-6601-485B-9259-80CBDB9F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35FD-F77A-4EDF-9CA7-F8F536CF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6DBE-3EE5-44A4-B72C-FC75D047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E099-3E4A-431C-B9AA-6B1ECD64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DB3AC-0CF7-4B9A-8855-FF14579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300E-A1C6-427C-B720-9D657267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4AA1-C217-478D-A2EF-90285366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4948-3314-4759-A984-92DB1546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88C97-DAC0-478D-B948-9878483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3DD8-9401-44B7-A641-9310A30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301F-AC50-46A5-8268-D98D3F1F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73B-4109-4B7B-9C45-14AD055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63531-93D1-4694-96C8-8F5BB450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F4FA-A588-414B-BA23-B91486C9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E8689-4143-4A1F-8977-23EB4CE4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3B02-3135-474A-802F-D52F9929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3981E-7D0C-4300-9D00-41D0BB79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F3A4-0E1D-43EB-B9C9-7D95718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8F63D-FC81-49B6-8B61-3ED4DC4E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4EEF-AC03-4D7E-AA78-E7A63DD8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27F6C-2A45-4680-B179-9DFA1692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159B7-5971-45C3-8B43-5CCBCD53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58A-23A5-4F1C-9FEB-5F4D3274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FE4CA-EE07-4DAC-A239-8A2F7EA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FC2A5-BF58-4A76-AA8B-F859106B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FC77-022C-4DC3-BFAD-902B9747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A148D-8BA6-4217-A6BB-90F375C0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7FB22-604C-4690-9A91-DD7D99F8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44819-9B5E-4C12-A70F-46FB94D8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3DD02-51B3-4CB0-A1E4-FAF22E4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A8E4C-5098-4DAA-996F-9E1E34B4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128E-5FE1-4044-BCF3-2550133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AC4B6-7208-4E3D-96CA-84A0253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341-9519-4B71-82A1-A36C076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716E-7049-4CAF-A099-0014CD2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AF59C-BB38-4D68-9DA8-92FC9B0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19E7A-568A-4AD4-9084-75CC59D1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62D6-5DFB-4F19-840B-9930C633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327B4-8480-4AAA-87F2-56CD241B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2040A-FDDE-460A-B546-066AB3BE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BE09-9752-461D-983B-EA580CD5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5E6C7-5516-4096-B447-D3221201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DC71B-27ED-4EAC-8838-5C10F083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8F381-EF0C-4BCE-8C1F-021273BA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5FE5-EAE7-4CE2-8F6E-C790484BEE05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74F-9F33-4FFD-9202-E27E41173F1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B2A-72F1-453C-A91A-2BD387C1A69D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DB18-E448-4172-A57D-CED59E820272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9A89-03FD-4A67-BF29-00B97A5B829E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0AE8-EF09-49CB-B3EF-8E2893950D2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EBD-5C06-4818-BBB3-8053D6A36A17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532-9851-4B6C-8058-3A2E8F8AA72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D174-851E-4D65-9B20-5789BD867C67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2CFD-BC05-4DFC-A902-0591D1719D3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1A4B-5F87-4391-8C66-447A96602742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D20E-7555-4D2F-AD04-40D66DB12A1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D8B7-55F5-4246-854C-64FFC75A0695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74D-463B-434D-AA3E-869FBB454E4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71CD-2CF1-4350-98CB-796BD82FCE9F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0B31-D73F-4BDA-9FAA-9F355525443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03AD-5E7C-4A93-8735-8819D41A4ED3}" type="datetime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EB9F-267C-477A-A733-2111C5B1753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165240" y="384120"/>
            <a:ext cx="8845560" cy="2766960"/>
          </a:xfrm>
          <a:prstGeom prst="rect">
            <a:avLst/>
          </a:prstGeom>
          <a:ln w="0">
            <a:noFill/>
          </a:ln>
        </p:spPr>
      </p:pic>
      <p:sp>
        <p:nvSpPr>
          <p:cNvPr id="400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EA9-3126-4086-989E-616ECF3C1049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A916-F9EB-4B58-A5A4-EA456A97CC1F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04920" y="35676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Прежде чем ругать за неумение, попытайтесь понять причину его затруднений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е сравнивайте ребенка с другими, хвалите его за успехи и достижения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Учитесь вместе с ребенком, объединяйтесь против объективных трудностей, станьте его союзником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2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EFEE-4F9A-4B48-A3D8-9A751C8169C0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21CE-DAC0-4FF6-91C7-ADB9C004710A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04920" y="500040"/>
            <a:ext cx="8686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Если у Вас трудности в общении с ребенком, если вы не понимаете друг друга, не спешите обвинять его в этом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Мы часто любим в ребенке результаты своих трудов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Помните, что для ребенка что-то не уметь или не знать – это нормальное положение вещей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6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066D-F512-4E92-9475-CAC414F45B9B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D1D6-9601-469C-BF60-BB6F691426CA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04920" y="642600"/>
            <a:ext cx="8686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Ребенок не должен панически бояться неудач и ошибок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Старайтесь не преподносить детям истину, а научите находить ее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икогда не забывайте, что мы ещё очень мало знаем о том, как ребенок превращается во взрослого человека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0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7453-3321-4B95-A0DB-B41CBB4BAC43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7FF-8DA6-4AB6-A256-2E1E9F63C8B2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b13f9a"/>
                </a:solidFill>
                <a:latin typeface="Arial"/>
              </a:rPr>
              <a:t>Успехов Вам в воспитании детей!</a:t>
            </a:r>
            <a:endParaRPr b="0" lang="en-US" sz="88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4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54B-8762-4D28-A5DC-2D716E53E9A9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78F5-E75E-43F9-9354-2AF3DFFB13BA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3" descr=""/>
          <p:cNvPicPr/>
          <p:nvPr/>
        </p:nvPicPr>
        <p:blipFill>
          <a:blip r:embed="rId1"/>
          <a:stretch/>
        </p:blipFill>
        <p:spPr>
          <a:xfrm>
            <a:off x="42840" y="450720"/>
            <a:ext cx="9339120" cy="2298960"/>
          </a:xfrm>
          <a:prstGeom prst="rect">
            <a:avLst/>
          </a:prstGeom>
          <a:ln w="0">
            <a:noFill/>
          </a:ln>
        </p:spPr>
      </p:pic>
      <p:sp>
        <p:nvSpPr>
          <p:cNvPr id="404" name="Загнутый угол 2"/>
          <p:cNvSpPr/>
          <p:nvPr/>
        </p:nvSpPr>
        <p:spPr>
          <a:xfrm>
            <a:off x="500040" y="2286000"/>
            <a:ext cx="3571920" cy="192888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ндром дефицита вним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Загнутый угол 4"/>
          <p:cNvSpPr/>
          <p:nvPr/>
        </p:nvSpPr>
        <p:spPr>
          <a:xfrm>
            <a:off x="4429080" y="2286000"/>
            <a:ext cx="4000680" cy="192888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диктивные формы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Загнутый угол 5"/>
          <p:cNvSpPr/>
          <p:nvPr/>
        </p:nvSpPr>
        <p:spPr>
          <a:xfrm>
            <a:off x="500040" y="4500720"/>
            <a:ext cx="3571920" cy="192852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нутый угол 6"/>
          <p:cNvSpPr/>
          <p:nvPr/>
        </p:nvSpPr>
        <p:spPr>
          <a:xfrm>
            <a:off x="4429080" y="4500720"/>
            <a:ext cx="4000680" cy="1928520"/>
          </a:xfrm>
          <a:prstGeom prst="foldedCorner">
            <a:avLst>
              <a:gd name="adj" fmla="val 1666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ременная некомпетент-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Дата 7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13B-C140-4AA1-8B82-202A6FD3C28F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8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4BD-E6ED-44FB-89F7-CA429106FC47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9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08080" y="176040"/>
            <a:ext cx="8697960" cy="2268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6840" y="2331720"/>
            <a:ext cx="825804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Способность к концентрации внимания отстает от психического развития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Выражена импульсивность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Гиперактивен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3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D6C-D37D-4D26-818D-9CB030762C59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C64F-FE41-47B1-A428-F3F833B671AC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81160" y="115920"/>
            <a:ext cx="8697600" cy="2077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Сниженная переносимость трудностей в повседневной жизн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Скрытый комплекс неполноценности в сочетании с внешне проявляемым превосходством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Уход от ответственности в принятии решения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Агрессия, самоизоляция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9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47DD-1318-4E96-AB6A-1D1D3DC4A272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8C86-D402-49A6-9848-49B6409F3772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33200" y="549360"/>
            <a:ext cx="8699760" cy="1876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21420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Активно стремятся изменить не удовлетворяющее им психическое состояние.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внимательность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Отсутствие увлечения, радост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5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0702-89D3-438E-99CD-BBD9F9AE9F6F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A8FB-9EC8-4942-9F6A-5C1E37E721E2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699760" cy="18777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285840" y="1785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способны четко распределить время при выполнении контрольной работы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умение планировать внешкольное время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умение расчитывать силы во время подготовки к экзаменам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Неадекватная самооценка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Arial"/>
              </a:rPr>
              <a:t>Повышенный уровень тревожности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1" name="Стрелка влево 3"/>
          <p:cNvSpPr/>
          <p:nvPr/>
        </p:nvSpPr>
        <p:spPr>
          <a:xfrm>
            <a:off x="8072280" y="6286680"/>
            <a:ext cx="571680" cy="57132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Дата 4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6A70-39FE-4DB0-9CC7-84A7FA3B481F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FD4-67D3-42E1-B16A-FF98F103CD18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ижний колонтитул 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-171360" y="450720"/>
            <a:ext cx="9169200" cy="3962520"/>
          </a:xfrm>
          <a:prstGeom prst="rect">
            <a:avLst/>
          </a:prstGeom>
          <a:ln w="0">
            <a:noFill/>
          </a:ln>
        </p:spPr>
      </p:pic>
      <p:sp>
        <p:nvSpPr>
          <p:cNvPr id="436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0D73-1C01-4660-9304-1F2E13816991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9E51-079A-4699-AD55-3DE99CAA8B4C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408320"/>
          </a:xfrm>
          <a:prstGeom prst="rect">
            <a:avLst/>
          </a:prstGeom>
          <a:ln w="0">
            <a:noFill/>
          </a:ln>
        </p:spPr>
      </p:pic>
      <p:sp>
        <p:nvSpPr>
          <p:cNvPr id="440" name="Рамка 2"/>
          <p:cNvSpPr/>
          <p:nvPr/>
        </p:nvSpPr>
        <p:spPr>
          <a:xfrm>
            <a:off x="285840" y="1428840"/>
            <a:ext cx="3143160" cy="235728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трево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Рамка 3"/>
          <p:cNvSpPr/>
          <p:nvPr/>
        </p:nvSpPr>
        <p:spPr>
          <a:xfrm>
            <a:off x="3786120" y="1428840"/>
            <a:ext cx="5143680" cy="235728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сопротив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мка 4"/>
          <p:cNvSpPr/>
          <p:nvPr/>
        </p:nvSpPr>
        <p:spPr>
          <a:xfrm>
            <a:off x="1857240" y="4000680"/>
            <a:ext cx="4071960" cy="235728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истощ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Дата 5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CED5-4781-460B-B5D6-8E574F02D1BD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762A-CC32-479E-8D0F-ABEEEA14E535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ижний колонтитул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-19080" y="487440"/>
            <a:ext cx="9504360" cy="28051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214200" y="2786040"/>
            <a:ext cx="8777520" cy="36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Никогда не ругайте ребенка обидными словами за неспособность что-то понять или сделать, глядя на него с высоты своего авторитета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8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C9F8-C649-4FC3-A778-50C5E757FA32}" type="datetime">
              <a:rPr b="0" lang="ru-RU" sz="1200" spc="-1" strike="noStrike">
                <a:solidFill>
                  <a:srgbClr val="a2355b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A3F8-6634-4E95-9085-0F91682E2DEB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Arial"/>
              </a:rPr>
              <a:t>Братякова С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6:06:20Z</dcterms:created>
  <dc:creator>УЧЕНИК</dc:creator>
  <dc:description/>
  <dc:language>en-US</dc:language>
  <cp:lastModifiedBy>Братякова</cp:lastModifiedBy>
  <dcterms:modified xsi:type="dcterms:W3CDTF">2011-08-23T19:49:10Z</dcterms:modified>
  <cp:revision>9</cp:revision>
  <dc:subject/>
  <dc:title>Нарушения психического здоровья школьников</dc:title>
</cp:coreProperties>
</file>