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0ED6-35A5-489C-9B72-10438045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13BF-38C8-4AD2-9A57-8BCEAA84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192B-499B-4F75-91EA-C7A55441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60297-48DA-4B0B-B5B0-20D1C62D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E2B83-3105-4CE5-A399-9290D024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32D9C-9668-43E2-81F1-5C0BBBA7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D5196-DC52-4408-9FED-D2A52DC4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67EF6-F994-4886-B2D2-8AB29B20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9B892-8F66-4F32-A5FF-7059C75A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5E7A0-D55E-404A-BEE2-9BF99DF5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FF9A8-E882-4A30-AED0-8F496B2E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E3C2-16AF-4450-86C4-4F018BCD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86CE5-7173-4157-A0C0-DFEFE307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7B74E-B7E8-4378-A8EA-C4B89212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7D65E-1E6E-4ED4-ACCC-F705DA08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57576-56BD-4568-B1A8-AFFE214F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0EB96-5276-4832-8278-FECD5846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6D46-EB49-4E34-AA71-C800CDD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8E36-637C-4C96-AE5B-F2EAA3F3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B136-E449-40A3-9234-04E99A18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259F-D727-4401-849F-2913FC30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B3632-D8E6-4B40-8D98-83D8AC92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113D-7834-4DAE-9CCB-FEA0DED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83D08-9717-40D0-987D-86D0916D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020D-317C-44D2-A0F8-FCCF276AAA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071E-8568-4F0E-AC3D-2CE7665384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4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62012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Классификация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химических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реакций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4038480"/>
            <a:ext cx="4648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Маланина Елена Алекс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МОУ Большевяземская гимназ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.п. Большие Вязем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динцовский райо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осковская обл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2392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Получение аллотропных модификаций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2480" y="58669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фи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                C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ма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646360" cy="3809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48320" y="6095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647960" y="63244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924680" y="57913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7038" y="7493"/>
                </a:moveTo>
                <a:lnTo>
                  <a:pt x="10546" y="7493"/>
                </a:lnTo>
                <a:lnTo>
                  <a:pt x="10546" y="12828"/>
                </a:lnTo>
                <a:cubicBezTo>
                  <a:pt x="10546" y="13751"/>
                  <a:pt x="11346" y="14482"/>
                  <a:pt x="12382" y="14482"/>
                </a:cubicBezTo>
                <a:lnTo>
                  <a:pt x="14045" y="14482"/>
                </a:lnTo>
                <a:cubicBezTo>
                  <a:pt x="15080" y="14482"/>
                  <a:pt x="15881" y="13751"/>
                  <a:pt x="15881" y="12828"/>
                </a:cubicBezTo>
                <a:lnTo>
                  <a:pt x="15881" y="7493"/>
                </a:lnTo>
                <a:lnTo>
                  <a:pt x="14045" y="7493"/>
                </a:lnTo>
                <a:lnTo>
                  <a:pt x="17552" y="3985"/>
                </a:lnTo>
                <a:lnTo>
                  <a:pt x="21225" y="7493"/>
                </a:lnTo>
                <a:lnTo>
                  <a:pt x="19389" y="7493"/>
                </a:lnTo>
                <a:lnTo>
                  <a:pt x="19389" y="12828"/>
                </a:lnTo>
                <a:cubicBezTo>
                  <a:pt x="19389" y="15596"/>
                  <a:pt x="16812" y="18155"/>
                  <a:pt x="14045" y="18155"/>
                </a:cubicBezTo>
                <a:lnTo>
                  <a:pt x="12382" y="18155"/>
                </a:lnTo>
                <a:cubicBezTo>
                  <a:pt x="9614" y="18155"/>
                  <a:pt x="7038" y="15596"/>
                  <a:pt x="7038" y="12828"/>
                </a:cubicBez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1658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С изменением состава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еди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м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810240" cy="3117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Реакции соединения –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 двух и более веществ образуется одно более сложное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4114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+ C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  +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  +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662940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7493"/>
                </a:moveTo>
                <a:lnTo>
                  <a:pt x="11229" y="7493"/>
                </a:lnTo>
                <a:lnTo>
                  <a:pt x="11229" y="12828"/>
                </a:lnTo>
                <a:cubicBezTo>
                  <a:pt x="11229" y="13751"/>
                  <a:pt x="12030" y="14482"/>
                  <a:pt x="13065" y="14482"/>
                </a:cubicBezTo>
                <a:lnTo>
                  <a:pt x="14728" y="14482"/>
                </a:lnTo>
                <a:cubicBezTo>
                  <a:pt x="15763" y="14482"/>
                  <a:pt x="16564" y="13751"/>
                  <a:pt x="16564" y="12828"/>
                </a:cubicBezTo>
                <a:lnTo>
                  <a:pt x="16564" y="7493"/>
                </a:lnTo>
                <a:lnTo>
                  <a:pt x="14728" y="7493"/>
                </a:lnTo>
                <a:lnTo>
                  <a:pt x="18235" y="3985"/>
                </a:lnTo>
                <a:lnTo>
                  <a:pt x="21908" y="7493"/>
                </a:lnTo>
                <a:lnTo>
                  <a:pt x="20072" y="7493"/>
                </a:lnTo>
                <a:lnTo>
                  <a:pt x="20072" y="12828"/>
                </a:lnTo>
                <a:cubicBezTo>
                  <a:pt x="20072" y="15596"/>
                  <a:pt x="17495" y="18155"/>
                  <a:pt x="14728" y="18155"/>
                </a:cubicBezTo>
                <a:lnTo>
                  <a:pt x="13065" y="18155"/>
                </a:lnTo>
                <a:cubicBezTo>
                  <a:pt x="10298" y="18155"/>
                  <a:pt x="7721" y="15596"/>
                  <a:pt x="7721" y="12828"/>
                </a:cubicBez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52680" y="19051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39625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19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Реакции разложения –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 одного вещества образуется два и более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gO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g  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еши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(O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662940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8698" y="7493"/>
                </a:moveTo>
                <a:lnTo>
                  <a:pt x="12205" y="7493"/>
                </a:lnTo>
                <a:lnTo>
                  <a:pt x="12205" y="12828"/>
                </a:lnTo>
                <a:cubicBezTo>
                  <a:pt x="12205" y="13751"/>
                  <a:pt x="13006" y="14482"/>
                  <a:pt x="14042" y="14482"/>
                </a:cubicBezTo>
                <a:lnTo>
                  <a:pt x="15704" y="14482"/>
                </a:lnTo>
                <a:cubicBezTo>
                  <a:pt x="16740" y="14482"/>
                  <a:pt x="17541" y="13751"/>
                  <a:pt x="17541" y="12828"/>
                </a:cubicBezTo>
                <a:lnTo>
                  <a:pt x="17541" y="7493"/>
                </a:lnTo>
                <a:lnTo>
                  <a:pt x="15704" y="7493"/>
                </a:lnTo>
                <a:lnTo>
                  <a:pt x="19212" y="3985"/>
                </a:lnTo>
                <a:lnTo>
                  <a:pt x="22885" y="7493"/>
                </a:lnTo>
                <a:lnTo>
                  <a:pt x="21048" y="7493"/>
                </a:lnTo>
                <a:lnTo>
                  <a:pt x="21048" y="12828"/>
                </a:lnTo>
                <a:cubicBezTo>
                  <a:pt x="21048" y="15596"/>
                  <a:pt x="18472" y="18155"/>
                  <a:pt x="15704" y="18155"/>
                </a:cubicBezTo>
                <a:lnTo>
                  <a:pt x="14042" y="18155"/>
                </a:lnTo>
                <a:cubicBezTo>
                  <a:pt x="11274" y="18155"/>
                  <a:pt x="8698" y="15596"/>
                  <a:pt x="8698" y="12828"/>
                </a:cubicBez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66880" y="2362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3352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57150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Реакции замещения –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томы простого вещества замещают атомы в сложном веществе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 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           MgC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n + Cu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Zn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 + 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 + 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6934320" y="563868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4690" y="7493"/>
                </a:moveTo>
                <a:lnTo>
                  <a:pt x="8198" y="7493"/>
                </a:lnTo>
                <a:lnTo>
                  <a:pt x="8198" y="12828"/>
                </a:lnTo>
                <a:cubicBezTo>
                  <a:pt x="8198" y="13751"/>
                  <a:pt x="8999" y="14482"/>
                  <a:pt x="10034" y="14482"/>
                </a:cubicBezTo>
                <a:lnTo>
                  <a:pt x="11697" y="14482"/>
                </a:lnTo>
                <a:cubicBezTo>
                  <a:pt x="12733" y="14482"/>
                  <a:pt x="13533" y="13751"/>
                  <a:pt x="13533" y="12828"/>
                </a:cubicBezTo>
                <a:lnTo>
                  <a:pt x="13533" y="7493"/>
                </a:lnTo>
                <a:lnTo>
                  <a:pt x="11697" y="7493"/>
                </a:lnTo>
                <a:lnTo>
                  <a:pt x="15204" y="3985"/>
                </a:lnTo>
                <a:lnTo>
                  <a:pt x="18877" y="7493"/>
                </a:lnTo>
                <a:lnTo>
                  <a:pt x="17041" y="7493"/>
                </a:lnTo>
                <a:lnTo>
                  <a:pt x="17041" y="12828"/>
                </a:lnTo>
                <a:cubicBezTo>
                  <a:pt x="17041" y="15596"/>
                  <a:pt x="14465" y="18155"/>
                  <a:pt x="11697" y="18155"/>
                </a:cubicBezTo>
                <a:lnTo>
                  <a:pt x="10034" y="18155"/>
                </a:lnTo>
                <a:cubicBezTo>
                  <a:pt x="7267" y="18155"/>
                  <a:pt x="4690" y="15596"/>
                  <a:pt x="4690" y="12828"/>
                </a:cubicBez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2057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3048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5410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Реакции обмена –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ещества обмениваются своими составными частями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Ca(O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Ca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+ 2HCl         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 + 2K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OH + H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Na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еши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H +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C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59436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2666880" cy="2182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52880" y="18288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21337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14800" y="2743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3048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4038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4952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867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01352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4876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      0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+4  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+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   –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становитель              процесс окис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- 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2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ислитель             процесс восстано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еши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477120" y="1981080"/>
            <a:ext cx="2361960" cy="1886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895480" y="5867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419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2514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7238880" y="57913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3526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477120" y="1981080"/>
            <a:ext cx="2361960" cy="1886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01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Реакции протекающие без изменения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степени окисления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5333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    -2          +    -2                       +   -2  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        2Li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2   +4  -2                      +2  -2        +4   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CaO + 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(O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828800" cy="2597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505320" y="2895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3962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6858000" y="56386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34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5791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Экзотермические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- 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 протекающие с выделением теплоты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P + 5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2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2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2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95480" y="4114800"/>
            <a:ext cx="2514600" cy="2190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238880" y="58672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2133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32004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02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Эндотермические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 протекающие с поглощением теплоты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790640"/>
            <a:ext cx="411480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2N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–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2HI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– Q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57150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89280" cy="2649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971800" y="2133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266400"/>
            <a:ext cx="73915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Химические реакции - это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790280"/>
            <a:ext cx="4343400" cy="400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ы,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ультате которых 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и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ую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угие, отличающие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них по составу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62760" y="1828800"/>
            <a:ext cx="27734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Гомогенные –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 в которых исходные вещества и продукты реакции находятся в одном агрегатном состоянии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4648320" cy="19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+ 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HF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 +  S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FeS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2920" y="58672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7833" y="10800"/>
                </a:moveTo>
                <a:lnTo>
                  <a:pt x="21846" y="3794"/>
                </a:lnTo>
                <a:lnTo>
                  <a:pt x="2184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3124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0" y="3886200"/>
            <a:ext cx="195120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Гетерогенные -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 в которых исходные вещества и продукты реакции находятся в разных агрегатных состояниях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ж)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(O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-р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57913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790640" cy="3124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1190520" cy="1752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495680" y="20574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Каталитические –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, идущие с участием катализатора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396252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n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2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+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7150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3504960" cy="2803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819520" y="3657600"/>
            <a:ext cx="350496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Некаталитические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, идущие без участия катализатора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920" y="1790280"/>
            <a:ext cx="4572000" cy="12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7150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505320" cy="2631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00400" y="2590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Обратимые –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 в данных условиях протекают одновременно в двух направлениях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790280"/>
            <a:ext cx="5105520" cy="25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2N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57150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2971800" cy="2583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276720" y="2590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3657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Необратимые –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акции в данных условиях протекают только в одном направлении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120" y="1676160"/>
            <a:ext cx="67057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BaC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Ba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Na+2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      2NaOH+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1520" y="58672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6482" y="10800"/>
                </a:moveTo>
                <a:lnTo>
                  <a:pt x="20495" y="3794"/>
                </a:lnTo>
                <a:lnTo>
                  <a:pt x="2049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81080" y="4191120"/>
            <a:ext cx="3048120" cy="2493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2670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33920" y="3429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400800" y="3276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937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оставим характеристику процесса  синтеза аммиака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0              Fe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3  +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N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 Q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Реакц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ислительно-восстановите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зотермиче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тим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т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тероген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520640" cy="1266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419720" y="2362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572000" y="2666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1520640" cy="126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1520640" cy="1266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Вывод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ассификация химических реакций услов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ые договорились разделить реакции на определенные типы по выделенным призна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ьшинство реакций можно отнести к разным тип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556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Классификация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1625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По числу и составу реагирующих веще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  <a:hlinkClick r:id="rId2" action="ppaction://hlinksldjump"/>
              </a:rPr>
              <a:t>По изменению степени окисления химических элементов, образующих 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  <a:hlinkClick r:id="rId3" action="ppaction://hlinksldjump"/>
              </a:rPr>
              <a:t>По тепловому эффек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  <a:hlinkClick r:id="rId4" action="ppaction://hlinksldjump"/>
              </a:rPr>
              <a:t>По агрегатному состоянию реагирующих веще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  <a:hlinkClick r:id="rId5" action="ppaction://hlinksldjump"/>
              </a:rPr>
              <a:t>По участию катализа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  <a:hlinkClick r:id="rId6" action="ppaction://hlinksldjump"/>
              </a:rPr>
              <a:t>По направл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5638680"/>
            <a:ext cx="1067040" cy="609840"/>
          </a:xfrm>
          <a:custGeom>
            <a:avLst/>
            <a:gdLst>
              <a:gd name="textAreaLeft" fmla="*/ 39240 w 1067040"/>
              <a:gd name="textAreaRight" fmla="*/ 1027800 w 1067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7784" h="21600">
                <a:moveTo>
                  <a:pt x="0" y="0"/>
                </a:moveTo>
                <a:lnTo>
                  <a:pt x="37784" y="0"/>
                </a:lnTo>
                <a:lnTo>
                  <a:pt x="37784" y="21600"/>
                </a:lnTo>
                <a:lnTo>
                  <a:pt x="0" y="21600"/>
                </a:lnTo>
                <a:close/>
              </a:path>
              <a:path fill="lightenLess" w="37784" h="21600">
                <a:moveTo>
                  <a:pt x="0" y="0"/>
                </a:moveTo>
                <a:lnTo>
                  <a:pt x="37784" y="0"/>
                </a:lnTo>
                <a:lnTo>
                  <a:pt x="36384" y="1400"/>
                </a:lnTo>
                <a:lnTo>
                  <a:pt x="1400" y="1400"/>
                </a:lnTo>
                <a:close/>
              </a:path>
              <a:path fill="darken" w="37784" h="21600">
                <a:moveTo>
                  <a:pt x="37784" y="0"/>
                </a:moveTo>
                <a:lnTo>
                  <a:pt x="37784" y="21600"/>
                </a:lnTo>
                <a:lnTo>
                  <a:pt x="36384" y="20200"/>
                </a:lnTo>
                <a:lnTo>
                  <a:pt x="36384" y="1400"/>
                </a:lnTo>
                <a:close/>
              </a:path>
              <a:path fill="darkenLess" w="37784" h="21600">
                <a:moveTo>
                  <a:pt x="3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84" y="20200"/>
                </a:lnTo>
                <a:close/>
              </a:path>
              <a:path fill="lighten" w="3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84" h="21600">
                <a:moveTo>
                  <a:pt x="11886" y="3794"/>
                </a:moveTo>
                <a:lnTo>
                  <a:pt x="25899" y="10800"/>
                </a:lnTo>
                <a:lnTo>
                  <a:pt x="1188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266400"/>
            <a:ext cx="71629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По числу и составу реагирующих веществ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3809880" cy="40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Реакции, идущие без изменения состава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акции, идущие с изменением состава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553080" y="2057400"/>
            <a:ext cx="220680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7315200" y="61722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По изменению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степени окисления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418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Окислительно-восстановитель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акции, идущие без изменения степеней окисления химических эле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248520" y="1981080"/>
            <a:ext cx="252720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0010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266400"/>
            <a:ext cx="70866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По тепловому эффекту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449568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Экзотерм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2" action="ppaction://hlinksldjump"/>
              </a:rPr>
              <a:t>Эндотерм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69080" y="1676520"/>
            <a:ext cx="2200320" cy="29718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07732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120" y="266400"/>
            <a:ext cx="71629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По агрегатному состоянию реагирующих веществ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Гомог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2" action="ppaction://hlinksldjump"/>
              </a:rPr>
              <a:t>Гетерог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184720" y="1952640"/>
            <a:ext cx="3510000" cy="38131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0010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266400"/>
            <a:ext cx="71629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По участию катализатора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Катали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2" action="ppaction://hlinksldjump"/>
              </a:rPr>
              <a:t>Некатали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497400" cy="373356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296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0099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708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По направлению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ратим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  <a:hlinkClick r:id="rId1" action="ppaction://hlinksldjump"/>
              </a:rPr>
              <a:t>Обратим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038840" cy="33033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07732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5:54:01Z</dcterms:created>
  <dc:creator>Елена</dc:creator>
  <dc:description/>
  <dc:language>en-US</dc:language>
  <cp:lastModifiedBy>Елена</cp:lastModifiedBy>
  <dcterms:modified xsi:type="dcterms:W3CDTF">2011-01-29T04:30:51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