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23.wmf" ContentType="image/x-wmf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7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55F4A-1E8E-4048-8E64-5DF62C196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B7899-F591-4459-A8B5-2519B3FB7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B150E-CFE3-4489-9CEA-176D9EAEA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843BC-0C2D-4A27-9A75-466837244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E9B67E-871F-4589-8E17-3654D1234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B40DC1-61ED-49DC-90DB-644EB61E4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E76051-C0D4-46D8-B63F-6E4840F4B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AFEA97-6306-4901-A563-C9F3441B5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010121-C8B1-4831-B992-E8902686C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ABDD22-E671-4081-8428-42D50B5A6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14C2CE-C6CF-43FB-9DE0-20FD0B34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7EFD4-191E-42D8-B35F-75C55B8A6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AA81B5-4A35-4DF6-9620-BE24C4FE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2BB62D-2119-4458-B30C-18A9FE82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E93F06-1BA8-43AB-A10A-B5F642C50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4DEDAB-769D-4AC7-9ABB-13684A08C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AFB021-5E89-4213-A6E7-FFA01D087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1D17E-29AF-49F9-B362-E6FB8820B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D21F5-EAD5-45AA-A191-5400C954D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8904C-E424-41EC-90AB-D0C4E52B6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464BB-0ED2-476A-A2EE-7BF735656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6C13F-FA00-4965-B6D9-29A8F2AD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2B40B-C594-4BD0-99C8-6BA72312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3A539-28C9-4581-ABFC-537B19E3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000099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4468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620640" y="1447920"/>
            <a:ext cx="8523360" cy="75960"/>
            <a:chOff x="620640" y="1447920"/>
            <a:chExt cx="8523360" cy="75960"/>
          </a:xfrm>
        </p:grpSpPr>
        <p:sp>
          <p:nvSpPr>
            <p:cNvPr id="2" name=""/>
            <p:cNvSpPr/>
            <p:nvPr/>
          </p:nvSpPr>
          <p:spPr>
            <a:xfrm>
              <a:off x="620640" y="1523880"/>
              <a:ext cx="8523360" cy="0"/>
            </a:xfrm>
            <a:prstGeom prst="line">
              <a:avLst/>
            </a:prstGeom>
            <a:ln cap="sq" w="255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20640" y="1447920"/>
              <a:ext cx="8523360" cy="0"/>
            </a:xfrm>
            <a:prstGeom prst="line">
              <a:avLst/>
            </a:prstGeom>
            <a:ln cap="sq" w="7632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07201-A0CA-456D-BA42-D8AFA9AED40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000099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604800" y="3619440"/>
              <a:ext cx="8523360" cy="76320"/>
              <a:chOff x="604800" y="3619440"/>
              <a:chExt cx="8523360" cy="76320"/>
            </a:xfrm>
          </p:grpSpPr>
          <p:sp>
            <p:nvSpPr>
              <p:cNvPr id="48" name=""/>
              <p:cNvSpPr/>
              <p:nvPr/>
            </p:nvSpPr>
            <p:spPr>
              <a:xfrm>
                <a:off x="604800" y="3695760"/>
                <a:ext cx="8523360" cy="0"/>
              </a:xfrm>
              <a:prstGeom prst="line">
                <a:avLst/>
              </a:prstGeom>
              <a:ln cap="sq" w="255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04800" y="3619440"/>
                <a:ext cx="8523360" cy="0"/>
              </a:xfrm>
              <a:prstGeom prst="line">
                <a:avLst/>
              </a:prstGeom>
              <a:ln cap="sq" w="7632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609480" y="1523880"/>
              <a:ext cx="8533080" cy="6098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3366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4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5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48D5B-8A31-4987-90A0-67F3CAA8085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dt" idx="6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96040" algn="ctr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343880" algn="ctr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792080" algn="ctr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5.xm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5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2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3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9.xml"/><Relationship Id="rId3" Type="http://schemas.openxmlformats.org/officeDocument/2006/relationships/image" Target="../media/image4.jpeg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1.xml"/><Relationship Id="rId3" Type="http://schemas.openxmlformats.org/officeDocument/2006/relationships/image" Target="../media/image5.jpeg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3.xml"/><Relationship Id="rId3" Type="http://schemas.openxmlformats.org/officeDocument/2006/relationships/image" Target="../media/image6.jpeg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image" Target="../media/image7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000099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7620120" cy="228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Классификация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химических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реакций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523880" y="4038480"/>
            <a:ext cx="464832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Маланина Елена Алексее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Учитель хим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МОУ Большевяземская гимназия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.п. Большие Вяземы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динцовский район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осковская обла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000099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23924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Получение аллотропных модификаций</a:t>
            </a:r>
            <a:endParaRPr b="0" lang="en-US" sz="32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52480" y="586692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 (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рафи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                C (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лмаз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733920" y="1828800"/>
            <a:ext cx="2646360" cy="3809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648320" y="60958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647960" y="632448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" action="ppaction://hlinkshowjump?jump=previousslide"/>
          </p:cNvPr>
          <p:cNvSpPr/>
          <p:nvPr/>
        </p:nvSpPr>
        <p:spPr>
          <a:xfrm>
            <a:off x="7924680" y="5791320"/>
            <a:ext cx="990720" cy="761760"/>
          </a:xfrm>
          <a:custGeom>
            <a:avLst/>
            <a:gdLst>
              <a:gd name="textAreaLeft" fmla="*/ 49320 w 990720"/>
              <a:gd name="textAreaRight" fmla="*/ 941400 w 9907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8089" h="21600">
                <a:moveTo>
                  <a:pt x="0" y="0"/>
                </a:moveTo>
                <a:lnTo>
                  <a:pt x="28089" y="0"/>
                </a:lnTo>
                <a:lnTo>
                  <a:pt x="28089" y="21600"/>
                </a:lnTo>
                <a:lnTo>
                  <a:pt x="0" y="21600"/>
                </a:lnTo>
                <a:close/>
              </a:path>
              <a:path fill="lightenLess" w="28089" h="21600">
                <a:moveTo>
                  <a:pt x="0" y="0"/>
                </a:moveTo>
                <a:lnTo>
                  <a:pt x="28089" y="0"/>
                </a:lnTo>
                <a:lnTo>
                  <a:pt x="26689" y="1400"/>
                </a:lnTo>
                <a:lnTo>
                  <a:pt x="1400" y="1400"/>
                </a:lnTo>
                <a:close/>
              </a:path>
              <a:path fill="darken" w="28089" h="21600">
                <a:moveTo>
                  <a:pt x="28089" y="0"/>
                </a:moveTo>
                <a:lnTo>
                  <a:pt x="28089" y="21600"/>
                </a:lnTo>
                <a:lnTo>
                  <a:pt x="26689" y="20200"/>
                </a:lnTo>
                <a:lnTo>
                  <a:pt x="26689" y="1400"/>
                </a:lnTo>
                <a:close/>
              </a:path>
              <a:path fill="darkenLess" w="28089" h="21600">
                <a:moveTo>
                  <a:pt x="28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89" y="20200"/>
                </a:lnTo>
                <a:close/>
              </a:path>
              <a:path fill="lighten" w="28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89" h="21600">
                <a:moveTo>
                  <a:pt x="7038" y="7493"/>
                </a:moveTo>
                <a:lnTo>
                  <a:pt x="10546" y="7493"/>
                </a:lnTo>
                <a:lnTo>
                  <a:pt x="10546" y="12828"/>
                </a:lnTo>
                <a:cubicBezTo>
                  <a:pt x="10546" y="13751"/>
                  <a:pt x="11346" y="14482"/>
                  <a:pt x="12382" y="14482"/>
                </a:cubicBezTo>
                <a:lnTo>
                  <a:pt x="14045" y="14482"/>
                </a:lnTo>
                <a:cubicBezTo>
                  <a:pt x="15080" y="14482"/>
                  <a:pt x="15881" y="13751"/>
                  <a:pt x="15881" y="12828"/>
                </a:cubicBezTo>
                <a:lnTo>
                  <a:pt x="15881" y="7493"/>
                </a:lnTo>
                <a:lnTo>
                  <a:pt x="14045" y="7493"/>
                </a:lnTo>
                <a:lnTo>
                  <a:pt x="17552" y="3985"/>
                </a:lnTo>
                <a:lnTo>
                  <a:pt x="21225" y="7493"/>
                </a:lnTo>
                <a:lnTo>
                  <a:pt x="19389" y="7493"/>
                </a:lnTo>
                <a:lnTo>
                  <a:pt x="19389" y="12828"/>
                </a:lnTo>
                <a:cubicBezTo>
                  <a:pt x="19389" y="15596"/>
                  <a:pt x="16812" y="18155"/>
                  <a:pt x="14045" y="18155"/>
                </a:cubicBezTo>
                <a:lnTo>
                  <a:pt x="12382" y="18155"/>
                </a:lnTo>
                <a:cubicBezTo>
                  <a:pt x="9614" y="18155"/>
                  <a:pt x="7038" y="15596"/>
                  <a:pt x="7038" y="12828"/>
                </a:cubicBez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000099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71658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С изменением состава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2640" y="1790280"/>
            <a:ext cx="38098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един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злож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мещ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ме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267080" y="1828800"/>
            <a:ext cx="3810240" cy="31179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8305920" y="60958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000099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Реакции соединения – </a:t>
            </a:r>
            <a:br>
              <a:rPr sz="40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из двух и более веществ образуется одно более сложное</a:t>
            </a:r>
            <a:endParaRPr b="0" lang="en-US" sz="28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880" y="1600200"/>
            <a:ext cx="41148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 + C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C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Решит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  + 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   + 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B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>
            <a:hlinkClick r:id="" action="ppaction://hlinkshowjump?jump=previousslide"/>
          </p:cNvPr>
          <p:cNvSpPr/>
          <p:nvPr/>
        </p:nvSpPr>
        <p:spPr>
          <a:xfrm>
            <a:off x="6629400" y="5562720"/>
            <a:ext cx="1143000" cy="838080"/>
          </a:xfrm>
          <a:custGeom>
            <a:avLst/>
            <a:gdLst>
              <a:gd name="textAreaLeft" fmla="*/ 54000 w 1143000"/>
              <a:gd name="textAreaRight" fmla="*/ 1089000 w 11430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9455" h="21600">
                <a:moveTo>
                  <a:pt x="0" y="0"/>
                </a:moveTo>
                <a:lnTo>
                  <a:pt x="29455" y="0"/>
                </a:lnTo>
                <a:lnTo>
                  <a:pt x="29455" y="21600"/>
                </a:lnTo>
                <a:lnTo>
                  <a:pt x="0" y="21600"/>
                </a:lnTo>
                <a:close/>
              </a:path>
              <a:path fill="lightenLess" w="29455" h="21600">
                <a:moveTo>
                  <a:pt x="0" y="0"/>
                </a:moveTo>
                <a:lnTo>
                  <a:pt x="29455" y="0"/>
                </a:lnTo>
                <a:lnTo>
                  <a:pt x="28055" y="1400"/>
                </a:lnTo>
                <a:lnTo>
                  <a:pt x="1400" y="1400"/>
                </a:lnTo>
                <a:close/>
              </a:path>
              <a:path fill="darken" w="29455" h="21600">
                <a:moveTo>
                  <a:pt x="29455" y="0"/>
                </a:moveTo>
                <a:lnTo>
                  <a:pt x="29455" y="21600"/>
                </a:lnTo>
                <a:lnTo>
                  <a:pt x="28055" y="20200"/>
                </a:lnTo>
                <a:lnTo>
                  <a:pt x="28055" y="1400"/>
                </a:lnTo>
                <a:close/>
              </a:path>
              <a:path fill="darkenLess" w="29455" h="21600">
                <a:moveTo>
                  <a:pt x="29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55" y="20200"/>
                </a:lnTo>
                <a:close/>
              </a:path>
              <a:path fill="lighten" w="29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55" h="21600">
                <a:moveTo>
                  <a:pt x="7721" y="7493"/>
                </a:moveTo>
                <a:lnTo>
                  <a:pt x="11229" y="7493"/>
                </a:lnTo>
                <a:lnTo>
                  <a:pt x="11229" y="12828"/>
                </a:lnTo>
                <a:cubicBezTo>
                  <a:pt x="11229" y="13751"/>
                  <a:pt x="12030" y="14482"/>
                  <a:pt x="13065" y="14482"/>
                </a:cubicBezTo>
                <a:lnTo>
                  <a:pt x="14728" y="14482"/>
                </a:lnTo>
                <a:cubicBezTo>
                  <a:pt x="15763" y="14482"/>
                  <a:pt x="16564" y="13751"/>
                  <a:pt x="16564" y="12828"/>
                </a:cubicBezTo>
                <a:lnTo>
                  <a:pt x="16564" y="7493"/>
                </a:lnTo>
                <a:lnTo>
                  <a:pt x="14728" y="7493"/>
                </a:lnTo>
                <a:lnTo>
                  <a:pt x="18235" y="3985"/>
                </a:lnTo>
                <a:lnTo>
                  <a:pt x="21908" y="7493"/>
                </a:lnTo>
                <a:lnTo>
                  <a:pt x="20072" y="7493"/>
                </a:lnTo>
                <a:lnTo>
                  <a:pt x="20072" y="12828"/>
                </a:lnTo>
                <a:cubicBezTo>
                  <a:pt x="20072" y="15596"/>
                  <a:pt x="17495" y="18155"/>
                  <a:pt x="14728" y="18155"/>
                </a:cubicBezTo>
                <a:lnTo>
                  <a:pt x="13065" y="18155"/>
                </a:lnTo>
                <a:cubicBezTo>
                  <a:pt x="10298" y="18155"/>
                  <a:pt x="7721" y="15596"/>
                  <a:pt x="7721" y="12828"/>
                </a:cubicBez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581280" cy="26859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352680" y="190512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52680" y="236232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00400" y="39625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441972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00400" y="495288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000099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46784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Реакции разложения – </a:t>
            </a:r>
            <a:br>
              <a:rPr sz="40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из одного вещества образуется два и более</a:t>
            </a:r>
            <a:endParaRPr b="0" lang="en-US" sz="28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99840" y="1676520"/>
            <a:ext cx="4343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gO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g   + 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N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N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Решить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(OH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gC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>
            <a:hlinkClick r:id="" action="ppaction://hlinkshowjump?jump=previousslide"/>
          </p:cNvPr>
          <p:cNvSpPr/>
          <p:nvPr/>
        </p:nvSpPr>
        <p:spPr>
          <a:xfrm>
            <a:off x="6629400" y="56386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408" h="21600">
                <a:moveTo>
                  <a:pt x="8698" y="7493"/>
                </a:moveTo>
                <a:lnTo>
                  <a:pt x="12205" y="7493"/>
                </a:lnTo>
                <a:lnTo>
                  <a:pt x="12205" y="12828"/>
                </a:lnTo>
                <a:cubicBezTo>
                  <a:pt x="12205" y="13751"/>
                  <a:pt x="13006" y="14482"/>
                  <a:pt x="14042" y="14482"/>
                </a:cubicBezTo>
                <a:lnTo>
                  <a:pt x="15704" y="14482"/>
                </a:lnTo>
                <a:cubicBezTo>
                  <a:pt x="16740" y="14482"/>
                  <a:pt x="17541" y="13751"/>
                  <a:pt x="17541" y="12828"/>
                </a:cubicBezTo>
                <a:lnTo>
                  <a:pt x="17541" y="7493"/>
                </a:lnTo>
                <a:lnTo>
                  <a:pt x="15704" y="7493"/>
                </a:lnTo>
                <a:lnTo>
                  <a:pt x="19212" y="3985"/>
                </a:lnTo>
                <a:lnTo>
                  <a:pt x="22885" y="7493"/>
                </a:lnTo>
                <a:lnTo>
                  <a:pt x="21048" y="7493"/>
                </a:lnTo>
                <a:lnTo>
                  <a:pt x="21048" y="12828"/>
                </a:lnTo>
                <a:cubicBezTo>
                  <a:pt x="21048" y="15596"/>
                  <a:pt x="18472" y="18155"/>
                  <a:pt x="15704" y="18155"/>
                </a:cubicBezTo>
                <a:lnTo>
                  <a:pt x="14042" y="18155"/>
                </a:lnTo>
                <a:cubicBezTo>
                  <a:pt x="11274" y="18155"/>
                  <a:pt x="8698" y="15596"/>
                  <a:pt x="8698" y="12828"/>
                </a:cubicBez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324480" y="1905120"/>
            <a:ext cx="2590920" cy="1942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666880" y="23623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19520" y="33526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48120" y="571500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4800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000099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266400"/>
            <a:ext cx="77724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Реакции замещения –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атомы простого вещества замещают атомы в сложном веществе</a:t>
            </a:r>
            <a:endParaRPr b="0" lang="en-US" sz="28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g +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Cl           MgC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n + CuS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ZnS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+ C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Решит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n + 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O + 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>
            <a:hlinkClick r:id="" action="ppaction://hlinkshowjump?jump=previousslide"/>
          </p:cNvPr>
          <p:cNvSpPr/>
          <p:nvPr/>
        </p:nvSpPr>
        <p:spPr>
          <a:xfrm>
            <a:off x="6934320" y="5638680"/>
            <a:ext cx="990360" cy="914400"/>
          </a:xfrm>
          <a:custGeom>
            <a:avLst/>
            <a:gdLst>
              <a:gd name="textAreaLeft" fmla="*/ 59040 w 990360"/>
              <a:gd name="textAreaRight" fmla="*/ 931320 w 9903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394" h="21600">
                <a:moveTo>
                  <a:pt x="0" y="0"/>
                </a:moveTo>
                <a:lnTo>
                  <a:pt x="23394" y="0"/>
                </a:lnTo>
                <a:lnTo>
                  <a:pt x="23394" y="21600"/>
                </a:lnTo>
                <a:lnTo>
                  <a:pt x="0" y="21600"/>
                </a:lnTo>
                <a:close/>
              </a:path>
              <a:path fill="lightenLess" w="23394" h="21600">
                <a:moveTo>
                  <a:pt x="0" y="0"/>
                </a:moveTo>
                <a:lnTo>
                  <a:pt x="23394" y="0"/>
                </a:lnTo>
                <a:lnTo>
                  <a:pt x="21994" y="1400"/>
                </a:lnTo>
                <a:lnTo>
                  <a:pt x="1400" y="1400"/>
                </a:lnTo>
                <a:close/>
              </a:path>
              <a:path fill="darken" w="23394" h="21600">
                <a:moveTo>
                  <a:pt x="23394" y="0"/>
                </a:moveTo>
                <a:lnTo>
                  <a:pt x="23394" y="21600"/>
                </a:lnTo>
                <a:lnTo>
                  <a:pt x="21994" y="20200"/>
                </a:lnTo>
                <a:lnTo>
                  <a:pt x="21994" y="1400"/>
                </a:lnTo>
                <a:close/>
              </a:path>
              <a:path fill="darkenLess" w="23394" h="21600">
                <a:moveTo>
                  <a:pt x="23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94" y="20200"/>
                </a:lnTo>
                <a:close/>
              </a:path>
              <a:path fill="lighten" w="23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94" h="21600">
                <a:moveTo>
                  <a:pt x="4690" y="7493"/>
                </a:moveTo>
                <a:lnTo>
                  <a:pt x="8198" y="7493"/>
                </a:lnTo>
                <a:lnTo>
                  <a:pt x="8198" y="12828"/>
                </a:lnTo>
                <a:cubicBezTo>
                  <a:pt x="8198" y="13751"/>
                  <a:pt x="8999" y="14482"/>
                  <a:pt x="10034" y="14482"/>
                </a:cubicBezTo>
                <a:lnTo>
                  <a:pt x="11697" y="14482"/>
                </a:lnTo>
                <a:cubicBezTo>
                  <a:pt x="12733" y="14482"/>
                  <a:pt x="13533" y="13751"/>
                  <a:pt x="13533" y="12828"/>
                </a:cubicBezTo>
                <a:lnTo>
                  <a:pt x="13533" y="7493"/>
                </a:lnTo>
                <a:lnTo>
                  <a:pt x="11697" y="7493"/>
                </a:lnTo>
                <a:lnTo>
                  <a:pt x="15204" y="3985"/>
                </a:lnTo>
                <a:lnTo>
                  <a:pt x="18877" y="7493"/>
                </a:lnTo>
                <a:lnTo>
                  <a:pt x="17041" y="7493"/>
                </a:lnTo>
                <a:lnTo>
                  <a:pt x="17041" y="12828"/>
                </a:lnTo>
                <a:cubicBezTo>
                  <a:pt x="17041" y="15596"/>
                  <a:pt x="14465" y="18155"/>
                  <a:pt x="11697" y="18155"/>
                </a:cubicBezTo>
                <a:lnTo>
                  <a:pt x="10034" y="18155"/>
                </a:lnTo>
                <a:cubicBezTo>
                  <a:pt x="7267" y="18155"/>
                  <a:pt x="4690" y="15596"/>
                  <a:pt x="4690" y="12828"/>
                </a:cubicBez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352680" y="20574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30481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57600" y="45720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429000" y="54100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248520" y="3429000"/>
            <a:ext cx="243828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000099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Реакции обмена –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вещества обмениваются своими составными частями</a:t>
            </a:r>
            <a:endParaRPr b="0" lang="en-US" sz="28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5638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Ca(OH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CaC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 + 2HCl         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  + 2KC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OH + HN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NaN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Решить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H + HC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N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+ HC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gC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+ 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10280" y="594360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172200" y="3048120"/>
            <a:ext cx="2666880" cy="21826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952880" y="18288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48120" y="21337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4114800" y="27432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30481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48120" y="40384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666880" y="49528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971800" y="54100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76720" y="58672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000099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01352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Окислительно-восстановительные реакции</a:t>
            </a:r>
            <a:endParaRPr b="0" lang="en-US" sz="32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447920" y="1676520"/>
            <a:ext cx="48765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       0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+4  -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 + 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C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+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    –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           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сстановитель              процесс окисле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- 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+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2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кислитель             процесс восстанов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Решить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g + 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477120" y="1981080"/>
            <a:ext cx="2361960" cy="18860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895480" y="586728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76720" y="441972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048120" y="25146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>
            <a:hlinkClick r:id="rId2" action="ppaction://hlinksldjump"/>
          </p:cNvPr>
          <p:cNvSpPr/>
          <p:nvPr/>
        </p:nvSpPr>
        <p:spPr>
          <a:xfrm>
            <a:off x="7238880" y="579132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76720" y="33526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6477120" y="1981080"/>
            <a:ext cx="2361960" cy="18860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000099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80010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Реакции протекающие без изменения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степени окисления</a:t>
            </a:r>
            <a:endParaRPr b="0" lang="en-US" sz="32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53337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    -2          +    -2                       +   -2  +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 +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          2LiO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2   +4  -2                      +2  -2        +4   -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CaO + C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Решит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 +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(OH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7010280" y="2743200"/>
            <a:ext cx="1828800" cy="25970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505320" y="28954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895480" y="39625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>
            <a:hlinkClick r:id="rId2" action="ppaction://hlinksldjump"/>
          </p:cNvPr>
          <p:cNvSpPr/>
          <p:nvPr/>
        </p:nvSpPr>
        <p:spPr>
          <a:xfrm>
            <a:off x="6858000" y="563868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7392" y="10800"/>
                </a:moveTo>
                <a:lnTo>
                  <a:pt x="21405" y="3794"/>
                </a:lnTo>
                <a:lnTo>
                  <a:pt x="21405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581280" y="533412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124080" y="579132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000099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Экзотермические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- </a:t>
            </a:r>
            <a:br>
              <a:rPr sz="36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реакции протекающие с выделением теплоты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99840" y="1904760"/>
            <a:ext cx="670572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P + 5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2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+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2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C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2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Q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895480" y="4114800"/>
            <a:ext cx="2514600" cy="21906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7238880" y="586728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7392" y="10800"/>
                </a:moveTo>
                <a:lnTo>
                  <a:pt x="21405" y="3794"/>
                </a:lnTo>
                <a:lnTo>
                  <a:pt x="21405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352680" y="213372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320040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000099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266400"/>
            <a:ext cx="7772400" cy="102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Эндотермические</a:t>
            </a:r>
            <a:r>
              <a:rPr b="0" lang="en-US" sz="4000" spc="-1" strike="noStrike">
                <a:solidFill>
                  <a:srgbClr val="ffcc66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–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реакции протекающие с поглощением теплоты</a:t>
            </a:r>
            <a:endParaRPr b="0" lang="en-US" sz="28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23880" y="1790640"/>
            <a:ext cx="4114800" cy="179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+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2NO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–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+ 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2HI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– Q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571500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5791320" y="2895480"/>
            <a:ext cx="2789280" cy="26496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971800" y="213372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971800" y="30481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000099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266400"/>
            <a:ext cx="739152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Химические реакции - это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3520" y="1790280"/>
            <a:ext cx="4343400" cy="400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цессы, 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зультате которых и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дних вещест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разуют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ругие, отличающие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 них по составу 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роени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062760" y="1828800"/>
            <a:ext cx="2773440" cy="38862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000099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Гомогенные –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реакции в которых исходные вещества и продукты реакции находятся в одном агрегатном состоянии</a:t>
            </a:r>
            <a:endParaRPr b="0" lang="en-US" sz="28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23880" y="1828800"/>
            <a:ext cx="4648320" cy="194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+ 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HF(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(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 +  S(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FeS (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162920" y="5867280"/>
            <a:ext cx="838080" cy="60984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9679" h="21600">
                <a:moveTo>
                  <a:pt x="0" y="0"/>
                </a:moveTo>
                <a:lnTo>
                  <a:pt x="29679" y="0"/>
                </a:lnTo>
                <a:lnTo>
                  <a:pt x="29679" y="21600"/>
                </a:lnTo>
                <a:lnTo>
                  <a:pt x="0" y="21600"/>
                </a:lnTo>
                <a:close/>
              </a:path>
              <a:path fill="lightenLess" w="29679" h="21600">
                <a:moveTo>
                  <a:pt x="0" y="0"/>
                </a:moveTo>
                <a:lnTo>
                  <a:pt x="29679" y="0"/>
                </a:lnTo>
                <a:lnTo>
                  <a:pt x="28279" y="1400"/>
                </a:lnTo>
                <a:lnTo>
                  <a:pt x="1400" y="1400"/>
                </a:lnTo>
                <a:close/>
              </a:path>
              <a:path fill="darken" w="29679" h="21600">
                <a:moveTo>
                  <a:pt x="29679" y="0"/>
                </a:moveTo>
                <a:lnTo>
                  <a:pt x="29679" y="21600"/>
                </a:lnTo>
                <a:lnTo>
                  <a:pt x="28279" y="20200"/>
                </a:lnTo>
                <a:lnTo>
                  <a:pt x="28279" y="1400"/>
                </a:lnTo>
                <a:close/>
              </a:path>
              <a:path fill="darkenLess" w="29679" h="21600">
                <a:moveTo>
                  <a:pt x="29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9" y="20200"/>
                </a:lnTo>
                <a:close/>
              </a:path>
              <a:path fill="lighten" w="29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79" h="21600">
                <a:moveTo>
                  <a:pt x="7833" y="10800"/>
                </a:moveTo>
                <a:lnTo>
                  <a:pt x="21846" y="3794"/>
                </a:lnTo>
                <a:lnTo>
                  <a:pt x="21846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86200" y="21337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31240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0" y="3886200"/>
            <a:ext cx="1951200" cy="11034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000099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Гетерогенные -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реакции в которых исходные вещества и продукты реакции находятся в разных агрегатных состояниях</a:t>
            </a:r>
            <a:endParaRPr b="0" lang="en-US" sz="28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904760" y="182844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+ 2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ж)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(OH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р-р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+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г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010280" y="5791320"/>
            <a:ext cx="838440" cy="609480"/>
          </a:xfrm>
          <a:custGeom>
            <a:avLst/>
            <a:gdLst>
              <a:gd name="textAreaLeft" fmla="*/ 39240 w 838440"/>
              <a:gd name="textAreaRight" fmla="*/ 799200 w 838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8" y="10800"/>
                </a:moveTo>
                <a:lnTo>
                  <a:pt x="21861" y="3794"/>
                </a:lnTo>
                <a:lnTo>
                  <a:pt x="21861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733920" y="2971800"/>
            <a:ext cx="1790640" cy="31240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3048120" y="4495680"/>
            <a:ext cx="1190520" cy="17528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4495680" y="205740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000099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Каталитические – </a:t>
            </a:r>
            <a:br>
              <a:rPr sz="40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реакции, идущие с участием катализатора</a:t>
            </a:r>
            <a:endParaRPr b="0" lang="en-US" sz="28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123720" y="1752120"/>
            <a:ext cx="3962520" cy="133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nO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2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 +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238880" y="571500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14" h="21600">
                <a:moveTo>
                  <a:pt x="5950" y="10800"/>
                </a:moveTo>
                <a:lnTo>
                  <a:pt x="19963" y="3794"/>
                </a:lnTo>
                <a:lnTo>
                  <a:pt x="19963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34340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819520" y="3657600"/>
            <a:ext cx="3504960" cy="28036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2819520" y="3657600"/>
            <a:ext cx="3504960" cy="28036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000099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Некаталитические</a:t>
            </a:r>
            <a:r>
              <a:rPr b="0" lang="en-US" sz="4000" spc="-1" strike="noStrike">
                <a:solidFill>
                  <a:srgbClr val="ffcc66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–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реакции, идущие без участия катализатора</a:t>
            </a:r>
            <a:endParaRPr b="0" lang="en-US" sz="28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447920" y="1790280"/>
            <a:ext cx="4572000" cy="125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C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086600" y="571500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14" h="21600">
                <a:moveTo>
                  <a:pt x="5950" y="10800"/>
                </a:moveTo>
                <a:lnTo>
                  <a:pt x="19963" y="3794"/>
                </a:lnTo>
                <a:lnTo>
                  <a:pt x="19963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209680" y="3200400"/>
            <a:ext cx="3505320" cy="26319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200400" y="259092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000099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Обратимые – </a:t>
            </a:r>
            <a:br>
              <a:rPr sz="40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реакции в данных условиях протекают одновременно в двух направлениях</a:t>
            </a:r>
            <a:endParaRPr b="0" lang="en-US" sz="28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523880" y="1790280"/>
            <a:ext cx="5105520" cy="255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+ 3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2N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010280" y="57150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7392" y="10800"/>
                </a:moveTo>
                <a:lnTo>
                  <a:pt x="21405" y="3794"/>
                </a:lnTo>
                <a:lnTo>
                  <a:pt x="21405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867280" y="2514600"/>
            <a:ext cx="2971800" cy="25830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3276720" y="25909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76720" y="36576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000099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Необратимые – </a:t>
            </a:r>
            <a:br>
              <a:rPr sz="40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реакции в данных условиях протекают только в одном направлении</a:t>
            </a:r>
            <a:endParaRPr b="0" lang="en-US" sz="28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752120" y="1676160"/>
            <a:ext cx="67057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BaC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BaS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HC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Na+2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        2NaOH+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391520" y="5867280"/>
            <a:ext cx="761760" cy="609840"/>
          </a:xfrm>
          <a:custGeom>
            <a:avLst/>
            <a:gdLst>
              <a:gd name="textAreaLeft" fmla="*/ 39240 w 761760"/>
              <a:gd name="textAreaRight" fmla="*/ 722520 w 76176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78" h="21600">
                <a:moveTo>
                  <a:pt x="0" y="0"/>
                </a:moveTo>
                <a:lnTo>
                  <a:pt x="26978" y="0"/>
                </a:lnTo>
                <a:lnTo>
                  <a:pt x="26978" y="21600"/>
                </a:lnTo>
                <a:lnTo>
                  <a:pt x="0" y="21600"/>
                </a:lnTo>
                <a:close/>
              </a:path>
              <a:path fill="lightenLess" w="26978" h="21600">
                <a:moveTo>
                  <a:pt x="0" y="0"/>
                </a:moveTo>
                <a:lnTo>
                  <a:pt x="26978" y="0"/>
                </a:lnTo>
                <a:lnTo>
                  <a:pt x="25578" y="1400"/>
                </a:lnTo>
                <a:lnTo>
                  <a:pt x="1400" y="1400"/>
                </a:lnTo>
                <a:close/>
              </a:path>
              <a:path fill="darken" w="26978" h="21600">
                <a:moveTo>
                  <a:pt x="26978" y="0"/>
                </a:moveTo>
                <a:lnTo>
                  <a:pt x="26978" y="21600"/>
                </a:lnTo>
                <a:lnTo>
                  <a:pt x="25578" y="20200"/>
                </a:lnTo>
                <a:lnTo>
                  <a:pt x="25578" y="1400"/>
                </a:lnTo>
                <a:close/>
              </a:path>
              <a:path fill="darkenLess" w="26978" h="21600">
                <a:moveTo>
                  <a:pt x="269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8" y="20200"/>
                </a:lnTo>
                <a:close/>
              </a:path>
              <a:path fill="lighten" w="269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8" h="21600">
                <a:moveTo>
                  <a:pt x="6482" y="10800"/>
                </a:moveTo>
                <a:lnTo>
                  <a:pt x="20495" y="3794"/>
                </a:lnTo>
                <a:lnTo>
                  <a:pt x="20495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981080" y="4191120"/>
            <a:ext cx="3048120" cy="24937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4267080" y="236232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733920" y="342900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6400800" y="32767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400800" y="22096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000099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69375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Составим характеристику процесса  синтеза аммиака</a:t>
            </a:r>
            <a:endParaRPr b="0" lang="en-US" sz="36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0              Fe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– 3  +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     N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+ Q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Реакц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еди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кислительно-восстановитель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кзотермическа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ратим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талитическ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етерогенна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6934320" y="5105520"/>
            <a:ext cx="1520640" cy="126684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4419720" y="236232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4572000" y="266688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6934320" y="5105520"/>
            <a:ext cx="1520640" cy="12668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6934320" y="5105520"/>
            <a:ext cx="1520640" cy="1266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000099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Вывод: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лассификация химических реакций услов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ченые договорились разделить реакции на определенные типы по выделенным признака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ольшинство реакций можно отнести к разным типа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000099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28800" y="228600"/>
            <a:ext cx="6556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Классификация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76520" y="1676520"/>
            <a:ext cx="716256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8f8f8"/>
                </a:solidFill>
                <a:uFillTx/>
                <a:latin typeface="Arial"/>
                <a:hlinkClick r:id="rId1" action="ppaction://hlinksldjump"/>
              </a:rPr>
              <a:t>По числу и составу реагирующих вещест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8f8f8"/>
                </a:solidFill>
                <a:uFillTx/>
                <a:latin typeface="Arial"/>
                <a:hlinkClick r:id="rId2" action="ppaction://hlinksldjump"/>
              </a:rPr>
              <a:t>По изменению степени окисления химических элементов, образующих веще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8f8f8"/>
                </a:solidFill>
                <a:uFillTx/>
                <a:latin typeface="Arial"/>
                <a:hlinkClick r:id="rId3" action="ppaction://hlinksldjump"/>
              </a:rPr>
              <a:t>По тепловому эффект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8f8f8"/>
                </a:solidFill>
                <a:uFillTx/>
                <a:latin typeface="Arial"/>
                <a:hlinkClick r:id="rId4" action="ppaction://hlinksldjump"/>
              </a:rPr>
              <a:t>По агрегатному состоянию реагирующих вещест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8f8f8"/>
                </a:solidFill>
                <a:uFillTx/>
                <a:latin typeface="Arial"/>
                <a:hlinkClick r:id="rId5" action="ppaction://hlinksldjump"/>
              </a:rPr>
              <a:t>По участию катализато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8f8f8"/>
                </a:solidFill>
                <a:uFillTx/>
                <a:latin typeface="Arial"/>
                <a:hlinkClick r:id="rId6" action="ppaction://hlinksldjump"/>
              </a:rPr>
              <a:t>По направлени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467480" y="5638680"/>
            <a:ext cx="1067040" cy="609840"/>
          </a:xfrm>
          <a:custGeom>
            <a:avLst/>
            <a:gdLst>
              <a:gd name="textAreaLeft" fmla="*/ 39240 w 1067040"/>
              <a:gd name="textAreaRight" fmla="*/ 1027800 w 10670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37784" h="21600">
                <a:moveTo>
                  <a:pt x="0" y="0"/>
                </a:moveTo>
                <a:lnTo>
                  <a:pt x="37784" y="0"/>
                </a:lnTo>
                <a:lnTo>
                  <a:pt x="37784" y="21600"/>
                </a:lnTo>
                <a:lnTo>
                  <a:pt x="0" y="21600"/>
                </a:lnTo>
                <a:close/>
              </a:path>
              <a:path fill="lightenLess" w="37784" h="21600">
                <a:moveTo>
                  <a:pt x="0" y="0"/>
                </a:moveTo>
                <a:lnTo>
                  <a:pt x="37784" y="0"/>
                </a:lnTo>
                <a:lnTo>
                  <a:pt x="36384" y="1400"/>
                </a:lnTo>
                <a:lnTo>
                  <a:pt x="1400" y="1400"/>
                </a:lnTo>
                <a:close/>
              </a:path>
              <a:path fill="darken" w="37784" h="21600">
                <a:moveTo>
                  <a:pt x="37784" y="0"/>
                </a:moveTo>
                <a:lnTo>
                  <a:pt x="37784" y="21600"/>
                </a:lnTo>
                <a:lnTo>
                  <a:pt x="36384" y="20200"/>
                </a:lnTo>
                <a:lnTo>
                  <a:pt x="36384" y="1400"/>
                </a:lnTo>
                <a:close/>
              </a:path>
              <a:path fill="darkenLess" w="37784" h="21600">
                <a:moveTo>
                  <a:pt x="37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84" y="20200"/>
                </a:lnTo>
                <a:close/>
              </a:path>
              <a:path fill="lighten" w="37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84" h="21600">
                <a:moveTo>
                  <a:pt x="11886" y="3794"/>
                </a:moveTo>
                <a:lnTo>
                  <a:pt x="25899" y="10800"/>
                </a:lnTo>
                <a:lnTo>
                  <a:pt x="11886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000099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52120" y="266400"/>
            <a:ext cx="716292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По числу и составу реагирующих веществ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3809880" cy="405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8f8f8"/>
                </a:solidFill>
                <a:uFillTx/>
                <a:latin typeface="Arial"/>
                <a:hlinkClick r:id="rId1" action="ppaction://hlinksldjump"/>
              </a:rPr>
              <a:t>Реакции, идущие без изменения состава вещест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еакции, идущие с изменением состава веще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553080" y="2057400"/>
            <a:ext cx="2206800" cy="3581280"/>
          </a:xfrm>
          <a:prstGeom prst="rect">
            <a:avLst/>
          </a:prstGeom>
          <a:ln w="0">
            <a:noFill/>
          </a:ln>
        </p:spPr>
      </p:pic>
      <p:sp>
        <p:nvSpPr>
          <p:cNvPr id="103" name="">
            <a:hlinkClick r:id="rId3" action="ppaction://hlinksldjump"/>
          </p:cNvPr>
          <p:cNvSpPr/>
          <p:nvPr/>
        </p:nvSpPr>
        <p:spPr>
          <a:xfrm>
            <a:off x="7315200" y="617220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10800"/>
                </a:moveTo>
                <a:lnTo>
                  <a:pt x="26797" y="3794"/>
                </a:lnTo>
                <a:lnTo>
                  <a:pt x="26797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000099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Garamond"/>
              </a:rPr>
              <a:t>По изменению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Garamond"/>
              </a:rPr>
              <a:t>степени окисления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99840" y="1676520"/>
            <a:ext cx="418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8f8f8"/>
                </a:solidFill>
                <a:uFillTx/>
                <a:latin typeface="Arial"/>
                <a:hlinkClick r:id="rId1" action="ppaction://hlinksldjump"/>
              </a:rPr>
              <a:t>Окислительно-восстановитель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еакции, идущие без изменения степеней окисления химических элемен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248520" y="1981080"/>
            <a:ext cx="2527200" cy="3733920"/>
          </a:xfrm>
          <a:prstGeom prst="rect">
            <a:avLst/>
          </a:prstGeom>
          <a:ln w="0">
            <a:noFill/>
          </a:ln>
        </p:spPr>
      </p:pic>
      <p:sp>
        <p:nvSpPr>
          <p:cNvPr id="107" name="">
            <a:hlinkClick r:id="rId3" action="ppaction://hlinksldjump"/>
          </p:cNvPr>
          <p:cNvSpPr/>
          <p:nvPr/>
        </p:nvSpPr>
        <p:spPr>
          <a:xfrm>
            <a:off x="8001000" y="61722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000099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28440" y="266400"/>
            <a:ext cx="70866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По тепловому эффекту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00200" y="1980720"/>
            <a:ext cx="449568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8f8f8"/>
                </a:solidFill>
                <a:uFillTx/>
                <a:latin typeface="Arial"/>
                <a:hlinkClick r:id="rId1" action="ppaction://hlinksldjump"/>
              </a:rPr>
              <a:t>Экзотермиче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8f8f8"/>
                </a:solidFill>
                <a:uFillTx/>
                <a:latin typeface="Arial"/>
                <a:hlinkClick r:id="rId2" action="ppaction://hlinksldjump"/>
              </a:rPr>
              <a:t>Эндотермиче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6769080" y="1676520"/>
            <a:ext cx="2200320" cy="2971800"/>
          </a:xfrm>
          <a:prstGeom prst="rect">
            <a:avLst/>
          </a:prstGeom>
          <a:ln w="0">
            <a:noFill/>
          </a:ln>
        </p:spPr>
      </p:pic>
      <p:sp>
        <p:nvSpPr>
          <p:cNvPr id="111" name="">
            <a:hlinkClick r:id="rId4" action="ppaction://hlinksldjump"/>
          </p:cNvPr>
          <p:cNvSpPr/>
          <p:nvPr/>
        </p:nvSpPr>
        <p:spPr>
          <a:xfrm>
            <a:off x="807732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000099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52120" y="266400"/>
            <a:ext cx="716292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По агрегатному состоянию реагирующих веществ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2640" y="1790280"/>
            <a:ext cx="38098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8f8f8"/>
                </a:solidFill>
                <a:uFillTx/>
                <a:latin typeface="Arial"/>
                <a:hlinkClick r:id="rId1" action="ppaction://hlinksldjump"/>
              </a:rPr>
              <a:t>Гомоген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8f8f8"/>
                </a:solidFill>
                <a:uFillTx/>
                <a:latin typeface="Arial"/>
                <a:hlinkClick r:id="rId2" action="ppaction://hlinksldjump"/>
              </a:rPr>
              <a:t>Гетероген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184720" y="1952640"/>
            <a:ext cx="3510000" cy="381312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4" action="ppaction://hlinksldjump"/>
          </p:cNvPr>
          <p:cNvSpPr/>
          <p:nvPr/>
        </p:nvSpPr>
        <p:spPr>
          <a:xfrm>
            <a:off x="800100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000099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52120" y="266400"/>
            <a:ext cx="716292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По участию катализатора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2640" y="1790280"/>
            <a:ext cx="38098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8f8f8"/>
                </a:solidFill>
                <a:uFillTx/>
                <a:latin typeface="Arial"/>
                <a:hlinkClick r:id="rId1" action="ppaction://hlinksldjump"/>
              </a:rPr>
              <a:t>Каталитиче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8f8f8"/>
                </a:solidFill>
                <a:uFillTx/>
                <a:latin typeface="Arial"/>
                <a:hlinkClick r:id="rId2" action="ppaction://hlinksldjump"/>
              </a:rPr>
              <a:t>Некаталитиче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181480" y="1676520"/>
            <a:ext cx="3497400" cy="3733560"/>
          </a:xfrm>
          <a:prstGeom prst="rect">
            <a:avLst/>
          </a:prstGeom>
          <a:ln w="0">
            <a:noFill/>
          </a:ln>
        </p:spPr>
      </p:pic>
      <p:sp>
        <p:nvSpPr>
          <p:cNvPr id="119" name="">
            <a:hlinkClick r:id="rId4" action="ppaction://hlinksldjump"/>
          </p:cNvPr>
          <p:cNvSpPr/>
          <p:nvPr/>
        </p:nvSpPr>
        <p:spPr>
          <a:xfrm>
            <a:off x="8229600" y="6019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10800"/>
                </a:moveTo>
                <a:lnTo>
                  <a:pt x="19158" y="3794"/>
                </a:lnTo>
                <a:lnTo>
                  <a:pt x="19158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000099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67089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По направлению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42640" y="1790280"/>
            <a:ext cx="38098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обратим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8f8f8"/>
                </a:solidFill>
                <a:uFillTx/>
                <a:latin typeface="Arial"/>
                <a:hlinkClick r:id="rId1" action="ppaction://hlinksldjump"/>
              </a:rPr>
              <a:t>Обратимы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495680" y="2133720"/>
            <a:ext cx="4038840" cy="3303360"/>
          </a:xfrm>
          <a:prstGeom prst="rect">
            <a:avLst/>
          </a:prstGeom>
          <a:ln w="0">
            <a:noFill/>
          </a:ln>
        </p:spPr>
      </p:pic>
      <p:sp>
        <p:nvSpPr>
          <p:cNvPr id="123" name="">
            <a:hlinkClick r:id="rId3" action="ppaction://hlinksldjump"/>
          </p:cNvPr>
          <p:cNvSpPr/>
          <p:nvPr/>
        </p:nvSpPr>
        <p:spPr>
          <a:xfrm>
            <a:off x="8077320" y="61722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9955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5:54:01Z</dcterms:created>
  <dc:creator>Елена</dc:creator>
  <dc:description/>
  <dc:language>en-US</dc:language>
  <cp:lastModifiedBy>Елена</cp:lastModifiedBy>
  <dcterms:modified xsi:type="dcterms:W3CDTF">2011-01-29T04:30:51Z</dcterms:modified>
  <cp:revision>5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