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D2D-E95D-4B4A-B1A5-5DBD0AF4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A00-21F3-423E-B1F6-7FEE5B53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41C-048A-4F4D-8A48-C63CEC4C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224-FCF8-45E9-9985-03D9D841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46F6F-D8C1-4B13-9C66-B393B808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8A251-BD78-4B1C-99DA-6C4F2297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0E887-F4E3-42C5-BE0A-0BC3C11C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B6308-AEDE-406A-9508-31F06064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3936F-4670-4AA8-9389-B53049F6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52772-75FA-42A4-A4BC-151F9938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E15F3-1A9F-4B6B-92BC-B4050C63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F6A-01A6-4BAC-AC4D-4FB9ADBF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7AB49-D1EE-4CAA-8C6F-64C750C5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EE218-673D-4B36-8721-51775E78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2BF2D-5603-423B-B5D7-9F45AD28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EF7CC-4CF1-45B9-AEA7-2DBC3C81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04B87-46BE-4E94-AB15-717B8135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39A-7941-4750-B811-9DEE72DC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7A5-3493-4BF1-880D-59CCEDBD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CEB-927B-4202-A75C-BBEE6762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13A-B85C-4238-BDD0-0BDB69C4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D10-A6D5-4959-9A60-C35888EC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2E2-3EB3-4498-B601-4F74F68A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F2A-3FEC-4A7B-8BD3-009B4023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EFED-DD3F-4F30-B38E-2E24964EAD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2088-55AC-479B-A90D-8969E9ABA6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Торнадо Лили[1]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h_nikolaev"/>
          <p:cNvPicPr/>
          <p:nvPr/>
        </p:nvPicPr>
        <p:blipFill>
          <a:blip r:embed="rId2"/>
          <a:stretch/>
        </p:blipFill>
        <p:spPr>
          <a:xfrm>
            <a:off x="4788000" y="1341360"/>
            <a:ext cx="3240000" cy="4535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468360" y="981000"/>
            <a:ext cx="381636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Дважды Герой Советского Союза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ндриян Григорьевич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иколаев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(05.09.1929-03.07.200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9239287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nikolaevag"/>
          <p:cNvPicPr/>
          <p:nvPr/>
        </p:nvPicPr>
        <p:blipFill>
          <a:blip r:embed="rId2"/>
          <a:stretch/>
        </p:blipFill>
        <p:spPr>
          <a:xfrm>
            <a:off x="0" y="2492280"/>
            <a:ext cx="2635200" cy="3816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3203640" y="620640"/>
            <a:ext cx="57862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1 - 15 августа 1962 года совершил свой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первый космический полет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корабле Восток-3. Впервые в мире был совершен групповой космический полет двух пилотируемых кораблей (Восток-3 и Восток-4). Полет продолжался 3 суток 22 часа 22 минут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 1963 по 1968 год являлся командиром отряда космонавт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1963 году женился на первой в мире женщине-космонавте Валентине Владимировне ТЕРЕШКОВОЙ, с которой прожил 18 л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1968 - 1974 годах - заместитель начальника Центра подготовки космонавтов имени Ю. А. Гагарина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 - 19 июня 1970 года совершил свой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второй космический полет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в качестве командира корабля Союз-9. На тот момент это был самый длительный космический полет. После приземления из-за того, что космонавты мало занимались физическими упражнениями во время полета, возникли проблемы с адаптацией организма к земным условиям. Космонавты себя плохо чувствовали, не могли ходить. Это состояние в медицинской литературе получило название «эффект Николаева». Полет продолжался 17 суток 16 часов 58 минут 55 секунд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два рейса в космос налетал 21 сутки 15 часов 20 минут 55 секунд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1974 году был назначен первым заместителем начальника Центра подготовки космонавтов и прослужил в этой должности до выхода в отставку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47628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Летопис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одвиг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3640" y="475920"/>
            <a:ext cx="36943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Музей космонавтик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4757760" cy="572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оршелский музей космонавтики начал свое существование как школьный музей. Официально школьный музей космонавтики в присутствии почетных гостей, в том числе А.Г.Николаева, был открыт 14 декабря 1972 года. В то время в фондах музея было около 350 экспонат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сентября 1978 года школьный музей стал работать как филиал Чувашского республиканского музея. Музей посещали не только жители со всех концов нашей страны, но и  делегации из-за рубеж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85 году отреставрирован и перенесен во двор музея дом Николаевых, построен павильон для автомобиля "ЗИС-110", на котором встречали Андрияна Николаева после первого космического полета в Чуваш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2001 году  в Шоршелах появилось здание необычной конструкции и необыкновенной красоты. В новом здании оформлены 4 экспозиционных зала и открыт астрономический класс с планетарием. На открытии нового музея присутствовал Президент Чувашской Республики Н.В.Федоров, который оставил запись в Книге отзыв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3" descr="img"/>
          <p:cNvPicPr/>
          <p:nvPr/>
        </p:nvPicPr>
        <p:blipFill>
          <a:blip r:embed="rId1"/>
          <a:stretch/>
        </p:blipFill>
        <p:spPr>
          <a:xfrm>
            <a:off x="5397480" y="17334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kosmonavtica_chasovnia"/>
          <p:cNvPicPr/>
          <p:nvPr/>
        </p:nvPicPr>
        <p:blipFill>
          <a:blip r:embed="rId2"/>
          <a:stretch/>
        </p:blipFill>
        <p:spPr>
          <a:xfrm>
            <a:off x="5853240" y="3924360"/>
            <a:ext cx="18874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амяти великого земля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ктябре 2006 года музей стал работать как ГУК "Мемориальный комплекс летчика - космонавта СССР А.Г. Николаева". В этот комплекс входят: стела - ракета, бронзовый бюст А.Г.Николаева, сад - парк им. А.Г. Николаева, Музей космонавтики, Дом-музей Николаевых, часовня, где похоронен дважды Герой Советского Союза, летчик - космонавт СССР А.Г.Николае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стоящее время в фондах музея хранится около 6000 экспонатов, среди которых ряд уникальных - спускаемый аппарат космического корабля "Восток", космическая одежда, личные вещи летчика - космонавта СССР А.Г.Николаева, космический скафандр Героя России летчика - космонавта Н.М.Бударина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kosmonavtica-1"/>
          <p:cNvPicPr/>
          <p:nvPr/>
        </p:nvPicPr>
        <p:blipFill>
          <a:blip r:embed="rId1"/>
          <a:stretch/>
        </p:blipFill>
        <p:spPr>
          <a:xfrm>
            <a:off x="571680" y="2419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4351740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икторина: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рославился А.Г. Николае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году он родил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бы лет ему исполнилось 05.09.2009., если бы он был жи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населенный пункт является родиной А.Г. Николае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раз А.Г. Николаев совершал полеты в косм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название носят космические корабли, на которых летал   А.Г. Николаев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552379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Какой позывной был у А.Г. Николаева во время его первого полета в косм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Сколько раз А.Г. Николаев  награжден орденами Героя Советского Союз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Кто такая Валентина  Владими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ешк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Что связывает слова «А.Г. Николаев» и «Луна»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5993078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Цель: проследить жизненный путь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  А.Г. Николаева. 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               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Задачи: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1. Познакомиться с биографией        «звездного» мальчика.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 2. Узнать об успехах  космонавта.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 3. Выяснить, как чувашский народ чтит память о славном сыне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7525027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324000" y="26028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«Звездный час человечеств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Scan0032"/>
          <p:cNvPicPr/>
          <p:nvPr/>
        </p:nvPicPr>
        <p:blipFill>
          <a:blip r:embed="rId2"/>
          <a:stretch/>
        </p:blipFill>
        <p:spPr>
          <a:xfrm>
            <a:off x="768240" y="1600200"/>
            <a:ext cx="3416400" cy="4495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4500720" y="836640"/>
            <a:ext cx="4392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Arial"/>
              </a:rPr>
              <a:t>«Звездными часами» можно считать первенство в освоении космического пространства нашей Родин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Arial"/>
              </a:rPr>
              <a:t>Около полувека назад была открыта новая глава в жизни человечества, положившая начало эпохе космических полетов и межпланетных сообщ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Arial"/>
              </a:rPr>
              <a:t>Прошли десятилетия... Ускоряющийся прогресс науки и техники позволил проложить новые космические трассы, расширяя представление человечества о Вселенно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Arial"/>
              </a:rPr>
              <a:t>Но никогда история не забудет  дня, когда человек впервые шагнул в космос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Arial"/>
              </a:rPr>
              <a:t>Имена первопроходцев Юрия Гагарина, Германа Титова, Андрияна Николаева и других  вписаны золотыми буквами в историю человечества. Они ярко и вечно будут сиять в созвездии героев, подобно тому, как сияют звезды первой величины.</a:t>
            </a:r>
            <a:r>
              <a:rPr b="1" lang="ru-RU" sz="1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11904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ff"/>
                </a:solidFill>
                <a:latin typeface="Arial"/>
              </a:rPr>
              <a:t>Из воспоминаний матери,</a:t>
            </a:r>
            <a:br>
              <a:rPr sz="3200"/>
            </a:br>
            <a:r>
              <a:rPr b="1" lang="ru-RU" sz="3200" spc="-1" strike="noStrike">
                <a:solidFill>
                  <a:srgbClr val="9999ff"/>
                </a:solidFill>
                <a:latin typeface="Arial"/>
              </a:rPr>
              <a:t> А.А. Николаевой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И муж, и я, оба мы из села Шоршелы, оба бедняцкого рода. Поженились в 1922 году и всю жизнь занимались крестьянским делом - сеяли хлеб.    Учился Андриян хорошо, старательно, часто рассказывал о том, что прочитал в книгах. Ведь мне-то не пришлось много учиться - я окончила только четыре класса. А читал он… про героев и путешественников, все, что можно было достать в нашем сел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нашей деревне все сделано из дерева: и избы, и школа, и всякие колхозные постройки. Может, поэтому мои сыновья Иван и Андриян и пошли учиться в лесотехникум. Они достигли своего - стали специалистами по лесному дел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икогда не думала я, что Андрияна потянет в небо и он выучится на  летчика. Ведь в Шоршелах до сих пор   никто в летчики не выходил.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ут   вдруг  письмо с фотографией,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торой  наш Андриян снят в летной форме 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ылышками на петлицах: "Мам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 теперь летаю на самолете". Целу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елю приходили тогда к нам сосед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мотреть на фотографию Андриян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читать его пись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2" descr="8"/>
          <p:cNvPicPr/>
          <p:nvPr/>
        </p:nvPicPr>
        <p:blipFill>
          <a:blip r:embed="rId2"/>
          <a:stretch/>
        </p:blipFill>
        <p:spPr>
          <a:xfrm>
            <a:off x="179280" y="3933720"/>
            <a:ext cx="3168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9601079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его отъезда в деревне стали поговаривать, что вроде бы Андриян - космонавт, что его, дескать, видели в чебоксарском кино в каком-то фильме рядом с Гагариным и Титовым. Я сначала не поверила этому слуху, а потом подумала, что с его упорством всего можно достичь. Ведь детство и юность Гагарина и Титова во многом схожи с молодыми годами нашего Андрияна. Раз они смогли взлететь так высоко, так почему бы не сделать то же самое и другим хорошим летчикам. А что Андриян летчик хороший, мне говорили его командиры еще тогда, когда я проживала у него в гостях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7" descr="600x600-fs-gostev-02-04-gost-0393"/>
          <p:cNvPicPr/>
          <p:nvPr/>
        </p:nvPicPr>
        <p:blipFill>
          <a:blip r:embed="rId2"/>
          <a:stretch/>
        </p:blipFill>
        <p:spPr>
          <a:xfrm>
            <a:off x="250920" y="1268280"/>
            <a:ext cx="44272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Scan0033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Из выступления А.Г.  Николаева на пресс-конференции 6 сентября 1962 г.: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..Очень упорно готовились к первому полету. Готовились все, но выпала честь одному, самому достойному - Юрию Алексеевичу Гагарину. Вслед за ним полетел Герман Степанович Титов. Я был у него дублером... И вот наступил и для меня такой радостный день... Еще веселее стало в космосе, когда появился рядом мой друг Павел Романович Попович, когда он вышел на орбиту. Когда я впервые услышал знакомый голос друга, сразу вызвал его на связь. Правда, вначале говорил с ним официально, по своим позывным: “Я - Сокол”, и слышал в ответ - “Я - Беркут”, но затем в процессе полета мы очень мало пользовались позывными. Он называл меня просто “Андрюша”, а я его – «Павлом».  Все же летать в космосе вдвоем, когда чувствуешь рядом своего товарища, веселее и приятнее..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Scan0006"/>
          <p:cNvPicPr/>
          <p:nvPr/>
        </p:nvPicPr>
        <p:blipFill>
          <a:blip r:embed="rId1"/>
          <a:stretch/>
        </p:blipFill>
        <p:spPr>
          <a:xfrm>
            <a:off x="457200" y="1773360"/>
            <a:ext cx="403848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1325439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 околоземной орбит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"Солнце неудержимо клонится к лазоревому горизонту. Еще немного, и оно будто кануло в морскую пучину. В то же мгновение по небосводу разлилась вечерняя заря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 Небо осталось тем же. Звездастым. А Земля прикрылась теменью. Но и ночью она не теряла своей красоты. Города светились огнями. Призрачно угадывалась тронутая лунным свечением водная ширь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 Да, своеобразна красота космической ночи. Но я с нетерпением ждал рассвета. По рассказам Юрия и Германа, это необычайно красочная картина. Теперь мне предстояло ее увидеть. Возникла она не сразу, а как бы накапливая краски. Но времени на это ушло немного. Всего сорок минут потребовалось для "пересменки" вечерней и утренней зорь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начале, когда солнце было еще где-то на подступах, я увидел розовато-лимонный ободок у края Земли. Потом венец планеты стал наливаться новыми красками, постепенно накаляясь ярко-оранжевыми цветами. И вдруг венец заиграл всеми цветами радуги. Выше эти цвета постепенно переходят в черноту. В черном небе светятся звезды. После выхода корабля из тени ярко-оранжевая полоса пропадает, и вместо нее появляется нежно-голубая окаемка"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Scan0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4734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...Я счастлив, что сумел дважды выполнить ответственное задание народа и партии. После полета “Востока-3” даже самые неискушенные в географии узнали о том, что есть на берегу великой Волги Чувашская автономная республика, живущая и здравствующая в большой и дружной семье других республик Советского Союза. Я безмерно рад этому. Но, конечно, понимаю, что это не только моя личная заслуга. В этом есть и вклад моего народа, частицей которого являюсь». (А. Николаев. «Моя Чувашия», 1979).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36:59Z</dcterms:created>
  <dc:creator>Дом</dc:creator>
  <dc:description/>
  <dc:language>en-US</dc:language>
  <cp:lastModifiedBy>Коля</cp:lastModifiedBy>
  <dcterms:modified xsi:type="dcterms:W3CDTF">2013-10-08T17:59:16Z</dcterms:modified>
  <cp:revision>18</cp:revision>
  <dc:subject/>
  <dc:title>Андриян Григорьевич Николае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