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DBE5-02D5-478C-AC03-A63F8E552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92F6-5516-47A8-8A91-5ECD078B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3402-77AF-456E-BB03-AAC4E12EF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EA87-77AD-4DDF-814D-9D3C31DC9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915B-1DF6-4CAE-A07A-E33AE5D6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CC9D-5C3B-4E31-8C1B-4D40929C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EC1A-3BEB-4A96-BC60-53D83B10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63DA-95B8-4903-A806-D32C489F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FC2B-C77E-4B85-A3CA-3D0D8327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2EB7-8BC0-44A5-A89C-7B69544E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3D67-8469-4F36-A6D5-745EDFA0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4DA0-FD1D-4923-B1B9-0ECCEFBD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51EE-BE50-4FF5-ADBC-9B55D635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3577-71BC-4D4B-9275-B1FD8215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EB81-26FB-4AEC-B32D-DA551E81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5763-31D6-4CD3-9DA8-0C875F079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D6B0-FF8F-45E3-BB38-39AB4E64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B233-67C1-49DB-A002-92C2212E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B8E6-E461-499C-8A73-A3B0102A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AEEC-9A61-4775-9D4D-42C5A540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3C19-598D-4F18-8773-2FB85EF0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0F29-8B98-4819-A7BA-595F383E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F29F-D570-4AEF-98B2-7638244C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C7AA-9FCD-4B65-83DE-66CAF046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9BBE-D06F-4FAE-A0B5-D2B7A77DB4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80A1-B550-4538-BD44-F0FD19FD87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ffb7"/>
                </a:solidFill>
                <a:uFillTx/>
                <a:latin typeface="Arial Black"/>
              </a:rPr>
              <a:t>Основные группы</a:t>
            </a:r>
            <a:br>
              <a:rPr sz="5400"/>
            </a:br>
            <a:r>
              <a:rPr b="1" i="1" lang="en-US" sz="5400" spc="-1" strike="noStrike" u="sng">
                <a:solidFill>
                  <a:srgbClr val="ffffb7"/>
                </a:solidFill>
                <a:uFillTx/>
                <a:latin typeface="Arial Black"/>
              </a:rPr>
              <a:t>      растений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9.Водоросли размножаются половым путем, бесполым и вегетативным способо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0.Хлорелла -водорос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1.У мхов образуются споры, из которых вырастает зарост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2.Сфагнум представитель голосеменных растен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3.Папоротникообразные служат пищей для животных, из них получают агар-агар, й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4.Мхи широко  используются в качестве строительного материала и сырья для изготовления бумаг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5.Папоротникообразные-это высшие растения, имеющие стебли, листья и корн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6.Большинство водорослей живет в воде, остальные в почве, на коре деревьев, на скала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7.Мхи способствуют заболачиванию почвы. Их используют как антисептическое средство в медицин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ыпишите номера правильных суждений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У мхов есть листья, стебли, но отсутствуют корн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.Голосеменные растут в сырых местах, на болота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.Водоросли-это одноклеточные или многоклеточные растения. Тело многоклеточных растений называется слоевищем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Водоросли –это низшие растения, содержащие хлорофилл и другие пигмен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.Цветковые растения можно встретить и на суше и на вод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.У голосеменных впервые в процессе эволюции появилось семя, содержащее запас питательных вещест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7.Улотрикс-представитель голосеменных растен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8.Для мхов характерно двойное оплодотворение , образование плодов и семян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02:58:40Z</dcterms:created>
  <dc:creator>Admin</dc:creator>
  <dc:description/>
  <dc:language>en-US</dc:language>
  <cp:lastModifiedBy>kab5</cp:lastModifiedBy>
  <dcterms:modified xsi:type="dcterms:W3CDTF">2011-03-29T10:26:58Z</dcterms:modified>
  <cp:revision>5</cp:revision>
  <dc:subject/>
  <dc:title>Основные группы       растений </dc:title>
</cp:coreProperties>
</file>