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5BE-47A6-4298-8072-F02D0FEE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B2A-E7CA-472E-86C2-2A41639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4AF-1A0C-45FA-A2A3-7E92BF60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A3E-81A7-4C4E-A82E-91875DCC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FE59-4BC4-4159-A608-60FABE46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8A64-74A4-4858-9BFC-FAC378C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9F9-BDAC-4BA3-93BD-71019D5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9E4A-070C-4D79-A9F9-1A44320E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8354-1E1D-45DE-968C-549CA308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2FF-847D-463F-B219-E3C3DE7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8266-40D7-4EE8-B31E-AF9A8779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27C-7348-4CCB-BA0D-E823609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3BB-D622-4549-9AAD-981F8673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AF1E-3BBD-4F39-9A47-2B5EEFA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0B5-3476-4DC0-953D-40C8D3E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714E-1ACD-4840-A025-1944EBDA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09E-A982-4D04-9972-815EDAF7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7E8-8B2C-4A5C-861D-7CFDC7B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FF5-7F55-455C-9D32-532AA0A7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87D-64A3-48BC-B3AD-63DB9E1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D43-D85F-4FCF-BD3D-578E5B05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532-0BA6-4550-813F-94462E8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B67-E465-4F93-AFD7-8504776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5D6-C8E1-4A78-9E6D-AA48FF8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48D8-F4D7-4EA0-B8B4-0D5205B1E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F6C-339E-4F1C-88D1-5298F0A3B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Основные группы</a:t>
            </a:r>
            <a:br>
              <a:rPr sz="5400"/>
            </a:br>
            <a:r>
              <a:rPr b="1" i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      растений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.Водоросли размножаются половым путем, бесполым и вегетативным способ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.Хлорелла -водоро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.У мхов образуются споры, из которых вырастает зарост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.Сфагнум представитель голосеменных раст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.Папоротникообразные служат пищей для животных, из них получают агар-агар, й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.Мхи широко  используются в качестве строительного материала и сырья для изготовления бума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.Папоротникообразные-это высшие растения, имеющие стебли, листья и кор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Большинство водорослей живет в воде, остальные в почве, на коре деревьев, на скал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.Мхи способствуют заболачиванию почвы. Их используют как антисептическое средство в медиц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пишите номера правильных суждений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У мхов есть листья, стебли, но отсутствуют кор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Голосеменные растут в сырых местах, на боло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Водоросли-это одноклеточные или многоклеточные растения. Тело многоклеточных растений называется слоевищ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Водоросли –это низшие растения, содержащие хлорофилл и другие пигмен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Цветковые растения можно встретить и на суше и на в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У голосеменных впервые в процессе эволюции появилось семя, содержащее запас питательных вещест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.Улотрикс-представитель голосеменных раст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.Для мхов характерно двойное оплодотворение , образование плодов и семя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2:58:40Z</dcterms:created>
  <dc:creator>Admin</dc:creator>
  <dc:description/>
  <dc:language>en-US</dc:language>
  <cp:lastModifiedBy>kab5</cp:lastModifiedBy>
  <dcterms:modified xsi:type="dcterms:W3CDTF">2011-03-29T10:26:58Z</dcterms:modified>
  <cp:revision>5</cp:revision>
  <dc:subject/>
  <dc:title>Основные группы       растений </dc:title>
</cp:coreProperties>
</file>