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808-9664-4992-9963-B75C50E5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AC6-0CB1-4D80-9CA4-06DCD516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6A5-AA13-4575-8276-11A16FFF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025C-02B8-405E-89C1-0C6A1508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199B-2834-407F-B6A9-7059045A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B658-1578-4137-95E1-4585C5FE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7294-6D2B-425A-B3AB-9155C4E2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42CD-F5D7-4E46-B231-FD5F09A7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C271-3186-4407-A81D-0A105C1F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1FAA-BCDD-486C-8059-60887441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4948-5135-4578-A128-1FDCAD79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4F69-7AAE-4CB4-8B6F-22377149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39A9-B24C-4B3F-BCC5-003B2A35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5A9C-95E3-4DD8-ABE1-0CAFAD1D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2D9F-80A6-48C0-936D-9545A3C8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E562-A6A0-4F85-8F57-3E90C266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2245-2850-4CA5-8F52-6FF2F6DD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F09D-BC72-4B64-A9DC-48112251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181-D92A-4F04-B311-66F3C358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1F4B-33D4-440D-B2D7-DED7A19A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B07A-1CD2-40FC-80D7-CBC1F05A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8875-2374-4C22-8A32-AE967379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E91-C578-44D6-A9E4-AD720315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468-C1FD-46D4-A34B-64967209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509C-B076-4528-9425-639FBCD8B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BE82-E02D-43D9-8B12-B855F5149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Подготовка к сочинению – описанию природы «Зимний пейзаж».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56360" cy="511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Шишкин «Зимний лес»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921440" cy="518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М.Иваненко «Зима в тиши деревни».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184720" cy="3983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466200"/>
            <a:ext cx="807732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7b9cb5"/>
                </a:solidFill>
                <a:latin typeface="Tahoma"/>
              </a:rPr>
              <a:t>Прочитайте текст, распространите предложения средствами художественной выразительности.</a:t>
            </a: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усский лес зимою. Лежат под деревьями сугробы. Над тропинками арками согнулись под тяжестью инея стволы берёз. Шапками снега покрыты ветви елей. Вершины елей унизаны ожерельем шишек. Со свистом перелетают с ели на ель, качаются на шишках стайки клест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расив, чудесен русский лес зимою. Глубокие, чистые лежат под деревьями сугробы. Над лесными тропинками кружевными белыми арками согнулись под тяжестью инея стволы молодых берёз. Тяжёлыми шапками белого снега покрыты тёмно-зелёные ветви высоких и маленьких елей. Высокие вершины елей унизаны ожерельем лиловых шишек. С весёлым свистом перелетают с ели на ель, качаются на шишках стайки красногрудых клест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И. Соколов-Микитов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Лес зимой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329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4680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b9cb5"/>
                </a:solidFill>
                <a:latin typeface="Times New Roman"/>
              </a:rPr>
              <a:t>Познакомьтесь с дневниковой записью ученика.</a:t>
            </a:r>
            <a:br>
              <a:rPr sz="2700"/>
            </a:br>
            <a:r>
              <a:rPr b="0" lang="en-US" sz="2700" spc="-1" strike="noStrike">
                <a:solidFill>
                  <a:srgbClr val="7b9cb5"/>
                </a:solidFill>
                <a:latin typeface="Times New Roman"/>
              </a:rPr>
              <a:t>Представили ли вы себе нарисованную мальчиком картину?</a:t>
            </a:r>
            <a:br>
              <a:rPr sz="2700"/>
            </a:br>
            <a:r>
              <a:rPr b="0" lang="en-US" sz="2700" spc="-1" strike="noStrike">
                <a:solidFill>
                  <a:srgbClr val="7b9cb5"/>
                </a:solidFill>
                <a:latin typeface="Times New Roman"/>
              </a:rPr>
              <a:t>Что, на ваш взгляд, удалось мальчику?</a:t>
            </a:r>
            <a:br>
              <a:rPr sz="2700"/>
            </a:br>
            <a:r>
              <a:rPr b="0" lang="en-US" sz="2700" spc="-1" strike="noStrike">
                <a:solidFill>
                  <a:srgbClr val="7b9cb5"/>
                </a:solidFill>
                <a:latin typeface="Times New Roman"/>
              </a:rPr>
              <a:t>Всё ли в работе удачно?</a:t>
            </a:r>
            <a:endParaRPr b="0" lang="en-US" sz="27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марта. Я думал, что уже наступила весна. Выхожу на улицу, а там опять снег. Он падал так густо, такими крупными хлопьями, что казалось, будто завалит все улицы, проспекты, дома, если будет валить в таком количестве. Я подошёл к сугробу, нагнулся. Снег серовато-белый, с тёмными пятнами. Он не искрился, как бывает на солнце. Но всё же был красивый. Снежинки, словно маленькие парашютики, плавно опускались на снежный ковёр. Они были такие хрупкие, нежные и как будто говорили: «Не трогайте нас!» Снег – это самые красивые осад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Темы сочинений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51640" y="1267920"/>
            <a:ext cx="3241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Ин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Падающая снежин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Морозный вечер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Тихо в лес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Зимой.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В красивом заснеженном царств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В зимнем лес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5400720" cy="5329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cb5"/>
                </a:solidFill>
                <a:latin typeface="Tahoma"/>
              </a:rPr>
              <a:t>Для полного овладения русским языком необходимо общение с природой.</a:t>
            </a:r>
            <a:br>
              <a:rPr sz="3200"/>
            </a:br>
            <a:r>
              <a:rPr b="0" lang="en-US" sz="3200" spc="-1" strike="noStrike">
                <a:solidFill>
                  <a:srgbClr val="7b9cb5"/>
                </a:solidFill>
                <a:latin typeface="Tahoma"/>
              </a:rPr>
              <a:t>                                     К.Паустовский. 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488360" cy="4997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7560" y="189000"/>
            <a:ext cx="8056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Зима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96000" y="1125000"/>
            <a:ext cx="2890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Сказочная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олшебная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удивительная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чудесна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бесконечная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жестока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грозна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есёлая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колдунья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олшебниц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чародейк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красавиц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старух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е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5543280" cy="539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Снег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54560" y="1413000"/>
            <a:ext cx="25322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Белый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блестящий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необыкновенный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переливчатый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сказочный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новогодний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пушистый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мягкий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мальчик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защитник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спаситель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рыцарь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5616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Снег идёт. 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6360" y="764640"/>
            <a:ext cx="61927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нег идёт снег идё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 белым звёздоч…кам в бура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янут…ся цветы геран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 окон…ый переплё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нег идёт, и всё см…тень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ё пуска…т…ся в полёт,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…рн…й лес…н…ц… ступен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ерекрёстка поворо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нег идёт снег идёт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ловно падают не хлопь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 в заплатанн…м салоп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ход…т наземь неб…сво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ловно с видом чудак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 верхн…й лес…чн…й площадк…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радучись, играя в пря…к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ходит небо с черда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Отрывок из рассказа В.Солоухина «Зимний день»</a:t>
            </a: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64000" y="1484280"/>
            <a:ext cx="4680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тро было матово- сиреневое, как будто мир освещали невидимые, хорошо замаскированные фонари с фарфоровыми сиреневыми абажурами. Сиреневыми были снега, расстилающиеся безгранично во все стороны, сиреневым был иней на берёзах (сиреневатые берёзовые стволы), сиреневыми были облака, там, где должно было с минуты на минуту показаться солнце. Я не удивился бы, если бы из-за снегов выплыл в небе сиреневый солнечный шар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464000" cy="511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Пейзаж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65840" y="1268280"/>
            <a:ext cx="28209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ид какой-нибудь мест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Рисунок, картина, изображающая природу, вид, а также описание природы в литературном произведен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5545080" cy="5329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И. Михайлов «Зимний пейзаж»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985080" cy="525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Кустодиев «Зима»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70580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9:14:54Z</dcterms:created>
  <dc:creator>оро</dc:creator>
  <dc:description/>
  <dc:language>en-US</dc:language>
  <cp:lastModifiedBy>оро</cp:lastModifiedBy>
  <dcterms:modified xsi:type="dcterms:W3CDTF">2009-02-04T19:45:24Z</dcterms:modified>
  <cp:revision>7</cp:revision>
  <dc:subject/>
  <dc:title>Подготовка к сочинению – описанию природы «Зимний пейзаж».</dc:title>
</cp:coreProperties>
</file>