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A8E-1EFE-4B89-B727-1F9B78EE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951-EAC8-4AD2-A487-2C78F04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8C2-1F68-4728-88C0-916C4394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06D-364F-4292-AFBA-4DCD2356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FF94-F317-4E31-8E0E-8DA25357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3A0-7C9A-40EE-8D96-3A4FB73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2C56-E1B0-4901-BD80-53EFE22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6183-BE8B-42AE-B2DA-4E6D5DD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1559-D991-40A7-B710-C8AFBFD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3072-E827-4137-977B-EAEE81D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12E-2141-492D-9FD7-6A195F7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ED3-1ECD-4015-843A-8503480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F52-A88E-4B82-AE79-4927C66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6605-2B4D-4080-90AD-88488DC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52C1-D2A8-4A26-99A6-1C56D5A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BD0-BECA-49DB-8809-64423542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552-DA58-42D7-A82C-32915BD4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52F-5C11-4E17-B123-43E5926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DDC-168A-46F2-BDE6-9A7CFFD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0E4-CC2E-4DC5-ACA0-4AEE1DB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435-B813-4E86-B819-B71A9F3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7DE-1784-4741-9ABB-CB34ACA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069-0389-4C67-83C1-8CD94C5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7BB-8605-4682-A9EB-4F92ECD3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543-C942-4ECC-AC43-B74045A8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1856-D379-459D-A823-579AFE07D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Подготовка к сочинению – описанию природы «Зимний пейзаж».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Шишкин «Зимний лес»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2144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М.Иваненко «Зима в тиши деревни».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184720" cy="39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66200"/>
            <a:ext cx="80773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7b9cb5"/>
                </a:solidFill>
                <a:latin typeface="Tahoma"/>
              </a:rPr>
              <a:t>Прочитайте текст, распространите предложения средствами художественной выразительности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лес зимою. Лежат под деревьями сугробы. Над тропинками арками согнулись под тяжестью инея стволы берёз. Шапками снега покрыты ветви елей. Вершины елей унизаны ожерельем шишек. Со свистом перелетают с ели на ель, качаются на шишках стайки кле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асив, чудесен русский лес зимою. Глубокие, чистые лежат под деревьями сугробы. Над лесными тропинками кружевными белыми арками согнулись под тяжестью инея стволы молодых берёз. Тяжёлыми шапками белого снега покрыты тёмно-зелёные ветви высоких и маленьких елей. Высокие вершины елей унизаны ожерельем лиловых шишек. С весёлым свистом перелетают с ели на ель, качаются на шишках стайки красногрудых кле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И. Соколов-Мики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Лес зимой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4680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Познакомьтесь с дневниковой записью ученика.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Представили ли вы себе нарисованную мальчиком картину?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Что, на ваш взгляд, удалось мальчику?</a:t>
            </a:r>
            <a:br>
              <a:rPr sz="2700"/>
            </a:br>
            <a:r>
              <a:rPr b="0" lang="en-US" sz="2700" spc="-1" strike="noStrike">
                <a:solidFill>
                  <a:srgbClr val="7b9cb5"/>
                </a:solidFill>
                <a:latin typeface="Times New Roman"/>
              </a:rPr>
              <a:t>Всё ли в работе удачно?</a:t>
            </a:r>
            <a:endParaRPr b="0" lang="en-US" sz="27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марта. Я думал, что уже наступила весна. Выхожу на улицу, а там опять снег. Он падал так густо, такими крупными хлопьями, что казалось, будто завалит все улицы, проспекты, дома, если будет валить в таком количестве. Я подошёл к сугробу, нагнулся. Снег серовато-белый, с тёмными пятнами. Он не искрился, как бывает на солнце. Но всё же был красивый. Снежинки, словно маленькие парашютики, плавно опускались на снежный ковёр. Они были такие хрупкие, нежные и как будто говорили: «Не трогайте нас!» Снег – это самые красивые ос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Темы сочинений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51640" y="1267920"/>
            <a:ext cx="3241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Ин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Падающая снежи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Морозный вече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Тихо в ле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Зимой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В красивом заснеженном царств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В зимнем ле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40072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Для полного овладения русским языком необходимо общение с природой.</a:t>
            </a:r>
            <a:br>
              <a:rPr sz="3200"/>
            </a:b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                                     К.Паустовский. 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499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7560" y="189000"/>
            <a:ext cx="805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Зима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96000" y="1125000"/>
            <a:ext cx="2890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казоч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олшеб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удивитель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чудесн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есконечн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жесток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розна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есёла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олдунь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олшебниц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чародей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расавиц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тарух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е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543280" cy="539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Снег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54560" y="1413000"/>
            <a:ext cx="2532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ел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блестящ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еобыкновенны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ереливчат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казочн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овогодни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ушисты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ягки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альчик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защитник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пасител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ыцарь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616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Снег идёт. 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6360" y="764640"/>
            <a:ext cx="6192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 снег идё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белым звёздоч…кам в бур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янут…ся цветы гера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 окон…ый переплё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, и всё см…тень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ё пуска…т…ся в полёт,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…рн…й лес…н…ц… ступ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екрёстка поворо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нег идёт снег идё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но падают не хлопь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 в заплатанн…м салоп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ход…т наземь неб…св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но с видом чуда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 верхн…й лес…чн…й площадк…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адучись, играя в пря…к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ходит небо с черда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Отрывок из рассказа В.Солоухина «Зимний день»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4000" y="148428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ро было матово- сиреневое, как будто мир освещали невидимые, хорошо замаскированные фонари с фарфоровыми сиреневыми абажурами. Сиреневыми были снега, расстилающиеся безгранично во все стороны, сиреневым был иней на берёзах (сиреневатые берёзовые стволы), сиреневыми были облака, там, где должно было с минуты на минуту показаться солнце. Я не удивился бы, если бы из-за снегов выплыл в небе сиреневый солнечный шар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Пейзаж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65840" y="1268280"/>
            <a:ext cx="2820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ид какой-нибудь мес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исунок, картина, изображающая природу, вид, а также описание природы в литературном произведе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545080" cy="532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И. Михайлов «Зимний пейзаж»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c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Кустодиев «Зима»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14:54Z</dcterms:created>
  <dc:creator>оро</dc:creator>
  <dc:description/>
  <dc:language>en-US</dc:language>
  <cp:lastModifiedBy>оро</cp:lastModifiedBy>
  <dcterms:modified xsi:type="dcterms:W3CDTF">2009-02-04T19:45:24Z</dcterms:modified>
  <cp:revision>7</cp:revision>
  <dc:subject/>
  <dc:title>Подготовка к сочинению – описанию природы «Зимний пейзаж».</dc:title>
</cp:coreProperties>
</file>