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544A-5C26-488B-9A19-A11F28C7D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BC3B-C9E7-483C-A753-649A08706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8D2B-4EDA-451E-AED7-DD7336EC0C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E39-48CC-474F-82DC-9C20D3D0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8EB-38F2-4A14-A200-101DE616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D21-2D49-428F-AF25-88B2B34D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F2B-274D-45D2-B916-B526FCBB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E98-FF0A-4022-9D1F-6D65686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78D-6030-48AC-8882-0E5CA2DD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E88-590C-4134-B3F2-8DB0B10D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B7E-F24C-401B-9B9E-1412D5BB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89A-64EC-46ED-A07A-78DD4BEE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460-324E-48FF-BCEF-FA4852A5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D7C-CCEB-4E25-A750-9240406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A6B-8847-4601-A758-E128D0D4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C1C9-5F82-469B-8880-5C0BEDE62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ancientmacedonia.com/image011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rogulka.kiev.ua/nphoto/1027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762120" y="1066680"/>
            <a:ext cx="76960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567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рдиев узел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567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533520" y="114300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диевым узлом  называют любое запутанное дело, трудно разрешимый вопрос. «Разбудить гордиев узел» значит: смело, энергично решить сложное дел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28600" y="184320"/>
            <a:ext cx="861048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505320" y="1905120"/>
            <a:ext cx="525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греческой мифологии Гордий - первый царь Фригии, эпоним одноименного города в Малой Азии. Гордий был простым земледельцем, и однажды во время пахоты орел сел на ярмо его волов. Это было истолковано как знамение, предвещающее Гордию царскую власть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752480" y="380880"/>
            <a:ext cx="6096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рдиев узел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2" descr="Картинка 6 из 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133720"/>
            <a:ext cx="3130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762120" y="419112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скоре фригийцы, оставшись без правителя, обратились за советом к оракулу, кого выбрать царем. Оракул предсказал, что надо избрать того, кого они первым встретят едущим на повозке. Этим человеком оказался Гор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1 из 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52280"/>
            <a:ext cx="60958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4267080" y="428760"/>
            <a:ext cx="4419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ав царем, он выстроил город, получивший его имя, и поставил в цитадели свою повозку, опутав ее ярмо сложнейшим узлом. Гордий умер в 738 году до нашей эры. Больше 400 лет стояла колесница в храме, оставался завязанным и царёв узел. Считалось, что тот, кто распутает этот узел, станет правителем всей Азии. По преданию, Александр Македонский в 334 г. до н.э. вместо распутывания узла просто разрубил его мечом, откуда и пошло выражение "разрубить гордиев узел" - принять быстрое и смело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Александр Македонский"/>
          <p:cNvPicPr/>
          <p:nvPr/>
        </p:nvPicPr>
        <p:blipFill>
          <a:blip r:embed="rId1"/>
          <a:stretch/>
        </p:blipFill>
        <p:spPr>
          <a:xfrm>
            <a:off x="228600" y="685800"/>
            <a:ext cx="3809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2" descr=""/>
          <p:cNvPicPr/>
          <p:nvPr/>
        </p:nvPicPr>
        <p:blipFill>
          <a:blip r:embed="rId1"/>
          <a:stretch/>
        </p:blipFill>
        <p:spPr>
          <a:xfrm>
            <a:off x="2432160" y="3425760"/>
            <a:ext cx="19512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450720"/>
            <a:ext cx="9004320" cy="933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1908000" y="317520"/>
            <a:ext cx="384480" cy="9316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0" descr=""/>
          <p:cNvPicPr/>
          <p:nvPr/>
        </p:nvPicPr>
        <p:blipFill>
          <a:blip r:embed="rId4"/>
          <a:stretch/>
        </p:blipFill>
        <p:spPr>
          <a:xfrm>
            <a:off x="444600" y="755640"/>
            <a:ext cx="82486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09-11-19T08:40:3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