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6E3A-E79B-42D9-AD83-C6E016785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6072-F0ED-41FB-A5B8-D4924103A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DAAA-3A0E-4AA4-AC6B-A3DB98425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FF7-90CD-42E5-BC58-DF5C9ECF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795-458F-45BF-B000-B71B160B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4CD-13F7-45A1-85C3-1DB75C5D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41F-5109-4F82-8EA2-FA426378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88C-CAB2-4F47-8308-C1004C8E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B7F-35D9-4AE2-ACDA-6E70C5F8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B1C-F496-4327-8766-0909FF9B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062-F9DB-4A43-A604-F0BA0B87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686-5F04-4309-AA92-0FAD0613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65A-09FF-4388-9216-E41B6655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F60-7B00-44E6-93AC-E195D2A6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AAF-26A8-483B-A03D-C8881B84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EC0D-6AD2-438A-9B32-945815C06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ancientmacedonia.com/image011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rogulka.kiev.ua/nphoto/1027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762120" y="1066680"/>
            <a:ext cx="76960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567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рдиев узел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567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533520" y="114300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диевым узлом  называют любое запутанное дело, трудно разрешимый вопрос. «Разбудить гордиев узел» значит: смело, энергично решить сложное дел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28600" y="184320"/>
            <a:ext cx="861048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505320" y="1905120"/>
            <a:ext cx="525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греческой мифологии Гордий - первый царь Фригии, эпоним одноименного города в Малой Азии. Гордий был простым земледельцем, и однажды во время пахоты орел сел на ярмо его волов. Это было истолковано как знамение, предвещающее Гордию царскую власть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752480" y="380880"/>
            <a:ext cx="6096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рдиев узел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2" descr="Картинка 6 из 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133720"/>
            <a:ext cx="3130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762120" y="419112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скоре фригийцы, оставшись без правителя, обратились за советом к оракулу, кого выбрать царем. Оракул предсказал, что надо избрать того, кого они первым встретят едущим на повозке. Этим человеком оказался Гор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1 из 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52280"/>
            <a:ext cx="60958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4267080" y="428760"/>
            <a:ext cx="4419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ав царем, он выстроил город, получивший его имя, и поставил в цитадели свою повозку, опутав ее ярмо сложнейшим узлом. Гордий умер в 738 году до нашей эры. Больше 400 лет стояла колесница в храме, оставался завязанным и царёв узел. Считалось, что тот, кто распутает этот узел, станет правителем всей Азии. По преданию, Александр Македонский в 334 г. до н.э. вместо распутывания узла просто разрубил его мечом, откуда и пошло выражение "разрубить гордиев узел" - принять быстрое и смело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Александр Македонский"/>
          <p:cNvPicPr/>
          <p:nvPr/>
        </p:nvPicPr>
        <p:blipFill>
          <a:blip r:embed="rId1"/>
          <a:stretch/>
        </p:blipFill>
        <p:spPr>
          <a:xfrm>
            <a:off x="228600" y="685800"/>
            <a:ext cx="3809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2" descr=""/>
          <p:cNvPicPr/>
          <p:nvPr/>
        </p:nvPicPr>
        <p:blipFill>
          <a:blip r:embed="rId1"/>
          <a:stretch/>
        </p:blipFill>
        <p:spPr>
          <a:xfrm>
            <a:off x="2432160" y="3425760"/>
            <a:ext cx="19512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450720"/>
            <a:ext cx="9004320" cy="933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1908000" y="317520"/>
            <a:ext cx="384480" cy="9316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0" descr=""/>
          <p:cNvPicPr/>
          <p:nvPr/>
        </p:nvPicPr>
        <p:blipFill>
          <a:blip r:embed="rId4"/>
          <a:stretch/>
        </p:blipFill>
        <p:spPr>
          <a:xfrm>
            <a:off x="444600" y="755640"/>
            <a:ext cx="82486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09-11-19T08:40:3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