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0A4-635A-41AC-8134-C280FEF2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9A0A-2B9D-411E-8AE3-55DE040A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288C-514D-406C-A8F7-E5D9CB9F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2A4-E293-4BC1-9890-8AB22759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17C5-84EF-4DDB-A9FA-E89D04AB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B5F-46D8-49B1-94DB-714933A0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E5F-FC56-409E-AF09-E9F5F901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B99F-58E9-4D70-8EB0-08B1BA0D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E8B-D713-4620-AEC9-0DA2E007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2CA8-3394-4FA5-BFAE-82830D2B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DE5E-6BD3-4B67-9D6A-793D2454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F4A-77FC-4AEF-8AE2-6CA37037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0A9D-F240-41F1-9B60-BAE2EDFC1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4.jpeg"/><Relationship Id="rId3" Type="http://schemas.openxmlformats.org/officeDocument/2006/relationships/image" Target="../media/image3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57600" y="228600"/>
            <a:ext cx="1905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стория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066680"/>
            <a:ext cx="3943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дипломатического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435640" y="105264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отокол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33920" y="175248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оссии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2160360" cy="1216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51280" y="3213000"/>
            <a:ext cx="1596960" cy="180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659640" y="2276640"/>
            <a:ext cx="1744560" cy="1800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0000" y="5373720"/>
            <a:ext cx="7344000" cy="78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Приложение к информационно-историческому проект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«История российской дипломати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333360"/>
            <a:ext cx="4267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Дипломатические поминки были двух разновидностей-официальные, направленные от монарха к монарху, и частные  - от самих послов. Иностранные дипломаты в России и русские за границей постоянно подносили дары не только от своих государей, но и от себя лично. По большей части эти дары перед отъездом русских послов за рубеж выдавались им из казны. В казну они должны был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озвратить и ответное «жалованье» иностранного монарха: наиболее  цен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ещи</a:t>
            </a:r>
            <a:r>
              <a:rPr b="1" lang="ru-RU" sz="1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царь оставлял у себя, остальное отдавалось посла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2781360"/>
            <a:ext cx="208764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imes New Roman"/>
              </a:rPr>
              <a:t>Прием русского посольства 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imes New Roman"/>
              </a:rPr>
              <a:t>Луи </a:t>
            </a:r>
            <a:r>
              <a:rPr b="1" lang="en-US" sz="1400" spc="-1" strike="noStrike">
                <a:solidFill>
                  <a:srgbClr val="ffcc66"/>
                </a:solidFill>
                <a:latin typeface="Times New Roman"/>
              </a:rPr>
              <a:t>XIV</a:t>
            </a:r>
            <a:r>
              <a:rPr b="1" lang="ru-RU" sz="1400" spc="-1" strike="noStrike">
                <a:solidFill>
                  <a:srgbClr val="ffcc66"/>
                </a:solidFill>
                <a:latin typeface="Times New Roman"/>
              </a:rPr>
              <a:t>, 1681 г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796000" y="549360"/>
            <a:ext cx="2158920" cy="2808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4360" y="4508640"/>
            <a:ext cx="806436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Официальные поминки пересылались от монарха к монарху, но собственные дары послы должны были приносить на аудиенцию лично. Когда один из членов польского посольства в 1570 году, сам не явившись во дворец, прислал Ивану Грозному часы с кем-то из своих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товарищей, царь приказал их тут же сломать, ибо «царскому величеству то гневно стало, что такой молодой паробок ссылается с царским величеством подарки, а не сам к царскому величеству принес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123840"/>
            <a:ext cx="62485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В Москве поминки подносились не только царю, но и царевичу, наследнику престола, и даже посольским приставам. Казначеи посылали дары прибывавшим иностранным дипломатам и тут же получали ответные. Иван Грозный звал к своему столу («хлеба ести») лишь тех лиц посольской свиты, которые привозили ему подарки. Эта сложная система даров и отдариваний, подношений и ответного «жалованья» была непременным элементом русского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сольского обычая. Возможно, тут сказались неизжитые представления дофеодального общества, согласно которым даритель и одариваемый вступают между собой в особую, магическую по природе связь. Эта связь, пусть неосознанно, могла восприниматься как условие действенности дипломатических контакто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306864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Иван Гроз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04000" y="549360"/>
            <a:ext cx="1663560" cy="2376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276720" y="4005360"/>
            <a:ext cx="209232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68360" y="4292640"/>
            <a:ext cx="2305080" cy="1195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rcRect l="0" t="0" r="0" b="13784"/>
          <a:stretch/>
        </p:blipFill>
        <p:spPr>
          <a:xfrm>
            <a:off x="5940360" y="5300640"/>
            <a:ext cx="2160720" cy="1152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6804000" y="3789360"/>
            <a:ext cx="197964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601956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Arial"/>
              </a:rPr>
              <a:t>Правила международной вежливости предъявляют к дипломату целый ряд требований, связанных с церемониальной стороной любого государственного акта или протокольного мероприятия, в которых участвуют члены дипломатического корпуса. Далеко не последнюю роль играет здесь и вопрос об одежде дипломата. Исторические традиции лежат в основе любой протокольной норм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4581360"/>
            <a:ext cx="594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История российской протокольной практики полностью это подтверждает. Российские послы еще до учреждения Табели 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рангах во времена Петра Великого имели специальные наряды,которые были представлены в2005 году на  выставк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«Москва посольская» в Государственном историческом музее.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123920" cy="2305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55640" y="2205000"/>
            <a:ext cx="1676520" cy="201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635280" y="2492280"/>
            <a:ext cx="1625760" cy="201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300720" y="2637000"/>
            <a:ext cx="2016360" cy="1738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rcRect l="9463" t="0" r="-64" b="18403"/>
          <a:stretch/>
        </p:blipFill>
        <p:spPr>
          <a:xfrm>
            <a:off x="826920" y="4508640"/>
            <a:ext cx="14875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424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Arial"/>
              </a:rPr>
              <a:t>После создания системы министерств в 1802 году форменная одежда дипломатов, как и других государственных чиновников, претерпела дальнейшую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 </a:t>
            </a: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регламентацию, а внешний вид формы на протяжении XIX столетия неоднократно изменялся.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04920"/>
            <a:ext cx="800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Из истории форменной одежды дипломато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1866960" cy="295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227640" y="1989000"/>
            <a:ext cx="2592360" cy="1847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635280" y="551664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В 1834 году были утверждены специальные виды форменной одежды для дипломатов и консульских агентов Российской импер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627280" y="2565360"/>
            <a:ext cx="1451160" cy="1871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427640" y="3357720"/>
            <a:ext cx="148248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260280"/>
            <a:ext cx="5715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В дипломатическом гардеробе были однобортные «полукафтаны» (с шляпой гражданского образца и треугольной шляпой), «мундирные фраки», открытые двубортные сюртуки, укороченные двубортные или однобортные пальто (или шинели), а также жилеты, фуражки, перчатки, серебряные пуговицы с изображением государственного герба и другие аксессуар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170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732720" y="333360"/>
            <a:ext cx="1627200" cy="230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95640" y="3789360"/>
            <a:ext cx="4953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М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ногое из того, что содержалось в «Описаниях», было использовано в 1930-е годы, когда предприняли первую попытку создать парадную и рабочую фо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р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менную одежду для сотрудников НКИД, и при введении дипломатической формы в Министерстве иностранных дел 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в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 мае 1943 год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971640" y="2781360"/>
            <a:ext cx="1976400" cy="2592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55640" y="5661000"/>
            <a:ext cx="2303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57340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Молот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2514600"/>
            <a:ext cx="73152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Arial"/>
                <a:ea typeface="Arial"/>
              </a:rPr>
              <a:t>В инструкции подробно разъяснялось, как отвечать на визиты и приглашения на дипломатические приемы, обеды и завтраки, как рассылать приглашения, выражать поздравления и соболезнования, пользоваться визитными карточками и тому подобное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68580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66"/>
                </a:solidFill>
                <a:latin typeface="Arial"/>
                <a:ea typeface="Arial"/>
              </a:rPr>
              <a:t>«Краткая инструкция о соблюдении правил принятого в буржуазном обществе этикета»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81080" y="2286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56000" y="193680"/>
            <a:ext cx="619272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В 1923—1924 годах на страницах московских газет развернулась «Дискуссия об этикете», где главным был вопрос о том, как должен одеваться советский дипломат. Участники подвергли резкой критике протокольную одежду дипломатов — визитки, смокинги, фраки и цилиндры — как «символы буржуазного общества, в корне чуждые духу рабоче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рестьянского государства».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1783080" cy="2665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000" y="4149720"/>
            <a:ext cx="561636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В январе 1930 года М.М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.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 Литвинов, временно исполнявший обязанности наркома, подготовил для внесения в Совнарком конкретные предложения о введении форменной одежды.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Но разногласия по поводу дипломатической одежды продолжались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156360" y="2997360"/>
            <a:ext cx="2516040" cy="3168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300720" y="638172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Литвин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38080" y="22860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  <a:ea typeface="Arial"/>
              </a:rPr>
              <a:t>И лишь 28 мая 1943 года было принято постановление Совета народных комиссаров СССР, вводившее парадную и повседневную форменную одежду для дипломатических работников НКИД, а также для дипсотрудников посольств и миссий СССР за границ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3429000"/>
            <a:ext cx="73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Утверждались образцы форменной одежды в зимнем и летнем вариантах, образцы и описание знаков различия дипломатического состава, а также правила ношения повседневной и парадной формы.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0"/>
            <a:ext cx="50292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В начале января 1954 года заведующий протокольным отделом Д.А. Жуков в докладной 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н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а имя А.А. Громыко внес предл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жения по совершенствованию дипломатической формы. В 1954 году форменная одежда для дипломатических сотрудников МИД СССР (повседневная и парадная) была отменена, лишь для Чрезвычайных и Полномочных Послов и посланников первого и второго класса сохранили парадные мундиры с соответствующим шитьем и знаками различия.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0360" y="29242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А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.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А.Громы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1851120" cy="244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3573360"/>
            <a:ext cx="830556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Послы и посланники перестали использовать форму старого образца после распада Советского Союза в конце 1991 года в связи с изменением государственной символики Российской Федерации (в частности, герба, который был непременным атрибутом парадного дипломатического мундира). Через 10 лет, в 2001 году, этот вопрос был вновь поставлен на повестку дня. Новые образцы дипломатической формы для российских послов и посланников разработаны с учетом требований времени и вводятся в обихо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228600"/>
            <a:ext cx="838224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 u="sng">
                <a:solidFill>
                  <a:srgbClr val="ffff99"/>
                </a:solidFill>
                <a:uFillTx/>
                <a:latin typeface="Times New Roman"/>
              </a:rPr>
              <a:t>Поминки и жалование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Составной частью посольского обычая в 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XV 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— 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XVII 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вв. было отправление и получение даров — поминков. Особенно широко поднесение дипломатических даров практиковалось у монголо-тюркских народов. Еще в 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XIII 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в. князь Васильке Волынск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редупреждал Плано Карпини, посланца папы, что если он не привезет Гуюк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хану богатых подарков, то не сумеет  выполнить свою задач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692360" y="2205000"/>
            <a:ext cx="2232000" cy="1646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4000" y="4076640"/>
            <a:ext cx="853416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минки русских государей западным и восточным монархам разнились по составу. В Европу обычно посылались меха, чаще всего соболя. Последние, как можно предположить, имели ритуальное значение. На Руси соболя играли важную роль в некоторых обрядах. Так, в обряде в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е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ликокняжеских свадеб молодые вступали в церковь по ковру, на четырех углах которого лежали собольи шкурки; на них же стояли при венчании, и сваха трижды обносила соболями головы жениха и невесты. Очевидно, это было связано с пожеланием счастья и богатства: в течение долгого времени меха на Руси выполняли функцию денег. Поэтому и было принято посылать соболей в качестве дипломатических поминок.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932360" y="2421000"/>
            <a:ext cx="2592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3:54:37Z</dcterms:created>
  <dc:creator>ученик</dc:creator>
  <dc:description/>
  <dc:language>en-US</dc:language>
  <cp:lastModifiedBy>арарр</cp:lastModifiedBy>
  <dcterms:modified xsi:type="dcterms:W3CDTF">2006-12-23T20:52:52Z</dcterms:modified>
  <cp:revision>38</cp:revision>
  <dc:subject/>
  <dc:title>Презентация PowerPoint</dc:title>
</cp:coreProperties>
</file>