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C08-0268-4BC2-AF8A-5ABD33DE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D0C-645F-4709-835C-D975A215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C12-5941-40B7-901A-83F94AC3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65E-2FBE-46AD-B487-BAF33C51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501-987A-44E6-8AEA-5B084452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C7F-3377-4B34-A7E0-9AC1F3D6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A66-8671-491C-AD21-634088E4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F7D-6424-4AFF-A5F9-7515EEC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422-568A-450A-AF39-BE966AC1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DA0-86A2-4268-9AD7-31C38678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EEE-F0FD-4A9D-84D0-E61792A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375-1409-4C1A-BBFA-7A6D8D21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28CA-F1AF-464D-93B7-38F99B2E3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jpeg"/><Relationship Id="rId3" Type="http://schemas.openxmlformats.org/officeDocument/2006/relationships/image" Target="../media/image3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22860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стори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66680"/>
            <a:ext cx="394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ипломатическ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35640" y="105264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токол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33920" y="175248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осси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216036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159696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1744560" cy="180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5373720"/>
            <a:ext cx="7344000" cy="78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Приложение к информационно-историческому проект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«История российской дипломат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333360"/>
            <a:ext cx="4267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Дипломатические поминки были двух разновидностей-официальные, направленные от монарха к монарху, и частные  - от самих послов. Иностранные дипломаты в России и русские за границей постоянно подносили дары не только от своих государей, но и от себя лично. По большей части эти дары перед отъездом русских послов за рубеж выдавались им из казны. В казну они должны бы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озвратить и ответное «жалованье» иностранного монарха: наиболее  цен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ещи</a:t>
            </a:r>
            <a:r>
              <a:rPr b="1" lang="ru-RU" sz="1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царь оставлял у себя, остальное отдавалось посл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781360"/>
            <a:ext cx="2087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imes New Roman"/>
              </a:rPr>
              <a:t>Прием русского посольства 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imes New Roman"/>
              </a:rPr>
              <a:t>Луи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XIV</a:t>
            </a:r>
            <a:r>
              <a:rPr b="1" lang="ru-RU" sz="1400" spc="-1" strike="noStrike">
                <a:solidFill>
                  <a:srgbClr val="ffcc66"/>
                </a:solidFill>
                <a:latin typeface="Times New Roman"/>
              </a:rPr>
              <a:t>, 1681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4508640"/>
            <a:ext cx="80643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фициальные поминки пересылались от монарха к монарху, но собственные дары послы должны были приносить на аудиенцию лично. Когда один из членов польского посольства в 1570 году, сам не явившись во дворец, прислал Ивану Грозному часы с кем-то из своих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товарищей, царь приказал их тут же сломать, ибо «царскому величеству то гневно стало, что такой молодой паробок ссылается с царским величеством подарки, а не сам к царскому величеству принес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123840"/>
            <a:ext cx="62485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 Москве поминки подносились не только царю, но и царевичу, наследнику престола, и даже посольским приставам. Казначеи посылали дары прибывавшим иностранным дипломатам и тут же получали ответные. Иван Грозный звал к своему столу («хлеба ести») лишь тех лиц посольской свиты, которые привозили ему подарки. Эта сложная система даров и отдариваний, подношений и ответного «жалованья» была непременным элементом русского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сольского обычая. Возможно, тут сказались неизжитые представления дофеодального общества, согласно которым даритель и одариваемый вступают между собой в особую, магическую по природе связь. Эта связь, пусть неосознанно, могла восприниматься как условие действенности дипломатических контакт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306864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Иван Гроз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04000" y="549360"/>
            <a:ext cx="166356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209232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68360" y="4292640"/>
            <a:ext cx="2305080" cy="1195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0" t="0" r="0" b="13784"/>
          <a:stretch/>
        </p:blipFill>
        <p:spPr>
          <a:xfrm>
            <a:off x="5940360" y="5300640"/>
            <a:ext cx="2160720" cy="115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804000" y="3789360"/>
            <a:ext cx="19796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60195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Правила международной вежливости предъявляют к дипломату целый ряд требований, связанных с церемониальной стороной любого государственного акта или протокольного мероприятия, в которых участвуют члены дипломатического корпуса. Далеко не последнюю роль играет здесь и вопрос об одежде дипломата. Исторические традиции лежат в основе любой протокольной нор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4581360"/>
            <a:ext cx="594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История российской протокольной практики полностью это подтверждает. Российские послы еще до учреждения Табели 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рангах во времена Петра Великого имели специальные наряды,которые были представлены в2005 году на  выставк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«Москва посольская» в Государственном историческом музее.</a:t>
            </a:r>
            <a:r>
              <a:rPr b="0" lang="ru-RU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12392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167652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635280" y="2492280"/>
            <a:ext cx="1625760" cy="201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300720" y="2637000"/>
            <a:ext cx="2016360" cy="17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9463" t="0" r="-64" b="18403"/>
          <a:stretch/>
        </p:blipFill>
        <p:spPr>
          <a:xfrm>
            <a:off x="826920" y="4508640"/>
            <a:ext cx="14875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После создания системы министерств в 1802 году форменная одежда дипломатов, как и других государственных чиновников, претерпела дальнейшую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регламентацию, а внешний вид формы на протяжении XIX столетия неоднократно изменялся.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0492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Из истории форменной одежды диплома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186696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1989000"/>
            <a:ext cx="259236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35280" y="551664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В 1834 году были утверждены специальные виды форменной одежды для дипломатов и консульских агентов Российской импер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627280" y="2565360"/>
            <a:ext cx="145116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427640" y="3357720"/>
            <a:ext cx="14824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60280"/>
            <a:ext cx="5715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дипломатическом гардеробе были однобортные «полукафтаны» (с шляпой гражданского образца и треугольной шляпой), «мундирные фраки», открытые двубортные сюртуки, укороченные двубортные или однобортные пальто (или шинели), а также жилеты, фуражки, перчатки, серебряные пуговицы с изображением государственного герба и другие аксессуар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170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627200" cy="23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3789360"/>
            <a:ext cx="4953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М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ногое из того, что содержалось в «Описаниях», было использовано в 1930-е годы, когда предприняли первую попытку создать парадную и рабочую фо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р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менную одежду для сотрудников НКИД, и при введении дипломатической формы в Министерстве иностранных дел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 мае 1943 г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1976400" cy="259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661000"/>
            <a:ext cx="230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57340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Моло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2514600"/>
            <a:ext cx="73152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Arial"/>
                <a:ea typeface="Arial"/>
              </a:rPr>
              <a:t>В инструкции подробно разъяснялось, как отвечать на визиты и приглашения на дипломатические приемы, обеды и завтраки, как рассылать приглашения, выражать поздравления и соболезнования, пользоваться визитными карточками и тому подобное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8580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Arial"/>
              </a:rPr>
              <a:t>«Краткая инструкция о соблюдении правил принятого в буржуазном обществе этикета»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193680"/>
            <a:ext cx="61927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1923—1924 годах на страницах московских газет развернулась «Дискуссия об этикете», где главным был вопрос о том, как должен одеваться советский дипломат. Участники подвергли резкой критике протокольную одежду дипломатов — визитки, смокинги, фраки и цилиндры — как «символы буржуазного общества, в корне чуждые духу рабоче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рестьянского государства».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1783080" cy="2665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4149720"/>
            <a:ext cx="5616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январе 1930 года М.М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.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 Литвинов, временно исполнявший обязанности наркома, подготовил для внесения в Совнарком конкретные предложения о введении форменной одежды.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Но разногласия по поводу дипломатической одежды продолжались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56360" y="2997360"/>
            <a:ext cx="2516040" cy="3168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00720" y="638172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Литви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22860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  <a:ea typeface="Arial"/>
              </a:rPr>
              <a:t>И лишь 28 мая 1943 года было принято постановление Совета народных комиссаров СССР, вводившее парадную и повседневную форменную одежду для дипломатических работников НКИД, а также для дипсотрудников посольств и миссий СССР за границ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342900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Утверждались образцы форменной одежды в зимнем и летнем вариантах, образцы и описание знаков различия дипломатического состава, а также правила ношения повседневной и парадной формы.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0"/>
            <a:ext cx="5029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В начале января 1954 года заведующий протокольным отделом Д.А. Жуков в докладной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а имя А.А. Громыко внес предл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жения по совершенствованию дипломатической формы. В 1954 году форменная одежда для дипломатических сотрудников МИД СССР (повседневная и парадная) была отменена, лишь для Чрезвычайных и Полномочных Послов и посланников первого и второго класса сохранили парадные мундиры с соответствующим шитьем и знаками различия.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2924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А.Громы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185112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3573360"/>
            <a:ext cx="830556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Arial"/>
              </a:rPr>
              <a:t>Послы и посланники перестали использовать форму старого образца после распада Советского Союза в конце 1991 года в связи с изменением государственной символики Российской Федерации (в частности, герба, который был непременным атрибутом парадного дипломатического мундира). Через 10 лет, в 2001 году, этот вопрос был вновь поставлен на повестку дня. Новые образцы дипломатической формы для российских послов и посланников разработаны с учетом требований времени и вводятся в обих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228600"/>
            <a:ext cx="83822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 u="sng">
                <a:solidFill>
                  <a:srgbClr val="ffff99"/>
                </a:solidFill>
                <a:uFillTx/>
                <a:latin typeface="Times New Roman"/>
              </a:rPr>
              <a:t>Поминки и жалование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оставной частью посольского обычая в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V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VII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в. было отправление и получение даров — поминков. Особенно широко поднесение дипломатических даров практиковалось у монголо-тюркских народов. Еще в 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III 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. князь Васильке Волын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едупреждал Плано Карпини, посланца папы, что если он не привезет Гуюк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ану богатых подарков, то не сумеет  выполнить свою задач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2232000" cy="164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4076640"/>
            <a:ext cx="853416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минки русских государей западным и восточным монархам разнились по составу. В Европу обычно посылались меха, чаще всего соболя. Последние, как можно предположить, имели ритуальное значение. На Руси соболя играли важную роль в некоторых обрядах. Так, в обряде в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е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ликокняжеских свадеб молодые вступали в церковь по ковру, на четырех углах которого лежали собольи шкурки; на них же стояли при венчании, и сваха трижды обносила соболями головы жениха и невесты. Очевидно, это было связано с пожеланием счастья и богатства: в течение долгого времени меха на Руси выполняли функцию денег. Поэтому и было принято посылать соболей в качестве дипломатических поминок.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54:37Z</dcterms:created>
  <dc:creator>ученик</dc:creator>
  <dc:description/>
  <dc:language>en-US</dc:language>
  <cp:lastModifiedBy>арарр</cp:lastModifiedBy>
  <dcterms:modified xsi:type="dcterms:W3CDTF">2006-12-23T20:52:52Z</dcterms:modified>
  <cp:revision>38</cp:revision>
  <dc:subject/>
  <dc:title>Презентация PowerPoint</dc:title>
</cp:coreProperties>
</file>