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4.png" ContentType="image/png"/>
  <Override PartName="/ppt/media/image11.jpeg" ContentType="image/jpeg"/>
  <Override PartName="/ppt/media/image21.png" ContentType="image/png"/>
  <Override PartName="/ppt/media/image4.jpeg" ContentType="image/jpeg"/>
  <Override PartName="/ppt/media/image31.jpeg" ContentType="image/jpeg"/>
  <Override PartName="/ppt/media/image6.png" ContentType="image/png"/>
  <Override PartName="/ppt/media/image7.jpeg" ContentType="image/jpeg"/>
  <Override PartName="/ppt/media/image28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30.png" ContentType="image/png"/>
  <Override PartName="/ppt/media/image5.png" ContentType="image/png"/>
  <Override PartName="/ppt/media/image13.png" ContentType="image/png"/>
  <Override PartName="/ppt/media/image33.jpeg" ContentType="image/jpeg"/>
  <Override PartName="/ppt/media/image34.png" ContentType="image/png"/>
  <Override PartName="/ppt/media/image25.jpeg" ContentType="image/jpeg"/>
  <Override PartName="/ppt/media/image32.png" ContentType="image/png"/>
  <Override PartName="/ppt/media/image1.jpeg" ContentType="image/jpeg"/>
  <Override PartName="/ppt/media/image9.png" ContentType="image/png"/>
  <Override PartName="/ppt/media/image22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9.png" ContentType="image/png"/>
  <Override PartName="/ppt/media/image20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E70E-C95F-4D34-8729-DF3920323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8CCF-D290-4730-88AE-5037F0FD7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9B73-C8B1-43C1-9FCB-575122F68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56FD-64B1-49CE-A81B-66987EF5B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6507E-A75B-4335-B122-7D323672D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DF91C-204D-4E39-A725-FEFD43A5B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69DA4-6D54-44A3-A3D7-E8F1622D4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F11D8-DD72-4655-99F6-23E394E92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A5245-EBB7-4E64-8572-1C11F581B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72029-DD79-4ECE-9468-66F216AFB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AEB81-BBA6-4A71-BEA2-E1378A784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DDAD-F545-4ED2-9D01-3E05E2EF9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1DC73-F3B8-4088-9465-524B4B6F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EC7A7-1954-467E-AC7C-06215120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04CA2-F71C-4831-85F1-A7FD22D96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86F4C-A9BA-4752-A10C-29EFF4621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2F987-DC07-4BB9-9588-823FF6DE8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DD4C-A7D9-4D14-ACFC-97542EA68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D7A6-2CD9-4F9D-AD7E-ACA284F5A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7ECF-174F-4470-8467-C2AB529A1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6682-9A31-4299-9E3D-A5ADA06C0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F9E9-F453-41F4-BFF3-6CC493C2C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DA9E-138D-44A7-89F4-73252E90C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C499-6A74-4165-A6BA-E7A458C0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09333-5AD5-46AD-B1E5-199504DFD279}" type="slidenum">
              <a:rPr b="0" lang="ru-RU" sz="1200" spc="-1" strike="noStrike">
                <a:solidFill>
                  <a:srgbClr val="bcbcbc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1FB74-BFFE-4C6A-BCCE-9AF9DB7916A2}" type="slidenum">
              <a:rPr b="0" lang="ru-RU" sz="1200" spc="-1" strike="noStrike">
                <a:solidFill>
                  <a:srgbClr val="bcbcbc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png"/><Relationship Id="rId9" Type="http://schemas.openxmlformats.org/officeDocument/2006/relationships/image" Target="../media/image20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4" descr="german-flag-64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300800"/>
          </a:xfrm>
          <a:prstGeom prst="rect">
            <a:avLst/>
          </a:prstGeom>
          <a:ln w="0">
            <a:noFill/>
          </a:ln>
        </p:spPr>
      </p:pic>
      <p:pic>
        <p:nvPicPr>
          <p:cNvPr id="83" name="Заголовок 1" descr=""/>
          <p:cNvPicPr/>
          <p:nvPr/>
        </p:nvPicPr>
        <p:blipFill>
          <a:blip r:embed="rId2"/>
          <a:stretch/>
        </p:blipFill>
        <p:spPr>
          <a:xfrm>
            <a:off x="878040" y="706320"/>
            <a:ext cx="7437240" cy="34689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3857760" y="6143760"/>
            <a:ext cx="5286240" cy="82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rin: Kartaschewa L.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7" descr="06t0003.jpg"/>
          <p:cNvPicPr/>
          <p:nvPr/>
        </p:nvPicPr>
        <p:blipFill>
          <a:blip r:embed="rId1"/>
          <a:stretch/>
        </p:blipFill>
        <p:spPr>
          <a:xfrm>
            <a:off x="5143680" y="4214880"/>
            <a:ext cx="4000320" cy="2643120"/>
          </a:xfrm>
          <a:prstGeom prst="rect">
            <a:avLst/>
          </a:prstGeom>
          <a:ln w="0">
            <a:noFill/>
          </a:ln>
        </p:spPr>
      </p:pic>
      <p:pic>
        <p:nvPicPr>
          <p:cNvPr id="121" name="Rectangle 2" descr=""/>
          <p:cNvPicPr/>
          <p:nvPr/>
        </p:nvPicPr>
        <p:blipFill>
          <a:blip r:embed="rId2"/>
          <a:stretch/>
        </p:blipFill>
        <p:spPr>
          <a:xfrm>
            <a:off x="920880" y="-23760"/>
            <a:ext cx="6887880" cy="16333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-500400" y="1428840"/>
            <a:ext cx="964404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dtführer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uten Tag, liebe Freunde! Ich begrü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euch heute zu unserer Rundfahrt durch Berlin. Berlin ist die Hauptstadt der Bundesrepublik Deutschland. Sie wurde 1237 an der Spree gegründet.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kit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schuldigung! Fahren wir durch das Stadtzentrum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dtführer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, wir fahren zuerst zum Brandenburger Tor. Schaut nach rechts!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wa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h, das ist das berühmte Brandenburger Tor! Und wann wurde es erbau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dtführer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wurde 1791 als Tor des Friedens errichtet. Hier beginnt eine der schönsten Stra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Berlins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nter den Linden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rej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nmalig!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Рисунок 4" descr="1305866066_rei02-reichstag.jpg"/>
          <p:cNvPicPr/>
          <p:nvPr/>
        </p:nvPicPr>
        <p:blipFill>
          <a:blip r:embed="rId1"/>
          <a:stretch/>
        </p:blipFill>
        <p:spPr>
          <a:xfrm>
            <a:off x="3143160" y="3429000"/>
            <a:ext cx="4579920" cy="3429000"/>
          </a:xfrm>
          <a:prstGeom prst="rect">
            <a:avLst/>
          </a:prstGeom>
          <a:ln w="0">
            <a:noFill/>
          </a:ln>
        </p:spPr>
      </p:pic>
      <p:pic>
        <p:nvPicPr>
          <p:cNvPr id="124" name="Rectangle 2" descr=""/>
          <p:cNvPicPr/>
          <p:nvPr/>
        </p:nvPicPr>
        <p:blipFill>
          <a:blip r:embed="rId2"/>
          <a:stretch/>
        </p:blipFill>
        <p:spPr>
          <a:xfrm>
            <a:off x="-6480" y="-6480"/>
            <a:ext cx="8942400" cy="14385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-428760" y="928440"/>
            <a:ext cx="914400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wa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o sind wir jetz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dführer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s ist der Platz der Republik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kita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nd was für ein Bauwerk ist das da links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t das das Reichstagsgebäude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rej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a, du hast Recht. Während des Krieges wurde es zenstört und später wiederaufgebaut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dführer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d jetzt, liebe Freunde, fahren wir durch Kurfürstendamm, die Hauptstra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Berlin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4" descr="img_1454.jpg"/>
          <p:cNvPicPr/>
          <p:nvPr/>
        </p:nvPicPr>
        <p:blipFill>
          <a:blip r:embed="rId1"/>
          <a:stretch/>
        </p:blipFill>
        <p:spPr>
          <a:xfrm>
            <a:off x="5286240" y="1068480"/>
            <a:ext cx="3857760" cy="5789520"/>
          </a:xfrm>
          <a:prstGeom prst="rect">
            <a:avLst/>
          </a:prstGeom>
          <a:ln w="0">
            <a:noFill/>
          </a:ln>
        </p:spPr>
      </p:pic>
      <p:pic>
        <p:nvPicPr>
          <p:cNvPr id="127" name="Rectangle 2" descr=""/>
          <p:cNvPicPr/>
          <p:nvPr/>
        </p:nvPicPr>
        <p:blipFill>
          <a:blip r:embed="rId2"/>
          <a:stretch/>
        </p:blipFill>
        <p:spPr>
          <a:xfrm>
            <a:off x="633240" y="-109440"/>
            <a:ext cx="6890040" cy="15904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-500040" y="1357200"/>
            <a:ext cx="59292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kita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ht! So viele Touristen gibt es hier!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dführer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s ist der Alexanderplatz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ja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ch habe erfahren, dass  er seinen Namen dem russischen Zaren Alexander 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Ι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zu verdanken hat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dführer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s ist …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wa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r Berliner Fernsehturm. Oder irre ich mich?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dführer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in. Du hast Recht. Der Fernsehturm ist der höhste Bau in Ber</a:t>
            </a: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lin.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, das war´s für heute! Ich bedanke mich bei euch für eure Aufmerksamkeit und wünsche euch einen angenehmen Aufenthalt in unserer Stadt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1785960" y="3532320"/>
            <a:ext cx="5904000" cy="33256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86" name="Rectangle 2" descr=""/>
          <p:cNvPicPr/>
          <p:nvPr/>
        </p:nvPicPr>
        <p:blipFill>
          <a:blip r:embed="rId2"/>
          <a:stretch/>
        </p:blipFill>
        <p:spPr>
          <a:xfrm>
            <a:off x="633240" y="-6480"/>
            <a:ext cx="8089920" cy="10861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28760" y="92880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on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isevorbereitungen - das ist angenehme Sache. Und keine leichte. Eine Reise planen, den Koffer packen, Fahrkarten kaufen und Reiselektüre besorgen- dafür braucht man viel Zeit und Müh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547560" indent="-411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stj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timmt. Wir haben beschlossen in den Ferien eine Reise zu machen. Wir dachten nicht lange nach, unsere Wahl  ist Deutschland. Aber es ist ein Problem richtige Stadt zu wählen.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Rectangle 4" descr=""/>
          <p:cNvPicPr/>
          <p:nvPr/>
        </p:nvPicPr>
        <p:blipFill>
          <a:blip r:embed="rId1"/>
          <a:stretch/>
        </p:blipFill>
        <p:spPr>
          <a:xfrm>
            <a:off x="1316160" y="-6480"/>
            <a:ext cx="7046640" cy="12258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213840" y="928800"/>
            <a:ext cx="37688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ich möchte nach Bremen  fahren, weil diese Stadt mir an ein Märchen errinernt und ich träume sie zu besuch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000760" y="928800"/>
            <a:ext cx="3768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stj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ber ich will nach Berlin fahren, weil ich mehr moderne Städte ma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Рисунок 7" descr="4.jpg"/>
          <p:cNvPicPr/>
          <p:nvPr/>
        </p:nvPicPr>
        <p:blipFill>
          <a:blip r:embed="rId2"/>
          <a:stretch/>
        </p:blipFill>
        <p:spPr>
          <a:xfrm>
            <a:off x="357120" y="3214800"/>
            <a:ext cx="2722680" cy="36432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92" name="Рисунок 6" descr="800px-Kurfürstendamm_2003.JPG"/>
          <p:cNvPicPr/>
          <p:nvPr/>
        </p:nvPicPr>
        <p:blipFill>
          <a:blip r:embed="rId3"/>
          <a:stretch/>
        </p:blipFill>
        <p:spPr>
          <a:xfrm>
            <a:off x="4143240" y="3214800"/>
            <a:ext cx="4857840" cy="36432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Rectangle 4" descr=""/>
          <p:cNvPicPr/>
          <p:nvPr/>
        </p:nvPicPr>
        <p:blipFill>
          <a:blip r:embed="rId1"/>
          <a:stretch/>
        </p:blipFill>
        <p:spPr>
          <a:xfrm>
            <a:off x="1030320" y="-6480"/>
            <a:ext cx="7047000" cy="1359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-360" y="1214280"/>
            <a:ext cx="37688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j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und ich möchte nach München fahren. Ich habe viel von dieser Stadt gelesen und träume dorthin zu fahr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857840" y="1214280"/>
            <a:ext cx="3768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re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ich habe nichts dagegen nach Hamburg zu fahren. Im Hamburg wurde das erste Operntheater in Deutschland gebaut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Рисунок 5" descr="1869725.jpg"/>
          <p:cNvPicPr/>
          <p:nvPr/>
        </p:nvPicPr>
        <p:blipFill>
          <a:blip r:embed="rId2"/>
          <a:stretch/>
        </p:blipFill>
        <p:spPr>
          <a:xfrm>
            <a:off x="0" y="3643200"/>
            <a:ext cx="4233960" cy="32148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6" descr="755px-Hamburg_Deutsches_Schauspielhaus_01_KMJ.jpg"/>
          <p:cNvPicPr/>
          <p:nvPr/>
        </p:nvPicPr>
        <p:blipFill>
          <a:blip r:embed="rId3"/>
          <a:stretch/>
        </p:blipFill>
        <p:spPr>
          <a:xfrm>
            <a:off x="5099040" y="3643200"/>
            <a:ext cx="4044960" cy="32148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1"/>
          <a:stretch/>
        </p:blipFill>
        <p:spPr>
          <a:xfrm>
            <a:off x="133200" y="133200"/>
            <a:ext cx="6999480" cy="12193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eidungsstüc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bensmitt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iselektü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einigkei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2"/>
          <a:stretch/>
        </p:blipFill>
        <p:spPr>
          <a:xfrm>
            <a:off x="6643800" y="0"/>
            <a:ext cx="2500200" cy="328608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13" descr="organic-cotton-clothing.jpg"/>
          <p:cNvPicPr/>
          <p:nvPr/>
        </p:nvPicPr>
        <p:blipFill>
          <a:blip r:embed="rId3"/>
          <a:stretch/>
        </p:blipFill>
        <p:spPr>
          <a:xfrm rot="748200">
            <a:off x="4184640" y="1270080"/>
            <a:ext cx="2720880" cy="200016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14" descr="See-Through-Plastic-Packaging2.jpg"/>
          <p:cNvPicPr/>
          <p:nvPr/>
        </p:nvPicPr>
        <p:blipFill>
          <a:blip r:embed="rId4"/>
          <a:stretch/>
        </p:blipFill>
        <p:spPr>
          <a:xfrm rot="21078000">
            <a:off x="6014880" y="3035160"/>
            <a:ext cx="2482920" cy="177480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16" descr="357028.jpg"/>
          <p:cNvPicPr/>
          <p:nvPr/>
        </p:nvPicPr>
        <p:blipFill>
          <a:blip r:embed="rId5"/>
          <a:stretch/>
        </p:blipFill>
        <p:spPr>
          <a:xfrm rot="410400">
            <a:off x="3544920" y="4098600"/>
            <a:ext cx="2984400" cy="211608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17" descr="345314.jpg"/>
          <p:cNvPicPr/>
          <p:nvPr/>
        </p:nvPicPr>
        <p:blipFill>
          <a:blip r:embed="rId6"/>
          <a:stretch/>
        </p:blipFill>
        <p:spPr>
          <a:xfrm rot="432600">
            <a:off x="7786440" y="4572000"/>
            <a:ext cx="1081080" cy="164304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19" descr="Fotoapparat_cifrovoi_so_smennoi_optikoi_Panasonic_DMC-G2K_2.jpg"/>
          <p:cNvPicPr/>
          <p:nvPr/>
        </p:nvPicPr>
        <p:blipFill>
          <a:blip r:embed="rId7"/>
          <a:stretch/>
        </p:blipFill>
        <p:spPr>
          <a:xfrm rot="21110400">
            <a:off x="606600" y="4148280"/>
            <a:ext cx="1612800" cy="161280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20" descr="Blusher01.gif"/>
          <p:cNvPicPr/>
          <p:nvPr/>
        </p:nvPicPr>
        <p:blipFill>
          <a:blip r:embed="rId8"/>
          <a:stretch/>
        </p:blipFill>
        <p:spPr>
          <a:xfrm>
            <a:off x="2714760" y="5270400"/>
            <a:ext cx="1504800" cy="158760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18" descr="iphone-4s-16gb-white.jpg"/>
          <p:cNvPicPr/>
          <p:nvPr/>
        </p:nvPicPr>
        <p:blipFill>
          <a:blip r:embed="rId9"/>
          <a:stretch/>
        </p:blipFill>
        <p:spPr>
          <a:xfrm rot="816000">
            <a:off x="2072880" y="3634920"/>
            <a:ext cx="722520" cy="723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Rectangle 2" descr=""/>
          <p:cNvPicPr/>
          <p:nvPr/>
        </p:nvPicPr>
        <p:blipFill>
          <a:blip r:embed="rId1"/>
          <a:stretch/>
        </p:blipFill>
        <p:spPr>
          <a:xfrm>
            <a:off x="566640" y="-146160"/>
            <a:ext cx="8253360" cy="11527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-360" y="285840"/>
            <a:ext cx="828684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r haben beschlossen mit dem Zug  zu reise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 sitzt bequem im Abteil eines komfortablen Wagens und bewundert aus dem Fenster die malerische  deutsche Landschaf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r Zug fährt an Städten und Dörfern, an Burgen, Türmen und anderen romantischen Bauten, an blauen Seen vorbe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Рисунок 5" descr="odessa_odessa_transport_32336.jpg"/>
          <p:cNvPicPr/>
          <p:nvPr/>
        </p:nvPicPr>
        <p:blipFill>
          <a:blip r:embed="rId2"/>
          <a:stretch/>
        </p:blipFill>
        <p:spPr>
          <a:xfrm>
            <a:off x="2357280" y="3000240"/>
            <a:ext cx="4799160" cy="3500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Рисунок 3" descr="1340197805_510884_42.jpeg"/>
          <p:cNvPicPr/>
          <p:nvPr/>
        </p:nvPicPr>
        <p:blipFill>
          <a:blip r:embed="rId1"/>
          <a:stretch/>
        </p:blipFill>
        <p:spPr>
          <a:xfrm>
            <a:off x="4214880" y="4092480"/>
            <a:ext cx="4929120" cy="2765520"/>
          </a:xfrm>
          <a:prstGeom prst="rect">
            <a:avLst/>
          </a:prstGeom>
          <a:ln w="0">
            <a:noFill/>
          </a:ln>
        </p:spPr>
      </p:pic>
      <p:pic>
        <p:nvPicPr>
          <p:cNvPr id="112" name="Rectangle 2" descr=""/>
          <p:cNvPicPr/>
          <p:nvPr/>
        </p:nvPicPr>
        <p:blipFill>
          <a:blip r:embed="rId2"/>
          <a:stretch/>
        </p:blipFill>
        <p:spPr>
          <a:xfrm>
            <a:off x="781200" y="-19080"/>
            <a:ext cx="7424640" cy="10126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142560" y="857160"/>
            <a:ext cx="83516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Guten Tag! Gibt es einen direkten Zug nach Berlin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, der Zug Nr. 112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Wann fährt der Zug ab? Wieviel kostet eine Fahrkarte im Abteil Touristen- Klass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 Euro. Abfahrt  heute um 18:40 Uh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Bitte, sieben Fahrkart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it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Und wann kommt der Zug in Berlin an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 Zug Nr. 112 kommt in Berlin übermorgen um 13 Uh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Danke schön! Auf Wiedersehen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te Reise!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3" descr="48229.JPG"/>
          <p:cNvPicPr/>
          <p:nvPr/>
        </p:nvPicPr>
        <p:blipFill>
          <a:blip r:embed="rId1"/>
          <a:stretch/>
        </p:blipFill>
        <p:spPr>
          <a:xfrm>
            <a:off x="6159600" y="0"/>
            <a:ext cx="2984400" cy="4087800"/>
          </a:xfrm>
          <a:prstGeom prst="rect">
            <a:avLst/>
          </a:prstGeom>
          <a:ln w="0">
            <a:noFill/>
          </a:ln>
        </p:spPr>
      </p:pic>
      <p:pic>
        <p:nvPicPr>
          <p:cNvPr id="115" name="Заголовок 1" descr=""/>
          <p:cNvPicPr/>
          <p:nvPr/>
        </p:nvPicPr>
        <p:blipFill>
          <a:blip r:embed="rId2"/>
          <a:stretch/>
        </p:blipFill>
        <p:spPr>
          <a:xfrm>
            <a:off x="781200" y="-6480"/>
            <a:ext cx="6881760" cy="128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0" y="1143000"/>
            <a:ext cx="678672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03640" indent="-37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und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r Ober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tte die Speisekar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03640" indent="-37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llner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t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03640" indent="-37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und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r bestellen Pilzsuppe. Welche Spezialitäten können Sie empfehle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03640" indent="-37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llner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lleicht Weißwürste mit Brezen und Schweinshaxn mit Koh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03640" indent="-37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und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r haben Appetit auf Weißwürste mit Breze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03640" indent="-37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llner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tte, gerne. Und zum Dessert Eis, Tee mit Zitrone, Kaffe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03640" indent="-37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und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tte drei Eis und Kaffee. Und gleich die Rechnu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03640" indent="-37800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03640" indent="-37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3640" indent="-37800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3640" indent="-37800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5560920" y="2214720"/>
            <a:ext cx="3583080" cy="4643280"/>
          </a:xfrm>
          <a:prstGeom prst="rect">
            <a:avLst/>
          </a:prstGeom>
          <a:ln w="0">
            <a:noFill/>
          </a:ln>
        </p:spPr>
      </p:pic>
      <p:pic>
        <p:nvPicPr>
          <p:cNvPr id="118" name="Заголовок 1" descr=""/>
          <p:cNvPicPr/>
          <p:nvPr/>
        </p:nvPicPr>
        <p:blipFill>
          <a:blip r:embed="rId2"/>
          <a:stretch/>
        </p:blipFill>
        <p:spPr>
          <a:xfrm>
            <a:off x="706320" y="-79200"/>
            <a:ext cx="6883560" cy="9698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0" y="10717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schuldigen Sie bitte. Ich bin hier frem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, bit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 finde ich in der Nähe ein Kaufhau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icht weit von hier am Hotel “Europa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e komme ich zum Hotel “Europa”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hen Sie nach links und dann geradeau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ke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9T11:07:42Z</dcterms:created>
  <dc:creator>Майя</dc:creator>
  <dc:description/>
  <dc:language>en-US</dc:language>
  <cp:lastModifiedBy>user</cp:lastModifiedBy>
  <dcterms:modified xsi:type="dcterms:W3CDTF">2013-01-10T13:47:19Z</dcterms:modified>
  <cp:revision>177</cp:revision>
  <dc:subject/>
  <dc:title>Слайд 1</dc:title>
</cp:coreProperties>
</file>